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12.jpeg" ContentType="image/jpeg"/>
  <Override PartName="/ppt/media/image16.jpeg" ContentType="image/jpeg"/>
  <Override PartName="/ppt/media/image9.gif" ContentType="image/gif"/>
  <Override PartName="/ppt/media/wind.wav" ContentType="audio/x-wav"/>
  <Override PartName="/ppt/media/image39.wmf" ContentType="image/x-wmf"/>
  <Override PartName="/ppt/media/image3.gif" ContentType="image/gif"/>
  <Override PartName="/ppt/media/image22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45.jpeg" ContentType="image/jpeg"/>
  <Override PartName="/ppt/media/image33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31.jpeg" ContentType="image/jpeg"/>
  <Override PartName="/ppt/media/image25.jpeg" ContentType="image/jpeg"/>
  <Override PartName="/ppt/media/image48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jpeg" ContentType="image/jpeg"/>
  <Override PartName="/ppt/media/image27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B2B-E0ED-4F7B-AF8B-BE7CAB4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1CD-2B59-4D76-8514-1ACF0272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7F6-8326-41DF-907C-1A8CF935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12F-9B35-458B-A4DC-0E35D868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7C1-56F6-423F-BEF0-2FB7D54F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E90-B3CF-4ECB-B054-5F970C96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8BD-6273-44C6-AB4F-F4F9AE8B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200-8D67-411D-A4EF-B25C174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2DA-F12D-4D68-A231-48CE809D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6EB-061A-4046-A047-0014DB42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334-E949-4815-B9E9-68FA54C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628-F5A1-48D3-B5B5-59E83EA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306B-FD8E-4715-B179-CAF3A4498C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00"/>
                </a:solidFill>
                <a:latin typeface="Tahoma"/>
              </a:rPr>
              <a:t>Классный час</a:t>
            </a:r>
            <a:endParaRPr b="0" lang="en-US" sz="10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311480" cy="174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58436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ross56"/>
          <p:cNvPicPr/>
          <p:nvPr/>
        </p:nvPicPr>
        <p:blipFill>
          <a:blip r:embed="rId1"/>
          <a:srcRect l="12606" t="0" r="0" b="0"/>
          <a:stretch/>
        </p:blipFill>
        <p:spPr>
          <a:xfrm>
            <a:off x="4500720" y="1197000"/>
            <a:ext cx="3563640" cy="364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68" name="Picture 3" descr="308_0178"/>
          <p:cNvPicPr/>
          <p:nvPr/>
        </p:nvPicPr>
        <p:blipFill>
          <a:blip r:embed="rId2"/>
          <a:srcRect l="11338" t="25378" r="0" b="0"/>
          <a:stretch/>
        </p:blipFill>
        <p:spPr>
          <a:xfrm>
            <a:off x="6156360" y="260280"/>
            <a:ext cx="2808360" cy="1725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9" name="Rectangle 4"/>
          <p:cNvSpPr/>
          <p:nvPr/>
        </p:nvSpPr>
        <p:spPr>
          <a:xfrm>
            <a:off x="5009760" y="51573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нимайся спор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 делай зарядк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612259"/>
          <p:cNvPicPr/>
          <p:nvPr/>
        </p:nvPicPr>
        <p:blipFill>
          <a:blip r:embed="rId3"/>
          <a:srcRect l="6392" t="14857" r="0" b="9905"/>
          <a:stretch/>
        </p:blipFill>
        <p:spPr>
          <a:xfrm>
            <a:off x="324000" y="3068640"/>
            <a:ext cx="3887640" cy="3594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6" descr="laziaz_enl"/>
          <p:cNvPicPr/>
          <p:nvPr/>
        </p:nvPicPr>
        <p:blipFill>
          <a:blip r:embed="rId4"/>
          <a:srcRect l="10278" t="16339" r="10067" b="40096"/>
          <a:stretch/>
        </p:blipFill>
        <p:spPr>
          <a:xfrm>
            <a:off x="611280" y="765000"/>
            <a:ext cx="3166920" cy="2451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189800" y="18900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каляй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10_risunok25"/>
          <p:cNvPicPr/>
          <p:nvPr/>
        </p:nvPicPr>
        <p:blipFill>
          <a:blip r:embed="rId1"/>
          <a:stretch/>
        </p:blipFill>
        <p:spPr>
          <a:xfrm>
            <a:off x="179280" y="189000"/>
            <a:ext cx="4211640" cy="25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0000000234"/>
          <p:cNvPicPr/>
          <p:nvPr/>
        </p:nvPicPr>
        <p:blipFill>
          <a:blip r:embed="rId2"/>
          <a:srcRect l="18750" t="19393" r="34377" b="13162"/>
          <a:stretch/>
        </p:blipFill>
        <p:spPr>
          <a:xfrm>
            <a:off x="1042920" y="2133720"/>
            <a:ext cx="3529080" cy="33876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4708440" y="260280"/>
            <a:ext cx="443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ой руки перед ед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сле улицы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ния с животным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173600" y="5733720"/>
            <a:ext cx="28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уляй на у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ждый день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6" descr="ruki"/>
          <p:cNvPicPr/>
          <p:nvPr/>
        </p:nvPicPr>
        <p:blipFill>
          <a:blip r:embed="rId3"/>
          <a:srcRect l="4725" t="0" r="4725" b="5929"/>
          <a:stretch/>
        </p:blipFill>
        <p:spPr>
          <a:xfrm>
            <a:off x="5435640" y="1628640"/>
            <a:ext cx="351000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Picture 7" descr="img094"/>
          <p:cNvPicPr/>
          <p:nvPr/>
        </p:nvPicPr>
        <p:blipFill>
          <a:blip r:embed="rId4"/>
          <a:srcRect l="5298" t="2435" r="9898" b="9396"/>
          <a:stretch/>
        </p:blipFill>
        <p:spPr>
          <a:xfrm>
            <a:off x="4932360" y="4265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196341045"/>
          <p:cNvPicPr/>
          <p:nvPr/>
        </p:nvPicPr>
        <p:blipFill>
          <a:blip r:embed="rId1"/>
          <a:srcRect l="10667" t="0" r="1344" b="0"/>
          <a:stretch/>
        </p:blipFill>
        <p:spPr>
          <a:xfrm>
            <a:off x="1042920" y="3716280"/>
            <a:ext cx="3888000" cy="2946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80" name="Picture 3" descr="41354"/>
          <p:cNvPicPr/>
          <p:nvPr/>
        </p:nvPicPr>
        <p:blipFill>
          <a:blip r:embed="rId2"/>
          <a:srcRect l="21036" t="8929" r="15722" b="5669"/>
          <a:stretch/>
        </p:blipFill>
        <p:spPr>
          <a:xfrm>
            <a:off x="250920" y="1268280"/>
            <a:ext cx="1855800" cy="3540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81" name="Rectangle 4"/>
          <p:cNvSpPr/>
          <p:nvPr/>
        </p:nvSpPr>
        <p:spPr>
          <a:xfrm>
            <a:off x="2987640" y="620640"/>
            <a:ext cx="173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упай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жд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ечер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081760" y="4581000"/>
            <a:ext cx="383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леди за осанк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ержи спину ровно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6" descr="Sadik"/>
          <p:cNvPicPr/>
          <p:nvPr/>
        </p:nvPicPr>
        <p:blipFill>
          <a:blip r:embed="rId3"/>
          <a:stretch/>
        </p:blipFill>
        <p:spPr>
          <a:xfrm>
            <a:off x="5076720" y="189000"/>
            <a:ext cx="3838680" cy="31687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254932011_food"/>
          <p:cNvPicPr/>
          <p:nvPr/>
        </p:nvPicPr>
        <p:blipFill>
          <a:blip r:embed="rId1"/>
          <a:srcRect l="0" t="0" r="0" b="11230"/>
          <a:stretch/>
        </p:blipFill>
        <p:spPr>
          <a:xfrm>
            <a:off x="3635280" y="1844640"/>
            <a:ext cx="5257800" cy="4446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85" name="Picture 3" descr="image027-600"/>
          <p:cNvPicPr/>
          <p:nvPr/>
        </p:nvPicPr>
        <p:blipFill>
          <a:blip r:embed="rId2"/>
          <a:srcRect l="6425" t="8567" r="6425" b="0"/>
          <a:stretch/>
        </p:blipFill>
        <p:spPr>
          <a:xfrm>
            <a:off x="250920" y="620640"/>
            <a:ext cx="4105080" cy="3232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86" name="Rectangle 4"/>
          <p:cNvSpPr/>
          <p:nvPr/>
        </p:nvSpPr>
        <p:spPr>
          <a:xfrm>
            <a:off x="3924360" y="25992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шь здоров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ищ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0f8d1b7508e4a1536247193f3fbeec1"/>
          <p:cNvPicPr/>
          <p:nvPr/>
        </p:nvPicPr>
        <p:blipFill>
          <a:blip r:embed="rId1"/>
          <a:srcRect l="3038" t="4565" r="2917" b="4382"/>
          <a:stretch/>
        </p:blipFill>
        <p:spPr>
          <a:xfrm>
            <a:off x="4643280" y="476280"/>
            <a:ext cx="4032360" cy="25988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88" name="Picture 3" descr="5d8c7e2e1af7"/>
          <p:cNvPicPr/>
          <p:nvPr/>
        </p:nvPicPr>
        <p:blipFill>
          <a:blip r:embed="rId2"/>
          <a:srcRect l="21428" t="21287" r="14288" b="6364"/>
          <a:stretch/>
        </p:blipFill>
        <p:spPr>
          <a:xfrm>
            <a:off x="6877080" y="2565360"/>
            <a:ext cx="2062080" cy="1947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110253"/>
          <p:cNvPicPr/>
          <p:nvPr/>
        </p:nvPicPr>
        <p:blipFill>
          <a:blip r:embed="rId3"/>
          <a:stretch/>
        </p:blipFill>
        <p:spPr>
          <a:xfrm>
            <a:off x="324000" y="2421000"/>
            <a:ext cx="3960720" cy="3605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90" name="Rectangle 5"/>
          <p:cNvSpPr/>
          <p:nvPr/>
        </p:nvSpPr>
        <p:spPr>
          <a:xfrm>
            <a:off x="324000" y="260280"/>
            <a:ext cx="387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нимайся на компьютер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мотри телевиз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лчаса в д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003640" y="4797000"/>
            <a:ext cx="38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ожись сп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о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Правильное питание—основа здорового образа</a:t>
            </a:r>
            <a:r>
              <a:rPr b="0" i="1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2879640" cy="280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 rot="20448000">
            <a:off x="323640" y="2204640"/>
            <a:ext cx="2771640" cy="213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 rot="20665800">
            <a:off x="5508720" y="2060640"/>
            <a:ext cx="302400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3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5ffff"/>
                </a:solidFill>
                <a:latin typeface="Tahoma"/>
              </a:rPr>
              <a:t>Какая поговорка учит нас правильному режиму питания?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Завтрак съешь сам, обед раздели с другом, ужин отдай враг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895480" y="685800"/>
            <a:ext cx="3457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втра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990720" y="2209680"/>
            <a:ext cx="214776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аш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971640" y="3213000"/>
            <a:ext cx="35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артофель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971640" y="4724280"/>
            <a:ext cx="35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макарон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204" name="Picture 6" descr="j0344846[1]"/>
          <p:cNvPicPr/>
          <p:nvPr/>
        </p:nvPicPr>
        <p:blipFill>
          <a:blip r:embed="rId1"/>
          <a:stretch/>
        </p:blipFill>
        <p:spPr>
          <a:xfrm>
            <a:off x="5435640" y="2637000"/>
            <a:ext cx="280836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j0287573[1]"/>
          <p:cNvPicPr/>
          <p:nvPr/>
        </p:nvPicPr>
        <p:blipFill>
          <a:blip r:embed="rId1"/>
          <a:stretch/>
        </p:blipFill>
        <p:spPr>
          <a:xfrm>
            <a:off x="6443640" y="3860640"/>
            <a:ext cx="2351160" cy="22622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3"/>
          <p:cNvSpPr txBox="1"/>
          <p:nvPr/>
        </p:nvSpPr>
        <p:spPr>
          <a:xfrm>
            <a:off x="3276720" y="260280"/>
            <a:ext cx="29509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бед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042920" y="1341360"/>
            <a:ext cx="28098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горячее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116000" y="2421000"/>
            <a:ext cx="191448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мясо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1116000" y="3357720"/>
            <a:ext cx="2033640" cy="92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рыба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1042920" y="4365720"/>
            <a:ext cx="4714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вощной гарнир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1116000" y="551664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фруктовый сок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2" name="WordArt 9"/>
          <p:cNvSpPr txBox="1"/>
          <p:nvPr/>
        </p:nvSpPr>
        <p:spPr>
          <a:xfrm>
            <a:off x="5651640" y="1341360"/>
            <a:ext cx="2665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омпо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600200" y="914400"/>
            <a:ext cx="6019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Оно дороже богатст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Его сгубишь – новое не купиш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Чистота – залог ег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3059280" y="476280"/>
            <a:ext cx="36003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дни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1332000" y="2133720"/>
            <a:ext cx="288108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ТВОРОЖОК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47640" y="4941720"/>
            <a:ext cx="2105280" cy="6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КЕФИР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403280" y="3357720"/>
            <a:ext cx="244800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ЙОГУР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217" name="Picture 6" descr="j0089628[1]"/>
          <p:cNvPicPr/>
          <p:nvPr/>
        </p:nvPicPr>
        <p:blipFill>
          <a:blip r:embed="rId1"/>
          <a:stretch/>
        </p:blipFill>
        <p:spPr>
          <a:xfrm>
            <a:off x="5867280" y="2349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3203640" y="260280"/>
            <a:ext cx="2881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жин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838080" y="1752480"/>
            <a:ext cx="5114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ВОЩНОЕ РАГУ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609480" y="2819520"/>
            <a:ext cx="7363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ТВОРОЖНАЯ ЗАПЕКАНК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609480" y="3809880"/>
            <a:ext cx="251964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МЛЕ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609480" y="4724280"/>
            <a:ext cx="242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ОВОЩ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223" name="WordArt 8"/>
          <p:cNvSpPr txBox="1"/>
          <p:nvPr/>
        </p:nvSpPr>
        <p:spPr>
          <a:xfrm>
            <a:off x="609480" y="5943600"/>
            <a:ext cx="264816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ФРУКТ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224" name="Picture 9" descr="j0292258[1]"/>
          <p:cNvPicPr/>
          <p:nvPr/>
        </p:nvPicPr>
        <p:blipFill>
          <a:blip r:embed="rId1"/>
          <a:stretch/>
        </p:blipFill>
        <p:spPr>
          <a:xfrm>
            <a:off x="5580000" y="4149720"/>
            <a:ext cx="24480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) Здоров будешь - ……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932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ahoma"/>
              </a:rPr>
              <a:t>1) Здоров будешь – все добудешь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) Лучше средства от хвори нет - ……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 rot="20706000">
            <a:off x="488880" y="2182680"/>
            <a:ext cx="4214880" cy="4357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99972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2) Лучше средства от хвори нет: делай зарядку до старости лет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 rot="718200">
            <a:off x="5500440" y="2286000"/>
            <a:ext cx="32144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) Двигайся больше – …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3) Двигайся больше – проживешь дольше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131840" y="1523880"/>
            <a:ext cx="6629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) Держи голову в холод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живот  в …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4) Держи голову в холоде, живот в голоде, а ноги в тепл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200400" y="3143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684360" y="692280"/>
            <a:ext cx="63792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8101080" y="620640"/>
            <a:ext cx="7239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804000" y="2997360"/>
            <a:ext cx="79056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979640" y="3068640"/>
            <a:ext cx="676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7812000" y="5300640"/>
            <a:ext cx="733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4356000" y="4365720"/>
            <a:ext cx="733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Ь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4356000" y="2060640"/>
            <a:ext cx="676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611280" y="5373720"/>
            <a:ext cx="7905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1908000" y="1268280"/>
            <a:ext cx="5545440" cy="216000"/>
          </a:xfrm>
          <a:prstGeom prst="rightArrow">
            <a:avLst>
              <a:gd name="adj1" fmla="val 50000"/>
              <a:gd name="adj2" fmla="val 6418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2"/>
          <p:cNvSpPr/>
          <p:nvPr/>
        </p:nvSpPr>
        <p:spPr>
          <a:xfrm rot="18292800">
            <a:off x="7187040" y="2359440"/>
            <a:ext cx="1441440" cy="208080"/>
          </a:xfrm>
          <a:prstGeom prst="leftArrow">
            <a:avLst>
              <a:gd name="adj1" fmla="val 50000"/>
              <a:gd name="adj2" fmla="val 17318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2556000" y="3645000"/>
            <a:ext cx="4176720" cy="215640"/>
          </a:xfrm>
          <a:prstGeom prst="leftArrow">
            <a:avLst>
              <a:gd name="adj1" fmla="val 50000"/>
              <a:gd name="adj2" fmla="val 48422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4"/>
          <p:cNvSpPr/>
          <p:nvPr/>
        </p:nvSpPr>
        <p:spPr>
          <a:xfrm rot="18292800">
            <a:off x="969840" y="4632480"/>
            <a:ext cx="1225440" cy="212760"/>
          </a:xfrm>
          <a:prstGeom prst="leftArrow">
            <a:avLst>
              <a:gd name="adj1" fmla="val 50000"/>
              <a:gd name="adj2" fmla="val 1439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1908000" y="6021360"/>
            <a:ext cx="5545440" cy="216000"/>
          </a:xfrm>
          <a:prstGeom prst="rightArrow">
            <a:avLst>
              <a:gd name="adj1" fmla="val 50000"/>
              <a:gd name="adj2" fmla="val 6418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16"/>
          <p:cNvSpPr/>
          <p:nvPr/>
        </p:nvSpPr>
        <p:spPr>
          <a:xfrm rot="987600">
            <a:off x="5222520" y="5268960"/>
            <a:ext cx="2448000" cy="287280"/>
          </a:xfrm>
          <a:prstGeom prst="leftArrow">
            <a:avLst>
              <a:gd name="adj1" fmla="val 50000"/>
              <a:gd name="adj2" fmla="val 21303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4643280" y="328464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8"/>
          <p:cNvSpPr txBox="1"/>
          <p:nvPr/>
        </p:nvSpPr>
        <p:spPr>
          <a:xfrm>
            <a:off x="755640" y="2349360"/>
            <a:ext cx="777708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ДОРОВЬЕ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5) В здоровом теле - 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5) В здоровом теле - здоровый дух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19280" y="2036880"/>
            <a:ext cx="408132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6) Аппетит от больного бежит, а …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6) Аппетит от больного бежит, а к здоровому катитс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 rot="1288200">
            <a:off x="4876920" y="2743200"/>
            <a:ext cx="3630600" cy="3935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 rot="20455200">
            <a:off x="457200" y="2895120"/>
            <a:ext cx="42577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1905120" y="486000"/>
            <a:ext cx="5410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рошо здоровым быть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ов надо больше пить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амбургер забросить в урн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купаться в речке бурной!!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аляться, обливаться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ртом разным заниматься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олезней не боя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ёплом доме не таясь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Земле гулять свободно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расоте дивясь природной!!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т тогда начнёте жить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орово здоровым быть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752480" y="4800600"/>
            <a:ext cx="19814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Заряд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спо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733920" y="4800600"/>
            <a:ext cx="21333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Акт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отд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5867280" y="480060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Подвиж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752480" y="3962520"/>
            <a:ext cx="1981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личной  гигиены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733920" y="3962520"/>
            <a:ext cx="213336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игиена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лух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5867280" y="3962520"/>
            <a:ext cx="19051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Уход за зубам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114800" y="2590920"/>
            <a:ext cx="20574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752480" y="2590920"/>
            <a:ext cx="11430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рук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вощ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2895480" y="2590920"/>
            <a:ext cx="121932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Мяс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рыба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172200" y="2590920"/>
            <a:ext cx="16002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лоч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одук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руп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1752480" y="838080"/>
            <a:ext cx="5943600" cy="17528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4267080" y="27432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561600"/>
            <a:ext cx="9063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Verdana"/>
              </a:rPr>
              <a:t>Желтый 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я буду вести здоровый образ жизн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8000"/>
                </a:solidFill>
                <a:latin typeface="Verdana"/>
              </a:rPr>
              <a:t>Зеленый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я буду стараться, но не всегд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Verdana"/>
              </a:rPr>
              <a:t>Голубой </a:t>
            </a: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я не буду обращать внимание на свое здоровь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752480" y="4800600"/>
            <a:ext cx="19814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Заряд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спо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733920" y="4800600"/>
            <a:ext cx="21333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Акт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отд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867280" y="480060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Подвиж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752480" y="3962520"/>
            <a:ext cx="1981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личной  гигиены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733920" y="3962520"/>
            <a:ext cx="213336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Гигиена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лух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867280" y="3962520"/>
            <a:ext cx="19051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Уход за зубам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114800" y="2590920"/>
            <a:ext cx="20574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752480" y="2590920"/>
            <a:ext cx="11430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рук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вощи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895480" y="2590920"/>
            <a:ext cx="121932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Мяс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рыба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6172200" y="2590920"/>
            <a:ext cx="16002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лоч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одук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руп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1752480" y="838080"/>
            <a:ext cx="5943600" cy="17528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здор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267080" y="27432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лаю вам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Обои для компа"/>
          <p:cNvPicPr/>
          <p:nvPr/>
        </p:nvPicPr>
        <p:blipFill>
          <a:blip r:embed="rId1"/>
          <a:stretch/>
        </p:blipFill>
        <p:spPr>
          <a:xfrm>
            <a:off x="0" y="0"/>
            <a:ext cx="97902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"/>
          <p:cNvSpPr/>
          <p:nvPr/>
        </p:nvSpPr>
        <p:spPr>
          <a:xfrm>
            <a:off x="539640" y="549360"/>
            <a:ext cx="914400" cy="914400"/>
          </a:xfrm>
          <a:custGeom>
            <a:avLst/>
            <a:gdLst>
              <a:gd name="textAreaLeft" fmla="*/ 373320 w 914400"/>
              <a:gd name="textAreaRight" fmla="*/ 541080 w 914400"/>
              <a:gd name="textAreaTop" fmla="*/ 373320 h 914400"/>
              <a:gd name="textAreaBottom" fmla="*/ 541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21" y="8821"/>
                </a:lnTo>
                <a:lnTo>
                  <a:pt x="10800" y="0"/>
                </a:lnTo>
                <a:lnTo>
                  <a:pt x="12779" y="8821"/>
                </a:lnTo>
                <a:lnTo>
                  <a:pt x="21600" y="10800"/>
                </a:lnTo>
                <a:lnTo>
                  <a:pt x="12779" y="12779"/>
                </a:lnTo>
                <a:lnTo>
                  <a:pt x="10800" y="21600"/>
                </a:lnTo>
                <a:lnTo>
                  <a:pt x="8821" y="12779"/>
                </a:lnTo>
                <a:lnTo>
                  <a:pt x="0" y="10800"/>
                </a:lnTo>
                <a:close/>
              </a:path>
            </a:pathLst>
          </a:custGeom>
          <a:solidFill>
            <a:srgbClr val="e4f9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740720" y="83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7885080" y="5589720"/>
            <a:ext cx="914400" cy="914400"/>
          </a:xfrm>
          <a:custGeom>
            <a:avLst/>
            <a:gdLst>
              <a:gd name="textAreaLeft" fmla="*/ 364320 w 914400"/>
              <a:gd name="textAreaRight" fmla="*/ 550080 w 914400"/>
              <a:gd name="textAreaTop" fmla="*/ 364320 h 914400"/>
              <a:gd name="textAreaBottom" fmla="*/ 550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0" y="8610"/>
                </a:lnTo>
                <a:lnTo>
                  <a:pt x="10800" y="0"/>
                </a:lnTo>
                <a:lnTo>
                  <a:pt x="12990" y="8610"/>
                </a:lnTo>
                <a:lnTo>
                  <a:pt x="21600" y="10800"/>
                </a:lnTo>
                <a:lnTo>
                  <a:pt x="12990" y="12990"/>
                </a:lnTo>
                <a:lnTo>
                  <a:pt x="10800" y="21600"/>
                </a:lnTo>
                <a:lnTo>
                  <a:pt x="8610" y="12990"/>
                </a:lnTo>
                <a:lnTo>
                  <a:pt x="0" y="10800"/>
                </a:lnTo>
                <a:close/>
              </a:path>
            </a:pathLst>
          </a:custGeom>
          <a:solidFill>
            <a:srgbClr val="34e3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457200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8b5a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28800" y="6858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806002"/>
          <p:cNvPicPr/>
          <p:nvPr/>
        </p:nvPicPr>
        <p:blipFill>
          <a:blip r:embed="rId2"/>
          <a:stretch/>
        </p:blipFill>
        <p:spPr>
          <a:xfrm>
            <a:off x="0" y="2438280"/>
            <a:ext cx="2946240" cy="441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3505320" y="2209680"/>
            <a:ext cx="533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ршина на которую постоянно нужно взбираться сам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5381640" y="5638680"/>
            <a:ext cx="3762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Народная мудр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9 0.07639 L -0.39653 0.3493 E">
                                      <p:cBhvr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40434 -0.42292 E">
                                      <p:cBhvr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0.39115 -0.39236 E">
                                      <p:cBhvr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35434 0.29398 E">
                                      <p:cBhvr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896 0.31204 C 0.42188 0.31343 0.44097 0.32408 0.45104 0.34005 L 0.47396 0.37732 C 0.47899 0.38542 0.48698 0.38936 0.49688 0.38936 C 0.51094 0.38936 0.52292 0.37871 0.52396 0.36274 C 0.52292 0.34931 0.51094 0.33727 0.49688 0.33727 C 0.48698 0.33727 0.47899 0.3426 0.47396 0.34931 L 0.45104 0.38681 C 0.44097 0.40278 0.42188 0.41343 0.39896 0.41482 C 0.37604 0.41343 0.35695 0.40278 0.34688 0.38681 L 0.32396 0.34931 C 0.31892 0.3426 0.31094 0.33727 0.30104 0.33727 C 0.28698 0.33727 0.275 0.34931 0.27396 0.36274 C 0.275 0.37871 0.28698 0.38936 0.30104 0.38936 C 0.31094 0.38936 0.31892 0.38542 0.32396 0.37732 L 0.34688 0.34005 C 0.35695 0.32408 0.37604 0.31343 0.39896 0.31204 Z">
                                      <p:cBhvr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52 0.34931 C -0.37361 0.3507 -0.35451 0.36134 -0.34444 0.37732 L -0.32152 0.41458 C -0.31649 0.42269 -0.3085 0.42662 -0.29861 0.42662 C -0.28455 0.42662 -0.27257 0.41597 -0.27152 0.4 C -0.27257 0.38658 -0.28455 0.37454 -0.29861 0.37454 C -0.3085 0.37454 -0.31649 0.37986 -0.32152 0.38658 L -0.34444 0.42408 C -0.35451 0.44005 -0.37361 0.4507 -0.39652 0.45208 C -0.41944 0.4507 -0.43854 0.44005 -0.44861 0.42408 L -0.47152 0.38658 C -0.47656 0.37986 -0.48455 0.37454 -0.49444 0.37454 C -0.5085 0.37454 -0.52048 0.38658 -0.52152 0.4 C -0.52048 0.41597 -0.5085 0.42662 -0.49444 0.42662 C -0.48455 0.42662 -0.47656 0.42269 -0.47152 0.41458 L -0.44861 0.37732 C -0.43854 0.36134 -0.41944 0.3507 -0.39652 0.34931 Z">
                                      <p:cBhvr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54 -0.53935 C 0.43646 -0.53797 0.45555 -0.52732 0.46562 -0.51134 L 0.48854 -0.47408 C 0.49357 -0.46597 0.50156 -0.46204 0.51146 -0.46204 C 0.52552 -0.46204 0.5375 -0.47269 0.53854 -0.48866 C 0.5375 -0.50209 0.52552 -0.51412 0.51146 -0.51412 C 0.50156 -0.51412 0.49357 -0.5088 0.48854 -0.50209 L 0.46562 -0.46459 C 0.45555 -0.44861 0.43646 -0.43797 0.41354 -0.43658 C 0.39062 -0.43797 0.37152 -0.44861 0.36146 -0.46459 L 0.33854 -0.50209 C 0.3335 -0.5088 0.32552 -0.51412 0.31562 -0.51412 C 0.30156 -0.51412 0.28958 -0.50209 0.28854 -0.48866 C 0.28958 -0.47269 0.30156 -0.46204 0.31562 -0.46204 C 0.32552 -0.46204 0.3335 -0.46597 0.33854 -0.47408 L 0.36146 -0.51134 C 0.37152 -0.52732 0.39062 -0.53797 0.41354 -0.53935 Z">
                                      <p:cBhvr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72 -0.46574 C -0.3658 -0.46435 -0.34671 -0.4537 -0.33664 -0.43773 L -0.31372 -0.40046 C -0.30868 -0.39236 -0.3007 -0.38842 -0.2908 -0.38842 C -0.27674 -0.38842 -0.26476 -0.39907 -0.26372 -0.41504 C -0.26476 -0.42847 -0.27674 -0.4405 -0.2908 -0.4405 C -0.3007 -0.4405 -0.30868 -0.43518 -0.31372 -0.42847 L -0.33664 -0.39097 C -0.34671 -0.375 -0.3658 -0.36435 -0.38872 -0.36296 C -0.41164 -0.36435 -0.43073 -0.375 -0.4408 -0.39097 L -0.46372 -0.42847 C -0.46875 -0.43518 -0.47674 -0.4405 -0.48664 -0.4405 C -0.5007 -0.4405 -0.51268 -0.42847 -0.51372 -0.41504 C -0.51268 -0.39907 -0.5007 -0.38842 -0.48664 -0.38842 C -0.47674 -0.38842 -0.46875 -0.39236 -0.46372 -0.40046 L -0.4408 -0.43773 C -0.43073 -0.4537 -0.41164 -0.46435 -0.38872 -0.46574 Z">
                                      <p:cBhvr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752480" y="4800600"/>
            <a:ext cx="19814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733920" y="4800600"/>
            <a:ext cx="21333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867280" y="480060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752480" y="2590920"/>
            <a:ext cx="6019920" cy="2971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 flipV="1">
            <a:off x="3733920" y="3809880"/>
            <a:ext cx="403848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114800" y="2590920"/>
            <a:ext cx="20574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752480" y="2590920"/>
            <a:ext cx="114300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95480" y="2590920"/>
            <a:ext cx="487692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752480" y="2590920"/>
            <a:ext cx="6019920" cy="2971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66"/>
                </a:solidFill>
                <a:latin typeface="Verdana"/>
              </a:rPr>
              <a:t>ДОМ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66"/>
                </a:solidFill>
                <a:latin typeface="Verdana"/>
              </a:rPr>
              <a:t>ЗДОРОВЬЯ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1752480" y="838080"/>
            <a:ext cx="5943600" cy="17528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5000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3"/>
          <p:cNvSpPr/>
          <p:nvPr/>
        </p:nvSpPr>
        <p:spPr>
          <a:xfrm>
            <a:off x="3071880" y="2133720"/>
            <a:ext cx="6072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Багетная рамка 6"/>
          <p:cNvSpPr/>
          <p:nvPr/>
        </p:nvSpPr>
        <p:spPr>
          <a:xfrm>
            <a:off x="15238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Багетная рамка 8"/>
          <p:cNvSpPr/>
          <p:nvPr/>
        </p:nvSpPr>
        <p:spPr>
          <a:xfrm>
            <a:off x="47242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Багетная рамка 9"/>
          <p:cNvSpPr/>
          <p:nvPr/>
        </p:nvSpPr>
        <p:spPr>
          <a:xfrm>
            <a:off x="24382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Багетная рамка 10"/>
          <p:cNvSpPr/>
          <p:nvPr/>
        </p:nvSpPr>
        <p:spPr>
          <a:xfrm>
            <a:off x="42670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Багетная рамка 11"/>
          <p:cNvSpPr/>
          <p:nvPr/>
        </p:nvSpPr>
        <p:spPr>
          <a:xfrm>
            <a:off x="19810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Багетная рамка 12"/>
          <p:cNvSpPr/>
          <p:nvPr/>
        </p:nvSpPr>
        <p:spPr>
          <a:xfrm>
            <a:off x="28954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Багетная рамка 13"/>
          <p:cNvSpPr/>
          <p:nvPr/>
        </p:nvSpPr>
        <p:spPr>
          <a:xfrm>
            <a:off x="33526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Багетная рамка 14"/>
          <p:cNvSpPr/>
          <p:nvPr/>
        </p:nvSpPr>
        <p:spPr>
          <a:xfrm>
            <a:off x="38098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Багетная рамка 15"/>
          <p:cNvSpPr/>
          <p:nvPr/>
        </p:nvSpPr>
        <p:spPr>
          <a:xfrm>
            <a:off x="5181480" y="56386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Багетная рамка 16"/>
          <p:cNvSpPr/>
          <p:nvPr/>
        </p:nvSpPr>
        <p:spPr>
          <a:xfrm rot="21024000">
            <a:off x="51814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Багетная рамка 17"/>
          <p:cNvSpPr/>
          <p:nvPr/>
        </p:nvSpPr>
        <p:spPr>
          <a:xfrm>
            <a:off x="5181480" y="47242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Багетная рамка 18"/>
          <p:cNvSpPr/>
          <p:nvPr/>
        </p:nvSpPr>
        <p:spPr>
          <a:xfrm>
            <a:off x="518148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Багетная рамка 19"/>
          <p:cNvSpPr/>
          <p:nvPr/>
        </p:nvSpPr>
        <p:spPr>
          <a:xfrm>
            <a:off x="51814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Багетная рамка 20"/>
          <p:cNvSpPr/>
          <p:nvPr/>
        </p:nvSpPr>
        <p:spPr>
          <a:xfrm>
            <a:off x="51814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Багетная рамка 21"/>
          <p:cNvSpPr/>
          <p:nvPr/>
        </p:nvSpPr>
        <p:spPr>
          <a:xfrm>
            <a:off x="51814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Багетная рамка 22"/>
          <p:cNvSpPr/>
          <p:nvPr/>
        </p:nvSpPr>
        <p:spPr>
          <a:xfrm>
            <a:off x="51814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Багетная рамка 23"/>
          <p:cNvSpPr/>
          <p:nvPr/>
        </p:nvSpPr>
        <p:spPr>
          <a:xfrm>
            <a:off x="60958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Багетная рамка 24"/>
          <p:cNvSpPr/>
          <p:nvPr/>
        </p:nvSpPr>
        <p:spPr>
          <a:xfrm>
            <a:off x="56386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Багетная рамка 25"/>
          <p:cNvSpPr/>
          <p:nvPr/>
        </p:nvSpPr>
        <p:spPr>
          <a:xfrm>
            <a:off x="38098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Багетная рамка 26"/>
          <p:cNvSpPr/>
          <p:nvPr/>
        </p:nvSpPr>
        <p:spPr>
          <a:xfrm>
            <a:off x="42670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Багетная рамка 27"/>
          <p:cNvSpPr/>
          <p:nvPr/>
        </p:nvSpPr>
        <p:spPr>
          <a:xfrm>
            <a:off x="4724280" y="5181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Багетная рамка 28"/>
          <p:cNvSpPr/>
          <p:nvPr/>
        </p:nvSpPr>
        <p:spPr>
          <a:xfrm>
            <a:off x="6553080" y="4724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Багетная рамка 29"/>
          <p:cNvSpPr/>
          <p:nvPr/>
        </p:nvSpPr>
        <p:spPr>
          <a:xfrm>
            <a:off x="6095880" y="473076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Багетная рамка 30"/>
          <p:cNvSpPr/>
          <p:nvPr/>
        </p:nvSpPr>
        <p:spPr>
          <a:xfrm>
            <a:off x="5638680" y="473076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Багетная рамка 31"/>
          <p:cNvSpPr/>
          <p:nvPr/>
        </p:nvSpPr>
        <p:spPr>
          <a:xfrm>
            <a:off x="373392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Багетная рамка 32"/>
          <p:cNvSpPr/>
          <p:nvPr/>
        </p:nvSpPr>
        <p:spPr>
          <a:xfrm>
            <a:off x="423216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Багетная рамка 33"/>
          <p:cNvSpPr/>
          <p:nvPr/>
        </p:nvSpPr>
        <p:spPr>
          <a:xfrm>
            <a:off x="4689360" y="42670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Багетная рамка 34"/>
          <p:cNvSpPr/>
          <p:nvPr/>
        </p:nvSpPr>
        <p:spPr>
          <a:xfrm>
            <a:off x="79246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Багетная рамка 35"/>
          <p:cNvSpPr/>
          <p:nvPr/>
        </p:nvSpPr>
        <p:spPr>
          <a:xfrm>
            <a:off x="74674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Багетная рамка 36"/>
          <p:cNvSpPr/>
          <p:nvPr/>
        </p:nvSpPr>
        <p:spPr>
          <a:xfrm>
            <a:off x="70102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Багетная рамка 37"/>
          <p:cNvSpPr/>
          <p:nvPr/>
        </p:nvSpPr>
        <p:spPr>
          <a:xfrm>
            <a:off x="65530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Багетная рамка 38"/>
          <p:cNvSpPr/>
          <p:nvPr/>
        </p:nvSpPr>
        <p:spPr>
          <a:xfrm>
            <a:off x="60958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Багетная рамка 39"/>
          <p:cNvSpPr/>
          <p:nvPr/>
        </p:nvSpPr>
        <p:spPr>
          <a:xfrm>
            <a:off x="56386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Багетная рамка 40"/>
          <p:cNvSpPr/>
          <p:nvPr/>
        </p:nvSpPr>
        <p:spPr>
          <a:xfrm>
            <a:off x="4724280" y="38098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Багетная рамка 41"/>
          <p:cNvSpPr/>
          <p:nvPr/>
        </p:nvSpPr>
        <p:spPr>
          <a:xfrm>
            <a:off x="60958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Багетная рамка 42"/>
          <p:cNvSpPr/>
          <p:nvPr/>
        </p:nvSpPr>
        <p:spPr>
          <a:xfrm>
            <a:off x="56386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Багетная рамка 43"/>
          <p:cNvSpPr/>
          <p:nvPr/>
        </p:nvSpPr>
        <p:spPr>
          <a:xfrm>
            <a:off x="47242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Багетная рамка 44"/>
          <p:cNvSpPr/>
          <p:nvPr/>
        </p:nvSpPr>
        <p:spPr>
          <a:xfrm>
            <a:off x="60958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Багетная рамка 45"/>
          <p:cNvSpPr/>
          <p:nvPr/>
        </p:nvSpPr>
        <p:spPr>
          <a:xfrm>
            <a:off x="56386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Багетная рамка 46"/>
          <p:cNvSpPr/>
          <p:nvPr/>
        </p:nvSpPr>
        <p:spPr>
          <a:xfrm>
            <a:off x="33526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Багетная рамка 47"/>
          <p:cNvSpPr/>
          <p:nvPr/>
        </p:nvSpPr>
        <p:spPr>
          <a:xfrm>
            <a:off x="38098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Багетная рамка 48"/>
          <p:cNvSpPr/>
          <p:nvPr/>
        </p:nvSpPr>
        <p:spPr>
          <a:xfrm>
            <a:off x="42670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Багетная рамка 49"/>
          <p:cNvSpPr/>
          <p:nvPr/>
        </p:nvSpPr>
        <p:spPr>
          <a:xfrm>
            <a:off x="4724280" y="28954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Багетная рамка 50"/>
          <p:cNvSpPr/>
          <p:nvPr/>
        </p:nvSpPr>
        <p:spPr>
          <a:xfrm>
            <a:off x="65530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Багетная рамка 51"/>
          <p:cNvSpPr/>
          <p:nvPr/>
        </p:nvSpPr>
        <p:spPr>
          <a:xfrm>
            <a:off x="60958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Багетная рамка 52"/>
          <p:cNvSpPr/>
          <p:nvPr/>
        </p:nvSpPr>
        <p:spPr>
          <a:xfrm>
            <a:off x="56386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Багетная рамка 53"/>
          <p:cNvSpPr/>
          <p:nvPr/>
        </p:nvSpPr>
        <p:spPr>
          <a:xfrm>
            <a:off x="42670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Багетная рамка 54"/>
          <p:cNvSpPr/>
          <p:nvPr/>
        </p:nvSpPr>
        <p:spPr>
          <a:xfrm>
            <a:off x="4724280" y="24382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55"/>
          <p:cNvSpPr/>
          <p:nvPr/>
        </p:nvSpPr>
        <p:spPr>
          <a:xfrm>
            <a:off x="3886200" y="2286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право 56"/>
          <p:cNvSpPr/>
          <p:nvPr/>
        </p:nvSpPr>
        <p:spPr>
          <a:xfrm>
            <a:off x="3124080" y="2514600"/>
            <a:ext cx="533520" cy="2286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Багетная рамка 57"/>
          <p:cNvSpPr/>
          <p:nvPr/>
        </p:nvSpPr>
        <p:spPr>
          <a:xfrm>
            <a:off x="65530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Багетная рамка 58"/>
          <p:cNvSpPr/>
          <p:nvPr/>
        </p:nvSpPr>
        <p:spPr>
          <a:xfrm>
            <a:off x="7010280" y="3352680"/>
            <a:ext cx="457200" cy="4572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TextBox 59" descr=""/>
          <p:cNvPicPr/>
          <p:nvPr/>
        </p:nvPicPr>
        <p:blipFill>
          <a:blip r:embed="rId2"/>
          <a:stretch/>
        </p:blipFill>
        <p:spPr>
          <a:xfrm>
            <a:off x="4979880" y="2365200"/>
            <a:ext cx="993960" cy="4492800"/>
          </a:xfrm>
          <a:prstGeom prst="rect">
            <a:avLst/>
          </a:prstGeom>
          <a:ln w="0">
            <a:noFill/>
          </a:ln>
        </p:spPr>
      </p:pic>
      <p:sp>
        <p:nvSpPr>
          <p:cNvPr id="138" name="Горизонтальный свиток 60"/>
          <p:cNvSpPr/>
          <p:nvPr/>
        </p:nvSpPr>
        <p:spPr>
          <a:xfrm>
            <a:off x="-447840" y="-244440"/>
            <a:ext cx="609624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нос проходит в гру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братный держит п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евидимый и все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него мы жить не мо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62"/>
          <p:cNvSpPr/>
          <p:nvPr/>
        </p:nvSpPr>
        <p:spPr>
          <a:xfrm>
            <a:off x="4152960" y="2362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  о      д   у   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63"/>
          <p:cNvSpPr/>
          <p:nvPr/>
        </p:nvSpPr>
        <p:spPr>
          <a:xfrm>
            <a:off x="3352680" y="2819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з   а  р  я       к   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64"/>
          <p:cNvSpPr/>
          <p:nvPr/>
        </p:nvSpPr>
        <p:spPr>
          <a:xfrm>
            <a:off x="4724280" y="3276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     л   н   ц  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65"/>
          <p:cNvSpPr/>
          <p:nvPr/>
        </p:nvSpPr>
        <p:spPr>
          <a:xfrm>
            <a:off x="4724280" y="3743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г        е  б   е  ш о  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66"/>
          <p:cNvSpPr/>
          <p:nvPr/>
        </p:nvSpPr>
        <p:spPr>
          <a:xfrm>
            <a:off x="3657600" y="41752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  ы  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67"/>
          <p:cNvSpPr/>
          <p:nvPr/>
        </p:nvSpPr>
        <p:spPr>
          <a:xfrm>
            <a:off x="5573880" y="4672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  д  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68"/>
          <p:cNvSpPr/>
          <p:nvPr/>
        </p:nvSpPr>
        <p:spPr>
          <a:xfrm>
            <a:off x="3733920" y="513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   о   н       к 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69"/>
          <p:cNvSpPr/>
          <p:nvPr/>
        </p:nvSpPr>
        <p:spPr>
          <a:xfrm>
            <a:off x="1459080" y="5572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   о  л  о   т   е  н   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Горизонтальный свиток 70"/>
          <p:cNvSpPr/>
          <p:nvPr/>
        </p:nvSpPr>
        <p:spPr>
          <a:xfrm>
            <a:off x="-38160" y="-165240"/>
            <a:ext cx="609624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ыпаюсь утром ра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е с солнышком румя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равляю сам кроват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 делаю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Горизонтальный свиток 75"/>
          <p:cNvSpPr/>
          <p:nvPr/>
        </p:nvSpPr>
        <p:spPr>
          <a:xfrm>
            <a:off x="343080" y="-18432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ит сверкает всех согрева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Горизонтальный свиток 80"/>
          <p:cNvSpPr/>
          <p:nvPr/>
        </p:nvSpPr>
        <p:spPr>
          <a:xfrm>
            <a:off x="762120" y="-18432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ый зубас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цепился в чуб вихраст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Горизонтальный свиток 79"/>
          <p:cNvSpPr/>
          <p:nvPr/>
        </p:nvSpPr>
        <p:spPr>
          <a:xfrm>
            <a:off x="1143000" y="-16524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кользает, как жив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не выпущу его 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 ясное вполн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помоет руки м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Горизонтальный свиток 78"/>
          <p:cNvSpPr/>
          <p:nvPr/>
        </p:nvSpPr>
        <p:spPr>
          <a:xfrm>
            <a:off x="1523880" y="-165240"/>
            <a:ext cx="609624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ре, в реках обит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часто по небу лета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как наскучит ей лет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землю падает оп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Горизонтальный свиток 77"/>
          <p:cNvSpPr/>
          <p:nvPr/>
        </p:nvSpPr>
        <p:spPr>
          <a:xfrm>
            <a:off x="1905120" y="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ется речка – мы лежи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д на речке – мы беж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Горизонтальный свиток 76"/>
          <p:cNvSpPr/>
          <p:nvPr/>
        </p:nvSpPr>
        <p:spPr>
          <a:xfrm>
            <a:off x="2286000" y="-84240"/>
            <a:ext cx="6095880" cy="2743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фельное и полосато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дкое и лохмат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гда под рук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33.33333969116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79280" y="43657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ПОМНИ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1221998006_image003"/>
          <p:cNvPicPr/>
          <p:nvPr/>
        </p:nvPicPr>
        <p:blipFill>
          <a:blip r:embed="rId1"/>
          <a:srcRect l="3676" t="2674" r="4608" b="4195"/>
          <a:stretch/>
        </p:blipFill>
        <p:spPr>
          <a:xfrm>
            <a:off x="2867040" y="0"/>
            <a:ext cx="627696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0062"/>
          <p:cNvPicPr/>
          <p:nvPr/>
        </p:nvPicPr>
        <p:blipFill>
          <a:blip r:embed="rId2"/>
          <a:stretch/>
        </p:blipFill>
        <p:spPr>
          <a:xfrm>
            <a:off x="250920" y="907920"/>
            <a:ext cx="226836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7179"/>
          <p:cNvPicPr/>
          <p:nvPr/>
        </p:nvPicPr>
        <p:blipFill>
          <a:blip r:embed="rId1"/>
          <a:srcRect l="2268" t="2846" r="4725" b="4002"/>
          <a:stretch/>
        </p:blipFill>
        <p:spPr>
          <a:xfrm>
            <a:off x="179280" y="692280"/>
            <a:ext cx="4103640" cy="42606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4145400" y="18900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блюдай режим д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0000152805-YND"/>
          <p:cNvPicPr/>
          <p:nvPr/>
        </p:nvPicPr>
        <p:blipFill>
          <a:blip r:embed="rId2"/>
          <a:srcRect l="12853" t="7767" r="9639" b="3402"/>
          <a:stretch/>
        </p:blipFill>
        <p:spPr>
          <a:xfrm>
            <a:off x="4500720" y="2133720"/>
            <a:ext cx="2766960" cy="36003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60" name="Picture 5" descr="j0316876"/>
          <p:cNvPicPr/>
          <p:nvPr/>
        </p:nvPicPr>
        <p:blipFill>
          <a:blip r:embed="rId3"/>
          <a:stretch/>
        </p:blipFill>
        <p:spPr>
          <a:xfrm>
            <a:off x="7020000" y="907920"/>
            <a:ext cx="1846080" cy="251964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3924360" y="5724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мывайся и чисть зуб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тром и вече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8ccd4640c9a6"/>
          <p:cNvPicPr/>
          <p:nvPr/>
        </p:nvPicPr>
        <p:blipFill>
          <a:blip r:embed="rId1"/>
          <a:stretch/>
        </p:blipFill>
        <p:spPr>
          <a:xfrm>
            <a:off x="179280" y="1125360"/>
            <a:ext cx="4105440" cy="3672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3" name="Rectangle 3"/>
          <p:cNvSpPr/>
          <p:nvPr/>
        </p:nvSpPr>
        <p:spPr>
          <a:xfrm>
            <a:off x="185760" y="188640"/>
            <a:ext cx="422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чаще убирай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ветривай комнат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eds006_4"/>
          <p:cNvPicPr/>
          <p:nvPr/>
        </p:nvPicPr>
        <p:blipFill>
          <a:blip r:embed="rId2"/>
          <a:srcRect l="0" t="0" r="958" b="475"/>
          <a:stretch/>
        </p:blipFill>
        <p:spPr>
          <a:xfrm>
            <a:off x="4716360" y="2205000"/>
            <a:ext cx="4105440" cy="3403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5" name="Picture 5" descr="gostinnaya2"/>
          <p:cNvPicPr/>
          <p:nvPr/>
        </p:nvPicPr>
        <p:blipFill>
          <a:blip r:embed="rId3"/>
          <a:srcRect l="0" t="0" r="22793" b="0"/>
          <a:stretch/>
        </p:blipFill>
        <p:spPr>
          <a:xfrm>
            <a:off x="6443640" y="260280"/>
            <a:ext cx="1566720" cy="186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Rectangle 6"/>
          <p:cNvSpPr/>
          <p:nvPr/>
        </p:nvSpPr>
        <p:spPr>
          <a:xfrm>
            <a:off x="4722840" y="5733720"/>
            <a:ext cx="40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итай и пиши пр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орошем освещени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6:16:49Z</dcterms:created>
  <dc:creator>DNS</dc:creator>
  <dc:description/>
  <dc:language>en-US</dc:language>
  <cp:lastModifiedBy>Acer</cp:lastModifiedBy>
  <dcterms:modified xsi:type="dcterms:W3CDTF">2023-05-24T00:41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