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A46-B0F9-44E7-AB45-EEE981389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9A1-BBC0-4B61-8C55-F673964D7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7C9-C21B-4590-9CA8-5225640B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6B3-EA75-4E25-9E72-09F04485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89E-F485-466D-AB1A-29F2AF6D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CF9-81EF-4AEE-813C-E110629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C8B-2DEA-42B4-A849-A71CC7B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A78-073C-4945-95F4-EFB7A72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D29-B83C-4DC9-8FC2-87CEC08D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CF0-BA5B-4129-808D-763170E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940-A33B-404B-9452-6D5B73D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46C-DBDC-4483-8C28-2D283C8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DE2-7BB3-408D-AE83-A133DEC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105-64F3-4700-8333-A10B1D98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BFBD-D614-42A7-B842-DB18AC2F9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7" descr=""/>
          <p:cNvPicPr/>
          <p:nvPr/>
        </p:nvPicPr>
        <p:blipFill>
          <a:blip r:embed="rId1"/>
          <a:stretch/>
        </p:blipFill>
        <p:spPr>
          <a:xfrm>
            <a:off x="725400" y="378000"/>
            <a:ext cx="7480440" cy="6332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11280" y="191628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715400" y="3500280"/>
            <a:ext cx="47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вные вы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2919240" y="2060640"/>
            <a:ext cx="3090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42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пакета молока по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чка масла за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4788000" y="168912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5089680" y="22384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755640" y="362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17 + 14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3784680" y="4491000"/>
            <a:ext cx="47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пиши выражение в тетр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пакета молока по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чка масла за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4788000" y="168912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5089680" y="22384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187200" y="335448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17 + 14 •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3348000" y="336384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17 + 14 •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6012000" y="335268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17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528480" y="401004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55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2340000" y="402120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9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р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12000" y="1484280"/>
            <a:ext cx="28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шим вмест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(Решение записывать не нуж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кета молока за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чки масла по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5089680" y="166212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4788000" y="220356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3"/>
          <p:cNvSpPr/>
          <p:nvPr/>
        </p:nvSpPr>
        <p:spPr>
          <a:xfrm>
            <a:off x="684360" y="37148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9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+ 14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784680" y="4491000"/>
            <a:ext cx="47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пиши выражение в тетр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Прямая со стрелкой 4"/>
          <p:cNvCxnSpPr/>
          <p:nvPr/>
        </p:nvCxnSpPr>
        <p:spPr>
          <a:xfrm flipH="1" flipV="1">
            <a:off x="4066920" y="4365000"/>
            <a:ext cx="144720" cy="216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8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кета молока за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чки масла по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089680" y="166212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4791240" y="221616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2789280" y="3100320"/>
            <a:ext cx="763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9 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+ 14 • 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89280" y="4213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2811600" y="4697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2820960" y="51912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51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2800440" y="5662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7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6012000" y="1484280"/>
            <a:ext cx="28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шим вмест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(Решение записывать не нуж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5952960" y="36050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р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Выноска-облако 8"/>
          <p:cNvSpPr/>
          <p:nvPr/>
        </p:nvSpPr>
        <p:spPr>
          <a:xfrm>
            <a:off x="250920" y="730080"/>
            <a:ext cx="3529080" cy="827280"/>
          </a:xfrm>
          <a:prstGeom prst="cloudCallout">
            <a:avLst>
              <a:gd name="adj1" fmla="val 35212"/>
              <a:gd name="adj2" fmla="val -39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Выноска-облако 13"/>
          <p:cNvSpPr/>
          <p:nvPr/>
        </p:nvSpPr>
        <p:spPr>
          <a:xfrm>
            <a:off x="3241800" y="1569960"/>
            <a:ext cx="3485880" cy="936720"/>
          </a:xfrm>
          <a:prstGeom prst="cloudCallout">
            <a:avLst>
              <a:gd name="adj1" fmla="val 29347"/>
              <a:gd name="adj2" fmla="val -557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6" descr=""/>
          <p:cNvPicPr/>
          <p:nvPr/>
        </p:nvPicPr>
        <p:blipFill>
          <a:blip r:embed="rId1"/>
          <a:stretch/>
        </p:blipFill>
        <p:spPr>
          <a:xfrm>
            <a:off x="6445080" y="439560"/>
            <a:ext cx="1947960" cy="1946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380960" y="3103560"/>
            <a:ext cx="6328080" cy="117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6635880" y="4213080"/>
            <a:ext cx="220032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mult-37"/>
          <p:cNvPicPr/>
          <p:nvPr/>
        </p:nvPicPr>
        <p:blipFill>
          <a:blip r:embed="rId1"/>
          <a:stretch/>
        </p:blipFill>
        <p:spPr>
          <a:xfrm>
            <a:off x="2340000" y="196200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12 мая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ебник с. 122 №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500120" y="380988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• 2 + 8 = 5 •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Arial"/>
              </a:rPr>
              <a:t>1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• 2 + 8 = 12 + 8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• 4 =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042920" y="1557360"/>
            <a:ext cx="764388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можем записат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р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венст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 • 2 + 8 = 5 •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027080" y="2787480"/>
            <a:ext cx="76438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Два выражения рав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они имеют одинаковые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2"/>
          <p:cNvCxnSpPr/>
          <p:nvPr/>
        </p:nvCxnSpPr>
        <p:spPr>
          <a:xfrm flipH="1">
            <a:off x="2915640" y="4157640"/>
            <a:ext cx="864360" cy="280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  <p:cxnSp>
        <p:nvCxnSpPr>
          <p:cNvPr id="60" name="Прямая со стрелкой 11"/>
          <p:cNvCxnSpPr/>
          <p:nvPr/>
        </p:nvCxnSpPr>
        <p:spPr>
          <a:xfrm>
            <a:off x="5651280" y="4157640"/>
            <a:ext cx="937080" cy="280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 устно №2. Прочитай зада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761760" y="135108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 • 3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417840" y="13842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5227920" y="25272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23 - 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6288120" y="13510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3 + 7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129760" y="247824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 • 7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3614760" y="36766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1049040" y="379584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 • 9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6348240" y="374652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 + 4 •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3835080" y="5383080"/>
            <a:ext cx="22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5 • 4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Овал 1"/>
          <p:cNvSpPr/>
          <p:nvPr/>
        </p:nvSpPr>
        <p:spPr>
          <a:xfrm>
            <a:off x="598320" y="1309680"/>
            <a:ext cx="2017800" cy="782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Овал 16"/>
          <p:cNvSpPr/>
          <p:nvPr/>
        </p:nvSpPr>
        <p:spPr>
          <a:xfrm>
            <a:off x="1547640" y="2320920"/>
            <a:ext cx="23781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5945040" y="128592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Овал 18"/>
          <p:cNvSpPr/>
          <p:nvPr/>
        </p:nvSpPr>
        <p:spPr>
          <a:xfrm>
            <a:off x="5153040" y="2408400"/>
            <a:ext cx="2379600" cy="863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Овал 19"/>
          <p:cNvSpPr/>
          <p:nvPr/>
        </p:nvSpPr>
        <p:spPr>
          <a:xfrm>
            <a:off x="3295800" y="3606840"/>
            <a:ext cx="237960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Овал 20"/>
          <p:cNvSpPr/>
          <p:nvPr/>
        </p:nvSpPr>
        <p:spPr>
          <a:xfrm>
            <a:off x="5945040" y="364968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Овал 21"/>
          <p:cNvSpPr/>
          <p:nvPr/>
        </p:nvSpPr>
        <p:spPr>
          <a:xfrm>
            <a:off x="3225960" y="126684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Овал 22"/>
          <p:cNvSpPr/>
          <p:nvPr/>
        </p:nvSpPr>
        <p:spPr>
          <a:xfrm>
            <a:off x="554040" y="364968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761760" y="135108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 • 3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417840" y="13842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227920" y="25272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23 - 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6288120" y="13510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3 + 7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2129760" y="247824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 • 7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3614760" y="36766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1049040" y="379584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 • 9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6348240" y="374652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 + 4 •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3628080" y="537372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5 • 4 = 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Овал 1"/>
          <p:cNvSpPr/>
          <p:nvPr/>
        </p:nvSpPr>
        <p:spPr>
          <a:xfrm>
            <a:off x="334800" y="1279440"/>
            <a:ext cx="2379960" cy="839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Овал 16"/>
          <p:cNvSpPr/>
          <p:nvPr/>
        </p:nvSpPr>
        <p:spPr>
          <a:xfrm>
            <a:off x="1547640" y="2320920"/>
            <a:ext cx="23781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17"/>
          <p:cNvSpPr/>
          <p:nvPr/>
        </p:nvSpPr>
        <p:spPr>
          <a:xfrm>
            <a:off x="5945040" y="128592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18"/>
          <p:cNvSpPr/>
          <p:nvPr/>
        </p:nvSpPr>
        <p:spPr>
          <a:xfrm>
            <a:off x="5153040" y="2408400"/>
            <a:ext cx="2379600" cy="863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19"/>
          <p:cNvSpPr/>
          <p:nvPr/>
        </p:nvSpPr>
        <p:spPr>
          <a:xfrm>
            <a:off x="3295800" y="3606840"/>
            <a:ext cx="237960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20"/>
          <p:cNvSpPr/>
          <p:nvPr/>
        </p:nvSpPr>
        <p:spPr>
          <a:xfrm>
            <a:off x="5945040" y="364968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21"/>
          <p:cNvSpPr/>
          <p:nvPr/>
        </p:nvSpPr>
        <p:spPr>
          <a:xfrm>
            <a:off x="3273480" y="126684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22"/>
          <p:cNvSpPr/>
          <p:nvPr/>
        </p:nvSpPr>
        <p:spPr>
          <a:xfrm>
            <a:off x="554040" y="364968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 flipV="1">
            <a:off x="755640" y="1141200"/>
            <a:ext cx="1593720" cy="10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ая соединительная линия 23"/>
          <p:cNvSpPr/>
          <p:nvPr/>
        </p:nvSpPr>
        <p:spPr>
          <a:xfrm flipV="1">
            <a:off x="3774960" y="1139400"/>
            <a:ext cx="1594080" cy="10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24"/>
          <p:cNvSpPr/>
          <p:nvPr/>
        </p:nvSpPr>
        <p:spPr>
          <a:xfrm flipV="1">
            <a:off x="6338880" y="3516120"/>
            <a:ext cx="1593720" cy="10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полни №3 прочитай задание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ши выражения в тетрадь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вычисления 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0560" y="2708280"/>
            <a:ext cx="637092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не ошибиться, расставь порядок действ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й действия последовательно, по цеп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1042920" y="3933720"/>
            <a:ext cx="72010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полни №4 стр. 123 по образ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й внимательно зад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3480" y="1341360"/>
            <a:ext cx="94327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  3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5 + 5 • 4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5 + 5 • 4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5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1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4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) 3 • (2 + 2) + 3 • 2 = 3 •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3 • 2 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3 • 2 =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) 3 – 2 + 3 • 9 = 3 – 2 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2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2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2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3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corowina</dc:creator>
  <dc:description/>
  <dc:language>en-US</dc:language>
  <cp:lastModifiedBy>dmitrivoronetski@gmail.com</cp:lastModifiedBy>
  <dcterms:modified xsi:type="dcterms:W3CDTF">2023-05-11T15:45:39Z</dcterms:modified>
  <cp:revision>124</cp:revision>
  <dc:subject>математика</dc:subject>
  <dc:title>2 класс 1 четверть</dc:title>
</cp:coreProperties>
</file>