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99E9-7F2A-4849-B35E-877C601F94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8D96-F56D-4C4A-AF20-4C01F6E993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AE7-D95F-4F98-8374-CBA163D4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323-CEF3-4010-89EA-57084E36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66C-92DA-4EB8-BCF9-B7F3CBE5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B4D-807B-41F9-B40F-5A8E011E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84B-9E42-46D3-8825-A956F644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31A-A6C5-447B-ABF4-A6F27C2B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C8A-7C4B-4F5F-B141-4963F8E6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B95-3E87-46C6-86CD-B18451E7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7B7-D79F-4957-8746-9E600839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FDA-86BD-41B6-9D88-21937242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47F-1563-4561-8B6D-0A8E121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0A4-5AE0-4245-B44B-91CB8C2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7B86-2168-4F30-9D0E-B4FF3DEE50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7" descr=""/>
          <p:cNvPicPr/>
          <p:nvPr/>
        </p:nvPicPr>
        <p:blipFill>
          <a:blip r:embed="rId1"/>
          <a:stretch/>
        </p:blipFill>
        <p:spPr>
          <a:xfrm>
            <a:off x="725400" y="378000"/>
            <a:ext cx="7480440" cy="6332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11280" y="191628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715400" y="3500280"/>
            <a:ext cx="47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вные выра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2919240" y="2060640"/>
            <a:ext cx="3090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42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 №5 с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468360" y="1714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пакета молока по 1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326160" y="1197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-й покупа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457200" y="2200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чка масла за 1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4788000" y="168912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9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468360" y="2730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кета кефира по 14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5089680" y="223848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4788000" y="275580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4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13"/>
          <p:cNvSpPr/>
          <p:nvPr/>
        </p:nvSpPr>
        <p:spPr>
          <a:xfrm>
            <a:off x="755640" y="362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-й покупатель: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2 + 17 + 14 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3784680" y="4491000"/>
            <a:ext cx="47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Запиши выражение в тетр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 №5 с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468360" y="1714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пакета молока по 1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326160" y="1197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-й покупа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9"/>
          <p:cNvSpPr/>
          <p:nvPr/>
        </p:nvSpPr>
        <p:spPr>
          <a:xfrm>
            <a:off x="457200" y="2200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чка масла за 1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4788000" y="168912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9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468360" y="2730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кета кефира по 14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5089680" y="223848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4788000" y="275580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4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187200" y="335448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2 + 17 + 14 • 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3348000" y="336384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3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17 + 14 • 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6012000" y="335268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3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17 +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4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528480" y="401004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</a:rPr>
              <a:t>55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4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2340000" y="4021200"/>
            <a:ext cx="7632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9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р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12000" y="1484280"/>
            <a:ext cx="28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ешим вместе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(Решение записывать не нуж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 №5 с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468360" y="1714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кета молока за 1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326160" y="1197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-й покупа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457200" y="2200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чки масла по 1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16"/>
          <p:cNvSpPr/>
          <p:nvPr/>
        </p:nvSpPr>
        <p:spPr>
          <a:xfrm>
            <a:off x="5089680" y="166212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468360" y="2730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кета кефира по 14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4788000" y="220356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7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12"/>
          <p:cNvSpPr/>
          <p:nvPr/>
        </p:nvSpPr>
        <p:spPr>
          <a:xfrm>
            <a:off x="4788000" y="275580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4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3"/>
          <p:cNvSpPr/>
          <p:nvPr/>
        </p:nvSpPr>
        <p:spPr>
          <a:xfrm>
            <a:off x="684360" y="37148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-й покупат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9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3 + 14 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3784680" y="4491000"/>
            <a:ext cx="47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Запиши выражение в тетр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Прямая со стрелкой 4"/>
          <p:cNvCxnSpPr/>
          <p:nvPr/>
        </p:nvCxnSpPr>
        <p:spPr>
          <a:xfrm flipH="1" flipV="1">
            <a:off x="4066920" y="4365000"/>
            <a:ext cx="144720" cy="216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8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 №5 с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468360" y="1714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кета молока за 1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26160" y="1197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-й покупа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57200" y="2200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чки масла по 1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5089680" y="166212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468360" y="2730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пакета кефира по 14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4791240" y="221616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7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12"/>
          <p:cNvSpPr/>
          <p:nvPr/>
        </p:nvSpPr>
        <p:spPr>
          <a:xfrm>
            <a:off x="4788000" y="2755800"/>
            <a:ext cx="30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4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•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13"/>
          <p:cNvSpPr/>
          <p:nvPr/>
        </p:nvSpPr>
        <p:spPr>
          <a:xfrm>
            <a:off x="2789280" y="3100320"/>
            <a:ext cx="7632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9 +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3 + 14 • 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89280" y="4213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1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3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2811600" y="4697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1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3 =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2820960" y="51912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51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2800440" y="5662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7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4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6012000" y="1484280"/>
            <a:ext cx="28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ешим вместе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(Решение записывать не нуж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0"/>
          <p:cNvSpPr/>
          <p:nvPr/>
        </p:nvSpPr>
        <p:spPr>
          <a:xfrm>
            <a:off x="5952960" y="36050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11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р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Выноска-облако 8"/>
          <p:cNvSpPr/>
          <p:nvPr/>
        </p:nvSpPr>
        <p:spPr>
          <a:xfrm>
            <a:off x="250920" y="730080"/>
            <a:ext cx="3529080" cy="827280"/>
          </a:xfrm>
          <a:prstGeom prst="cloudCallout">
            <a:avLst>
              <a:gd name="adj1" fmla="val 35212"/>
              <a:gd name="adj2" fmla="val -39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Выноска-облако 13"/>
          <p:cNvSpPr/>
          <p:nvPr/>
        </p:nvSpPr>
        <p:spPr>
          <a:xfrm>
            <a:off x="3241800" y="1569960"/>
            <a:ext cx="3485880" cy="936720"/>
          </a:xfrm>
          <a:prstGeom prst="cloudCallout">
            <a:avLst>
              <a:gd name="adj1" fmla="val 29347"/>
              <a:gd name="adj2" fmla="val -557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Рисунок 6" descr=""/>
          <p:cNvPicPr/>
          <p:nvPr/>
        </p:nvPicPr>
        <p:blipFill>
          <a:blip r:embed="rId1"/>
          <a:stretch/>
        </p:blipFill>
        <p:spPr>
          <a:xfrm>
            <a:off x="6445080" y="439560"/>
            <a:ext cx="1947960" cy="1946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1380960" y="3103560"/>
            <a:ext cx="6328080" cy="117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6635880" y="4213080"/>
            <a:ext cx="220032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mult-37"/>
          <p:cNvPicPr/>
          <p:nvPr/>
        </p:nvPicPr>
        <p:blipFill>
          <a:blip r:embed="rId1"/>
          <a:stretch/>
        </p:blipFill>
        <p:spPr>
          <a:xfrm>
            <a:off x="2340000" y="1962000"/>
            <a:ext cx="5183280" cy="311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684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33cc"/>
                </a:solidFill>
                <a:latin typeface="Times New Roman"/>
              </a:rPr>
              <a:t>12 мая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чебник с. 122 №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500120" y="380988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• 2 + 8 = 5 •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Arial"/>
              </a:rPr>
              <a:t>1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• 2 + 8 = 12 + 8 =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 • 4 =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042920" y="1557360"/>
            <a:ext cx="764388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можем записат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ер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венств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 • 2 + 8 = 5 •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1027080" y="2787480"/>
            <a:ext cx="76438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Times New Roman"/>
              </a:rPr>
              <a:t>Два выражения равн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Times New Roman"/>
              </a:rPr>
              <a:t>они имеют одинаковые зна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Прямая со стрелкой 2"/>
          <p:cNvCxnSpPr/>
          <p:nvPr/>
        </p:nvCxnSpPr>
        <p:spPr>
          <a:xfrm flipH="1">
            <a:off x="2915640" y="4157640"/>
            <a:ext cx="864360" cy="280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</p:cxnSp>
      <p:cxnSp>
        <p:nvCxnSpPr>
          <p:cNvPr id="60" name="Прямая со стрелкой 11"/>
          <p:cNvCxnSpPr/>
          <p:nvPr/>
        </p:nvCxnSpPr>
        <p:spPr>
          <a:xfrm>
            <a:off x="5651280" y="4157640"/>
            <a:ext cx="937080" cy="280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 устно №2. Прочитай зада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761760" y="135108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 • 3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417840" y="138420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+ 10 +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5227920" y="25272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23 - 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0"/>
          <p:cNvSpPr/>
          <p:nvPr/>
        </p:nvSpPr>
        <p:spPr>
          <a:xfrm>
            <a:off x="6288120" y="135108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3 + 7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2129760" y="247824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 • 7 -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3614760" y="367668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+ 10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1049040" y="379584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 • 9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6348240" y="374652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 + 4 •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15"/>
          <p:cNvSpPr/>
          <p:nvPr/>
        </p:nvSpPr>
        <p:spPr>
          <a:xfrm>
            <a:off x="3835080" y="5383080"/>
            <a:ext cx="22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5 • 4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Овал 1"/>
          <p:cNvSpPr/>
          <p:nvPr/>
        </p:nvSpPr>
        <p:spPr>
          <a:xfrm>
            <a:off x="598320" y="1309680"/>
            <a:ext cx="2017800" cy="782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Овал 16"/>
          <p:cNvSpPr/>
          <p:nvPr/>
        </p:nvSpPr>
        <p:spPr>
          <a:xfrm>
            <a:off x="1547640" y="2320920"/>
            <a:ext cx="23781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Овал 17"/>
          <p:cNvSpPr/>
          <p:nvPr/>
        </p:nvSpPr>
        <p:spPr>
          <a:xfrm>
            <a:off x="5945040" y="1285920"/>
            <a:ext cx="23799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Овал 18"/>
          <p:cNvSpPr/>
          <p:nvPr/>
        </p:nvSpPr>
        <p:spPr>
          <a:xfrm>
            <a:off x="5153040" y="2408400"/>
            <a:ext cx="2379600" cy="863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Овал 19"/>
          <p:cNvSpPr/>
          <p:nvPr/>
        </p:nvSpPr>
        <p:spPr>
          <a:xfrm>
            <a:off x="3295800" y="3606840"/>
            <a:ext cx="237960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Овал 20"/>
          <p:cNvSpPr/>
          <p:nvPr/>
        </p:nvSpPr>
        <p:spPr>
          <a:xfrm>
            <a:off x="5945040" y="3649680"/>
            <a:ext cx="23799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Овал 21"/>
          <p:cNvSpPr/>
          <p:nvPr/>
        </p:nvSpPr>
        <p:spPr>
          <a:xfrm>
            <a:off x="3225960" y="1266840"/>
            <a:ext cx="2379600" cy="8650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Овал 22"/>
          <p:cNvSpPr/>
          <p:nvPr/>
        </p:nvSpPr>
        <p:spPr>
          <a:xfrm>
            <a:off x="554040" y="3649680"/>
            <a:ext cx="2379600" cy="8650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761760" y="135108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 • 3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417840" y="138420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+ 10 +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227920" y="25272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23 - 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6288120" y="135108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3 + 7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2129760" y="247824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 • 7 -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3614760" y="367668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+ 10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1049040" y="379584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 • 9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4"/>
          <p:cNvSpPr/>
          <p:nvPr/>
        </p:nvSpPr>
        <p:spPr>
          <a:xfrm>
            <a:off x="6348240" y="374652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 + 4 •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3628080" y="5373720"/>
            <a:ext cx="256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5 • 4 = 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Овал 1"/>
          <p:cNvSpPr/>
          <p:nvPr/>
        </p:nvSpPr>
        <p:spPr>
          <a:xfrm>
            <a:off x="334800" y="1279440"/>
            <a:ext cx="2379960" cy="839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Овал 16"/>
          <p:cNvSpPr/>
          <p:nvPr/>
        </p:nvSpPr>
        <p:spPr>
          <a:xfrm>
            <a:off x="1547640" y="2320920"/>
            <a:ext cx="23781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Овал 17"/>
          <p:cNvSpPr/>
          <p:nvPr/>
        </p:nvSpPr>
        <p:spPr>
          <a:xfrm>
            <a:off x="5945040" y="1285920"/>
            <a:ext cx="23799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Овал 18"/>
          <p:cNvSpPr/>
          <p:nvPr/>
        </p:nvSpPr>
        <p:spPr>
          <a:xfrm>
            <a:off x="5153040" y="2408400"/>
            <a:ext cx="2379600" cy="863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Овал 19"/>
          <p:cNvSpPr/>
          <p:nvPr/>
        </p:nvSpPr>
        <p:spPr>
          <a:xfrm>
            <a:off x="3295800" y="3606840"/>
            <a:ext cx="237960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Овал 20"/>
          <p:cNvSpPr/>
          <p:nvPr/>
        </p:nvSpPr>
        <p:spPr>
          <a:xfrm>
            <a:off x="5945040" y="3649680"/>
            <a:ext cx="2379960" cy="863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Овал 21"/>
          <p:cNvSpPr/>
          <p:nvPr/>
        </p:nvSpPr>
        <p:spPr>
          <a:xfrm>
            <a:off x="3273480" y="1266840"/>
            <a:ext cx="2379600" cy="8650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Овал 22"/>
          <p:cNvSpPr/>
          <p:nvPr/>
        </p:nvSpPr>
        <p:spPr>
          <a:xfrm>
            <a:off x="554040" y="3649680"/>
            <a:ext cx="2379600" cy="8650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 flipV="1">
            <a:off x="755640" y="1141200"/>
            <a:ext cx="1593720" cy="10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ая соединительная линия 23"/>
          <p:cNvSpPr/>
          <p:nvPr/>
        </p:nvSpPr>
        <p:spPr>
          <a:xfrm flipV="1">
            <a:off x="3774960" y="1139400"/>
            <a:ext cx="1594080" cy="10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ая соединительная линия 24"/>
          <p:cNvSpPr/>
          <p:nvPr/>
        </p:nvSpPr>
        <p:spPr>
          <a:xfrm flipV="1">
            <a:off x="6338880" y="3516120"/>
            <a:ext cx="1593720" cy="10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полни №3 прочитай задание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ши выражения в тетрадь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вычисления прави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0560" y="2708280"/>
            <a:ext cx="637092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не ошибиться, расставь порядок действ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й действия последовательно, по цепоч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роверь себ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1042920" y="3933720"/>
            <a:ext cx="720108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полни №4 стр. 123 по образ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й внимательно зад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33480" y="1341360"/>
            <a:ext cx="94327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  3 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2 + 5 + 5 • 4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5 + 5 • 4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5 +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2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 1   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4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) 3 • (2 + 2) + 3 • 2 = 3 •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3 • 2 =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3 • 2 =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2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Arial"/>
              </a:rPr>
              <a:t>3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) 3 – 2 + 3 • 9 = 3 – 2 +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2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2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5663E-006 L 0.71459 -2.45663E-006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8 -2.45663E-006 L 0.0059 -2.45663E-006 E">
                                      <p:cBhvr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1536E-006 L 0.35243 -0.43025 E">
                                      <p:cBhvr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243 0.37497 E">
                                      <p:cBhvr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35052 -0.42262 E">
                                      <p:cBhvr>
                                        <p:cTn id="2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833 0.37474 E">
                                      <p:cBhvr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71268 0.00763 E">
                                      <p:cBhvr>
                                        <p:cTn id="2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9 3.96253E-006 C 0.71442 -0.01712 0.71459 -0.03609 0.71338 -0.05159 C 0.71216 -0.06755 0.71095 -0.07726 0.70747 -0.09392 C 0.704 -0.11057 0.69879 -0.13347 0.6922 -0.15198 C 0.6856 -0.17048 0.67883 -0.18529 0.66754 -0.20518 C 0.65626 -0.22508 0.64046 -0.2533 0.62397 -0.27111 C 0.60747 -0.28892 0.58438 -0.30419 0.56876 -0.31182 C 0.55313 -0.31946 0.54463 -0.31807 0.52987 -0.31645 C 0.51511 -0.31483 0.49775 -0.31321 0.48039 -0.30257 C 0.46303 -0.29193 0.44185 -0.27666 0.42518 -0.25237 C 0.40851 -0.22808 0.39272 -0.19315 0.38039 -0.15661 C 0.36806 -0.12006 0.36077 -0.08374 0.35105 -0.03285 C 0.34133 0.01804 0.33803 0.09692 0.32171 0.14897 C 0.30539 0.20102 0.27917 0.25144 0.25348 0.2792 C 0.22779 0.30696 0.19706 0.31668 0.16754 0.31483 C 0.13803 0.31344 0.10244 0.29979 0.07692 0.26972 C 0.0514 0.23965 0.02779 0.17881 0.01459 0.13486 C 0.0014 0.09091 -0.0007 0.04395 -0.0019 0.00624 C -0.00312 -0.03146 -0.00017 -0.05367 0.00747 -0.09091 C 0.01511 -0.12815 0.02397 -0.18228 0.04393 -0.21791 C 0.0639 -0.25353 0.10296 -0.288 0.12761 -0.30396 C 0.15226 -0.31992 0.1698 -0.31946 0.1922 -0.31344 C 0.21459 -0.30743 0.23994 -0.2947 0.26164 -0.26787 C 0.28334 -0.24104 0.30799 -0.20009 0.32275 -0.15198 C 0.33751 -0.10386 0.34046 -0.03169 0.34983 0.02035 C 0.35921 0.0724 0.36424 0.11843 0.37935 0.15984 C 0.39445 0.20148 0.41546 0.24381 0.44046 0.26972 C 0.46529 0.29563 0.50313 0.31043 0.52987 0.31483 C 0.5566 0.31922 0.57987 0.30974 0.60053 0.29609 C 0.62119 0.28244 0.63733 0.26047 0.65348 0.2334 C 0.66963 0.2068 0.68664 0.16516 0.69688 0.13486 C 0.70713 0.10456 0.71112 0.07472 0.71459 0.05181 C 0.71806 0.02891 0.71476 0.01712 0.71459 3.96253E-006 Z">
                                      <p:cBhvr>
                                        <p:cTn id="30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corowina</dc:creator>
  <dc:description/>
  <dc:language>en-US</dc:language>
  <cp:lastModifiedBy>dmitrivoronetski@gmail.com</cp:lastModifiedBy>
  <dcterms:modified xsi:type="dcterms:W3CDTF">2023-05-11T15:45:39Z</dcterms:modified>
  <cp:revision>124</cp:revision>
  <dc:subject>математика</dc:subject>
  <dc:title>2 класс 1 четверть</dc:title>
</cp:coreProperties>
</file>