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955-38B5-4059-8968-B6A9AC75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94D-F3C2-4C40-AEFC-6CDB51FB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91E-3BF3-46AE-A3B2-AAACEEDC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59B-A4CD-428A-B611-C7D38286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EA7-B058-4C93-B908-126ECED0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82A-A734-4B85-B4FE-8407F8A6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252-747A-4A62-A309-01D80BC6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0D8-DFC5-4886-A5AF-A43FB882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9F8-81E9-40C0-A425-8F85CA71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8A8-4E63-4980-8FEE-8488F2B7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E1C-B06D-477F-9F33-6BF90345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AA2-46D2-49DE-B1BE-C3B48E92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322E-E95B-458E-9B15-4B9C14D3039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324F-275F-4925-86C6-7673654FB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3336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тор, определяющий психологическое здоровь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720" y="5157720"/>
            <a:ext cx="503064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агог-психолог МАДО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РР –д./с №98  Колпаченко Т.Ю. 202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142920" y="142920"/>
            <a:ext cx="8786880" cy="6429240"/>
          </a:xfrm>
          <a:prstGeom prst="roundRect">
            <a:avLst>
              <a:gd name="adj" fmla="val 16667"/>
            </a:avLst>
          </a:prstGeom>
          <a:noFill/>
          <a:ln w="123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3429000" y="404640"/>
            <a:ext cx="503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а  молодого специалиста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азвитие физических качест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464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Быст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Выносл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Гиб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Лов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0" descr="IMG_0568"/>
          <p:cNvPicPr/>
          <p:nvPr/>
        </p:nvPicPr>
        <p:blipFill>
          <a:blip r:embed="rId1"/>
          <a:stretch/>
        </p:blipFill>
        <p:spPr>
          <a:xfrm>
            <a:off x="-10982160" y="-6004080"/>
            <a:ext cx="467820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Заинтересуй,       но не настаив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Помоги,                  но не навр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Каждый ребенок индивидуал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IMG_9816"/>
          <p:cNvPicPr/>
          <p:nvPr/>
        </p:nvPicPr>
        <p:blipFill>
          <a:blip r:embed="rId1"/>
          <a:stretch/>
        </p:blipFill>
        <p:spPr>
          <a:xfrm>
            <a:off x="755640" y="1484280"/>
            <a:ext cx="3311640" cy="46544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пех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iCA040A8D"/>
          <p:cNvPicPr/>
          <p:nvPr/>
        </p:nvPicPr>
        <p:blipFill>
          <a:blip r:embed="rId1"/>
          <a:stretch/>
        </p:blipFill>
        <p:spPr>
          <a:xfrm>
            <a:off x="1476360" y="1773360"/>
            <a:ext cx="6408720" cy="41767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сихологическое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ы «психическое здоровье» и «психологическое» следует различать. Психическое здоровье имеет отношение к отдельным психическим процессам и механизмам, а психологическое здоровье относится к личности в цел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666F-4BC8-44A8-B40A-F710F97DE94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2084-2D28-49C5-A89F-FEC9516FF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трет психологически здорового человек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гически здоровый человек находится в гармонии с самим собой и окружающим его ми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человек нравственный, открытый, он принимает себя, как частичку этого божественного мира, признаёт ценность и уникальность других лю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ой человек способен брать ответственность за себя и свои поступки, извлекает уроки из неблагоприятных ситуаций, честен, силён дух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жизнь наполнена смысл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E5CE-7ACC-4DBB-BB52-7C4301457F3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53E8-A51F-45CF-B213-92818FD4A5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трет психологически здорового ребенк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актен и общителе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ен к сопережива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растные «кризисы» проходят безболезн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дает адекватной самооценкой, уверен и активен, имеет соответствующий возрасту уровень притязаний и возмож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реализует свою потребность в авторитете и уважении, понимании со стороны близких и значимых для него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испытывает чувства привязанности, нежности и любви в ответ на аналогичные чувства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оявляет выраженных чувств ревности и зависти при наличии ведущего чувства – доброжелательности к лю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7917-EE17-492E-9357-9378064EC9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5B93-1B99-4C1B-9BB3-DBBCD6366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7F7B-9A97-4CE6-9A20-A7F6D8BC2C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B152-355B-48C2-9247-4DC2C1B84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ременное общество становится все более информированным, технически грамотным и интеллектуально развитым. И, как обратная  сторона этого процесса–общество становится психологически нездоровы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ные разных исследований показывают, что за последнее время число психологически здоровых дошкольников уменьшилось в 5 раз и составляет лишь 10% от контингента детей, поступающих в школ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ивительно, что у каждого второго ребёнка наблюдаются психические расстройства: снижение концентрации внимания, отсутствие усидчивости, расторможенность поведения или гиперактив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Факторы, отрицательно влияющие на психическое здоровье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1341360"/>
          <a:ext cx="8064720" cy="5151600"/>
        </p:xfrm>
        <a:graphic>
          <a:graphicData uri="http://schemas.openxmlformats.org/drawingml/2006/table">
            <a:tbl>
              <a:tblPr/>
              <a:tblGrid>
                <a:gridCol w="4068720"/>
                <a:gridCol w="3996000"/>
              </a:tblGrid>
              <a:tr h="515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вязанные с семьей: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 или переизбыток общения родителей с ребенком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физического и эмоционального общения с отцом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фликтные отношения в семье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авильный стиль воспитания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ушение правил семейного воспитания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вязанные с ДОУ: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ияние первого значимого взрослого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фликтные отношения со сверстниками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направленности на личностно-ориентированный подход в системе работы педагогов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Методы по сохранению психического здоровья дошк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сихогимн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рт-терап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олевые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ес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удожественная лит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дивидуальный реж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сочная терап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Деятельность по сохранению психического здоровья дошк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узыкальная терап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лаксационная гимн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ассаж и самомасс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звл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заимодействие с семь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иагностика, наблю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овместные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ес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заимодействие с органами опеки и соцзащи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05:06:36Z</dcterms:created>
  <dc:creator>Тихонова</dc:creator>
  <dc:description>http://aida.ucoz.ru</dc:description>
  <dc:language>en-US</dc:language>
  <cp:lastModifiedBy>Детский сад</cp:lastModifiedBy>
  <cp:lastPrinted>2020-01-22T15:46:05Z</cp:lastPrinted>
  <dcterms:modified xsi:type="dcterms:W3CDTF">2023-05-26T09:38:22Z</dcterms:modified>
  <cp:revision>24</cp:revision>
  <dc:subject/>
  <dc:title>Создание комфортных условий для сохранения психического здоровья дошкольника – задача</dc:title>
</cp:coreProperties>
</file>