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755-A1FA-4ED8-9AAF-D2252901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79D-A65C-41DE-9069-95A074EB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E46-5418-4BAA-86FE-6F837D86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18B-B8D6-488C-AD32-8AC8EF20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EC7-0110-4014-834A-D25429B4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AD7-BC30-4B35-853D-40171F73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334-0A19-47D6-9C9A-F6473543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73F-8B39-4F0A-949B-0CF2C0A1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C16-9A6A-4EFB-AEA5-23759C0A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E9B-2750-4F66-9187-25B28B43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22C-858A-40C1-BA1B-5B4450D4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462-A216-45FF-978D-F9F14A80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846C-7E96-41D1-A5DB-940AC0A75EB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A609-F256-462D-A5AD-8320612AE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3336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тор, определяющий психологическое здоровь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720" y="5157720"/>
            <a:ext cx="503064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агог-психолог МАДО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РР –д./с №98  Колпаченко Т.Ю. 202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142920" y="142920"/>
            <a:ext cx="8786880" cy="6429240"/>
          </a:xfrm>
          <a:prstGeom prst="roundRect">
            <a:avLst>
              <a:gd name="adj" fmla="val 16667"/>
            </a:avLst>
          </a:prstGeom>
          <a:noFill/>
          <a:ln w="123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3429000" y="404640"/>
            <a:ext cx="503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а  молодого специалиста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азвитие физических качест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464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Быст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Выносл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Гиб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Лов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0" descr="IMG_0568"/>
          <p:cNvPicPr/>
          <p:nvPr/>
        </p:nvPicPr>
        <p:blipFill>
          <a:blip r:embed="rId1"/>
          <a:stretch/>
        </p:blipFill>
        <p:spPr>
          <a:xfrm>
            <a:off x="-10982160" y="-6004080"/>
            <a:ext cx="467820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Заинтересуй,       но не настаив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Помоги,                  но не навр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Каждый ребенок индивидуал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IMG_9816"/>
          <p:cNvPicPr/>
          <p:nvPr/>
        </p:nvPicPr>
        <p:blipFill>
          <a:blip r:embed="rId1"/>
          <a:stretch/>
        </p:blipFill>
        <p:spPr>
          <a:xfrm>
            <a:off x="755640" y="1484280"/>
            <a:ext cx="3311640" cy="46544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пех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iCA040A8D"/>
          <p:cNvPicPr/>
          <p:nvPr/>
        </p:nvPicPr>
        <p:blipFill>
          <a:blip r:embed="rId1"/>
          <a:stretch/>
        </p:blipFill>
        <p:spPr>
          <a:xfrm>
            <a:off x="1476360" y="1773360"/>
            <a:ext cx="6408720" cy="41767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сихологическое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ы «психическое здоровье» и «психологическое» следует различать. Психическое здоровье имеет отношение к отдельным психическим процессам и механизмам, а психологическое здоровье относится к личности в цел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D21E-FD20-4934-8557-FEF8D378AE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91E7-A690-40CC-BA77-F290C61F08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трет психологически здорового человек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гически здоровый человек находится в гармонии с самим собой и окружающим его ми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человек нравственный, открытый, он принимает себя, как частичку этого божественного мира, признаёт ценность и уникальность других лю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ой человек способен брать ответственность за себя и свои поступки, извлекает уроки из неблагоприятных ситуаций, честен, силён дух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жизнь наполнена смысл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6186-321F-4AB5-8A4C-798BAFA4F3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A68D-3F3B-478E-A64F-E6C6CAF6B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трет психологически здорового ребенк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актен и общителе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ен к сопережива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растные «кризисы» проходят безболезн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дает адекватной самооценкой, уверен и активен, имеет соответствующий возрасту уровень притязаний и возмож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реализует свою потребность в авторитете и уважении, понимании со стороны близких и значимых для него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испытывает чувства привязанности, нежности и любви в ответ на аналогичные чувства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оявляет выраженных чувств ревности и зависти при наличии ведущего чувства – доброжелательности к лю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D742-3266-4176-BCE2-2D3C6E8E8D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9D65-3A19-46DE-90E4-32B8AFCD51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4A83-2C72-45B4-BAE8-1D33B07D42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5EFD-6CE6-468B-B268-22D449DC1F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ременное общество становится все более информированным, технически грамотным и интеллектуально развитым. И, как обратная  сторона этого процесса–общество становится психологически нездоровы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ные разных исследований показывают, что за последнее время число психологически здоровых дошкольников уменьшилось в 5 раз и составляет лишь 10% от контингента детей, поступающих в школ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ивительно, что у каждого второго ребёнка наблюдаются психические расстройства: снижение концентрации внимания, отсутствие усидчивости, расторможенность поведения или гиперактив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Факторы, отрицательно влияющие на психическое здоровье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1341360"/>
          <a:ext cx="8064720" cy="5151600"/>
        </p:xfrm>
        <a:graphic>
          <a:graphicData uri="http://schemas.openxmlformats.org/drawingml/2006/table">
            <a:tbl>
              <a:tblPr/>
              <a:tblGrid>
                <a:gridCol w="4068720"/>
                <a:gridCol w="3996000"/>
              </a:tblGrid>
              <a:tr h="515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вязанные с семьей: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 или переизбыток общения родителей с ребенком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физического и эмоционального общения с отцом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фликтные отношения в семье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авильный стиль воспитания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ушение правил семейного воспитания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вязанные с ДОУ: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ияние первого значимого взрослого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фликтные отношения со сверстниками;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направленности на личностно-ориентированный подход в системе работы педагогов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Методы по сохранению психического здоровья дошк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сихогимн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рт-терап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олевые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ес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удожественная лит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дивидуальный реж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сочная терап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Деятельность по сохранению психического здоровья дошк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узыкальная терап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лаксационная гимн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ассаж и самомасс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звл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заимодействие с семь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иагностика, наблю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овместные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ес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заимодействие с органами опеки и соцзащи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05:06:36Z</dcterms:created>
  <dc:creator>Тихонова</dc:creator>
  <dc:description>http://aida.ucoz.ru</dc:description>
  <dc:language>en-US</dc:language>
  <cp:lastModifiedBy>Детский сад</cp:lastModifiedBy>
  <cp:lastPrinted>2020-01-22T15:46:05Z</cp:lastPrinted>
  <dcterms:modified xsi:type="dcterms:W3CDTF">2023-05-26T09:38:22Z</dcterms:modified>
  <cp:revision>24</cp:revision>
  <dc:subject/>
  <dc:title>Создание комфортных условий для сохранения психического здоровья дошкольника – задача</dc:title>
</cp:coreProperties>
</file>