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5.gif" ContentType="image/gi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A28-3120-487A-B689-28B1FAB3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EDF-B768-4C53-B4EE-E2C3FA2E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CBD-18D7-4E31-8CD2-255B7081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167-6E2D-49D8-B018-C1A0702A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D04-A983-4100-B511-EE5692E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4EA1-684C-4733-82D1-A5E7FFB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5099-C639-43A6-8661-3223C4C4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05C0-FD83-4D5E-9108-4CFFFDEC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071F-4F91-4B33-866D-5FC578A3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E9C-503B-4795-8239-58F3FEE8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763D-9393-409A-ACAA-4E28398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219-7C2E-446E-9411-4CDD985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925C-8A55-44D9-9109-30A356B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6B38-FB0C-4EB2-B4D2-560F498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EBF-4624-4A50-9D77-04D8D4A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2B8-7DF0-47FB-9A03-8A45D579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2B11-49E9-413C-A4EF-3FDB37F8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AC2-927E-4163-8203-0D53310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CD9-F3A7-4C00-8915-AFD5391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9DB-2B81-40E4-A359-BBCE67EA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AF5-72F5-4EBA-9A3D-90B1056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83C-BADA-4DB0-8D6F-97FA93A0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C0C-5E2D-4C82-9929-7C467366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0F6-6848-4B4A-B8D7-71E91F6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700B-CE73-4D0C-87FA-AE9D66AF34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13E-D68E-49AE-8EA2-8F0AB51EF3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ПЛОТНОСТЬ ВЕЩЕСТВА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366372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4" name="Picture 2" descr="Похоже на строение вещества"/>
          <p:cNvPicPr/>
          <p:nvPr/>
        </p:nvPicPr>
        <p:blipFill>
          <a:blip r:embed="rId2"/>
          <a:stretch/>
        </p:blipFill>
        <p:spPr>
          <a:xfrm>
            <a:off x="539640" y="260280"/>
            <a:ext cx="2889360" cy="2170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ЗАДАНИЕ №2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286240" cy="3105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835280" y="5084640"/>
            <a:ext cx="6192720" cy="1773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Поместим цилиндры, имеющие один и тот же объем,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но изготовленные из разных материалов на чаши весов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и сравним их массы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732720" y="1341360"/>
            <a:ext cx="1726920" cy="1800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1  =  V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1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m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ем объясняется , что тела, изготовленные из разных веществ, при одинаковом объеме имеют разные массы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5114880" cy="3247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1763640" y="5373720"/>
            <a:ext cx="7056360" cy="1295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Имея одинаковый объем, масса одного цилиндра больше масс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9900"/>
                </a:solidFill>
                <a:latin typeface="Arial Narrow"/>
              </a:rPr>
              <a:t>другого цилиндра.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Narrow"/>
              </a:rPr>
              <a:t>ВЫВОД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Масса тела зависит от вещества из которого оно состо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Рисунок1"/>
          <p:cNvPicPr/>
          <p:nvPr/>
        </p:nvPicPr>
        <p:blipFill>
          <a:blip r:embed="rId1"/>
          <a:stretch/>
        </p:blipFill>
        <p:spPr>
          <a:xfrm>
            <a:off x="2843280" y="3284640"/>
            <a:ext cx="324792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«ПЛОТНОСТЬ ВЕЩЕСТВА»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лан ответа о физической величин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.  Обозначение величи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2. Определение величи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3.  Формула для расч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4. Физический смыс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5.  Единицы измер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.  Прибор для изме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Рисунок4"/>
          <p:cNvPicPr/>
          <p:nvPr/>
        </p:nvPicPr>
        <p:blipFill>
          <a:blip r:embed="rId1"/>
          <a:stretch/>
        </p:blipFill>
        <p:spPr>
          <a:xfrm>
            <a:off x="5435640" y="1989000"/>
            <a:ext cx="2986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льда 1800 кг, а его объем 2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Чему равна масса  1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ль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лед"/>
          <p:cNvPicPr/>
          <p:nvPr/>
        </p:nvPicPr>
        <p:blipFill>
          <a:blip r:embed="rId1"/>
          <a:stretch/>
        </p:blipFill>
        <p:spPr>
          <a:xfrm>
            <a:off x="1835280" y="3284640"/>
            <a:ext cx="2390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27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Физический смысл плотности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лотност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ь показывает чему равна масса вещества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в единице объёма»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48360" y="3663000"/>
            <a:ext cx="2070720" cy="1998000"/>
          </a:xfrm>
          <a:prstGeom prst="rect">
            <a:avLst/>
          </a:prstGeom>
          <a:solidFill>
            <a:srgbClr val="c9da92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Куб 3"/>
          <p:cNvSpPr/>
          <p:nvPr/>
        </p:nvSpPr>
        <p:spPr>
          <a:xfrm>
            <a:off x="900000" y="3357720"/>
            <a:ext cx="863640" cy="936360"/>
          </a:xfrm>
          <a:prstGeom prst="cube">
            <a:avLst>
              <a:gd name="adj" fmla="val 25000"/>
            </a:avLst>
          </a:prstGeom>
          <a:solidFill>
            <a:srgbClr val="2cff2c"/>
          </a:solidFill>
          <a:ln w="25560">
            <a:solidFill>
              <a:srgbClr val="23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см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³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то называется плотностью вещества?</a:t>
            </a: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лотностью называется физическая величина, равная отношению массы тела к его объе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ас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лотность 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ъё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6084720" y="4149720"/>
            <a:ext cx="237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39640" y="4797360"/>
            <a:ext cx="3311640" cy="2060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ρ  =                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V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979640" y="5805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4427640" y="5589720"/>
            <a:ext cx="4176720" cy="9349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Плотность - </a:t>
            </a:r>
            <a:r>
              <a:rPr b="1" lang="el-GR" sz="2000" spc="-1" strike="noStrike">
                <a:solidFill>
                  <a:srgbClr val="ffff00"/>
                </a:solidFill>
                <a:latin typeface="Arial Narrow"/>
              </a:rPr>
              <a:t>ρ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греч. буква «ро»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Единица измерения плотности    в системе С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[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г/м³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несистемные единицы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[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г/см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0,001 кг                        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 г/см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=                           = 10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0,000001 м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       м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³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700360" y="450864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7451640" y="4437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бор для измерения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18" name="Picture 4" descr="pic_aeg"/>
          <p:cNvPicPr/>
          <p:nvPr/>
        </p:nvPicPr>
        <p:blipFill>
          <a:blip r:embed="rId1"/>
          <a:stretch/>
        </p:blipFill>
        <p:spPr>
          <a:xfrm>
            <a:off x="1187280" y="3429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1638360" y="1628640"/>
            <a:ext cx="689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Narrow"/>
              </a:rPr>
              <a:t>плотности жидкостей  измеряют с помощью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АРЕОМЕТРА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Таблица   стр.50-51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Определите по таблице вещества, имеющие наибольшую плотность? Наименьшую плотнос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лотность алюминия 2700 кг/м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. Что означает это число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Цели урока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физический смысл понятия пло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определением плотности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вести формулу для расчёта плот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учиться вычислять массу и объем по известной плот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равните плотности воды, льда и водяного пара.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воды                = 1000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льда                =    900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ρ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водяного пара  =    0,59 кг/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0088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Arial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25" name="Picture 4" descr="0200301"/>
          <p:cNvPicPr/>
          <p:nvPr/>
        </p:nvPicPr>
        <p:blipFill>
          <a:blip r:embed="rId1"/>
          <a:stretch/>
        </p:blipFill>
        <p:spPr>
          <a:xfrm>
            <a:off x="1187280" y="2708280"/>
            <a:ext cx="6953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Narrow"/>
              </a:rPr>
              <a:t>ПЛОТНОСТЬ ВЕЩЕСТВА ЗАВИСИТ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от массы атомов, из которых оно состоит, и от плотности  упаковки атомов и молекул в ве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ЛЕДОВАТЕЛЬ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Чем больше масса атомов и   чем  они ближе расположены друг к другу, тем больше плот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бъёмы керосина и воды одинаковы. Масса, какой жидкости будет больше?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 ,зная плотность,  рассчитать массу и объём тела?</a:t>
            </a: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pSp>
        <p:nvGrpSpPr>
          <p:cNvPr id="231" name="Горизонтальный свиток 1"/>
          <p:cNvGrpSpPr/>
          <p:nvPr/>
        </p:nvGrpSpPr>
        <p:grpSpPr>
          <a:xfrm>
            <a:off x="0" y="1844640"/>
            <a:ext cx="4114440" cy="3123720"/>
            <a:chOff x="0" y="1844640"/>
            <a:chExt cx="4114440" cy="3123720"/>
          </a:xfrm>
        </p:grpSpPr>
        <p:pic>
          <p:nvPicPr>
            <p:cNvPr id="232" name="Горизонтальный свиток 1" descr="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411444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6"/>
            <p:cNvSpPr/>
            <p:nvPr/>
          </p:nvSpPr>
          <p:spPr>
            <a:xfrm>
              <a:off x="410760" y="2250360"/>
              <a:ext cx="3491640" cy="23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m = 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•V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" name="Горизонтальный свиток 2"/>
          <p:cNvGrpSpPr/>
          <p:nvPr/>
        </p:nvGrpSpPr>
        <p:grpSpPr>
          <a:xfrm>
            <a:off x="5181480" y="3876840"/>
            <a:ext cx="3962160" cy="2980800"/>
            <a:chOff x="5181480" y="3876840"/>
            <a:chExt cx="3962160" cy="2980800"/>
          </a:xfrm>
        </p:grpSpPr>
        <p:pic>
          <p:nvPicPr>
            <p:cNvPr id="235" name="Горизонт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5181480" y="3876840"/>
              <a:ext cx="3962160" cy="29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9"/>
            <p:cNvSpPr/>
            <p:nvPr/>
          </p:nvSpPr>
          <p:spPr>
            <a:xfrm>
              <a:off x="5565600" y="4266720"/>
              <a:ext cx="3372840" cy="22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V = m/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Учимся решать и оформлять задачи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алюминиевого чайника 0,3 кг. Какой объем алюминия пошел на изготовление чайн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стальной детали 0,1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Найдите ее м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Оформлени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:                         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0,1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=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ρ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ρ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   кг/ 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[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]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[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•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м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= кг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]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  <a:ea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539640" y="3860640"/>
            <a:ext cx="25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348000" y="1628640"/>
            <a:ext cx="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1.  Плотностью называют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ую величину, равную отношению объёма тела к его масс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ую величину, равную отношению массы тела к его объё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физическое явл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физическое тело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2.  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В системе СИ  плотность измеряется в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г/см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г/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кг/м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м3/кг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3.  Плотность данного вещества зависит 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от его масс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от его объё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от его размер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нет правильных отве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4.  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Стакан  с подсолнечным маслом тяжелее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такого же стакана со спирт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такого же стакана с молок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такого же стакана с чистой вод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такого же стакана с мёд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5</a:t>
            </a: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.  При замерзании воды плотность её вещества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может и увеличиваться, и уменьшать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б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уменьшае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)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увеличивае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г)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 не меняе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ВТОРИМ</a:t>
            </a: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Что такое масс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ой буквой обозначается масс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В каких единицах измеряется в С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ая физическая величина определяет размеры те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Какой буквой обозначается объе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В каких единицах измеряется в С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можно определить массу те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можно определить объем тела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7283520" cy="3629160"/>
        </p:xfrm>
        <a:graphic>
          <a:graphicData uri="http://schemas.openxmlformats.org/drawingml/2006/table">
            <a:tbl>
              <a:tblPr/>
              <a:tblGrid>
                <a:gridCol w="1457280"/>
                <a:gridCol w="1455840"/>
                <a:gridCol w="1457280"/>
                <a:gridCol w="1455840"/>
                <a:gridCol w="145728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3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4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5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г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а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§21,22, упр. 7(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пр.7 ( 3,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пределить массу воздуха в комна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54" name="Picture 4" descr="сова"/>
          <p:cNvPicPr/>
          <p:nvPr/>
        </p:nvPicPr>
        <p:blipFill>
          <a:blip r:embed="rId1"/>
          <a:stretch/>
        </p:blipFill>
        <p:spPr>
          <a:xfrm>
            <a:off x="611280" y="1268280"/>
            <a:ext cx="2571480" cy="2681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3708360" y="2276640"/>
            <a:ext cx="4824360" cy="3384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ы узнали: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то такое плотность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Единицу измерения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изический смысл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рибор для определения плотности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ормулы для расчета массы и объема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744120" y="2956680"/>
            <a:ext cx="1331280" cy="119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3635280" y="1916280"/>
            <a:ext cx="1944720" cy="1922400"/>
          </a:xfrm>
          <a:prstGeom prst="smileyFace">
            <a:avLst>
              <a:gd name="adj" fmla="val 1495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732720" y="2781360"/>
            <a:ext cx="1942920" cy="18730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11280" y="40464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зеркало настроения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0" name="Picture 6" descr="01"/>
          <p:cNvPicPr/>
          <p:nvPr/>
        </p:nvPicPr>
        <p:blipFill>
          <a:blip r:embed="rId1"/>
          <a:stretch/>
        </p:blipFill>
        <p:spPr>
          <a:xfrm>
            <a:off x="0" y="15408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4"/>
          <p:cNvSpPr/>
          <p:nvPr/>
        </p:nvSpPr>
        <p:spPr>
          <a:xfrm>
            <a:off x="395280" y="549360"/>
            <a:ext cx="3529080" cy="3095640"/>
          </a:xfrm>
          <a:prstGeom prst="smileyFace">
            <a:avLst>
              <a:gd name="adj" fmla="val 9282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356000" y="3068640"/>
            <a:ext cx="4321440" cy="2881440"/>
          </a:xfrm>
          <a:prstGeom prst="cloudCallout">
            <a:avLst>
              <a:gd name="adj1" fmla="val -74944"/>
              <a:gd name="adj2" fmla="val -2636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Большое спасибо за урок!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МЫ ЗНАЕМ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203640" y="2637000"/>
            <a:ext cx="3960720" cy="237636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Тела, окружающие нас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остоят из различных веществ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1" name="Рисунок 12" descr="лед-вода.jpg"/>
          <p:cNvPicPr/>
          <p:nvPr/>
        </p:nvPicPr>
        <p:blipFill>
          <a:blip r:embed="rId1"/>
          <a:stretch/>
        </p:blipFill>
        <p:spPr>
          <a:xfrm>
            <a:off x="971640" y="1628640"/>
            <a:ext cx="193500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D:\док-ты\Мои рисунки\пластмасса.jpg"/>
          <p:cNvPicPr/>
          <p:nvPr/>
        </p:nvPicPr>
        <p:blipFill>
          <a:blip r:embed="rId2"/>
          <a:stretch/>
        </p:blipFill>
        <p:spPr>
          <a:xfrm>
            <a:off x="7020000" y="1341360"/>
            <a:ext cx="1722240" cy="1643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стекло.jpg"/>
          <p:cNvPicPr/>
          <p:nvPr/>
        </p:nvPicPr>
        <p:blipFill>
          <a:blip r:embed="rId3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подстаканник.jpg"/>
          <p:cNvPicPr/>
          <p:nvPr/>
        </p:nvPicPr>
        <p:blipFill>
          <a:blip r:embed="rId4"/>
          <a:stretch/>
        </p:blipFill>
        <p:spPr>
          <a:xfrm>
            <a:off x="826920" y="4797360"/>
            <a:ext cx="1643400" cy="1697040"/>
          </a:xfrm>
          <a:prstGeom prst="rect">
            <a:avLst/>
          </a:prstGeom>
          <a:ln w="0">
            <a:noFill/>
          </a:ln>
        </p:spPr>
      </p:pic>
      <p:sp>
        <p:nvSpPr>
          <p:cNvPr id="165" name="Line 10"/>
          <p:cNvSpPr/>
          <p:nvPr/>
        </p:nvSpPr>
        <p:spPr>
          <a:xfrm>
            <a:off x="6659640" y="4653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2484360" y="4365720"/>
            <a:ext cx="93528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Line 12"/>
          <p:cNvSpPr/>
          <p:nvPr/>
        </p:nvSpPr>
        <p:spPr>
          <a:xfrm flipH="1" flipV="1">
            <a:off x="2700000" y="2565360"/>
            <a:ext cx="11509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Line 13"/>
          <p:cNvSpPr/>
          <p:nvPr/>
        </p:nvSpPr>
        <p:spPr>
          <a:xfrm flipV="1">
            <a:off x="6300720" y="2565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ТВЕРДОЕ ТЕЛО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0" name="Picture 4" descr="Мои рисунки 1789"/>
          <p:cNvPicPr/>
          <p:nvPr/>
        </p:nvPicPr>
        <p:blipFill>
          <a:blip r:embed="rId1"/>
          <a:stretch/>
        </p:blipFill>
        <p:spPr>
          <a:xfrm>
            <a:off x="250920" y="1700280"/>
            <a:ext cx="3911400" cy="3128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76720" y="3645000"/>
            <a:ext cx="3456000" cy="3024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прочно связан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друг с друг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и очень плотно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упакованы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расположены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в строго определенн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порядке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2" name="Picture 6" descr="Молекула льда"/>
          <p:cNvPicPr/>
          <p:nvPr/>
        </p:nvPicPr>
        <p:blipFill>
          <a:blip r:embed="rId2"/>
          <a:stretch/>
        </p:blipFill>
        <p:spPr>
          <a:xfrm>
            <a:off x="6462720" y="333360"/>
            <a:ext cx="2681280" cy="2367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ЖИДКОЕ ТЕЛО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4" name="Picture 4" descr="Мои рисунки 1780"/>
          <p:cNvPicPr/>
          <p:nvPr/>
        </p:nvPicPr>
        <p:blipFill>
          <a:blip r:embed="rId1"/>
          <a:stretch/>
        </p:blipFill>
        <p:spPr>
          <a:xfrm>
            <a:off x="468360" y="1557360"/>
            <a:ext cx="3984480" cy="318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Молекула воды"/>
          <p:cNvPicPr/>
          <p:nvPr/>
        </p:nvPicPr>
        <p:blipFill>
          <a:blip r:embed="rId2"/>
          <a:stretch/>
        </p:blipFill>
        <p:spPr>
          <a:xfrm>
            <a:off x="5940360" y="260280"/>
            <a:ext cx="2843280" cy="2676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6" name="Rectangle 6"/>
          <p:cNvSpPr/>
          <p:nvPr/>
        </p:nvSpPr>
        <p:spPr>
          <a:xfrm>
            <a:off x="5580000" y="3573360"/>
            <a:ext cx="3240000" cy="3284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Атомы слабее связаны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друг с другом ,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но  очень плотно упакованы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Расположение молекул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 Narrow"/>
              </a:rPr>
              <a:t>беспорядочное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"/>
              </a:rPr>
              <a:t>ГАЗООБРАЗНО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8" name="Picture 5" descr="Мои рисунки 1733"/>
          <p:cNvPicPr/>
          <p:nvPr/>
        </p:nvPicPr>
        <p:blipFill>
          <a:blip r:embed="rId1"/>
          <a:stretch/>
        </p:blipFill>
        <p:spPr>
          <a:xfrm>
            <a:off x="0" y="1484280"/>
            <a:ext cx="3672000" cy="304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Молекула пара"/>
          <p:cNvPicPr/>
          <p:nvPr/>
        </p:nvPicPr>
        <p:blipFill>
          <a:blip r:embed="rId2"/>
          <a:stretch/>
        </p:blipFill>
        <p:spPr>
          <a:xfrm>
            <a:off x="6012000" y="1268280"/>
            <a:ext cx="2700360" cy="2492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0" name="Rectangle 7"/>
          <p:cNvSpPr/>
          <p:nvPr/>
        </p:nvSpPr>
        <p:spPr>
          <a:xfrm>
            <a:off x="4572000" y="4365720"/>
            <a:ext cx="4176720" cy="2087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олекулы имеют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очень слабую связь друг с другом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и удаляются друг от друга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 большое расстояние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Задание №1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838840" cy="3076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843280" y="4653000"/>
            <a:ext cx="5761080" cy="2016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Поместим цилиндры, изготовле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из одного и того же материала, на чаши вес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 Narrow"/>
              </a:rPr>
              <a:t>и сравним их массы. Сделайте вывод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732720" y="1341360"/>
            <a:ext cx="1726920" cy="1800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1  &gt;  V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1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m2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можно сказать о массах тел, изготовленных из разных веществ,  при равном объеме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608720" cy="2824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547640" y="5157720"/>
            <a:ext cx="6985080" cy="1700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асса большого цилиндра больше массы маленького цилиндра</a:t>
            </a:r>
            <a:r>
              <a:rPr b="1" lang="ru-RU" sz="2000" spc="-1" strike="noStrike">
                <a:solidFill>
                  <a:srgbClr val="e5ffff"/>
                </a:solidFill>
                <a:latin typeface="Arial Narrow"/>
              </a:rPr>
              <a:t>.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 Narrow"/>
              </a:rPr>
              <a:t>Вывод:</a:t>
            </a:r>
            <a:r>
              <a:rPr b="1" lang="ru-RU" sz="2000" spc="-1" strike="noStrike">
                <a:solidFill>
                  <a:srgbClr val="e5ffff"/>
                </a:solidFill>
                <a:latin typeface="Arial Narrow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Масса тела зависит от его объем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3:18:14Z</dcterms:created>
  <dc:creator>Вика</dc:creator>
  <dc:description/>
  <dc:language>en-US</dc:language>
  <cp:lastModifiedBy>Учетная запись Майкрософт</cp:lastModifiedBy>
  <dcterms:modified xsi:type="dcterms:W3CDTF">2023-05-26T16:57:36Z</dcterms:modified>
  <cp:revision>7</cp:revision>
  <dc:subject/>
  <dc:title>ПЛОТНОСТЬ ВЕЩЕСТВА</dc:title>
</cp:coreProperties>
</file>