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gif" ContentType="image/gif"/>
  <Override PartName="/ppt/media/image5.gif" ContentType="image/gif"/>
  <Override PartName="/ppt/media/image12.wmf" ContentType="image/x-wmf"/>
  <Override PartName="/ppt/media/image7.wmf" ContentType="image/x-wmf"/>
  <Override PartName="/ppt/media/image22.wmf" ContentType="image/x-wmf"/>
  <Override PartName="/ppt/media/image21.gif" ContentType="image/gif"/>
  <Override PartName="/ppt/media/image20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9.jpeg" ContentType="image/jpeg"/>
  <Override PartName="/ppt/media/image4.gif" ContentType="image/gif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4E6-CFB6-4D5E-98E5-462815C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0BA-4933-415F-942F-73D5AED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EF2-42A9-4D08-B9CF-0122A094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56B-CD02-4713-A186-99633E70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B9BC-69EA-449E-BA70-2EE3AA5B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E1E2-6744-4E02-B478-3CEA0BF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2B2-0AF5-4A90-89B8-15A963E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0085-8E1F-4087-B080-33C06F9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82E5-3497-4D05-8D6F-CD104402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984-C547-429D-B09F-C3252E3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3904-88DF-4511-96EA-4D2D1633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2CF-F716-4EE9-8D09-C1CED20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306C-2A34-4305-9693-6F5E590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961-833B-4259-A49D-BF4292D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17A-616A-43E9-9E97-9B19505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0B08-D6F7-4640-A3A3-F735A18E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1C5-AFF3-4C82-8E75-F912C8AE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099-C4CE-4BD5-967A-E30F2E4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FD3-68EE-467D-B47F-675952D3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7CC-0C62-464A-9F71-185CFF51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355-B40B-4BC5-AF3C-A071CD19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4E3-B9A1-4FF9-8F99-9EB9767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925-F439-4A76-AF7F-49A8158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753-5C76-42AB-9261-7018B69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3bcb"/>
                    </a:gs>
                    <a:gs pos="100000">
                      <a:srgbClr val="07fb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5666-903C-481A-9474-C4A64A1088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07fb1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C8D-2467-45FE-AAFD-F569512EE9FA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Формы правления: монархии и республ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бществознание 9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Рисунок10"/>
          <p:cNvPicPr/>
          <p:nvPr/>
        </p:nvPicPr>
        <p:blipFill>
          <a:blip r:embed="rId1"/>
          <a:stretch/>
        </p:blipFill>
        <p:spPr>
          <a:xfrm>
            <a:off x="6794640" y="243000"/>
            <a:ext cx="1944720" cy="1404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j0232677"/>
          <p:cNvPicPr/>
          <p:nvPr/>
        </p:nvPicPr>
        <p:blipFill>
          <a:blip r:embed="rId2"/>
          <a:stretch/>
        </p:blipFill>
        <p:spPr>
          <a:xfrm>
            <a:off x="900000" y="4508640"/>
            <a:ext cx="2498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Формы престолонаследия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68360" y="17002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Саличе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276720" y="1484280"/>
            <a:ext cx="24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Кастиль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6012000" y="1844640"/>
            <a:ext cx="24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Австрийс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1187280" y="2205000"/>
            <a:ext cx="917640" cy="1440000"/>
          </a:xfrm>
          <a:prstGeom prst="downArrow">
            <a:avLst>
              <a:gd name="adj1" fmla="val 50000"/>
              <a:gd name="adj2" fmla="val 39231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948360" y="2492280"/>
            <a:ext cx="917640" cy="976320"/>
          </a:xfrm>
          <a:prstGeom prst="downArrow">
            <a:avLst>
              <a:gd name="adj1" fmla="val 50000"/>
              <a:gd name="adj2" fmla="val 2659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3995640" y="1989000"/>
            <a:ext cx="917640" cy="1727280"/>
          </a:xfrm>
          <a:prstGeom prst="downArrow">
            <a:avLst>
              <a:gd name="adj1" fmla="val 50000"/>
              <a:gd name="adj2" fmla="val 4705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250920" y="3068640"/>
            <a:ext cx="252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олько по мужск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ин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Швеция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3419640" y="3645000"/>
            <a:ext cx="2303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дпочтение имею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ужчины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о могут наследоват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стол и женщин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Великобритания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6804000" y="3645000"/>
            <a:ext cx="165564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Женщин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следует престо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и услов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ного отсутств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ужского потом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bcb"/>
                </a:solidFill>
                <a:latin typeface="Arial Black"/>
              </a:rPr>
              <a:t>(Россия с 1797 г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1763640" y="5589720"/>
            <a:ext cx="37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 Black"/>
              </a:rPr>
              <a:t>РЕГЕНСТВ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4" name="Picture 15" descr="post-70-1156508052"/>
          <p:cNvPicPr/>
          <p:nvPr/>
        </p:nvPicPr>
        <p:blipFill>
          <a:blip r:embed="rId1"/>
          <a:stretch/>
        </p:blipFill>
        <p:spPr>
          <a:xfrm>
            <a:off x="6877080" y="5373720"/>
            <a:ext cx="1368360" cy="1311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orpal1"/>
          <p:cNvPicPr/>
          <p:nvPr/>
        </p:nvPicPr>
        <p:blipFill>
          <a:blip r:embed="rId2"/>
          <a:stretch/>
        </p:blipFill>
        <p:spPr>
          <a:xfrm>
            <a:off x="250920" y="189000"/>
            <a:ext cx="14778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8" descr="j0397935"/>
          <p:cNvPicPr/>
          <p:nvPr/>
        </p:nvPicPr>
        <p:blipFill>
          <a:blip r:embed="rId1"/>
          <a:stretch/>
        </p:blipFill>
        <p:spPr>
          <a:xfrm>
            <a:off x="3564000" y="3141720"/>
            <a:ext cx="1436760" cy="2158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Республ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2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53bcb"/>
                </a:solidFill>
                <a:uFillTx/>
                <a:latin typeface="Arial Black"/>
              </a:rPr>
              <a:t>Президентская </a:t>
            </a:r>
            <a:r>
              <a:rPr b="0" lang="ru-RU" sz="2400" spc="-1" strike="noStrike">
                <a:solidFill>
                  <a:srgbClr val="753bcb"/>
                </a:solidFill>
                <a:latin typeface="Arial Black"/>
              </a:rPr>
              <a:t>–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руках президента соединены полномочия главы государства и главы правительства. Президента выбирают. Правительство формирует президент. Перед ним они и отсчитываютс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СШ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7960" y="1412640"/>
            <a:ext cx="4027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7fb18"/>
                </a:solidFill>
                <a:uFillTx/>
                <a:latin typeface="Arial Black"/>
              </a:rPr>
              <a:t>Парламентская –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верховенство парламента. В государстве существует должность премьер – министра. Президент выполняет представительские функци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Италия, Австрия, Израи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Смешанная республ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2987640" y="2637000"/>
            <a:ext cx="3456000" cy="1511280"/>
          </a:xfrm>
          <a:prstGeom prst="rect">
            <a:avLst/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Р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2" name="Picture 6" descr="парл"/>
          <p:cNvPicPr/>
          <p:nvPr/>
        </p:nvPicPr>
        <p:blipFill>
          <a:blip r:embed="rId1"/>
          <a:srcRect l="0" t="0" r="6623" b="5594"/>
          <a:stretch/>
        </p:blipFill>
        <p:spPr>
          <a:xfrm>
            <a:off x="5867280" y="4581360"/>
            <a:ext cx="1533600" cy="1629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j0301314"/>
          <p:cNvPicPr/>
          <p:nvPr/>
        </p:nvPicPr>
        <p:blipFill>
          <a:blip r:embed="rId2"/>
          <a:stretch/>
        </p:blipFill>
        <p:spPr>
          <a:xfrm>
            <a:off x="1116000" y="2924280"/>
            <a:ext cx="922320" cy="1028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j0236379"/>
          <p:cNvPicPr/>
          <p:nvPr/>
        </p:nvPicPr>
        <p:blipFill>
          <a:blip r:embed="rId3"/>
          <a:stretch/>
        </p:blipFill>
        <p:spPr>
          <a:xfrm>
            <a:off x="7093080" y="29242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j0405916"/>
          <p:cNvPicPr/>
          <p:nvPr/>
        </p:nvPicPr>
        <p:blipFill>
          <a:blip r:embed="rId4"/>
          <a:stretch/>
        </p:blipFill>
        <p:spPr>
          <a:xfrm>
            <a:off x="1692360" y="4221000"/>
            <a:ext cx="18716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Основные формы правления.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Аристотел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Правильны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Царская власт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ристократ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ли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Неправильные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ир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лигарх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мокра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6" descr="j0354471"/>
          <p:cNvPicPr/>
          <p:nvPr/>
        </p:nvPicPr>
        <p:blipFill>
          <a:blip r:embed="rId1"/>
          <a:stretch/>
        </p:blipFill>
        <p:spPr>
          <a:xfrm>
            <a:off x="1116000" y="4508640"/>
            <a:ext cx="141912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j0285285"/>
          <p:cNvPicPr/>
          <p:nvPr/>
        </p:nvPicPr>
        <p:blipFill>
          <a:blip r:embed="rId2"/>
          <a:stretch/>
        </p:blipFill>
        <p:spPr>
          <a:xfrm>
            <a:off x="6156360" y="4437000"/>
            <a:ext cx="1176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Царская вла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258920" y="2276640"/>
            <a:ext cx="295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авление, подобно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цовском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356000" y="3068640"/>
            <a:ext cx="338472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сли царь забывает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 народ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7"/>
          <p:cNvSpPr/>
          <p:nvPr/>
        </p:nvSpPr>
        <p:spPr>
          <a:xfrm rot="19594200">
            <a:off x="4100040" y="4476600"/>
            <a:ext cx="976320" cy="865440"/>
          </a:xfrm>
          <a:prstGeom prst="leftArrow">
            <a:avLst>
              <a:gd name="adj1" fmla="val 50000"/>
              <a:gd name="adj2" fmla="val 28203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116000" y="5373720"/>
            <a:ext cx="1778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ира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3132000" y="573408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5940360" y="5661000"/>
            <a:ext cx="273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ласть переходи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 аристократи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11" descr="j0318136"/>
          <p:cNvPicPr/>
          <p:nvPr/>
        </p:nvPicPr>
        <p:blipFill>
          <a:blip r:embed="rId1"/>
          <a:stretch/>
        </p:blipFill>
        <p:spPr>
          <a:xfrm>
            <a:off x="324000" y="549360"/>
            <a:ext cx="1512720" cy="1222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j0415570"/>
          <p:cNvPicPr/>
          <p:nvPr/>
        </p:nvPicPr>
        <p:blipFill>
          <a:blip r:embed="rId2"/>
          <a:stretch/>
        </p:blipFill>
        <p:spPr>
          <a:xfrm>
            <a:off x="468360" y="4149720"/>
            <a:ext cx="20574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8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1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6046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ристокра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826920" y="155736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учш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211640" y="2060640"/>
            <a:ext cx="30243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блечены доверие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рода, радею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 его интерес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AutoShape 7"/>
          <p:cNvSpPr/>
          <p:nvPr/>
        </p:nvSpPr>
        <p:spPr>
          <a:xfrm rot="19687800">
            <a:off x="3634920" y="2923920"/>
            <a:ext cx="976320" cy="100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1332000" y="3573360"/>
            <a:ext cx="223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лигарх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9"/>
          <p:cNvSpPr/>
          <p:nvPr/>
        </p:nvSpPr>
        <p:spPr>
          <a:xfrm rot="2052000">
            <a:off x="3419280" y="4365720"/>
            <a:ext cx="976320" cy="113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5148360" y="4869000"/>
            <a:ext cx="287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Кучка людей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спользующих власт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корыстных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целях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AutoShape 11"/>
          <p:cNvSpPr/>
          <p:nvPr/>
        </p:nvSpPr>
        <p:spPr>
          <a:xfrm>
            <a:off x="3059280" y="5516640"/>
            <a:ext cx="2128680" cy="919080"/>
          </a:xfrm>
          <a:prstGeom prst="leftArrow">
            <a:avLst>
              <a:gd name="adj1" fmla="val 50000"/>
              <a:gd name="adj2" fmla="val 57902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900000" y="5661000"/>
            <a:ext cx="2138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лит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13" descr="j0230959"/>
          <p:cNvPicPr/>
          <p:nvPr/>
        </p:nvPicPr>
        <p:blipFill>
          <a:blip r:embed="rId1"/>
          <a:stretch/>
        </p:blipFill>
        <p:spPr>
          <a:xfrm>
            <a:off x="7012080" y="18900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Рисунок12"/>
          <p:cNvPicPr/>
          <p:nvPr/>
        </p:nvPicPr>
        <p:blipFill>
          <a:blip r:embed="rId2"/>
          <a:stretch/>
        </p:blipFill>
        <p:spPr>
          <a:xfrm>
            <a:off x="324000" y="3817800"/>
            <a:ext cx="13381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Поли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116000" y="1916280"/>
            <a:ext cx="252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авление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реднего класс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427640" y="3645000"/>
            <a:ext cx="2930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идеальное государство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ак как именн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редний класс» -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лог стабильно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государ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7" descr="17"/>
          <p:cNvPicPr/>
          <p:nvPr/>
        </p:nvPicPr>
        <p:blipFill>
          <a:blip r:embed="rId1"/>
          <a:stretch/>
        </p:blipFill>
        <p:spPr>
          <a:xfrm>
            <a:off x="1187280" y="2997360"/>
            <a:ext cx="2294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Демократи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611280" y="162864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злишняя своб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435640" y="2060640"/>
            <a:ext cx="28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вращение нар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-181080" y="292428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род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демос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1908000" y="2924280"/>
            <a:ext cx="2376720" cy="863640"/>
          </a:xfrm>
          <a:prstGeom prst="rightArrow">
            <a:avLst>
              <a:gd name="adj1" fmla="val 50000"/>
              <a:gd name="adj2" fmla="val 68799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43280" y="2852640"/>
            <a:ext cx="19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олп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охлос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AutoShape 10"/>
          <p:cNvSpPr/>
          <p:nvPr/>
        </p:nvSpPr>
        <p:spPr>
          <a:xfrm rot="18699600">
            <a:off x="5025240" y="4037400"/>
            <a:ext cx="1409760" cy="874800"/>
          </a:xfrm>
          <a:prstGeom prst="leftArrow">
            <a:avLst>
              <a:gd name="adj1" fmla="val 50000"/>
              <a:gd name="adj2" fmla="val 4028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468360" y="4941720"/>
            <a:ext cx="424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хлократия (власть толпы) –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уть к хаосу, анархии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ушению государ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AutoShape 12"/>
          <p:cNvSpPr/>
          <p:nvPr/>
        </p:nvSpPr>
        <p:spPr>
          <a:xfrm>
            <a:off x="5076720" y="5445000"/>
            <a:ext cx="1943280" cy="989280"/>
          </a:xfrm>
          <a:prstGeom prst="rightArrow">
            <a:avLst>
              <a:gd name="adj1" fmla="val 50000"/>
              <a:gd name="adj2" fmla="val 49108"/>
            </a:avLst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7093080" y="4941720"/>
            <a:ext cx="2050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Царска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ласт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14" descr="j0285285"/>
          <p:cNvPicPr/>
          <p:nvPr/>
        </p:nvPicPr>
        <p:blipFill>
          <a:blip r:embed="rId1"/>
          <a:stretch/>
        </p:blipFill>
        <p:spPr>
          <a:xfrm>
            <a:off x="611280" y="333360"/>
            <a:ext cx="1176120" cy="16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5" descr="j0282993"/>
          <p:cNvPicPr/>
          <p:nvPr/>
        </p:nvPicPr>
        <p:blipFill>
          <a:blip r:embed="rId2"/>
          <a:stretch/>
        </p:blipFill>
        <p:spPr>
          <a:xfrm>
            <a:off x="3203640" y="3933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6" descr="15"/>
          <p:cNvPicPr/>
          <p:nvPr/>
        </p:nvPicPr>
        <p:blipFill>
          <a:blip r:embed="rId3"/>
          <a:stretch/>
        </p:blipFill>
        <p:spPr>
          <a:xfrm>
            <a:off x="6588000" y="2781360"/>
            <a:ext cx="165600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6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 Black"/>
              </a:rPr>
              <a:t>Основные формы правления.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 Black"/>
              </a:rPr>
              <a:t>Аристотел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Правильны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Царская власт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ристократ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ли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</a:rPr>
              <a:t>Неправильные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ир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лигарх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мократи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5" descr="j0354471"/>
          <p:cNvPicPr/>
          <p:nvPr/>
        </p:nvPicPr>
        <p:blipFill>
          <a:blip r:embed="rId1"/>
          <a:stretch/>
        </p:blipFill>
        <p:spPr>
          <a:xfrm>
            <a:off x="1116000" y="4508640"/>
            <a:ext cx="1419120" cy="1871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j0285285"/>
          <p:cNvPicPr/>
          <p:nvPr/>
        </p:nvPicPr>
        <p:blipFill>
          <a:blip r:embed="rId2"/>
          <a:stretch/>
        </p:blipFill>
        <p:spPr>
          <a:xfrm>
            <a:off x="6156360" y="4437000"/>
            <a:ext cx="1176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830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Формы правл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Монархия –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власть одного лица, передаваемая по наследств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Республика –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авление избранных представителей наро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10" descr="j0301316"/>
          <p:cNvPicPr/>
          <p:nvPr/>
        </p:nvPicPr>
        <p:blipFill>
          <a:blip r:embed="rId1"/>
          <a:stretch/>
        </p:blipFill>
        <p:spPr>
          <a:xfrm>
            <a:off x="7236000" y="4149720"/>
            <a:ext cx="1288800" cy="1812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Рисунок9"/>
          <p:cNvPicPr/>
          <p:nvPr/>
        </p:nvPicPr>
        <p:blipFill>
          <a:blip r:embed="rId2"/>
          <a:stretch/>
        </p:blipFill>
        <p:spPr>
          <a:xfrm>
            <a:off x="4859280" y="4581360"/>
            <a:ext cx="1612800" cy="1657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j0232677"/>
          <p:cNvPicPr/>
          <p:nvPr/>
        </p:nvPicPr>
        <p:blipFill>
          <a:blip r:embed="rId3"/>
          <a:stretch/>
        </p:blipFill>
        <p:spPr>
          <a:xfrm>
            <a:off x="900000" y="4508640"/>
            <a:ext cx="2498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Монарх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Абсолютная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– вся власть в руках одного человека. Власть безгранич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Иорд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7640" y="198108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Конституцион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(парламентская) –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рамки власти очерчены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конституцие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Законы принимает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арламент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исполняет –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равительство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которое формирует лидер, победившей на выборах партии. Он и становится </a:t>
            </a:r>
            <a:r>
              <a:rPr b="0" lang="ru-RU" sz="2000" spc="-1" strike="noStrike">
                <a:solidFill>
                  <a:srgbClr val="39a6dd"/>
                </a:solidFill>
                <a:latin typeface="Arial Black"/>
              </a:rPr>
              <a:t>премьер-министр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fb18"/>
                </a:solidFill>
                <a:latin typeface="Arial Black"/>
              </a:rPr>
              <a:t>Великобр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867280" y="1557360"/>
            <a:ext cx="24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12" descr="j0405912"/>
          <p:cNvPicPr/>
          <p:nvPr/>
        </p:nvPicPr>
        <p:blipFill>
          <a:blip r:embed="rId1"/>
          <a:stretch/>
        </p:blipFill>
        <p:spPr>
          <a:xfrm>
            <a:off x="2916360" y="4508640"/>
            <a:ext cx="1493640" cy="2000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j0403959"/>
          <p:cNvPicPr/>
          <p:nvPr/>
        </p:nvPicPr>
        <p:blipFill>
          <a:blip r:embed="rId2"/>
          <a:stretch/>
        </p:blipFill>
        <p:spPr>
          <a:xfrm>
            <a:off x="395280" y="3716280"/>
            <a:ext cx="1420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4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4,-5,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6:11:11Z</dcterms:created>
  <dc:creator>Customer</dc:creator>
  <dc:description/>
  <dc:language>en-US</dc:language>
  <cp:lastModifiedBy>Customer</cp:lastModifiedBy>
  <dcterms:modified xsi:type="dcterms:W3CDTF">2009-12-10T07:55:03Z</dcterms:modified>
  <cp:revision>4</cp:revision>
  <dc:subject/>
  <dc:title>Форм правления: монархии и республики </dc:title>
</cp:coreProperties>
</file>