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7530-6E37-4341-AAA2-C8ABC9A35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ADB5-EB38-4B5B-9869-72C4D8784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A27F-8E5A-4F62-81A5-3263CB570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58E0-1F4C-4F67-A530-F115E9F6C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290D-4D21-4356-A662-581999C03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B993-D6F8-45AA-A993-D3672B374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DCCA-36AA-46C6-B2B5-F2FA2DB32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E8DC-5B2E-4ACA-9150-4A6E779CA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AA4A-489C-4EA1-B8B1-58E35061B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B95F-0781-452B-ACB7-6E4ADDEA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26BF-36D7-419E-9939-677927E0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4F68-82D4-41E9-8ECA-76B1E396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6F6C-E339-4021-8700-CCF570D5C6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371600" y="990720"/>
            <a:ext cx="6781680" cy="348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авила поведени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 возникновении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ррористического акт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2185920" y="4876920"/>
            <a:ext cx="49006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3353040" cy="620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Не приближаться к обнаруженному предмету, не трогать его и не подпускать других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Немедленно сообщить в дежурные службы органов МВД, ФСБ, ГО и ЧС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Из-за возможного срабатывания радиоуправляемого взрывателя не пользоваться пейджерами, сотовыми телефонами, рациями.</a:t>
            </a:r>
            <a:br>
              <a:rPr sz="20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terror_pov_2"/>
          <p:cNvPicPr/>
          <p:nvPr/>
        </p:nvPicPr>
        <p:blipFill>
          <a:blip r:embed="rId1"/>
          <a:stretch/>
        </p:blipFill>
        <p:spPr>
          <a:xfrm>
            <a:off x="3733920" y="1143000"/>
            <a:ext cx="4952880" cy="49528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5"/>
          <p:cNvSpPr/>
          <p:nvPr/>
        </p:nvSpPr>
        <p:spPr>
          <a:xfrm>
            <a:off x="3809880" y="152280"/>
            <a:ext cx="487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При обнаружении подозрительного предмета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5028840" y="304920"/>
            <a:ext cx="380988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При угрозе совершения терракта действуйте в соответствии с планом эваку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Во время эвакуации не допускайте паники, оказывайте необходимую помощь друг друг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terror_pov_1"/>
          <p:cNvPicPr/>
          <p:nvPr/>
        </p:nvPicPr>
        <p:blipFill>
          <a:blip r:embed="rId1"/>
          <a:stretch/>
        </p:blipFill>
        <p:spPr>
          <a:xfrm>
            <a:off x="533520" y="1981080"/>
            <a:ext cx="3962160" cy="35053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"/>
          <p:cNvSpPr/>
          <p:nvPr/>
        </p:nvSpPr>
        <p:spPr>
          <a:xfrm>
            <a:off x="304920" y="457200"/>
            <a:ext cx="4190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Правила поведения при возникновении террористического а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38098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О начале штурма могут свидетельствоват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зкий отвлекающий звук (взрыв, сире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тянувшаяся пауза в ходе перегов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Постарайтесь расположиться подальше от окон и дверей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Лягте или сядьте сложив руки на затылке. В руках не должно быть никаких предмет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4800600" y="2133720"/>
            <a:ext cx="4038480" cy="39621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4419720" y="623880"/>
            <a:ext cx="504972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При начале штурм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029200" y="685800"/>
            <a:ext cx="3657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арайтесь запомнить как можно больше о террористах, их число, вооруженность, телосложение, темперамент, манеру речи, акцент и т.п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Не оказывайте сопротивления, выполняйте все требования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Не пытайтесь убежать, если нет полной уверенности в успех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Не вмешивайтесь в переговоры, не пытайтесь вести их самостоятель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terror_pov_9"/>
          <p:cNvPicPr/>
          <p:nvPr/>
        </p:nvPicPr>
        <p:blipFill>
          <a:blip r:embed="rId1"/>
          <a:stretch/>
        </p:blipFill>
        <p:spPr>
          <a:xfrm>
            <a:off x="457200" y="2438280"/>
            <a:ext cx="4419720" cy="35053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228600" y="9144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Если вы заложни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52280" y="609480"/>
            <a:ext cx="3657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Покинув здание не возвращайтесь в него за забытыми вещами или по другим причинам, так как за первым взрывом может последовать второй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Не обнаружив среди спасшихся сослуживца, укажите спасателям, где видели его перед взрывом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Постарайтесь уловить звуковой фон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Окажите пострадавшим первую медицинскую помощ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terror_pov_8"/>
          <p:cNvPicPr/>
          <p:nvPr/>
        </p:nvPicPr>
        <p:blipFill>
          <a:blip r:embed="rId1"/>
          <a:stretch/>
        </p:blipFill>
        <p:spPr>
          <a:xfrm>
            <a:off x="4038480" y="1676520"/>
            <a:ext cx="4800600" cy="41148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5"/>
          <p:cNvSpPr/>
          <p:nvPr/>
        </p:nvSpPr>
        <p:spPr>
          <a:xfrm>
            <a:off x="3962520" y="533520"/>
            <a:ext cx="51814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Если произошел взры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Если позвонили или прислали письмо с угрозой совершения теракта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419360" y="1219320"/>
            <a:ext cx="4267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Постарайтесь запомнить точное содержание разговор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Отметьте манеру речи, особенности голоса, характерные слова и обороты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Постарайтесь уловить звуковой фон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Не опуская трубку, позвоните на местную АТС для возможного определения номер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Срочно уведомите службу безопасности предприятия и правоохранительные органы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Письмо с угрозой не следует передавать другим сотрудник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31240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5-28T15:14:57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