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615-F66E-4C5A-B430-6969899E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C9D-F43D-4F56-9F65-72A654FA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557-274D-430C-B5FD-8C53F926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7D0-1893-454E-87EF-8FDCD468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2EC-68E3-4B53-837C-C3029504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E1B-B4E5-4546-993F-0C63596E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CA9-51A6-4C79-B51A-B42C05EA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4BD-33CF-470E-BC8B-ABF1FC4A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BCF-9FF0-4861-8962-296C83A8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A36-2E1E-4F12-A766-CD67660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B1C-5BEE-4F86-A3CD-6C353A75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E96-F5C3-4BC5-BDB4-1578083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8B83-8942-484A-ADD0-9F642FDEE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71600" y="990720"/>
            <a:ext cx="6781680" cy="34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а повед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возникновени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рористического ак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185920" y="4876920"/>
            <a:ext cx="4900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335304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е приближаться к обнаруженному предмету, не трогать его и не подпускать других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Немедленно сообщить в дежурные службы органов МВД, ФСБ, ГО и ЧС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Из-за возможного срабатывания радиоуправляемого взрывателя не пользоваться пейджерами, сотовыми телефонами, рациями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terror_pov_2"/>
          <p:cNvPicPr/>
          <p:nvPr/>
        </p:nvPicPr>
        <p:blipFill>
          <a:blip r:embed="rId1"/>
          <a:stretch/>
        </p:blipFill>
        <p:spPr>
          <a:xfrm>
            <a:off x="3733920" y="11430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809880" y="15228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ри обнаружении подозрительного предмет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28840" y="304920"/>
            <a:ext cx="3809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угрозе совершения терракта действуйте в соответствии с планом эвак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о время эвакуации не допускайте паники, оказывайте необходимую помощь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error_pov_1"/>
          <p:cNvPicPr/>
          <p:nvPr/>
        </p:nvPicPr>
        <p:blipFill>
          <a:blip r:embed="rId1"/>
          <a:stretch/>
        </p:blipFill>
        <p:spPr>
          <a:xfrm>
            <a:off x="533520" y="1981080"/>
            <a:ext cx="396216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4920" y="457200"/>
            <a:ext cx="419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авила поведения при возникновении террористического 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3809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 начале штурма могут свидетельство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ий отвлекающий звук (взрыв, сир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янувшаяся пауза в ходе перего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тарайтесь расположиться подальше от окон и двер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ягте или сядьте сложив руки на затылке. В руках не должно быть никаких предм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962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623880"/>
            <a:ext cx="5049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ри начале штур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29200" y="685800"/>
            <a:ext cx="3657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райтесь запомнить как можно больше о террористах, их число, вооруженность, телосложение, темперамент, манеру речи, акцент и т.п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казывайте сопротивления, выполняйте все требов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 пытайтесь убежать, если нет полной уверенности в успех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вмешивайтесь в переговоры, не пытайтесь вести их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error_pov_9"/>
          <p:cNvPicPr/>
          <p:nvPr/>
        </p:nvPicPr>
        <p:blipFill>
          <a:blip r:embed="rId1"/>
          <a:stretch/>
        </p:blipFill>
        <p:spPr>
          <a:xfrm>
            <a:off x="457200" y="2438280"/>
            <a:ext cx="4419720" cy="3505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28600" y="914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Если вы залож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3657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кинув здание не возвращайтесь в него за забытыми вещами или по другим причинам, так как за первым взрывом может последовать втор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бнаружив среди спасшихся сослуживца, укажите спасателям, где видели его перед взрыв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кажите пострадавшим первую медицинск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rror_pov_8"/>
          <p:cNvPicPr/>
          <p:nvPr/>
        </p:nvPicPr>
        <p:blipFill>
          <a:blip r:embed="rId1"/>
          <a:stretch/>
        </p:blipFill>
        <p:spPr>
          <a:xfrm>
            <a:off x="4038480" y="167652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962520" y="533520"/>
            <a:ext cx="5181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роизошел взры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озвонили или прислали письмо с угрозой совершения терак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936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старайтесь запомнить точное содержание разгово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метьте манеру речи, особенности голоса, характерные слова и оборо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опуская трубку, позвоните на местную АТС для возможного определения номе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рочно уведомите службу безопасности предприятия и правоохранительные орга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исьмо с угрозой не следует передавать другим сотруд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124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28T15:14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