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005-E565-4BD5-8B82-3574F97C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5C0-1713-43D7-BE84-DB8BDC75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F65-F8CC-4509-A2AE-8356C472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2AD-2271-474F-B655-2E2A4096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1C9-1690-4BCD-88E5-F2C4D66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BC1-0AB1-4E15-86CB-6788EC1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A73-4DE3-41B1-8FCE-845D62F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6A2-E35F-4D1A-A1BC-50A07DA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034-A582-45B0-A374-2135641E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CF-D9DF-4D44-A9BF-6CED92B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ADC-C403-4988-8447-86BD9C6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EBD-26E4-47B7-B78E-2AE45EA9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B2A-67B0-4472-ABEC-363AA1D61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3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95640" y="12016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КВА 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01760" y="61452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ГРАМ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63528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«ЦРР – д/с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 «ЦРР – д/с «Рос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бцова А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s://avatars.mds.yandex.net/i?id=c7ad0622d0c6e44bfba2912550ea7cda808905f8-6966967-images-thumbs&amp;n=13"/>
          <p:cNvPicPr/>
          <p:nvPr/>
        </p:nvPicPr>
        <p:blipFill>
          <a:blip r:embed="rId1"/>
          <a:stretch/>
        </p:blipFill>
        <p:spPr>
          <a:xfrm>
            <a:off x="493560" y="2133720"/>
            <a:ext cx="4078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1170000" y="622440"/>
            <a:ext cx="6804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дактическая игра «Добавить букву «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30120" y="1830240"/>
            <a:ext cx="208116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>
            <a:hlinkClick r:id="rId1"/>
          </p:cNvPr>
          <p:cNvSpPr/>
          <p:nvPr/>
        </p:nvSpPr>
        <p:spPr>
          <a:xfrm>
            <a:off x="409248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76120" y="3201840"/>
            <a:ext cx="213516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>
            <a:hlinkClick r:id="rId2"/>
          </p:cNvPr>
          <p:cNvSpPr/>
          <p:nvPr/>
        </p:nvSpPr>
        <p:spPr>
          <a:xfrm>
            <a:off x="4103640" y="28684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>
            <a:hlinkClick r:id="rId3"/>
          </p:cNvPr>
          <p:cNvSpPr/>
          <p:nvPr/>
        </p:nvSpPr>
        <p:spPr>
          <a:xfrm>
            <a:off x="410364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330120" y="4797360"/>
            <a:ext cx="208116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6157800" y="1779480"/>
            <a:ext cx="190188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лево 15"/>
          <p:cNvSpPr/>
          <p:nvPr/>
        </p:nvSpPr>
        <p:spPr>
          <a:xfrm rot="2190600">
            <a:off x="3216240" y="2378160"/>
            <a:ext cx="977760" cy="303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16"/>
          <p:cNvSpPr/>
          <p:nvPr/>
        </p:nvSpPr>
        <p:spPr>
          <a:xfrm rot="8983200">
            <a:off x="4993920" y="2433240"/>
            <a:ext cx="977760" cy="336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лево 17"/>
          <p:cNvSpPr/>
          <p:nvPr/>
        </p:nvSpPr>
        <p:spPr>
          <a:xfrm rot="10800000">
            <a:off x="5083200" y="3157200"/>
            <a:ext cx="97776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18"/>
          <p:cNvSpPr/>
          <p:nvPr/>
        </p:nvSpPr>
        <p:spPr>
          <a:xfrm rot="14225400">
            <a:off x="4879080" y="4175640"/>
            <a:ext cx="977760" cy="30348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лево 19"/>
          <p:cNvSpPr/>
          <p:nvPr/>
        </p:nvSpPr>
        <p:spPr>
          <a:xfrm>
            <a:off x="3075120" y="3208320"/>
            <a:ext cx="977760" cy="303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лево 20"/>
          <p:cNvSpPr/>
          <p:nvPr/>
        </p:nvSpPr>
        <p:spPr>
          <a:xfrm rot="18994200">
            <a:off x="3220560" y="4088880"/>
            <a:ext cx="978120" cy="3034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6157800" y="3263760"/>
            <a:ext cx="190188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2"/>
          <p:cNvSpPr/>
          <p:nvPr/>
        </p:nvSpPr>
        <p:spPr>
          <a:xfrm>
            <a:off x="6157800" y="4903920"/>
            <a:ext cx="190188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6265080" y="3252960"/>
            <a:ext cx="180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4">
            <a:hlinkClick r:id="rId4"/>
          </p:cNvPr>
          <p:cNvSpPr/>
          <p:nvPr/>
        </p:nvSpPr>
        <p:spPr>
          <a:xfrm>
            <a:off x="410364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5">
            <a:hlinkClick r:id="rId5"/>
          </p:cNvPr>
          <p:cNvSpPr/>
          <p:nvPr/>
        </p:nvSpPr>
        <p:spPr>
          <a:xfrm>
            <a:off x="4114800" y="28684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6">
            <a:hlinkClick r:id="rId6"/>
          </p:cNvPr>
          <p:cNvSpPr/>
          <p:nvPr/>
        </p:nvSpPr>
        <p:spPr>
          <a:xfrm>
            <a:off x="4103640" y="2879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s://otkritkis.com/wp-content/uploads/2022/02/los7.jpg"/>
          <p:cNvPicPr/>
          <p:nvPr/>
        </p:nvPicPr>
        <p:blipFill>
          <a:blip r:embed="rId1"/>
          <a:stretch/>
        </p:blipFill>
        <p:spPr>
          <a:xfrm>
            <a:off x="4854600" y="898560"/>
            <a:ext cx="3906720" cy="35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12920" y="1341360"/>
          <a:ext cx="2709720" cy="935280"/>
        </p:xfrm>
        <a:graphic>
          <a:graphicData uri="http://schemas.openxmlformats.org/drawingml/2006/table">
            <a:tbl>
              <a:tblPr/>
              <a:tblGrid>
                <a:gridCol w="836280"/>
                <a:gridCol w="936720"/>
                <a:gridCol w="936720"/>
              </a:tblGrid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5">
            <a:hlinkClick r:id="rId2"/>
          </p:cNvPr>
          <p:cNvSpPr/>
          <p:nvPr/>
        </p:nvSpPr>
        <p:spPr>
          <a:xfrm>
            <a:off x="611280" y="2781360"/>
            <a:ext cx="914400" cy="91440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>
            <a:hlinkClick r:id="rId3"/>
          </p:cNvPr>
          <p:cNvSpPr/>
          <p:nvPr/>
        </p:nvSpPr>
        <p:spPr>
          <a:xfrm>
            <a:off x="2144880" y="278136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>
            <a:hlinkClick r:id="rId4"/>
          </p:cNvPr>
          <p:cNvSpPr/>
          <p:nvPr/>
        </p:nvSpPr>
        <p:spPr>
          <a:xfrm>
            <a:off x="3632040" y="2781360"/>
            <a:ext cx="91440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611280" y="3747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схему слова 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ttps://kartinkin.net/uploads/posts/2021-01/1610897888_29-p-foni-s-fiksikami-dlya-prezentatsii-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58920" y="511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1563840" y="538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444920" y="519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2868480" y="519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7242120" y="496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1563840" y="20257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28116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98772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5843520" y="5446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2809800" y="2025720"/>
            <a:ext cx="914400" cy="8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520848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6373800" y="20257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2868480" y="33973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8"/>
          <p:cNvSpPr/>
          <p:nvPr/>
        </p:nvSpPr>
        <p:spPr>
          <a:xfrm>
            <a:off x="4957920" y="3402000"/>
            <a:ext cx="91440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9"/>
          <p:cNvSpPr/>
          <p:nvPr/>
        </p:nvSpPr>
        <p:spPr>
          <a:xfrm>
            <a:off x="7699320" y="20257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Рамка 2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s://e7.pngegg.com/pngimages/722/606/png-clipart-house-house-building-rectangle.png"/>
          <p:cNvPicPr/>
          <p:nvPr/>
        </p:nvPicPr>
        <p:blipFill>
          <a:blip r:embed="rId1"/>
          <a:stretch/>
        </p:blipFill>
        <p:spPr>
          <a:xfrm>
            <a:off x="4473720" y="-27000"/>
            <a:ext cx="4670280" cy="46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e7.pngegg.com/pngimages/722/606/png-clipart-house-house-building-rectangle.png"/>
          <p:cNvPicPr/>
          <p:nvPr/>
        </p:nvPicPr>
        <p:blipFill>
          <a:blip r:embed="rId2"/>
          <a:stretch/>
        </p:blipFill>
        <p:spPr>
          <a:xfrm>
            <a:off x="-17640" y="0"/>
            <a:ext cx="4665960" cy="4665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>
            <a:hlinkClick r:id="rId3"/>
          </p:cNvPr>
          <p:cNvSpPr/>
          <p:nvPr/>
        </p:nvSpPr>
        <p:spPr>
          <a:xfrm>
            <a:off x="7275600" y="4811760"/>
            <a:ext cx="79200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>
            <a:hlinkClick r:id="rId4"/>
          </p:cNvPr>
          <p:cNvSpPr/>
          <p:nvPr/>
        </p:nvSpPr>
        <p:spPr>
          <a:xfrm>
            <a:off x="1522440" y="4846680"/>
            <a:ext cx="79200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>
            <a:hlinkClick r:id="rId5"/>
          </p:cNvPr>
          <p:cNvSpPr/>
          <p:nvPr/>
        </p:nvSpPr>
        <p:spPr>
          <a:xfrm>
            <a:off x="1522440" y="4846680"/>
            <a:ext cx="79200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>
            <a:hlinkClick r:id="rId6"/>
          </p:cNvPr>
          <p:cNvSpPr/>
          <p:nvPr/>
        </p:nvSpPr>
        <p:spPr>
          <a:xfrm>
            <a:off x="5975280" y="4826160"/>
            <a:ext cx="79236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>
            <a:hlinkClick r:id="rId7"/>
          </p:cNvPr>
          <p:cNvSpPr/>
          <p:nvPr/>
        </p:nvSpPr>
        <p:spPr>
          <a:xfrm>
            <a:off x="466560" y="4846680"/>
            <a:ext cx="7923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9">
            <a:hlinkClick r:id="rId8"/>
          </p:cNvPr>
          <p:cNvSpPr/>
          <p:nvPr/>
        </p:nvSpPr>
        <p:spPr>
          <a:xfrm>
            <a:off x="466560" y="4846680"/>
            <a:ext cx="79236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>
            <a:hlinkClick r:id="rId9"/>
          </p:cNvPr>
          <p:cNvSpPr/>
          <p:nvPr/>
        </p:nvSpPr>
        <p:spPr>
          <a:xfrm>
            <a:off x="1522440" y="4846680"/>
            <a:ext cx="790560" cy="76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>
            <a:hlinkClick r:id="rId10"/>
          </p:cNvPr>
          <p:cNvSpPr/>
          <p:nvPr/>
        </p:nvSpPr>
        <p:spPr>
          <a:xfrm>
            <a:off x="466560" y="4846680"/>
            <a:ext cx="7923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>
            <a:hlinkClick r:id="rId11"/>
          </p:cNvPr>
          <p:cNvSpPr/>
          <p:nvPr/>
        </p:nvSpPr>
        <p:spPr>
          <a:xfrm>
            <a:off x="7275600" y="4811760"/>
            <a:ext cx="79056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>
            <a:hlinkClick r:id="rId12"/>
          </p:cNvPr>
          <p:cNvSpPr/>
          <p:nvPr/>
        </p:nvSpPr>
        <p:spPr>
          <a:xfrm>
            <a:off x="7275600" y="4811760"/>
            <a:ext cx="79200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>
            <a:hlinkClick r:id="rId13"/>
          </p:cNvPr>
          <p:cNvSpPr/>
          <p:nvPr/>
        </p:nvSpPr>
        <p:spPr>
          <a:xfrm>
            <a:off x="466560" y="4846680"/>
            <a:ext cx="7923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мка 1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6">
            <a:hlinkClick r:id="rId14"/>
          </p:cNvPr>
          <p:cNvSpPr/>
          <p:nvPr/>
        </p:nvSpPr>
        <p:spPr>
          <a:xfrm>
            <a:off x="5975280" y="4826160"/>
            <a:ext cx="79056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C:\Users\1\Downloads\smail2.jpg"/>
          <p:cNvPicPr/>
          <p:nvPr/>
        </p:nvPicPr>
        <p:blipFill>
          <a:blip r:embed="rId15"/>
          <a:stretch/>
        </p:blipFill>
        <p:spPr>
          <a:xfrm>
            <a:off x="3387600" y="4665600"/>
            <a:ext cx="19386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067840" y="7650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ПРО МЯГКИЙ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s://avatars.mds.yandex.net/i?id=c7ad0622d0c6e44bfba2912550ea7cda808905f8-6966967-images-thumbs&amp;n=13"/>
          <p:cNvPicPr/>
          <p:nvPr/>
        </p:nvPicPr>
        <p:blipFill>
          <a:blip r:embed="rId1"/>
          <a:stretch/>
        </p:blipFill>
        <p:spPr>
          <a:xfrm>
            <a:off x="2016000" y="2133720"/>
            <a:ext cx="4543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79280" y="333360"/>
            <a:ext cx="878544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 мягки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в азбуке буквы, разные — гласные, согласные. Ходили друг к другу в г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жили — не тужили, потому что все дружили. И жила среди них одна буква, похожая на половинку буквы Ы, только без палочки, с которой никто не дружил. Буквам не нравилось, что она не обозначает зв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за буква? — возмущались о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а буква мягкий знак - 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е обозначала никакого звука, не умела говорить, молчала, И никто с ней не дружил, не разговаривал. Жилось мягкому знаку плохо, очень одино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з взялись буквы составлять слова. Это было их любимое занятие. Решили они составить слово  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буквы составлять слово лось. ЛОС— получ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у нас не получается! — говорили буквы. — Звук [с] в слове «лось» мягкий, а у нас тверд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И вдруг говорит: — Встану я и обозначу мягкость  С — и быстро пристроилась в кон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лучилось «лоси», на нужно было составить слово 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я встану, — сказала буква Я. Получилось лося., опять не то. Все буквы попробовали встать в слово, но никому не удалось составить нужное сло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делать? И тут все вспомнили, что есть еще одна буква – она тихо стоит в сторо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 к нам, мягкий знак, — позвали бу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с радостью согласился помочь буквам и быстро стал в конец слова. Получилось 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селились буквы, всем захотелось пригласить в гости 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ягкий знак стал дружить с остальн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41440" y="533520"/>
            <a:ext cx="3454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я хожу по б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сть могу и мухом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юсь в лесу врага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копыта и рог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otkritkis.com/wp-content/uploads/2022/02/los7.jpg"/>
          <p:cNvPicPr/>
          <p:nvPr/>
        </p:nvPicPr>
        <p:blipFill>
          <a:blip r:embed="rId1"/>
          <a:stretch/>
        </p:blipFill>
        <p:spPr>
          <a:xfrm>
            <a:off x="3780000" y="533520"/>
            <a:ext cx="4841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>
            <a:hlinkClick r:id="rId1"/>
          </p:cNvPr>
          <p:cNvSpPr/>
          <p:nvPr/>
        </p:nvSpPr>
        <p:spPr>
          <a:xfrm>
            <a:off x="280044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>
            <a:hlinkClick r:id="rId2"/>
          </p:cNvPr>
          <p:cNvSpPr/>
          <p:nvPr/>
        </p:nvSpPr>
        <p:spPr>
          <a:xfrm>
            <a:off x="177156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>
            <a:hlinkClick r:id="rId3"/>
          </p:cNvPr>
          <p:cNvSpPr/>
          <p:nvPr/>
        </p:nvSpPr>
        <p:spPr>
          <a:xfrm>
            <a:off x="582480" y="51595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>
            <a:hlinkClick r:id="rId4"/>
          </p:cNvPr>
          <p:cNvSpPr/>
          <p:nvPr/>
        </p:nvSpPr>
        <p:spPr>
          <a:xfrm>
            <a:off x="174960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>
            <a:hlinkClick r:id="rId5"/>
          </p:cNvPr>
          <p:cNvSpPr/>
          <p:nvPr/>
        </p:nvSpPr>
        <p:spPr>
          <a:xfrm>
            <a:off x="5106960" y="51786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>
            <a:hlinkClick r:id="rId6"/>
          </p:cNvPr>
          <p:cNvSpPr/>
          <p:nvPr/>
        </p:nvSpPr>
        <p:spPr>
          <a:xfrm>
            <a:off x="390852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>
            <a:hlinkClick r:id="rId7"/>
          </p:cNvPr>
          <p:cNvSpPr/>
          <p:nvPr/>
        </p:nvSpPr>
        <p:spPr>
          <a:xfrm>
            <a:off x="280044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>
            <a:hlinkClick r:id="rId8"/>
          </p:cNvPr>
          <p:cNvSpPr/>
          <p:nvPr/>
        </p:nvSpPr>
        <p:spPr>
          <a:xfrm>
            <a:off x="560520" y="51595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s://otkritkis.com/wp-content/uploads/2022/02/los7.jpg"/>
          <p:cNvPicPr/>
          <p:nvPr/>
        </p:nvPicPr>
        <p:blipFill>
          <a:blip r:embed="rId9"/>
          <a:stretch/>
        </p:blipFill>
        <p:spPr>
          <a:xfrm>
            <a:off x="5364000" y="417600"/>
            <a:ext cx="3168720" cy="28749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>
            <a:hlinkClick r:id="rId10"/>
          </p:cNvPr>
          <p:cNvSpPr/>
          <p:nvPr/>
        </p:nvSpPr>
        <p:spPr>
          <a:xfrm>
            <a:off x="281160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">
            <a:hlinkClick r:id="rId11"/>
          </p:cNvPr>
          <p:cNvSpPr/>
          <p:nvPr/>
        </p:nvSpPr>
        <p:spPr>
          <a:xfrm>
            <a:off x="1771560" y="51735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>
            <a:hlinkClick r:id="rId12"/>
          </p:cNvPr>
          <p:cNvSpPr/>
          <p:nvPr/>
        </p:nvSpPr>
        <p:spPr>
          <a:xfrm>
            <a:off x="571680" y="5159520"/>
            <a:ext cx="914400" cy="92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>
            <a:hlinkClick r:id="rId13"/>
          </p:cNvPr>
          <p:cNvSpPr/>
          <p:nvPr/>
        </p:nvSpPr>
        <p:spPr>
          <a:xfrm>
            <a:off x="5106960" y="51786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232160" y="519120"/>
            <a:ext cx="38880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ягкий знак – хитрый зн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назвать его ник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 не произнос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в слово часто прос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у дом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вратился сразу в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г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з пожара, просто т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 буква мягкий з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"/>
          <p:cNvPicPr/>
          <p:nvPr/>
        </p:nvPicPr>
        <p:blipFill>
          <a:blip r:embed="rId1"/>
          <a:stretch/>
        </p:blipFill>
        <p:spPr>
          <a:xfrm>
            <a:off x="500040" y="363600"/>
            <a:ext cx="3637080" cy="61308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4240080" y="1509840"/>
            <a:ext cx="3716640" cy="32875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амка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3850" y="173850"/>
                </a:moveTo>
                <a:lnTo>
                  <a:pt x="173850" y="6684150"/>
                </a:lnTo>
                <a:lnTo>
                  <a:pt x="8970150" y="6684150"/>
                </a:lnTo>
                <a:lnTo>
                  <a:pt x="8970150" y="173850"/>
                </a:lnTo>
                <a:lnTo>
                  <a:pt x="173850" y="1738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68360" y="47628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-оль-уль-и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ь-оть-уть-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ь-овь-увь-и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ь-ось-усь-и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ь-орь-урь-и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ь-онь-унь-и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ь-онь-онь – на лугу пасётся ко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ь-ень-ень – в саду растёт си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1</cp:lastModifiedBy>
  <dcterms:modified xsi:type="dcterms:W3CDTF">2023-05-28T12:35:38Z</dcterms:modified>
  <cp:revision>78</cp:revision>
  <dc:subject/>
  <dc:title>Слайд 1</dc:title>
</cp:coreProperties>
</file>