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825163" cy="8121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1DBF-2E80-4329-8B5A-75D352E1E3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FFC3-47B2-48AD-BB66-9DE864A4C4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E8F-5655-4E45-9445-5656BDE4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974412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1080" y="4694040"/>
            <a:ext cx="974412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17E-8F94-4604-80BF-EEF24844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1080" y="4694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3920" y="4694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708-F7D2-49E1-85F8-726F8A24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5800" y="1895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0520" y="1895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1080" y="4694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5800" y="4694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0520" y="4694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365-E860-4BD2-A9E7-7A36CED9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1080" y="1895040"/>
            <a:ext cx="97441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64F-685B-48D9-80EA-89F34930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974412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3DF-4802-4ACB-B90C-DD1121CD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31B-8986-494C-B9E8-4085C9E4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CE4-005A-4872-A5B0-43E7B7CE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1080" y="325080"/>
            <a:ext cx="97441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E74-F975-4840-9256-9D33D476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1080" y="4694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A75-4392-4753-B070-1F8FAAB1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3920" y="4694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FC2-E411-4562-A139-1A0CC717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1080" y="4694040"/>
            <a:ext cx="974412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C7B-BC04-44FF-B99E-9710270A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1080" y="1895040"/>
            <a:ext cx="974412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879480" indent="-338040">
              <a:spcBef>
                <a:spcPts val="9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1352520" indent="-27000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1893960" indent="-270000">
              <a:spcBef>
                <a:spcPts val="9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2435400" indent="-270000">
              <a:spcBef>
                <a:spcPts val="9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2435400" indent="-270000">
              <a:spcBef>
                <a:spcPts val="9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2435400" indent="-270000">
              <a:spcBef>
                <a:spcPts val="9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1440" y="7394400"/>
            <a:ext cx="2525760" cy="5637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8640" y="7394400"/>
            <a:ext cx="3429000" cy="5637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59800" y="7394400"/>
            <a:ext cx="2525760" cy="5637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F9F1-3C65-4000-9931-28E95D79D0C4}" type="slidenum">
              <a:rPr b="0" lang="ru-RU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1080" y="507960"/>
            <a:ext cx="9204480" cy="1690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dfd293"/>
                </a:solidFill>
                <a:latin typeface="Comic Sans MS"/>
              </a:rPr>
              <a:t>ДЕРЕВЯННАЯ МАТРЁШКА</a:t>
            </a: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98840" y="3273120"/>
            <a:ext cx="3500280" cy="10983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созд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620720" y="2408400"/>
            <a:ext cx="2590920" cy="36748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3841920" y="6489720"/>
            <a:ext cx="5214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: Анашкина Юлия Павл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тель МБДОУ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иасс 20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dfd293"/>
                </a:solidFill>
                <a:latin typeface="Comic Sans MS"/>
              </a:rPr>
              <a:t>МАТРЁШКА СЕМЁНОВСКАЯ</a:t>
            </a: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83960" y="2344680"/>
            <a:ext cx="5504040" cy="36943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 fontScale="97000"/>
          </a:bodyPr>
          <a:p>
            <a:pPr marL="392400" indent="-39240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оизводить матрёшку начали в городе Семёнове Нижегородской губернии. Роспись семёновской матрёшки восходит к традиции «травного» орнамента Древней Руси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127960" y="2487600"/>
            <a:ext cx="1157400" cy="852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dfd293"/>
                </a:solidFill>
                <a:latin typeface="Comic Sans MS"/>
              </a:rPr>
              <a:t>ЗАГОРСКАЯ МАТРЁШКА</a:t>
            </a:r>
            <a:endParaRPr b="0" lang="en-US" sz="5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70320" y="1916280"/>
            <a:ext cx="3571920" cy="49910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Загорских матрёшек расписывают сарафан, платочки. Узоры очень просты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985120" y="4632120"/>
            <a:ext cx="2195640" cy="1207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dfd293"/>
                </a:solidFill>
                <a:latin typeface="Comic Sans MS"/>
              </a:rPr>
              <a:t>ПОЛХОВСКО – МАЙДАНСКАЯ</a:t>
            </a:r>
            <a:br>
              <a:rPr sz="4300"/>
            </a:br>
            <a:r>
              <a:rPr b="0" lang="ru-RU" sz="4300" spc="-1" strike="noStrike">
                <a:solidFill>
                  <a:srgbClr val="dfd293"/>
                </a:solidFill>
                <a:latin typeface="Comic Sans MS"/>
              </a:rPr>
              <a:t>МАТРЁШКА</a:t>
            </a:r>
            <a:endParaRPr b="0" lang="en-US" sz="43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41560" y="2273040"/>
            <a:ext cx="3214440" cy="42368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ство матрёшки – село Полховский Майдан с близлежащей деревней Крутец. Эти матрёшки отличает крупная «крестьянская» роспись, яркий колорит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699640" y="4346640"/>
            <a:ext cx="3338280" cy="12081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2:00:55Z</dcterms:created>
  <dc:creator>Admin</dc:creator>
  <dc:description/>
  <dc:language>en-US</dc:language>
  <cp:lastModifiedBy>дом</cp:lastModifiedBy>
  <dcterms:modified xsi:type="dcterms:W3CDTF">2023-05-28T17:16:58Z</dcterms:modified>
  <cp:revision>68</cp:revision>
  <dc:subject/>
  <dc:title>ДЕРЕВЯННАЯ МАТРЁШКА</dc:title>
</cp:coreProperties>
</file>