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2DF-BB22-4B4C-853F-0AE2DB616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8CBA-BA9F-4446-AD0B-32AF3E26E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E72-3E52-4305-94D0-ABE50ABB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15A-B1CD-4269-A142-219E8932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A70-0F39-4889-969A-BA3F8259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580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52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580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52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98D-A9CC-4489-B927-0AE6C1B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9D0-8173-448E-9F70-4DDEC5A8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28B-0D95-4485-A42C-A9AE3D7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79C-F2BA-4A60-B11A-86A2571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9C2-1F58-4A99-B056-71DBBAA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25080"/>
            <a:ext cx="9744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263-97ED-48A0-B4DD-7EBE9C08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085-4896-4769-9131-99AC5F7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A18-3BDD-4FCB-BDA5-8035419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B62-172C-489A-8EEC-8C0514D2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879480" indent="-338040"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352520" indent="-27000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893960" indent="-270000"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435400" indent="-270000">
              <a:spcBef>
                <a:spcPts val="9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435400" indent="-270000">
              <a:spcBef>
                <a:spcPts val="9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435400" indent="-270000">
              <a:spcBef>
                <a:spcPts val="9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8640" y="7394400"/>
            <a:ext cx="342900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BF79-4AFF-4546-91FB-F2552E57D95D}" type="slidenum">
              <a:rPr b="0" lang="ru-RU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1080" y="507960"/>
            <a:ext cx="9204480" cy="1690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dfd293"/>
                </a:solidFill>
                <a:latin typeface="Comic Sans MS"/>
              </a:rPr>
              <a:t>ДЕРЕВЯННАЯ МАТРЁШКА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98840" y="3273120"/>
            <a:ext cx="3500280" cy="10983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соз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620720" y="2408400"/>
            <a:ext cx="2590920" cy="3674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841920" y="6489720"/>
            <a:ext cx="5214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Анашкина Юлия Пав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МБДОУ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асс 2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dfd293"/>
                </a:solidFill>
                <a:latin typeface="Comic Sans MS"/>
              </a:rPr>
              <a:t>МАТРЁШКА СЕМЁНОВСКАЯ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83960" y="2344680"/>
            <a:ext cx="5504040" cy="36943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7000"/>
          </a:bodyPr>
          <a:p>
            <a:pPr marL="392400" indent="-3924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изводить матрёшку начали в городе Семёнове Нижегородской губернии. Роспись семёновской матрёшки восходит к традиции «травного» орнамента Древней Рус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27960" y="2487600"/>
            <a:ext cx="1157400" cy="852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dfd293"/>
                </a:solidFill>
                <a:latin typeface="Comic Sans MS"/>
              </a:rPr>
              <a:t>ЗАГОРСКАЯ МАТРЁШКА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70320" y="1916280"/>
            <a:ext cx="3571920" cy="4991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Загорских матрёшек расписывают сарафан, платочки. Узоры очень прост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985120" y="4632120"/>
            <a:ext cx="2195640" cy="1207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dfd293"/>
                </a:solidFill>
                <a:latin typeface="Comic Sans MS"/>
              </a:rPr>
              <a:t>ПОЛХОВСКО – МАЙДАНСКАЯ</a:t>
            </a:r>
            <a:br>
              <a:rPr sz="4300"/>
            </a:br>
            <a:r>
              <a:rPr b="0" lang="ru-RU" sz="4300" spc="-1" strike="noStrike">
                <a:solidFill>
                  <a:srgbClr val="dfd293"/>
                </a:solidFill>
                <a:latin typeface="Comic Sans MS"/>
              </a:rPr>
              <a:t>МАТРЁШКА</a:t>
            </a:r>
            <a:endParaRPr b="0" lang="en-US" sz="43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41560" y="2273040"/>
            <a:ext cx="3214440" cy="42368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ство матрёшки – село Полховский Майдан с близлежащей деревней Крутец. Эти матрёшки отличает крупная «крестьянская» роспись, яркий колор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699640" y="4346640"/>
            <a:ext cx="3338280" cy="12081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2:00:55Z</dcterms:created>
  <dc:creator>Admin</dc:creator>
  <dc:description/>
  <dc:language>en-US</dc:language>
  <cp:lastModifiedBy>дом</cp:lastModifiedBy>
  <dcterms:modified xsi:type="dcterms:W3CDTF">2023-05-28T17:16:58Z</dcterms:modified>
  <cp:revision>68</cp:revision>
  <dc:subject/>
  <dc:title>ДЕРЕВЯННАЯ МАТРЁШКА</dc:title>
</cp:coreProperties>
</file>