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8AAB-8B32-43F1-9303-9A409DE31C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010A-1FEC-4A36-9136-3AB3180EF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BB2-2519-4DB3-87A4-9871CAD9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E55-728A-4251-8F41-3FE6647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4291D-6205-4B0F-9E43-AC59998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44FB7-8B2B-4B7B-B25F-C433E122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5C1C7-F87A-4417-A95C-E1FDDFF8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A1C17-DDB3-4515-9E8C-64AD296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3D13D-1BCF-4585-A72F-60D6359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F971C-D37A-4828-B916-B434669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8FC80-FEFC-4189-9293-44049AB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C6935-50F5-4327-B35D-25739C2D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3958A-C2AF-47EC-B2DD-C57C874C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316AE-BFB1-45CC-B0EC-E18C7353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766-7849-4E7E-B4B8-C07A64C0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9E59B-3598-41DE-9FA0-9B6CAF8B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0700C-8239-4902-A978-6F800C44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67FD5-1C39-4197-8C16-8837D1C5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458F5-8598-4869-B50A-5E282FA7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795EF-6314-4E79-9C72-BA6B5AFB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9D5C6-449A-4E57-96FC-990CBEBB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4117D-5AA0-4B92-8C69-36E36DF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C243D-4E73-4D18-8905-97B8B15A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9516B-0519-4B42-AF65-5B07749E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18026-4559-4FE8-8BE2-145EFB05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062-FD6F-4072-B336-3E264CAC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502C1-6AA1-4BDF-ADCF-62FFB73A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891ED-4EB9-4641-9440-4B629999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B8F79-9553-4903-AE41-11A25731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97F1C-C91D-42F3-870E-086AAFF8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C33AB-520B-48D3-8A41-3C1315BB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FA570-61A4-417A-90EE-CAC03BEA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7A191-987E-4EF8-AF36-36AE2214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168A0-D8C3-4695-B59C-9763052C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4394D-0881-4EAA-A8E7-0A71BB22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CE951-6E5A-4B85-8E12-8666C26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ACFA-E66A-4D5C-8EC9-E5490412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800B6-6D25-47D3-B243-8B2D505B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3847E-CA78-46D7-A3E5-0BD88CBD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821EE-BBA7-443C-AF5F-E2218C8B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9F071-528F-400A-83AA-25DEA888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5DF7C-2841-4BC0-9B59-199CFE51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A2E81-DF5E-4F78-9546-89AA1CBF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AAB5E-3DD1-4B5A-9842-99CEE6D1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5D7CB-D5C0-4A01-95B1-2B745500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696CB-429F-43B2-BDBE-C8DDE9F7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9425D-5848-4302-B75D-8E7564DD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85EE-2E9D-4FFD-8252-222D49B9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6BE44-52F0-421A-BCD5-44869CF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C5A66-CEA8-4D2A-98E5-154DEDDF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C2A04-F9B1-4C14-B6C5-87C544CA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C23C8-9451-4F45-B2EC-6D49B3EC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C01B1-9848-4A87-BED0-E3A3F8C5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C75B-43EA-4808-9441-812C379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9283-987B-4FAE-8740-2B2AA823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BA6A-6415-42F7-80C8-1FF8F39C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3611-750F-4196-B73B-4FEB0438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C694-4763-4128-A98B-3E50FE6D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3E9-439C-4929-99F1-616ADFC0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DC14-CAFA-4F95-AB86-84CF29B3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97FA-3A80-4B08-A89B-8BB5374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FE48-F724-48C3-9C28-A882340B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F776-E49F-474E-BA32-D6E77A24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06AF-D661-4DAD-BF67-61311E64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DA91-7A25-4B29-8DCF-ED749772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3E1F-12DD-459B-AC2A-E502B4C9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3A02-44FC-48C6-BC85-20892564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0966-75C9-4690-89AF-5651137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554D-9C85-4F01-A2C1-05615FA8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9BF-FC30-4033-86B7-ACF1039E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01A7-8162-4CFF-8D1C-8FEE9CD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FB60-126F-44FF-AC02-C93013B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E8D87-1DC9-424C-826D-070C0E2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1E7D9-543B-4C63-819C-47151E75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395E7-8950-4B31-970E-DDD74246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23CE-9288-49B9-95E7-D5713EB8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FA9D-D45C-47F4-947E-D6BEEDC3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3ACC2-2402-4B77-8111-17559816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A2FF-B7D5-4066-BEDE-4118F0BA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5D70-C57C-4ACE-A2D1-C57F87E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DCA-FCFD-47D6-AB79-3A61DF2C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38E23-9A22-4485-9E67-6A67058A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208C-4E39-4634-A4EB-D93C4102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69F7-3B94-45F5-87F9-A60D90FB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08A0-A8D1-409C-8C69-A7FD0354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D01AF-1DE5-42B3-A983-0FF62CC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E3B2B-423C-4868-BF9B-C34C06D1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DBC6-141D-4992-9BF4-D2F5169A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C67C-B4EA-4647-B2B4-7A61F8A6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302F-6CE4-4E73-9E41-9159137B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2EC90-5994-4C2A-B6CC-DB938E25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ABD-D4B3-4F0E-8161-860411B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6B9D-9A6E-4568-A155-5D51382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99B0-EE19-4A6F-A84B-C2F078DC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12683-9D57-4867-A0D3-B3630B6A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BE2A-586A-41AF-9E6C-A0AC335E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AD2FD-54D1-4619-8C84-B89F8382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5136-DCE8-4119-89A7-8FAF0392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5810F-6230-40FF-BF96-E2B3CA33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70F87-C68C-40D9-A9D0-EFAE0909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FBA16-10C1-423A-B28D-DDDA79DF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9AD76-F9D2-4123-880C-72CED044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1C9-F425-43EA-ACE8-735C6525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B81C6-5C33-4AEC-A943-4744538E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B0EE0-34F9-4AD4-B254-1C85C3B2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8C177-BE0C-4DF3-90CC-FC6820C7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3C4F-B54A-425C-A5EA-A9E046D5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80825-02B3-4CB7-9453-36483AC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BC32-CC44-4174-9379-1DDE05BE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C7DB-50E5-4699-9869-3216419C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626A-2B6E-42F9-8C54-E5296285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14569-14DB-4EBA-B821-679DEE3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30D84-F174-40DA-9097-2F409207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342-96F2-4CEB-AA6D-8FAD85FA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556EC-743B-4621-847D-CAF6622C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654BE-5691-4756-B1B0-B4B1385C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6626-C5C2-403B-A1FE-26FE53E9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D86BB-24EF-4C1C-8A78-A7AEDB53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34567-F2EF-43CE-9415-292F5F53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3ABAE-371C-4AE4-A42D-840449E7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1A5EC-8089-43F2-882A-2DD370B9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19EAC-0A40-4ACB-9825-E684BBE3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CB849-E8B4-4CAC-8CFD-C6F22CB2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60081-185E-416A-BA40-0761C65A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D64-DB9C-4FBC-8E70-8FD54DFF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A56DF-2E1E-4C1C-AF5D-9163944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E29F-C214-4020-BC0A-B12B615B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4E56-6AD7-4B74-A294-4CD8F1BC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3593-A6B6-47E7-A857-D27E16C5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5D85C-DBE6-4367-B0EB-CA922F1E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5EFC3-3FF7-46E8-8B52-D8E4C2EF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82E66-4E94-4309-BCFE-96638D73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69BA3-3CB3-4432-8678-DEB42001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80458-1177-4699-81B0-811FCBD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B4D27-F83D-4161-B5C2-FF7F9D45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D5F-451C-45E2-ABE6-507DD73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23974-4078-45A6-BDD5-78B24C87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700B2-E3C7-4AC6-A69C-42DF0C00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7B22F-C290-4DFA-80F7-9F90CD6F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2BAE1-B4F4-4B53-A056-472D4B95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034DB-4C97-4FBC-9EC4-011F6C2E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22038-4F86-4487-8DD4-E86EAC80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3CA84-23CD-404E-96B6-B147D8AB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F5C86-68F7-4432-AF1D-1AA47F3D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4885C-4268-45F2-8F70-582AFD38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47068-2B52-449D-9EDD-2204B618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179280" y="293760"/>
            <a:ext cx="8785440" cy="6159600"/>
          </a:xfrm>
          <a:prstGeom prst="roundRect">
            <a:avLst>
              <a:gd name="adj" fmla="val 4741"/>
            </a:avLst>
          </a:prstGeom>
          <a:solidFill>
            <a:srgbClr val="3f6c19">
              <a:alpha val="80000"/>
            </a:srgbClr>
          </a:solidFill>
          <a:ln w="57240">
            <a:solidFill>
              <a:srgbClr val="66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0953-ABAE-4B35-B645-6338E2455E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AB70-AC76-488C-AF61-F840BAEEF6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CDF2-97FF-4C1A-B498-8F48EEB048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A1EE-7508-4553-A812-FE7E7AF1B9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"/>
          <p:cNvSpPr/>
          <p:nvPr/>
        </p:nvSpPr>
        <p:spPr>
          <a:xfrm>
            <a:off x="2735280" y="51498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33"/>
                </a:solidFill>
                <a:latin typeface="Arial"/>
              </a:rPr>
              <a:t>Просмо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>
            <a:hlinkClick r:id="" action="ppaction://hlinkshowjump?jump=nextslide"/>
          </p:cNvPr>
          <p:cNvSpPr/>
          <p:nvPr/>
        </p:nvSpPr>
        <p:spPr>
          <a:xfrm>
            <a:off x="2843280" y="4797360"/>
            <a:ext cx="345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699E-E7CF-4BB7-A756-DB15852E99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2608-44BF-4FC1-AAE4-AAB510A119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C92C-F882-43E0-A087-90DD2A3F2A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98AC-858E-4C72-9CFA-0D340FBBE5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0CFA-C692-4B6C-BCF6-12281EB142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22A3-EBDA-4BC2-A948-0555563430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23F9-1917-4754-AF85-E18ECAE9B8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B412-963E-4F48-A269-F5E18BA32A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Группа 29"/>
          <p:cNvGrpSpPr/>
          <p:nvPr/>
        </p:nvGrpSpPr>
        <p:grpSpPr>
          <a:xfrm>
            <a:off x="-36360" y="7560"/>
            <a:ext cx="9070920" cy="7036200"/>
            <a:chOff x="-36360" y="7560"/>
            <a:chExt cx="9070920" cy="7036200"/>
          </a:xfrm>
        </p:grpSpPr>
        <p:sp>
          <p:nvSpPr>
            <p:cNvPr id="503" name="Дуга 9"/>
            <p:cNvSpPr/>
            <p:nvPr/>
          </p:nvSpPr>
          <p:spPr>
            <a:xfrm rot="16200000">
              <a:off x="1026000" y="-748800"/>
              <a:ext cx="6883560" cy="8701200"/>
            </a:xfrm>
            <a:custGeom>
              <a:avLst/>
              <a:gdLst/>
              <a:ahLst/>
              <a:rect l="l" t="t" r="r" b="b"/>
              <a:pathLst>
                <a:path stroke="0" w="6883197" h="8634114">
                  <a:moveTo>
                    <a:pt x="3821563" y="26391"/>
                  </a:moveTo>
                  <a:cubicBezTo>
                    <a:pt x="5570500" y="270086"/>
                    <a:pt x="6891180" y="2129433"/>
                    <a:pt x="6883162" y="4336727"/>
                  </a:cubicBezTo>
                  <a:cubicBezTo>
                    <a:pt x="6875113" y="6552559"/>
                    <a:pt x="5530980" y="8400933"/>
                    <a:pt x="3772671" y="8614093"/>
                  </a:cubicBezTo>
                  <a:lnTo>
                    <a:pt x="3441599" y="4317057"/>
                  </a:lnTo>
                  <a:lnTo>
                    <a:pt x="3821563" y="26391"/>
                  </a:lnTo>
                  <a:close/>
                </a:path>
                <a:path fill="none" w="6883197" h="8634114">
                  <a:moveTo>
                    <a:pt x="3821563" y="26391"/>
                  </a:moveTo>
                  <a:cubicBezTo>
                    <a:pt x="5570500" y="270086"/>
                    <a:pt x="6891180" y="2129433"/>
                    <a:pt x="6883162" y="4336727"/>
                  </a:cubicBezTo>
                  <a:cubicBezTo>
                    <a:pt x="6875113" y="6552559"/>
                    <a:pt x="5530980" y="8400933"/>
                    <a:pt x="3772671" y="8614093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18"/>
            <p:cNvGrpSpPr/>
            <p:nvPr/>
          </p:nvGrpSpPr>
          <p:grpSpPr>
            <a:xfrm>
              <a:off x="-36360" y="7560"/>
              <a:ext cx="9070920" cy="7036200"/>
              <a:chOff x="-36360" y="7560"/>
              <a:chExt cx="9070920" cy="7036200"/>
            </a:xfrm>
          </p:grpSpPr>
          <p:sp>
            <p:nvSpPr>
              <p:cNvPr id="505" name="Дуга 10"/>
              <p:cNvSpPr/>
              <p:nvPr/>
            </p:nvSpPr>
            <p:spPr>
              <a:xfrm rot="16200000">
                <a:off x="1051560" y="-650520"/>
                <a:ext cx="6821640" cy="8566200"/>
              </a:xfrm>
              <a:custGeom>
                <a:avLst/>
                <a:gdLst/>
                <a:ahLst/>
                <a:rect l="l" t="t" r="r" b="b"/>
                <a:pathLst>
                  <a:path stroke="0" w="6821286" h="8500215">
                    <a:moveTo>
                      <a:pt x="3784745" y="25644"/>
                    </a:moveTo>
                    <a:cubicBezTo>
                      <a:pt x="5501302" y="261694"/>
                      <a:pt x="6805373" y="2059345"/>
                      <a:pt x="6821144" y="4211294"/>
                    </a:cubicBezTo>
                    <a:cubicBezTo>
                      <a:pt x="6836798" y="6347143"/>
                      <a:pt x="5577942" y="8165676"/>
                      <a:pt x="3880208" y="8459744"/>
                    </a:cubicBezTo>
                    <a:lnTo>
                      <a:pt x="3410643" y="4250108"/>
                    </a:lnTo>
                    <a:lnTo>
                      <a:pt x="3784745" y="25644"/>
                    </a:lnTo>
                    <a:close/>
                  </a:path>
                  <a:path fill="none" w="6821286" h="8500215">
                    <a:moveTo>
                      <a:pt x="3784745" y="25644"/>
                    </a:moveTo>
                    <a:cubicBezTo>
                      <a:pt x="5501302" y="261694"/>
                      <a:pt x="6805373" y="2059345"/>
                      <a:pt x="6821144" y="4211294"/>
                    </a:cubicBezTo>
                    <a:cubicBezTo>
                      <a:pt x="6836798" y="6347143"/>
                      <a:pt x="5577942" y="8165676"/>
                      <a:pt x="3880208" y="8459744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Группа 17"/>
              <p:cNvGrpSpPr/>
              <p:nvPr/>
            </p:nvGrpSpPr>
            <p:grpSpPr>
              <a:xfrm>
                <a:off x="-36360" y="7560"/>
                <a:ext cx="9070920" cy="7036200"/>
                <a:chOff x="-36360" y="7560"/>
                <a:chExt cx="9070920" cy="7036200"/>
              </a:xfrm>
            </p:grpSpPr>
            <p:grpSp>
              <p:nvGrpSpPr>
                <p:cNvPr id="507" name="Группа 16"/>
                <p:cNvGrpSpPr/>
                <p:nvPr/>
              </p:nvGrpSpPr>
              <p:grpSpPr>
                <a:xfrm>
                  <a:off x="-36360" y="7560"/>
                  <a:ext cx="9070920" cy="7035840"/>
                  <a:chOff x="-36360" y="7560"/>
                  <a:chExt cx="9070920" cy="7035840"/>
                </a:xfrm>
              </p:grpSpPr>
              <p:sp>
                <p:nvSpPr>
                  <p:cNvPr id="508" name="Дуга 6"/>
                  <p:cNvSpPr/>
                  <p:nvPr/>
                </p:nvSpPr>
                <p:spPr>
                  <a:xfrm rot="16200000">
                    <a:off x="1057320" y="-1086120"/>
                    <a:ext cx="6883560" cy="907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6883197" h="9001155">
                        <a:moveTo>
                          <a:pt x="3837506" y="29878"/>
                        </a:moveTo>
                        <a:cubicBezTo>
                          <a:pt x="5579184" y="293634"/>
                          <a:pt x="6890828" y="2227457"/>
                          <a:pt x="6883165" y="4520248"/>
                        </a:cubicBezTo>
                        <a:cubicBezTo>
                          <a:pt x="6875467" y="6823592"/>
                          <a:pt x="5539122" y="8747580"/>
                          <a:pt x="3786607" y="8978485"/>
                        </a:cubicBezTo>
                        <a:lnTo>
                          <a:pt x="3441599" y="4500578"/>
                        </a:lnTo>
                        <a:lnTo>
                          <a:pt x="3837506" y="29878"/>
                        </a:lnTo>
                        <a:close/>
                      </a:path>
                      <a:path fill="none" w="6883197" h="9001155">
                        <a:moveTo>
                          <a:pt x="3837506" y="29878"/>
                        </a:moveTo>
                        <a:cubicBezTo>
                          <a:pt x="5579184" y="293634"/>
                          <a:pt x="6890828" y="2227457"/>
                          <a:pt x="6883165" y="4520248"/>
                        </a:cubicBezTo>
                        <a:cubicBezTo>
                          <a:pt x="6875467" y="6823592"/>
                          <a:pt x="5539122" y="8747580"/>
                          <a:pt x="3786607" y="8978485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Дуга 7"/>
                  <p:cNvSpPr/>
                  <p:nvPr/>
                </p:nvSpPr>
                <p:spPr>
                  <a:xfrm rot="16200000">
                    <a:off x="1056960" y="-941760"/>
                    <a:ext cx="6883560" cy="8925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6883197" h="8856228">
                        <a:moveTo>
                          <a:pt x="3825132" y="27582"/>
                        </a:moveTo>
                        <a:cubicBezTo>
                          <a:pt x="5571646" y="279575"/>
                          <a:pt x="6890029" y="2184184"/>
                          <a:pt x="6883171" y="4445393"/>
                        </a:cubicBezTo>
                        <a:cubicBezTo>
                          <a:pt x="6876287" y="6715169"/>
                          <a:pt x="5536621" y="8610717"/>
                          <a:pt x="3781107" y="8834629"/>
                        </a:cubicBezTo>
                        <a:lnTo>
                          <a:pt x="3441599" y="4428114"/>
                        </a:lnTo>
                        <a:lnTo>
                          <a:pt x="3825132" y="27582"/>
                        </a:lnTo>
                        <a:close/>
                      </a:path>
                      <a:path fill="none" w="6883197" h="8856228">
                        <a:moveTo>
                          <a:pt x="3825132" y="27582"/>
                        </a:moveTo>
                        <a:cubicBezTo>
                          <a:pt x="5571646" y="279575"/>
                          <a:pt x="6890029" y="2184184"/>
                          <a:pt x="6883171" y="4445393"/>
                        </a:cubicBezTo>
                        <a:cubicBezTo>
                          <a:pt x="6876287" y="6715169"/>
                          <a:pt x="5536621" y="8610717"/>
                          <a:pt x="3781107" y="883462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Дуга 8"/>
                  <p:cNvSpPr/>
                  <p:nvPr/>
                </p:nvSpPr>
                <p:spPr>
                  <a:xfrm rot="16200000">
                    <a:off x="1053000" y="-856800"/>
                    <a:ext cx="6883560" cy="8917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6883197" h="8848351">
                        <a:moveTo>
                          <a:pt x="3830872" y="28391"/>
                        </a:moveTo>
                        <a:cubicBezTo>
                          <a:pt x="5563781" y="281984"/>
                          <a:pt x="6875166" y="2161873"/>
                          <a:pt x="6883162" y="4403893"/>
                        </a:cubicBezTo>
                        <a:cubicBezTo>
                          <a:pt x="6891122" y="6635968"/>
                          <a:pt x="5604409" y="8526074"/>
                          <a:pt x="3882340" y="8811923"/>
                        </a:cubicBezTo>
                        <a:lnTo>
                          <a:pt x="3441599" y="4424176"/>
                        </a:lnTo>
                        <a:lnTo>
                          <a:pt x="3830872" y="28391"/>
                        </a:lnTo>
                        <a:close/>
                      </a:path>
                      <a:path fill="none" w="6883197" h="8848351">
                        <a:moveTo>
                          <a:pt x="3830872" y="28391"/>
                        </a:moveTo>
                        <a:cubicBezTo>
                          <a:pt x="5563781" y="281984"/>
                          <a:pt x="6875166" y="2161873"/>
                          <a:pt x="6883162" y="4403893"/>
                        </a:cubicBezTo>
                        <a:cubicBezTo>
                          <a:pt x="6891122" y="6635968"/>
                          <a:pt x="5604409" y="8526074"/>
                          <a:pt x="3882340" y="8811923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Дуга 11"/>
                  <p:cNvSpPr/>
                  <p:nvPr/>
                </p:nvSpPr>
                <p:spPr>
                  <a:xfrm rot="16200000">
                    <a:off x="1087920" y="-542520"/>
                    <a:ext cx="6750360" cy="8421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6749850" h="8356864">
                        <a:moveTo>
                          <a:pt x="3742746" y="24890"/>
                        </a:moveTo>
                        <a:cubicBezTo>
                          <a:pt x="5459977" y="257991"/>
                          <a:pt x="6757789" y="2058932"/>
                          <a:pt x="6749814" y="4197721"/>
                        </a:cubicBezTo>
                        <a:cubicBezTo>
                          <a:pt x="6741810" y="6344294"/>
                          <a:pt x="5421378" y="8134144"/>
                          <a:pt x="3695405" y="8337982"/>
                        </a:cubicBezTo>
                        <a:lnTo>
                          <a:pt x="3374925" y="4178432"/>
                        </a:lnTo>
                        <a:lnTo>
                          <a:pt x="3742746" y="24890"/>
                        </a:lnTo>
                        <a:close/>
                      </a:path>
                      <a:path fill="none" w="6749850" h="8356864">
                        <a:moveTo>
                          <a:pt x="3742746" y="24890"/>
                        </a:moveTo>
                        <a:cubicBezTo>
                          <a:pt x="5459977" y="257991"/>
                          <a:pt x="6757789" y="2058932"/>
                          <a:pt x="6749814" y="4197721"/>
                        </a:cubicBezTo>
                        <a:cubicBezTo>
                          <a:pt x="6741810" y="6344294"/>
                          <a:pt x="5421378" y="8134144"/>
                          <a:pt x="3695405" y="8337982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Дуга 12"/>
                <p:cNvSpPr/>
                <p:nvPr/>
              </p:nvSpPr>
              <p:spPr>
                <a:xfrm rot="16200000">
                  <a:off x="1123920" y="-434880"/>
                  <a:ext cx="6678720" cy="8278920"/>
                </a:xfrm>
                <a:custGeom>
                  <a:avLst/>
                  <a:gdLst/>
                  <a:ahLst/>
                  <a:rect l="l" t="t" r="r" b="b"/>
                  <a:pathLst>
                    <a:path stroke="0" w="6678416" h="8215089">
                      <a:moveTo>
                        <a:pt x="3700817" y="24156"/>
                      </a:moveTo>
                      <a:cubicBezTo>
                        <a:pt x="5400929" y="251966"/>
                        <a:pt x="6686326" y="2022981"/>
                        <a:pt x="6678380" y="4126630"/>
                      </a:cubicBezTo>
                      <a:cubicBezTo>
                        <a:pt x="6670406" y="6237697"/>
                        <a:pt x="5362813" y="7997580"/>
                        <a:pt x="3654269" y="8196766"/>
                      </a:cubicBezTo>
                      <a:lnTo>
                        <a:pt x="3339208" y="4107545"/>
                      </a:lnTo>
                      <a:lnTo>
                        <a:pt x="3700817" y="24156"/>
                      </a:lnTo>
                      <a:close/>
                    </a:path>
                    <a:path fill="none" w="6678416" h="8215089">
                      <a:moveTo>
                        <a:pt x="3700817" y="24156"/>
                      </a:moveTo>
                      <a:cubicBezTo>
                        <a:pt x="5400929" y="251966"/>
                        <a:pt x="6686326" y="2022981"/>
                        <a:pt x="6678380" y="4126630"/>
                      </a:cubicBezTo>
                      <a:cubicBezTo>
                        <a:pt x="6670406" y="6237697"/>
                        <a:pt x="5362813" y="7997580"/>
                        <a:pt x="3654269" y="819676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3" name="TextBox 58"/>
          <p:cNvSpPr/>
          <p:nvPr/>
        </p:nvSpPr>
        <p:spPr>
          <a:xfrm>
            <a:off x="928800" y="21430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6"/>
          <p:cNvSpPr/>
          <p:nvPr/>
        </p:nvSpPr>
        <p:spPr>
          <a:xfrm>
            <a:off x="608040" y="981000"/>
            <a:ext cx="8001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яя общеобразовательная школа № 28 ДО «Родничок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на тему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то такое хорошо, а что  такое плохо».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торая младшая группа «Земляни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0"/>
          <p:cNvSpPr/>
          <p:nvPr/>
        </p:nvSpPr>
        <p:spPr>
          <a:xfrm>
            <a:off x="4591080" y="3933720"/>
            <a:ext cx="4048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и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Белова Елена Анатолье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высшей квалификационной категории Бугакова Ксения  Станислав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0" descr=""/>
          <p:cNvPicPr/>
          <p:nvPr/>
        </p:nvPicPr>
        <p:blipFill>
          <a:blip r:embed="rId1"/>
          <a:stretch/>
        </p:blipFill>
        <p:spPr>
          <a:xfrm>
            <a:off x="7642080" y="5310360"/>
            <a:ext cx="1474920" cy="15300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"/>
          <p:cNvSpPr/>
          <p:nvPr/>
        </p:nvSpPr>
        <p:spPr>
          <a:xfrm>
            <a:off x="1116000" y="4046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Цель и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8"/>
          <p:cNvSpPr/>
          <p:nvPr/>
        </p:nvSpPr>
        <p:spPr>
          <a:xfrm>
            <a:off x="755640" y="1052640"/>
            <a:ext cx="763272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: </a:t>
            </a: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Формирование элементарных представлений детей младшего дошкольного возраста о культуре поведения, развитие их социальных и нравственных кач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оздать условия для нравственного воспитания детей младшего возра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пособствовать усвоению и выполнению норм и ценностей принятых в обществе, включая моральный и нравственные ка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Помочь детям освоить  способы  взаимодействия со сверстниками в игре, в повседневном общении и бытов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Развивать речевые формы вежливого общения  со взрослыми и сверст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Воспитывать любовь и уважительное отношение к близким и окружающим люд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7"/>
          <p:cNvSpPr/>
          <p:nvPr/>
        </p:nvSpPr>
        <p:spPr>
          <a:xfrm>
            <a:off x="3635280" y="549360"/>
            <a:ext cx="22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9" descr=""/>
          <p:cNvPicPr/>
          <p:nvPr/>
        </p:nvPicPr>
        <p:blipFill>
          <a:blip r:embed="rId1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2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Культура поведения за столом.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pic>
        <p:nvPicPr>
          <p:cNvPr id="523" name="Объект 1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256000" cy="4540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9" descr=""/>
          <p:cNvPicPr/>
          <p:nvPr/>
        </p:nvPicPr>
        <p:blipFill>
          <a:blip r:embed="rId2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4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Утренние приветствия.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pic>
        <p:nvPicPr>
          <p:cNvPr id="526" name="Объект 1" descr=""/>
          <p:cNvPicPr/>
          <p:nvPr/>
        </p:nvPicPr>
        <p:blipFill>
          <a:blip r:embed="rId1"/>
          <a:stretch/>
        </p:blipFill>
        <p:spPr>
          <a:xfrm>
            <a:off x="1401840" y="1268280"/>
            <a:ext cx="5691240" cy="468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9" descr=""/>
          <p:cNvPicPr/>
          <p:nvPr/>
        </p:nvPicPr>
        <p:blipFill>
          <a:blip r:embed="rId2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4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Тематическое занятие </a:t>
            </a:r>
            <a:br>
              <a:rPr sz="2400"/>
            </a:b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«Что такое хорошо, а что такое плохо».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pic>
        <p:nvPicPr>
          <p:cNvPr id="529" name="Объект 1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256360" cy="4535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9" descr=""/>
          <p:cNvPicPr/>
          <p:nvPr/>
        </p:nvPicPr>
        <p:blipFill>
          <a:blip r:embed="rId2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4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Тематическое занятие «Мойдодыр».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pic>
        <p:nvPicPr>
          <p:cNvPr id="532" name="Объект 1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400720" cy="43228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9" descr=""/>
          <p:cNvPicPr/>
          <p:nvPr/>
        </p:nvPicPr>
        <p:blipFill>
          <a:blip r:embed="rId2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4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3:49:13Z</dcterms:created>
  <dc:creator>www.PHILka.RU</dc:creator>
  <dc:description/>
  <dc:language>en-US</dc:language>
  <cp:lastModifiedBy>Наталья Полякова</cp:lastModifiedBy>
  <dcterms:modified xsi:type="dcterms:W3CDTF">2023-05-28T13:53:26Z</dcterms:modified>
  <cp:revision>341</cp:revision>
  <dc:subject/>
  <dc:title>Слайд 1</dc:title>
</cp:coreProperties>
</file>