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E557-F63F-4341-9F78-3D96595D70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118F-4D15-46AC-864E-BF36CDB01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038-E9D7-4CCE-8A69-79F82732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483-78F2-4F80-BDEF-FBE4A517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4407C-53C1-4428-B2AE-A4737D90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1971D-186D-45D2-ADAD-70CDD8FE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9158F-003A-411A-9813-B520AF48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F51AA-A576-4168-B255-AD43C0E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330C5-445B-4D73-98A6-BBFAA3D1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B3793-5F35-4215-86F5-CA74FE19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BBA66-3692-45BD-8688-2630CE09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48E32-D76A-444E-BC50-550B940D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47EC9-122D-40D1-AAC9-B4E3B038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C96B4-90BE-4539-A282-DD4EF464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155-F2B1-481E-9E11-25283E58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7D048-165A-4D86-92AB-DF5AB6C0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7A922-28A3-4754-8B17-44547970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403F-CA80-4356-AC2C-08055A79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22620-8B45-4B9A-82C1-CAE719EC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C1AFC-73F7-48A0-8F24-B0B981F4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A5FDC-F1DD-4D75-AB10-24C321C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8A3FA-73FB-48F6-98C3-F7E489C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3DE5A-E1CF-4C3E-AE97-1367FF71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428CA-FDAA-47FC-94D1-FBF2EDE5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562B8-FD44-4B1F-8525-7F736943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F5F-AD77-41E9-8A4A-D32CA7D0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1C67B-E42F-44EB-895F-14E25FB6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7E9D1-66AC-4710-BEE5-B4891C2D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65CBD-7BCD-4161-904F-F6B8DE02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B43E7-3CB7-44ED-901A-ACEDB797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7FD73-1350-41D2-90E0-162E7589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9DDA3-1214-4FE9-A3CD-63510A7C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F55FB-3F51-47F6-A587-16CD475A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EBF2E-4CD2-4F94-B569-59566D68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66F8C-3AE4-4EFA-845E-4A9BE42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D8483-9682-4A78-B30B-4107F17E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3571-9633-4D56-9202-8971C7FD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A2D3F-CE10-4475-A2AE-EDF8690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A9052-1B4A-4FB0-A0D0-AADD9A76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ADA97-6C59-404E-87F7-D5A4A7AC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85CC8-E51C-4770-8804-8383E899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DE830-88FF-4BE0-8C05-3415A9A8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EC058-F7AA-4850-BDAE-ADB9CBC5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12236-89C1-45F7-9A62-6EB89BD4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9B049-E197-4AD2-BB26-336A50CA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79B81-7C01-46F9-9473-1703697C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8B067-9549-40FC-A63A-FFA838AE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0B40-293D-4C86-AB0F-F048E996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706A9-C952-4648-A85E-3DB2EB7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7301D-4008-4824-84C9-ABABE2D8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AAFA8-8447-4327-894B-0464CB0F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B617B-6318-417F-83A2-9CFFC9C7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972B3-3AB6-4994-9C97-B81420C5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38E5-80C3-4746-AF96-C519403F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5B56-7FEF-479A-B946-70080BC3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17F6-EB85-434D-8C72-18F88586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E95-8799-4A67-A62E-97BA16F1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5FCE-B0A1-4F59-826B-D5A32711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382-F3D5-4DFB-A45C-BD0D8C7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812F-8D3C-46C1-8D6C-21DFA7B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8311-9AFF-4F54-9210-28BB1AF6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DC06-6825-4783-9469-7A976D45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6CA7-07A7-46FB-A69B-E836A786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8B02-1EF8-4989-957A-D19F8F68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D6FE-52EC-4899-A65D-8A2B10F2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3646-16F6-4ED2-BC90-977A8B81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01EC5-9A61-48A7-B84F-1D17014A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1940-1E86-43FA-9AEB-675F81E2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B9E1-075C-4C7B-A82E-6C0EFFAB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40D-7E1C-4ACD-823C-DCF5BF38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4273-FA11-4328-802B-826409BC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FCFE-AB64-4EB5-81F3-81FA8761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48C2-9532-40E3-AFB1-C2B33DBA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9B4C-675A-40C0-9A0F-C833697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3D1C-CADB-453B-91CF-58B1209D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4BF7-8D25-4B4D-A975-2C1EC42A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9E24-0792-40F0-B2B1-5C7D7B77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4938-69A3-40D8-88DA-2AACFE12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87069-20A0-48FF-81B8-D1E394AA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5EAA-731B-4584-88DE-3F20A10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219-1604-48C6-9409-4888B0D4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0271-0662-49D4-ADCD-AD82769F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9DF76-DDD0-4EAC-A517-5D73D8A5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609C7-4A0A-4AC7-BDA9-CFA6103C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467F-244F-40FA-B2D2-0DF0D73C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F909-E1E8-498D-9FE0-93E1372C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43AC-D437-45FB-8920-C0EBB6B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DBD4-ECA3-4231-823F-0AE4B389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7B395-08A0-45BE-9A51-8737E3AE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F7C7-4B1A-4A11-8540-B70EA3A0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514CF-81AC-4252-B903-C77D427A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759-1740-4E4B-8549-97C8E158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D1E0C-2067-45BA-9093-79792627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1724D-FFCF-4F3A-971D-D40D096C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86E0B-2C03-4968-BF18-EE616E1E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52FE-9B69-4BC1-A8C5-6EC63394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36334-3FFA-491A-ACA1-DFBD9BC9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6BAA0-AC6C-485C-8059-0BE0643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9546-0997-4F16-A9FA-830E1231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F8173-F0C9-494A-8569-1A1C581E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2CAD-5CFA-487D-8A01-75CBBA5F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9A565-A10F-4B19-81C7-D96AB28B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B7F-F727-4CBF-9D62-B19CDDA7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7E35E-D171-40F1-9012-2F51B533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F8722-A931-4C3F-B020-9EAC27D3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4E1F7-1887-4C94-8297-2E0938F2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90979-2EC7-4F74-81A7-EDCE5901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9830-52FB-48FF-B195-7F310976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3A11C-8691-4B78-82F1-A4C90460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5EFA2-485E-454F-8119-6C3C2EA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3FF2F-D087-4E20-8EAE-E15F3C51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F4E82-85F8-45DE-A813-D4850E0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7EE5-CC62-4E25-B756-2C7CCAB7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57D-B661-45F0-B5AB-2D184850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3FAE7-0864-4117-8D0C-32CE4C9A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B8D58-5D6C-45F5-92D0-3387C2E8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A230E-A297-4DFE-A4C0-64F6494F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1CFC-87CA-49B4-A276-F59AC027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1A84-4B5C-4611-8A3E-F668B119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AA5B3-72CA-4317-BE09-CF4C2F30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90C8-7DD2-4053-A23A-B13C7D5D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BBA9C-453D-4A79-8B14-AF818E65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947E8-CB32-4BF1-B9AE-81865007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91982-0A51-4A4C-A1CD-98D5FC6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2F1-37B8-40F3-9DB8-7A807589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7FBCC-27D5-4C06-B57C-E021345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1BFB3-F491-493C-A5B2-2307D74A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B6AB-B6E8-45AB-87DA-5DA14079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4699-2EEC-4A18-8E28-92E6FD07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FA71D-A7F6-4461-8A04-6FAE4A6F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210F4-C0E7-4C78-A15E-FA027A9E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B4D53-D749-43F2-AE1E-7AADED96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86071-B11F-4E3C-882D-D3AEDB44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94556-577C-482C-BD14-CADEE230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3A6C8-2446-41F0-8940-8F7C2DCE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DFB-FDDC-4FC1-A973-C4909EC8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859D0-E643-4E63-B43F-27403789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9C0FF-B76D-450D-AADD-590E00D5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25699-54A7-40BB-A8A5-15C7405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6EC4-C49C-42B1-93A1-C62F37D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3600D-34F1-48C5-9037-C2A3EB4E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F9B8-D71C-4D99-8E83-8068978D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2E306-0F7B-4227-9191-79B1DFC2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8C156-C820-4B9C-AF1B-4238EAA4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68446-F6AC-4FC3-9B46-B847D817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93C31-36B0-4B95-9630-9DAD8768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179280" y="293760"/>
            <a:ext cx="8785440" cy="6159600"/>
          </a:xfrm>
          <a:prstGeom prst="roundRect">
            <a:avLst>
              <a:gd name="adj" fmla="val 4741"/>
            </a:avLst>
          </a:prstGeom>
          <a:solidFill>
            <a:srgbClr val="3f6c19">
              <a:alpha val="80000"/>
            </a:srgbClr>
          </a:solidFill>
          <a:ln w="57240">
            <a:solidFill>
              <a:srgbClr val="66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B0FD-428B-4DC2-9AAD-23B309F65D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53EF-6009-4401-8D4D-C494720A34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CE78-2441-4256-AC61-3891B90E58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85F5-5FCF-4502-8549-C7639A759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"/>
          <p:cNvSpPr/>
          <p:nvPr/>
        </p:nvSpPr>
        <p:spPr>
          <a:xfrm>
            <a:off x="2735280" y="51498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33"/>
                </a:solidFill>
                <a:latin typeface="Arial"/>
              </a:rPr>
              <a:t>Просмо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>
            <a:hlinkClick r:id="" action="ppaction://hlinkshowjump?jump=nextslide"/>
          </p:cNvPr>
          <p:cNvSpPr/>
          <p:nvPr/>
        </p:nvSpPr>
        <p:spPr>
          <a:xfrm>
            <a:off x="2843280" y="4797360"/>
            <a:ext cx="345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F1C9-5F3F-4D56-B803-1E83DECBFA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BE77-E44F-4C86-9505-470DC057F9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6BE7-D16A-409F-959D-83ACF7FF54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39B-F726-4323-921A-D2E1689B7C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5581-0AE9-4DA8-8D2F-A813B04551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04AB-1D1F-4254-990A-C7386A51F3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02ED-42C3-4C24-9223-E09F70A5D2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4CE7-4509-4573-B325-BD113404F6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Группа 29"/>
          <p:cNvGrpSpPr/>
          <p:nvPr/>
        </p:nvGrpSpPr>
        <p:grpSpPr>
          <a:xfrm>
            <a:off x="-36360" y="7560"/>
            <a:ext cx="9070920" cy="7036200"/>
            <a:chOff x="-36360" y="7560"/>
            <a:chExt cx="9070920" cy="7036200"/>
          </a:xfrm>
        </p:grpSpPr>
        <p:sp>
          <p:nvSpPr>
            <p:cNvPr id="503" name="Дуга 9"/>
            <p:cNvSpPr/>
            <p:nvPr/>
          </p:nvSpPr>
          <p:spPr>
            <a:xfrm rot="16200000">
              <a:off x="1026000" y="-748800"/>
              <a:ext cx="6883560" cy="8701200"/>
            </a:xfrm>
            <a:custGeom>
              <a:avLst/>
              <a:gdLst/>
              <a:ahLst/>
              <a:rect l="l" t="t" r="r" b="b"/>
              <a:pathLst>
                <a:path stroke="0" w="6883197" h="8634114">
                  <a:moveTo>
                    <a:pt x="3821563" y="26391"/>
                  </a:moveTo>
                  <a:cubicBezTo>
                    <a:pt x="5570500" y="270086"/>
                    <a:pt x="6891180" y="2129433"/>
                    <a:pt x="6883162" y="4336727"/>
                  </a:cubicBezTo>
                  <a:cubicBezTo>
                    <a:pt x="6875113" y="6552559"/>
                    <a:pt x="5530980" y="8400933"/>
                    <a:pt x="3772671" y="8614093"/>
                  </a:cubicBezTo>
                  <a:lnTo>
                    <a:pt x="3441599" y="4317057"/>
                  </a:lnTo>
                  <a:lnTo>
                    <a:pt x="3821563" y="26391"/>
                  </a:lnTo>
                  <a:close/>
                </a:path>
                <a:path fill="none" w="6883197" h="8634114">
                  <a:moveTo>
                    <a:pt x="3821563" y="26391"/>
                  </a:moveTo>
                  <a:cubicBezTo>
                    <a:pt x="5570500" y="270086"/>
                    <a:pt x="6891180" y="2129433"/>
                    <a:pt x="6883162" y="4336727"/>
                  </a:cubicBezTo>
                  <a:cubicBezTo>
                    <a:pt x="6875113" y="6552559"/>
                    <a:pt x="5530980" y="8400933"/>
                    <a:pt x="3772671" y="8614093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18"/>
            <p:cNvGrpSpPr/>
            <p:nvPr/>
          </p:nvGrpSpPr>
          <p:grpSpPr>
            <a:xfrm>
              <a:off x="-36360" y="7560"/>
              <a:ext cx="9070920" cy="7036200"/>
              <a:chOff x="-36360" y="7560"/>
              <a:chExt cx="9070920" cy="7036200"/>
            </a:xfrm>
          </p:grpSpPr>
          <p:sp>
            <p:nvSpPr>
              <p:cNvPr id="505" name="Дуга 10"/>
              <p:cNvSpPr/>
              <p:nvPr/>
            </p:nvSpPr>
            <p:spPr>
              <a:xfrm rot="16200000">
                <a:off x="1051560" y="-650520"/>
                <a:ext cx="6821640" cy="8566200"/>
              </a:xfrm>
              <a:custGeom>
                <a:avLst/>
                <a:gdLst/>
                <a:ahLst/>
                <a:rect l="l" t="t" r="r" b="b"/>
                <a:pathLst>
                  <a:path stroke="0" w="6821286" h="8500215">
                    <a:moveTo>
                      <a:pt x="3784745" y="25644"/>
                    </a:moveTo>
                    <a:cubicBezTo>
                      <a:pt x="5501302" y="261694"/>
                      <a:pt x="6805373" y="2059345"/>
                      <a:pt x="6821144" y="4211294"/>
                    </a:cubicBezTo>
                    <a:cubicBezTo>
                      <a:pt x="6836798" y="6347143"/>
                      <a:pt x="5577942" y="8165676"/>
                      <a:pt x="3880208" y="8459744"/>
                    </a:cubicBezTo>
                    <a:lnTo>
                      <a:pt x="3410643" y="4250108"/>
                    </a:lnTo>
                    <a:lnTo>
                      <a:pt x="3784745" y="25644"/>
                    </a:lnTo>
                    <a:close/>
                  </a:path>
                  <a:path fill="none" w="6821286" h="8500215">
                    <a:moveTo>
                      <a:pt x="3784745" y="25644"/>
                    </a:moveTo>
                    <a:cubicBezTo>
                      <a:pt x="5501302" y="261694"/>
                      <a:pt x="6805373" y="2059345"/>
                      <a:pt x="6821144" y="4211294"/>
                    </a:cubicBezTo>
                    <a:cubicBezTo>
                      <a:pt x="6836798" y="6347143"/>
                      <a:pt x="5577942" y="8165676"/>
                      <a:pt x="3880208" y="8459744"/>
                    </a:cubicBezTo>
                  </a:path>
                </a:pathLst>
              </a:custGeom>
              <a:noFill/>
              <a:ln w="7632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Группа 17"/>
              <p:cNvGrpSpPr/>
              <p:nvPr/>
            </p:nvGrpSpPr>
            <p:grpSpPr>
              <a:xfrm>
                <a:off x="-36360" y="7560"/>
                <a:ext cx="9070920" cy="7036200"/>
                <a:chOff x="-36360" y="7560"/>
                <a:chExt cx="9070920" cy="7036200"/>
              </a:xfrm>
            </p:grpSpPr>
            <p:grpSp>
              <p:nvGrpSpPr>
                <p:cNvPr id="507" name="Группа 16"/>
                <p:cNvGrpSpPr/>
                <p:nvPr/>
              </p:nvGrpSpPr>
              <p:grpSpPr>
                <a:xfrm>
                  <a:off x="-36360" y="7560"/>
                  <a:ext cx="9070920" cy="7035840"/>
                  <a:chOff x="-36360" y="7560"/>
                  <a:chExt cx="9070920" cy="7035840"/>
                </a:xfrm>
              </p:grpSpPr>
              <p:sp>
                <p:nvSpPr>
                  <p:cNvPr id="508" name="Дуга 6"/>
                  <p:cNvSpPr/>
                  <p:nvPr/>
                </p:nvSpPr>
                <p:spPr>
                  <a:xfrm rot="16200000">
                    <a:off x="1057320" y="-1086120"/>
                    <a:ext cx="6883560" cy="907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6883197" h="9001155">
                        <a:moveTo>
                          <a:pt x="3837506" y="29878"/>
                        </a:moveTo>
                        <a:cubicBezTo>
                          <a:pt x="5579184" y="293634"/>
                          <a:pt x="6890828" y="2227457"/>
                          <a:pt x="6883165" y="4520248"/>
                        </a:cubicBezTo>
                        <a:cubicBezTo>
                          <a:pt x="6875467" y="6823592"/>
                          <a:pt x="5539122" y="8747580"/>
                          <a:pt x="3786607" y="8978485"/>
                        </a:cubicBezTo>
                        <a:lnTo>
                          <a:pt x="3441599" y="4500578"/>
                        </a:lnTo>
                        <a:lnTo>
                          <a:pt x="3837506" y="29878"/>
                        </a:lnTo>
                        <a:close/>
                      </a:path>
                      <a:path fill="none" w="6883197" h="9001155">
                        <a:moveTo>
                          <a:pt x="3837506" y="29878"/>
                        </a:moveTo>
                        <a:cubicBezTo>
                          <a:pt x="5579184" y="293634"/>
                          <a:pt x="6890828" y="2227457"/>
                          <a:pt x="6883165" y="4520248"/>
                        </a:cubicBezTo>
                        <a:cubicBezTo>
                          <a:pt x="6875467" y="6823592"/>
                          <a:pt x="5539122" y="8747580"/>
                          <a:pt x="3786607" y="8978485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Дуга 7"/>
                  <p:cNvSpPr/>
                  <p:nvPr/>
                </p:nvSpPr>
                <p:spPr>
                  <a:xfrm rot="16200000">
                    <a:off x="1056960" y="-941760"/>
                    <a:ext cx="6883560" cy="8925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6883197" h="8856228">
                        <a:moveTo>
                          <a:pt x="3825132" y="27582"/>
                        </a:moveTo>
                        <a:cubicBezTo>
                          <a:pt x="5571646" y="279575"/>
                          <a:pt x="6890029" y="2184184"/>
                          <a:pt x="6883171" y="4445393"/>
                        </a:cubicBezTo>
                        <a:cubicBezTo>
                          <a:pt x="6876287" y="6715169"/>
                          <a:pt x="5536621" y="8610717"/>
                          <a:pt x="3781107" y="8834629"/>
                        </a:cubicBezTo>
                        <a:lnTo>
                          <a:pt x="3441599" y="4428114"/>
                        </a:lnTo>
                        <a:lnTo>
                          <a:pt x="3825132" y="27582"/>
                        </a:lnTo>
                        <a:close/>
                      </a:path>
                      <a:path fill="none" w="6883197" h="8856228">
                        <a:moveTo>
                          <a:pt x="3825132" y="27582"/>
                        </a:moveTo>
                        <a:cubicBezTo>
                          <a:pt x="5571646" y="279575"/>
                          <a:pt x="6890029" y="2184184"/>
                          <a:pt x="6883171" y="4445393"/>
                        </a:cubicBezTo>
                        <a:cubicBezTo>
                          <a:pt x="6876287" y="6715169"/>
                          <a:pt x="5536621" y="8610717"/>
                          <a:pt x="3781107" y="8834629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Дуга 8"/>
                  <p:cNvSpPr/>
                  <p:nvPr/>
                </p:nvSpPr>
                <p:spPr>
                  <a:xfrm rot="16200000">
                    <a:off x="1053000" y="-856800"/>
                    <a:ext cx="6883560" cy="8917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6883197" h="8848351">
                        <a:moveTo>
                          <a:pt x="3830872" y="28391"/>
                        </a:moveTo>
                        <a:cubicBezTo>
                          <a:pt x="5563781" y="281984"/>
                          <a:pt x="6875166" y="2161873"/>
                          <a:pt x="6883162" y="4403893"/>
                        </a:cubicBezTo>
                        <a:cubicBezTo>
                          <a:pt x="6891122" y="6635968"/>
                          <a:pt x="5604409" y="8526074"/>
                          <a:pt x="3882340" y="8811923"/>
                        </a:cubicBezTo>
                        <a:lnTo>
                          <a:pt x="3441599" y="4424176"/>
                        </a:lnTo>
                        <a:lnTo>
                          <a:pt x="3830872" y="28391"/>
                        </a:lnTo>
                        <a:close/>
                      </a:path>
                      <a:path fill="none" w="6883197" h="8848351">
                        <a:moveTo>
                          <a:pt x="3830872" y="28391"/>
                        </a:moveTo>
                        <a:cubicBezTo>
                          <a:pt x="5563781" y="281984"/>
                          <a:pt x="6875166" y="2161873"/>
                          <a:pt x="6883162" y="4403893"/>
                        </a:cubicBezTo>
                        <a:cubicBezTo>
                          <a:pt x="6891122" y="6635968"/>
                          <a:pt x="5604409" y="8526074"/>
                          <a:pt x="3882340" y="8811923"/>
                        </a:cubicBezTo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Дуга 11"/>
                  <p:cNvSpPr/>
                  <p:nvPr/>
                </p:nvSpPr>
                <p:spPr>
                  <a:xfrm rot="16200000">
                    <a:off x="1087920" y="-542520"/>
                    <a:ext cx="6750360" cy="8421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6749850" h="8356864">
                        <a:moveTo>
                          <a:pt x="3742746" y="24890"/>
                        </a:moveTo>
                        <a:cubicBezTo>
                          <a:pt x="5459977" y="257991"/>
                          <a:pt x="6757789" y="2058932"/>
                          <a:pt x="6749814" y="4197721"/>
                        </a:cubicBezTo>
                        <a:cubicBezTo>
                          <a:pt x="6741810" y="6344294"/>
                          <a:pt x="5421378" y="8134144"/>
                          <a:pt x="3695405" y="8337982"/>
                        </a:cubicBezTo>
                        <a:lnTo>
                          <a:pt x="3374925" y="4178432"/>
                        </a:lnTo>
                        <a:lnTo>
                          <a:pt x="3742746" y="24890"/>
                        </a:lnTo>
                        <a:close/>
                      </a:path>
                      <a:path fill="none" w="6749850" h="8356864">
                        <a:moveTo>
                          <a:pt x="3742746" y="24890"/>
                        </a:moveTo>
                        <a:cubicBezTo>
                          <a:pt x="5459977" y="257991"/>
                          <a:pt x="6757789" y="2058932"/>
                          <a:pt x="6749814" y="4197721"/>
                        </a:cubicBezTo>
                        <a:cubicBezTo>
                          <a:pt x="6741810" y="6344294"/>
                          <a:pt x="5421378" y="8134144"/>
                          <a:pt x="3695405" y="8337982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Дуга 12"/>
                <p:cNvSpPr/>
                <p:nvPr/>
              </p:nvSpPr>
              <p:spPr>
                <a:xfrm rot="16200000">
                  <a:off x="1123920" y="-434880"/>
                  <a:ext cx="6678720" cy="8278920"/>
                </a:xfrm>
                <a:custGeom>
                  <a:avLst/>
                  <a:gdLst/>
                  <a:ahLst/>
                  <a:rect l="l" t="t" r="r" b="b"/>
                  <a:pathLst>
                    <a:path stroke="0" w="6678416" h="8215089">
                      <a:moveTo>
                        <a:pt x="3700817" y="24156"/>
                      </a:moveTo>
                      <a:cubicBezTo>
                        <a:pt x="5400929" y="251966"/>
                        <a:pt x="6686326" y="2022981"/>
                        <a:pt x="6678380" y="4126630"/>
                      </a:cubicBezTo>
                      <a:cubicBezTo>
                        <a:pt x="6670406" y="6237697"/>
                        <a:pt x="5362813" y="7997580"/>
                        <a:pt x="3654269" y="8196766"/>
                      </a:cubicBezTo>
                      <a:lnTo>
                        <a:pt x="3339208" y="4107545"/>
                      </a:lnTo>
                      <a:lnTo>
                        <a:pt x="3700817" y="24156"/>
                      </a:lnTo>
                      <a:close/>
                    </a:path>
                    <a:path fill="none" w="6678416" h="8215089">
                      <a:moveTo>
                        <a:pt x="3700817" y="24156"/>
                      </a:moveTo>
                      <a:cubicBezTo>
                        <a:pt x="5400929" y="251966"/>
                        <a:pt x="6686326" y="2022981"/>
                        <a:pt x="6678380" y="4126630"/>
                      </a:cubicBezTo>
                      <a:cubicBezTo>
                        <a:pt x="6670406" y="6237697"/>
                        <a:pt x="5362813" y="7997580"/>
                        <a:pt x="3654269" y="8196766"/>
                      </a:cubicBezTo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3" name="TextBox 58"/>
          <p:cNvSpPr/>
          <p:nvPr/>
        </p:nvSpPr>
        <p:spPr>
          <a:xfrm>
            <a:off x="928800" y="21430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6"/>
          <p:cNvSpPr/>
          <p:nvPr/>
        </p:nvSpPr>
        <p:spPr>
          <a:xfrm>
            <a:off x="608040" y="981000"/>
            <a:ext cx="8001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яя общеобразовательная школа № 28 ДО «Родничок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на тему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то такое хорошо, а что  такое плохо».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торая младшая группа «Земляни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0"/>
          <p:cNvSpPr/>
          <p:nvPr/>
        </p:nvSpPr>
        <p:spPr>
          <a:xfrm>
            <a:off x="4591080" y="3933720"/>
            <a:ext cx="4048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и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Белова Елена Анатолье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высшей квалификационной категории Бугакова Ксения  Станислав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0" descr=""/>
          <p:cNvPicPr/>
          <p:nvPr/>
        </p:nvPicPr>
        <p:blipFill>
          <a:blip r:embed="rId1"/>
          <a:stretch/>
        </p:blipFill>
        <p:spPr>
          <a:xfrm>
            <a:off x="7642080" y="5310360"/>
            <a:ext cx="1474920" cy="15300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"/>
          <p:cNvSpPr/>
          <p:nvPr/>
        </p:nvSpPr>
        <p:spPr>
          <a:xfrm>
            <a:off x="1116000" y="4046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Цель и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8"/>
          <p:cNvSpPr/>
          <p:nvPr/>
        </p:nvSpPr>
        <p:spPr>
          <a:xfrm>
            <a:off x="755640" y="1052640"/>
            <a:ext cx="763272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: </a:t>
            </a: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Формирование элементарных представлений детей младшего дошкольного возраста о культуре поведения, развитие их социальных и нравственных кач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оздать условия для нравственного воспитания детей младшего возра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пособствовать усвоению и выполнению норм и ценностей принятых в обществе, включая моральный и нравственные ка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Помочь детям освоить  способы  взаимодействия со сверстниками в игре, в повседневном общении и бытов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Развивать речевые формы вежливого общения  со взрослыми и сверст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Воспитывать любовь и уважительное отношение к близким и окружающим люд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7"/>
          <p:cNvSpPr/>
          <p:nvPr/>
        </p:nvSpPr>
        <p:spPr>
          <a:xfrm>
            <a:off x="3635280" y="549360"/>
            <a:ext cx="22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9" descr=""/>
          <p:cNvPicPr/>
          <p:nvPr/>
        </p:nvPicPr>
        <p:blipFill>
          <a:blip r:embed="rId1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2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Культура поведения за столом.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pic>
        <p:nvPicPr>
          <p:cNvPr id="523" name="Объект 1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256000" cy="4540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9" descr=""/>
          <p:cNvPicPr/>
          <p:nvPr/>
        </p:nvPicPr>
        <p:blipFill>
          <a:blip r:embed="rId2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4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Утренние приветствия.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pic>
        <p:nvPicPr>
          <p:cNvPr id="526" name="Объект 1" descr=""/>
          <p:cNvPicPr/>
          <p:nvPr/>
        </p:nvPicPr>
        <p:blipFill>
          <a:blip r:embed="rId1"/>
          <a:stretch/>
        </p:blipFill>
        <p:spPr>
          <a:xfrm>
            <a:off x="1401840" y="1268280"/>
            <a:ext cx="5691240" cy="468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9" descr=""/>
          <p:cNvPicPr/>
          <p:nvPr/>
        </p:nvPicPr>
        <p:blipFill>
          <a:blip r:embed="rId2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4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Тематическое занятие </a:t>
            </a:r>
            <a:br>
              <a:rPr sz="2400"/>
            </a:b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«Что такое хорошо, а что такое плохо».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pic>
        <p:nvPicPr>
          <p:cNvPr id="529" name="Объект 1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256360" cy="4535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9" descr=""/>
          <p:cNvPicPr/>
          <p:nvPr/>
        </p:nvPicPr>
        <p:blipFill>
          <a:blip r:embed="rId2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4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Тематическое занятие «Мойдодыр».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pic>
        <p:nvPicPr>
          <p:cNvPr id="532" name="Объект 1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400720" cy="43228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9" descr=""/>
          <p:cNvPicPr/>
          <p:nvPr/>
        </p:nvPicPr>
        <p:blipFill>
          <a:blip r:embed="rId2"/>
          <a:stretch/>
        </p:blipFill>
        <p:spPr>
          <a:xfrm>
            <a:off x="7650000" y="5330880"/>
            <a:ext cx="1476360" cy="1527120"/>
          </a:xfrm>
          <a:prstGeom prst="rect">
            <a:avLst/>
          </a:prstGeom>
          <a:ln w="0">
            <a:noFill/>
          </a:ln>
        </p:spPr>
      </p:pic>
    </p:spTree>
  </p:cSld>
  <p:transition advTm="4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3:49:13Z</dcterms:created>
  <dc:creator>www.PHILka.RU</dc:creator>
  <dc:description/>
  <dc:language>en-US</dc:language>
  <cp:lastModifiedBy>Наталья Полякова</cp:lastModifiedBy>
  <dcterms:modified xsi:type="dcterms:W3CDTF">2023-05-28T13:53:26Z</dcterms:modified>
  <cp:revision>341</cp:revision>
  <dc:subject/>
  <dc:title>Слайд 1</dc:title>
</cp:coreProperties>
</file>