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95A0-89C7-4AF4-8D4B-84AC5C749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5406-4471-4B80-89D4-AAAECD66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6202-BB4D-44C8-948E-B9C7FDCE4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056A-3DCB-4184-ADC7-7709602EE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3E8A-C86D-4612-BC03-AA1E2996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34CD-6CBD-496F-9EA9-8ED3EDA4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5AD8-A5C5-46CA-9289-798730B5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DA27-EC97-4847-A0B6-F6862C08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B2B0-0268-45D1-A1C2-1ED37126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7ED1-A054-470E-BE39-A0331F2C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7120-6142-41F6-8A93-16CEBF05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2EBF-F3E9-4474-8ADC-503425C2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E1AA-B4B8-47E9-8CA7-D75EE73069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676520" y="5778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ое бюджетное образовательное учреждение Детский сад № 50 Приморского района Санкт - Петербург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6659640" y="5029200"/>
            <a:ext cx="214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ита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мирнова Е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743040" y="2260440"/>
            <a:ext cx="840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«Знакомство с русской культуро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352680" y="5487840"/>
            <a:ext cx="26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нкт – 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02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2"/>
          <p:cNvSpPr/>
          <p:nvPr/>
        </p:nvSpPr>
        <p:spPr>
          <a:xfrm>
            <a:off x="609480" y="533520"/>
            <a:ext cx="876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проек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творческий, познавательный, игро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ь проек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долгосрочный (09 января по 20 февраля 2023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проек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дети второй средней группы «Семицветики», воспитатели, родители воспитан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ватываемые образовательные обла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Познавательное развитие», «Социально-коммуникативное развитие», «Художественно-эстетическое развитие», «Речевое развитие», «Физическое развити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: Приобщение детей к национальной культуре, развитие интереса к русскому народному творчест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Познакомить детей с устным народным творчеством: потешками, закличками, песенками, загадками, сказк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Познакомить с народными обрядовыми праздниками, их обычаями, традици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Познакомить детей с русскими народными играми, учить в них игра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Развивать эстетическое и нравственное восприятие ми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Воспитывать уважительное отношение к традициям русского народа, умение и желание применять их в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Воспитывать любовь к родному кра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Привлечь родителей в совместную творческую деятельность с деть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Способствовать проявлению фантазии и творчества участников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2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925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2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2-26T12:01:30Z</dcterms:created>
  <dc:creator>А Art</dc:creator>
  <dc:description/>
  <dc:language>en-US</dc:language>
  <cp:lastModifiedBy>Артём Смирнов</cp:lastModifiedBy>
  <dcterms:modified xsi:type="dcterms:W3CDTF">2023-05-28T19:57:3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