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2C0-284F-4DA7-A414-F1572272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17F-DE22-402D-8A00-0614B35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9AA-D3F9-4930-8FF5-2F59046A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E8E-8CAC-4792-A1F3-7FE74B76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9C4-20AF-4DE0-A210-AD78C36F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587-D766-4C18-BF96-E7108E2D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0B7-9E51-4C73-B7B4-F559445E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78D-AE7E-4FAA-8896-0A972470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87E-209C-4592-83DB-61111962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D40-2CB8-470F-A6A9-448400E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D0E-947C-4D2E-8E0A-CE467FD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0AE-A85B-454B-8E32-25B8A3E3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FC9-0978-4079-B86C-C04B1D7B0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676520" y="5778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 Детский сад № 50 Приморского района Санкт - Петербург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659640" y="5029200"/>
            <a:ext cx="21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ирнова Е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43040" y="2260440"/>
            <a:ext cx="84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«Знакомство с русской культур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352680" y="54878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кт –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2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6094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ворческий, познавательный, игр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олгосрочный (09 января по 20 февраля 202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 второй средней группы «Семицветики», воспитатели, родители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ываемые образовательные обла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Познавательное развитие», «Социально-коммуникативное развитие», «Художественно-эстетическое развитие», «Речевое развитие», «Физическое развит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Приобщение детей к национальной культуре, развитие интереса к русскому народному твор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знакомить детей с устным народным творчеством: потешками, закличками, песенками, загадками, сказ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знакомить с народными обрядовыми праздниками, их обычаями, традиц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знакомить детей с русскими народными играми, учить в них игр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азвивать эстетическое и нравственное восприятие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Воспитывать уважительное отношение к традициям русского народа, умение и желание применять их в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Воспитывать любовь к родному кра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ивлечь родителей в совместную творческую деятельность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Способствовать проявлению фантазии и творчества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6T12:01:30Z</dcterms:created>
  <dc:creator>А Art</dc:creator>
  <dc:description/>
  <dc:language>en-US</dc:language>
  <cp:lastModifiedBy>Артём Смирнов</cp:lastModifiedBy>
  <dcterms:modified xsi:type="dcterms:W3CDTF">2023-05-28T19:57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