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8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1C6-3A99-4653-8589-749CFDC1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324-B1EB-4D38-B82F-61CA9179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73A-5A65-46A0-83D3-6BAE87EE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727-C89C-41CE-8829-96EE8966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992-2355-4B6D-AF28-51D78CE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BA2-F52A-4993-B254-7EF5C002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D13-0EED-4A67-A192-E4649777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A5F-25CB-4FF5-ABFF-BAEEE017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7E1-564D-4FF7-809B-EC1DE65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DEF-FAC7-4134-8371-4E7BAA3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4DC-D2C6-4D13-967A-66B6002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271-0B80-44EF-A925-07F00767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FB2C-B283-4C4C-B43A-A98B839188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Обучение грамот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ttp://test813.ulcraft.com/uploads/s/f/9/l/f9l5ckilkcbv/img/full_fxam9gOR.pn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test813.ulcraft.com/uploads/s/f/9/l/f9l5ckilkcbv/img/full_fxam9gOR.png"/>
          <p:cNvPicPr/>
          <p:nvPr/>
        </p:nvPicPr>
        <p:blipFill>
          <a:blip r:embed="rId2"/>
          <a:stretch/>
        </p:blipFill>
        <p:spPr>
          <a:xfrm>
            <a:off x="142920" y="4632480"/>
            <a:ext cx="8786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hovrashok.com.ua/images/Jan/09/7a41af1cec26ae084e97d544b7937b9a/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tatic5.depositphotos.com/1005091/444/v/950/depositphotos_4444353-stock-illustration-big-cartoon-whale.jpg"/>
          <p:cNvPicPr/>
          <p:nvPr/>
        </p:nvPicPr>
        <p:blipFill>
          <a:blip r:embed="rId1"/>
          <a:stretch/>
        </p:blipFill>
        <p:spPr>
          <a:xfrm>
            <a:off x="1857240" y="2500200"/>
            <a:ext cx="525780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85920" y="214200"/>
            <a:ext cx="13572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 flipH="1">
            <a:off x="571680" y="1214280"/>
            <a:ext cx="3000240" cy="12859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857920" y="0"/>
            <a:ext cx="1071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ая соединительная линия 9"/>
          <p:cNvSpPr/>
          <p:nvPr/>
        </p:nvSpPr>
        <p:spPr>
          <a:xfrm>
            <a:off x="5786280" y="2214720"/>
            <a:ext cx="857520" cy="7855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ая соединительная линия 11"/>
          <p:cNvSpPr/>
          <p:nvPr/>
        </p:nvSpPr>
        <p:spPr>
          <a:xfrm flipV="1">
            <a:off x="6572160" y="2214720"/>
            <a:ext cx="857520" cy="7855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https://thumbs.dreamstime.com/z/cartoon-black-white-cat-background-40375470.jpg"/>
          <p:cNvPicPr/>
          <p:nvPr/>
        </p:nvPicPr>
        <p:blipFill>
          <a:blip r:embed="rId2"/>
          <a:stretch/>
        </p:blipFill>
        <p:spPr>
          <a:xfrm>
            <a:off x="285840" y="3000240"/>
            <a:ext cx="1785960" cy="1909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214200" y="357120"/>
            <a:ext cx="857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Разгадай   ребу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s://ds03.infourok.ru/uploads/ex/076b/000621ea-328b8cce/hello_html_7e6c1e14.jpg"/>
          <p:cNvPicPr/>
          <p:nvPr/>
        </p:nvPicPr>
        <p:blipFill>
          <a:blip r:embed="rId1"/>
          <a:stretch/>
        </p:blipFill>
        <p:spPr>
          <a:xfrm>
            <a:off x="3143160" y="285840"/>
            <a:ext cx="3429000" cy="5846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571680" y="1928880"/>
            <a:ext cx="3357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0000"/>
                </a:solidFill>
                <a:latin typeface="Times New Roman"/>
              </a:rPr>
              <a:t>ти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500880" y="1643040"/>
            <a:ext cx="21430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0000"/>
                </a:solidFill>
                <a:latin typeface="Times New Roman"/>
              </a:rPr>
              <a:t>ʻʻ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6858000" y="3786120"/>
            <a:ext cx="2006640" cy="2786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14200" y="214200"/>
            <a:ext cx="857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Разгадай   ребу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85840" y="2643120"/>
            <a:ext cx="885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а-та-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длинный хвостик у ко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у-ту-ту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я расту, расту, раст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и-ти-т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с тигром лучше не шут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Том-том-то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поиграли мы с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т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428760" y="3571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Times New Roman"/>
              </a:rPr>
              <a:t>Чистоговор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https://st.depositphotos.com/2435397/3626/i/950/depositphotos_36262589-stock-photo-cartoon-tiger-illustration-for-the.jpg"/>
          <p:cNvPicPr/>
          <p:nvPr/>
        </p:nvPicPr>
        <p:blipFill>
          <a:blip r:embed="rId1"/>
          <a:stretch/>
        </p:blipFill>
        <p:spPr>
          <a:xfrm>
            <a:off x="7392960" y="214200"/>
            <a:ext cx="154296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s://thumbs.dreamstime.com/z/cartoon-black-white-cat-background-40375470.jpg"/>
          <p:cNvPicPr/>
          <p:nvPr/>
        </p:nvPicPr>
        <p:blipFill>
          <a:blip r:embed="rId2"/>
          <a:stretch/>
        </p:blipFill>
        <p:spPr>
          <a:xfrm>
            <a:off x="214200" y="571680"/>
            <a:ext cx="1386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00040" y="35712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</a:rPr>
              <a:t>Закончи предлож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 уроке я выучи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Я повтори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Мне понравилось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https://st.depositphotos.com/2435397/3626/i/950/depositphotos_36262589-stock-photo-cartoon-tiger-illustration-for-the.jpg"/>
          <p:cNvPicPr/>
          <p:nvPr/>
        </p:nvPicPr>
        <p:blipFill>
          <a:blip r:embed="rId1"/>
          <a:stretch/>
        </p:blipFill>
        <p:spPr>
          <a:xfrm>
            <a:off x="6959520" y="3643200"/>
            <a:ext cx="2184480" cy="30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s://thumbs.dreamstime.com/z/cartoon-black-white-cat-background-40375470.jpg"/>
          <p:cNvPicPr/>
          <p:nvPr/>
        </p:nvPicPr>
        <p:blipFill>
          <a:blip r:embed="rId2"/>
          <a:stretch/>
        </p:blipFill>
        <p:spPr>
          <a:xfrm>
            <a:off x="214200" y="571680"/>
            <a:ext cx="1386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https://fs00.infourok.ru/images/doc/221/11915/2/img16.jpg"/>
          <p:cNvPicPr/>
          <p:nvPr/>
        </p:nvPicPr>
        <p:blipFill>
          <a:blip r:embed="rId1"/>
          <a:stretch/>
        </p:blipFill>
        <p:spPr>
          <a:xfrm>
            <a:off x="142920" y="106200"/>
            <a:ext cx="9001080" cy="675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www.playcast.ru/uploads/2015/12/21/16438687.gif"/>
          <p:cNvPicPr/>
          <p:nvPr/>
        </p:nvPicPr>
        <p:blipFill>
          <a:blip r:embed="rId2"/>
          <a:stretch/>
        </p:blipFill>
        <p:spPr>
          <a:xfrm>
            <a:off x="785880" y="1643040"/>
            <a:ext cx="3333600" cy="471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www.playcast.ru/uploads/2015/12/21/16438687.gif"/>
          <p:cNvPicPr/>
          <p:nvPr/>
        </p:nvPicPr>
        <p:blipFill>
          <a:blip r:embed="rId3"/>
          <a:stretch/>
        </p:blipFill>
        <p:spPr>
          <a:xfrm>
            <a:off x="5429160" y="1143000"/>
            <a:ext cx="3333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714760" y="4929120"/>
            <a:ext cx="571320" cy="6429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928800" y="4929120"/>
            <a:ext cx="171432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Равнобедренный треугольник 14"/>
          <p:cNvSpPr/>
          <p:nvPr/>
        </p:nvSpPr>
        <p:spPr>
          <a:xfrm rot="5400000">
            <a:off x="1454760" y="4402800"/>
            <a:ext cx="662040" cy="17143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286240" y="5429160"/>
            <a:ext cx="171468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Равнобедренный треугольник 16"/>
          <p:cNvSpPr/>
          <p:nvPr/>
        </p:nvSpPr>
        <p:spPr>
          <a:xfrm rot="5400000">
            <a:off x="5812200" y="4902840"/>
            <a:ext cx="662040" cy="1714680"/>
          </a:xfrm>
          <a:prstGeom prst="triangle">
            <a:avLst>
              <a:gd name="adj" fmla="val 100000"/>
            </a:avLst>
          </a:prstGeom>
          <a:solidFill>
            <a:srgbClr val="00b05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7"/>
          <p:cNvSpPr/>
          <p:nvPr/>
        </p:nvSpPr>
        <p:spPr>
          <a:xfrm>
            <a:off x="7072200" y="5429160"/>
            <a:ext cx="571680" cy="6429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Равнобедренный треугольник 18"/>
          <p:cNvSpPr/>
          <p:nvPr/>
        </p:nvSpPr>
        <p:spPr>
          <a:xfrm>
            <a:off x="2928960" y="5643720"/>
            <a:ext cx="142920" cy="14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9"/>
          <p:cNvSpPr/>
          <p:nvPr/>
        </p:nvSpPr>
        <p:spPr>
          <a:xfrm>
            <a:off x="6072120" y="6143760"/>
            <a:ext cx="14292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https://thumbs.dreamstime.com/z/cartoon-black-white-cat-background-40375470.jpg"/>
          <p:cNvPicPr/>
          <p:nvPr/>
        </p:nvPicPr>
        <p:blipFill>
          <a:blip r:embed="rId1"/>
          <a:stretch/>
        </p:blipFill>
        <p:spPr>
          <a:xfrm>
            <a:off x="642960" y="135720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5072040" y="0"/>
            <a:ext cx="375588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3"/>
          <p:cNvSpPr/>
          <p:nvPr/>
        </p:nvSpPr>
        <p:spPr>
          <a:xfrm>
            <a:off x="7715160" y="5429160"/>
            <a:ext cx="571680" cy="6429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000160" y="214200"/>
            <a:ext cx="1071720" cy="1071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6000840" y="214200"/>
            <a:ext cx="1071360" cy="1071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https://thumbs.dreamstime.com/z/cartoon-black-white-cat-background-40375470.jpg"/>
          <p:cNvPicPr/>
          <p:nvPr/>
        </p:nvPicPr>
        <p:blipFill>
          <a:blip r:embed="rId1"/>
          <a:stretch/>
        </p:blipFill>
        <p:spPr>
          <a:xfrm>
            <a:off x="428760" y="0"/>
            <a:ext cx="1285920" cy="1374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7286760" y="0"/>
            <a:ext cx="1541160" cy="21398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12"/>
          <p:cNvSpPr/>
          <p:nvPr/>
        </p:nvSpPr>
        <p:spPr>
          <a:xfrm>
            <a:off x="4572000" y="285840"/>
            <a:ext cx="71280" cy="6072120"/>
          </a:xfrm>
          <a:prstGeom prst="line">
            <a:avLst/>
          </a:prstGeom>
          <a:ln w="76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http://www.zooclub.ru/attach/wild/346.jpg"/>
          <p:cNvPicPr/>
          <p:nvPr/>
        </p:nvPicPr>
        <p:blipFill>
          <a:blip r:embed="rId3"/>
          <a:stretch/>
        </p:blipFill>
        <p:spPr>
          <a:xfrm>
            <a:off x="3643200" y="2571840"/>
            <a:ext cx="1548000" cy="20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printonic.ru/uploads/images/2016/03/14/.tmb/thumb_img_56e65e71f3601_resize_900_5000.jpg"/>
          <p:cNvPicPr/>
          <p:nvPr/>
        </p:nvPicPr>
        <p:blipFill>
          <a:blip r:embed="rId4"/>
          <a:stretch/>
        </p:blipFill>
        <p:spPr>
          <a:xfrm>
            <a:off x="3786120" y="2500200"/>
            <a:ext cx="1656000" cy="16606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s://im0-tub-ru.yandex.net/i?id=f61f14fcd8ba9ab46cce89dd853c4284&amp;n=13"/>
          <p:cNvPicPr/>
          <p:nvPr/>
        </p:nvPicPr>
        <p:blipFill>
          <a:blip r:embed="rId5"/>
          <a:stretch/>
        </p:blipFill>
        <p:spPr>
          <a:xfrm>
            <a:off x="3143160" y="285768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im0-tub-ru.yandex.net/i?id=0de6889cbbecc7a301065bb44d3cb2bd&amp;n=13"/>
          <p:cNvPicPr/>
          <p:nvPr/>
        </p:nvPicPr>
        <p:blipFill>
          <a:blip r:embed="rId6"/>
          <a:stretch/>
        </p:blipFill>
        <p:spPr>
          <a:xfrm>
            <a:off x="3571920" y="2857680"/>
            <a:ext cx="2071800" cy="18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img1.liveinternet.ru/images/attach/d/1/131/585/131585735_709.png"/>
          <p:cNvPicPr/>
          <p:nvPr/>
        </p:nvPicPr>
        <p:blipFill>
          <a:blip r:embed="rId7"/>
          <a:stretch/>
        </p:blipFill>
        <p:spPr>
          <a:xfrm>
            <a:off x="3429000" y="2786040"/>
            <a:ext cx="192564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t4.ftcdn.net/jpg/00/67/11/51/240_F_67115147_0KLQJftWmh8SMXPUSkNnah6nry4RRnaI.jpg"/>
          <p:cNvPicPr/>
          <p:nvPr/>
        </p:nvPicPr>
        <p:blipFill>
          <a:blip r:embed="rId8"/>
          <a:stretch/>
        </p:blipFill>
        <p:spPr>
          <a:xfrm>
            <a:off x="3500280" y="2928960"/>
            <a:ext cx="2352960" cy="142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images.freeimages.com/images/premium/previews/4400/44000252-woodpecker.jpg"/>
          <p:cNvPicPr/>
          <p:nvPr/>
        </p:nvPicPr>
        <p:blipFill>
          <a:blip r:embed="rId9"/>
          <a:stretch/>
        </p:blipFill>
        <p:spPr>
          <a:xfrm>
            <a:off x="4000680" y="2714760"/>
            <a:ext cx="125244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arhivurokov.ru/kopilka/uploads/user_file_55f5a1a135e0b/tiest-k-uroku-muzyki-vo-2-klassie-na-tiemu-simfonichieskaia-skazka-s-s-prokof-ieva-pietia-i-volk_6.jpeg"/>
          <p:cNvPicPr/>
          <p:nvPr/>
        </p:nvPicPr>
        <p:blipFill>
          <a:blip r:embed="rId10"/>
          <a:stretch/>
        </p:blipFill>
        <p:spPr>
          <a:xfrm>
            <a:off x="4071960" y="2928960"/>
            <a:ext cx="1071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3123 L -0.19705 -0.25145 E">
                                      <p:cBhvr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2653E-006 L 0.17657 -0.16401 E">
                                      <p:cBhvr>
                                        <p:cTn id="8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2191E-006 L 0.37135 0.00416 E">
                                      <p:cBhvr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62295E-007 L -0.27153 0.27481 E">
                                      <p:cBhvr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9452E-006 L -0.33455 0.0421 E">
                                      <p:cBhvr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63012E-006 L 0.25625 0.32616 E">
                                      <p:cBhvr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9739E-006 L 0.08889 0.06431 E">
                                      <p:cBhvr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3216 L -0.1217 0.06384 E">
                                      <p:cBhvr>
                                        <p:cTn id="14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uslide.ru/images/25/31470/960/img1.jpg"/>
          <p:cNvPicPr/>
          <p:nvPr/>
        </p:nvPicPr>
        <p:blipFill>
          <a:blip r:embed="rId1"/>
          <a:srcRect l="23586" t="17610" r="23583" b="16980"/>
          <a:stretch/>
        </p:blipFill>
        <p:spPr>
          <a:xfrm>
            <a:off x="1143000" y="204840"/>
            <a:ext cx="65502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s://im0-tub-ru.yandex.net/i?id=3f428c7c265aa67ebeb21bd2f66c07a2-sr&amp;n=13"/>
          <p:cNvPicPr/>
          <p:nvPr/>
        </p:nvPicPr>
        <p:blipFill>
          <a:blip r:embed="rId1"/>
          <a:stretch/>
        </p:blipFill>
        <p:spPr>
          <a:xfrm>
            <a:off x="357120" y="1071720"/>
            <a:ext cx="2414520" cy="344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gotvectors.com/images/preview/hammer-clip-art-1.jpg"/>
          <p:cNvPicPr/>
          <p:nvPr/>
        </p:nvPicPr>
        <p:blipFill>
          <a:blip r:embed="rId2"/>
          <a:stretch/>
        </p:blipFill>
        <p:spPr>
          <a:xfrm>
            <a:off x="3000240" y="1000080"/>
            <a:ext cx="1643040" cy="340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http://images.all-free-download.com/images/graphiclarge/bee_clip_art_11283.jpg"/>
          <p:cNvPicPr/>
          <p:nvPr/>
        </p:nvPicPr>
        <p:blipFill>
          <a:blip r:embed="rId3"/>
          <a:stretch/>
        </p:blipFill>
        <p:spPr>
          <a:xfrm>
            <a:off x="1714680" y="4286160"/>
            <a:ext cx="257148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C:\Users\admin\Pictures\Saved Pictures\дом.jpg"/>
          <p:cNvPicPr/>
          <p:nvPr/>
        </p:nvPicPr>
        <p:blipFill>
          <a:blip r:embed="rId4"/>
          <a:stretch/>
        </p:blipFill>
        <p:spPr>
          <a:xfrm>
            <a:off x="4857840" y="1071720"/>
            <a:ext cx="3992400" cy="4857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785880" y="1429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На что похожа буква Т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Users\admin\Pictures\Saved Pictures\тигр.jpg"/>
          <p:cNvPicPr/>
          <p:nvPr/>
        </p:nvPicPr>
        <p:blipFill>
          <a:blip r:embed="rId1"/>
          <a:stretch/>
        </p:blipFill>
        <p:spPr>
          <a:xfrm>
            <a:off x="357120" y="928800"/>
            <a:ext cx="8433000" cy="566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857160" y="2858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азови слова на букву 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143000" y="42876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рочитай слог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071800" y="2000160"/>
            <a:ext cx="5713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d0d0d"/>
                </a:solidFill>
                <a:latin typeface="Times New Roman"/>
              </a:rPr>
              <a:t>Т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5715000" y="1225440"/>
            <a:ext cx="114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 flipV="1">
            <a:off x="3286080" y="2000160"/>
            <a:ext cx="2286000" cy="164304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V="1">
            <a:off x="3286080" y="2928960"/>
            <a:ext cx="2357640" cy="71424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>
            <a:off x="3286080" y="3643200"/>
            <a:ext cx="2357640" cy="28584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13"/>
          <p:cNvSpPr/>
          <p:nvPr/>
        </p:nvSpPr>
        <p:spPr>
          <a:xfrm>
            <a:off x="3286080" y="3643200"/>
            <a:ext cx="2357640" cy="150048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ая соединительная линия 15"/>
          <p:cNvSpPr/>
          <p:nvPr/>
        </p:nvSpPr>
        <p:spPr>
          <a:xfrm>
            <a:off x="3285360" y="3643200"/>
            <a:ext cx="2357640" cy="2500560"/>
          </a:xfrm>
          <a:prstGeom prst="line">
            <a:avLst/>
          </a:prstGeom>
          <a:ln w="5724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https://thumbs.dreamstime.com/z/cartoon-black-white-cat-background-40375470.jpg"/>
          <p:cNvPicPr/>
          <p:nvPr/>
        </p:nvPicPr>
        <p:blipFill>
          <a:blip r:embed="rId1"/>
          <a:stretch/>
        </p:blipFill>
        <p:spPr>
          <a:xfrm>
            <a:off x="285840" y="4230720"/>
            <a:ext cx="2071440" cy="221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s://st.depositphotos.com/2435397/3626/i/950/depositphotos_36262589-stock-photo-cartoon-tiger-illustration-for-the.jpg"/>
          <p:cNvPicPr/>
          <p:nvPr/>
        </p:nvPicPr>
        <p:blipFill>
          <a:blip r:embed="rId2"/>
          <a:stretch/>
        </p:blipFill>
        <p:spPr>
          <a:xfrm>
            <a:off x="6719760" y="3062160"/>
            <a:ext cx="24242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liptur.ru/storage/2017/05/30/8991e230dc74eafd639d2a0ad54d3c602620baa1_high.jpg"/>
          <p:cNvPicPr/>
          <p:nvPr/>
        </p:nvPicPr>
        <p:blipFill>
          <a:blip r:embed="rId1"/>
          <a:stretch/>
        </p:blipFill>
        <p:spPr>
          <a:xfrm>
            <a:off x="1214280" y="1357200"/>
            <a:ext cx="6392880" cy="506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000080" y="42876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лександр Сергеевич Пушк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s018.radikal.ru/i506/1701/47/4890c7ce616et.jpg"/>
          <p:cNvPicPr/>
          <p:nvPr/>
        </p:nvPicPr>
        <p:blipFill>
          <a:blip r:embed="rId1"/>
          <a:stretch/>
        </p:blipFill>
        <p:spPr>
          <a:xfrm>
            <a:off x="357120" y="357120"/>
            <a:ext cx="2571840" cy="3343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printonic.ru/uploads/images/2016/02/22/img_56cad4903eb87.jpg"/>
          <p:cNvPicPr/>
          <p:nvPr/>
        </p:nvPicPr>
        <p:blipFill>
          <a:blip r:embed="rId2"/>
          <a:stretch/>
        </p:blipFill>
        <p:spPr>
          <a:xfrm>
            <a:off x="6715080" y="357120"/>
            <a:ext cx="210492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mtdata.ru/u17/photo4E32/20081412588-0/original.jpg"/>
          <p:cNvPicPr/>
          <p:nvPr/>
        </p:nvPicPr>
        <p:blipFill>
          <a:blip r:embed="rId3"/>
          <a:stretch/>
        </p:blipFill>
        <p:spPr>
          <a:xfrm>
            <a:off x="4500720" y="3857760"/>
            <a:ext cx="430344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cdn01.ru/files/users/images/72/16/7216d5c74e7d6c50d9ace201bcc9f158.jpg"/>
          <p:cNvPicPr/>
          <p:nvPr/>
        </p:nvPicPr>
        <p:blipFill>
          <a:blip r:embed="rId4"/>
          <a:stretch/>
        </p:blipFill>
        <p:spPr>
          <a:xfrm>
            <a:off x="3000240" y="100008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http://tcho.ru/uploads/2016/12/Balda.jpg"/>
          <p:cNvPicPr/>
          <p:nvPr/>
        </p:nvPicPr>
        <p:blipFill>
          <a:blip r:embed="rId5"/>
          <a:stretch/>
        </p:blipFill>
        <p:spPr>
          <a:xfrm>
            <a:off x="357120" y="3857760"/>
            <a:ext cx="3762360" cy="2820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3143160" y="0"/>
            <a:ext cx="32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аз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соногова Наталия Александровна</dc:creator>
  <dc:description/>
  <dc:language>en-US</dc:language>
  <cp:lastModifiedBy>Косоногова Наталия Александровна</cp:lastModifiedBy>
  <dcterms:modified xsi:type="dcterms:W3CDTF">2022-10-05T14:38:35Z</dcterms:modified>
  <cp:revision>7</cp:revision>
  <dc:subject/>
  <dc:title>PowerPoint Presentation</dc:title>
</cp:coreProperties>
</file>