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B53-E08B-410D-8911-91B395B4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92A-B957-4793-B28E-AB8AD58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6FC-C262-4B66-B8DF-72BEE117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BD3-B37D-40AD-AA03-C65715D1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6C4-8AE4-4320-AAFF-CA202EF9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0D7-9485-4E59-8635-BD20FE1E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574-764A-4B3E-8669-76B52162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E5A-AEB6-4B21-B729-7D992BE7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302-96A1-44BE-AC67-C20A254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AB9-296F-4A14-B23A-A647A1A8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0E3-56E4-4BBA-A032-18A00F2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954-6DB6-4493-90D3-03626318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D243-867F-4156-A686-0C70AEBE8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1" descr=""/>
          <p:cNvPicPr/>
          <p:nvPr/>
        </p:nvPicPr>
        <p:blipFill>
          <a:blip r:embed="rId1"/>
          <a:stretch/>
        </p:blipFill>
        <p:spPr>
          <a:xfrm>
            <a:off x="228600" y="141768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2" descr=""/>
          <p:cNvPicPr/>
          <p:nvPr/>
        </p:nvPicPr>
        <p:blipFill>
          <a:blip r:embed="rId1"/>
          <a:stretch/>
        </p:blipFill>
        <p:spPr>
          <a:xfrm>
            <a:off x="1042920" y="1643040"/>
            <a:ext cx="67248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820800" y="1455840"/>
            <a:ext cx="75024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2" descr=""/>
          <p:cNvPicPr/>
          <p:nvPr/>
        </p:nvPicPr>
        <p:blipFill>
          <a:blip r:embed="rId1"/>
          <a:stretch/>
        </p:blipFill>
        <p:spPr>
          <a:xfrm>
            <a:off x="306360" y="1386000"/>
            <a:ext cx="85312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та – это небесный шар, состоящий из сверкающего ледяного камня, газа и пыли. У нее есть хвост – светящийся шлейф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7960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6800760"/>
            <a:ext cx="820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Фон космос для детей - 116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611280" y="1989000"/>
            <a:ext cx="8353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ая тарелка на небе ви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ая тарелка всем тепло дарит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олн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в году четыре раза переодевается? (зе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инут ковер, рассыпался горо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ковра не поднять, ни гороха не собрать.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вездное неб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79280" y="1389240"/>
            <a:ext cx="3956040" cy="5275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6371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7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www.yeniresim.com/data/media/353/www.yeniresim.com_-_Uzay_Resimleri_-_Astronot.jpg"/>
          <p:cNvPicPr/>
          <p:nvPr/>
        </p:nvPicPr>
        <p:blipFill>
          <a:blip r:embed="rId1"/>
          <a:stretch/>
        </p:blipFill>
        <p:spPr>
          <a:xfrm>
            <a:off x="3924360" y="2492280"/>
            <a:ext cx="4991040" cy="3745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-36360" y="2060640"/>
            <a:ext cx="381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первым космонавтом, который полетел в космос, был Юрий Гагар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g15.nnm.ru/d/1/3/d/7/8ea0d6170de703f736c4aabff39_prev.jpg"/>
          <p:cNvPicPr/>
          <p:nvPr/>
        </p:nvPicPr>
        <p:blipFill>
          <a:blip r:embed="rId2"/>
          <a:stretch/>
        </p:blipFill>
        <p:spPr>
          <a:xfrm>
            <a:off x="2195640" y="1249200"/>
            <a:ext cx="50403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786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395280" y="1471680"/>
            <a:ext cx="3313080" cy="482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809960" y="143820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днималась  все выше и выше! Посмотри! Она уже выше облак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8480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520560" y="1484280"/>
            <a:ext cx="808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а из космоса тоже видна как шар. Луна намного меньше нашей планеты Зем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210960" y="1052640"/>
            <a:ext cx="86965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User</cp:lastModifiedBy>
  <dcterms:modified xsi:type="dcterms:W3CDTF">2023-05-29T10:57:56Z</dcterms:modified>
  <cp:revision>32</cp:revision>
  <dc:subject/>
  <dc:title>Слайд 1</dc:title>
</cp:coreProperties>
</file>