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EE23A-CF68-4707-B7AB-2CBB9696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0CC8-5762-42BF-8F2E-B4D1E80F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B641-9C42-448D-B4A8-8B504BEB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68E1-8CE8-4B51-A642-A434DDFE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0B8E-8204-4B43-9D12-919051B9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59F6-7AF3-4387-86A5-0F2F927A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E7CB-2C50-424D-9DF3-F9507669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21FE-47DF-419D-9A5A-1380E7EF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5722-701F-4747-A28C-FF88BF24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94B9-3110-47DD-91DB-C4ACCC9A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3589-57A1-4FED-B902-01BA2A42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FAEE1-40A9-448E-A6D3-9B824879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EE1D-4220-4D7A-92E5-0D814EC3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C2AA-24C5-4E70-9FC6-EBE42933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B135-E16A-4970-B680-49C5AE39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9E58-6BF2-4781-A470-3B22AF9C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637B-279D-4A35-8671-83FD31EC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B2114-3955-4AC0-B61C-B2B4FB49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FA370-17BE-4B0E-B1B7-95EE5773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39DE8-6036-448E-A714-F5B577F8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AE11-5AC6-40A7-B411-6736A364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C359B-373F-4223-AA20-F7200D07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66CE-A163-413D-B114-6E465392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E2E1-68AB-4AD3-A8D4-1A731212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B32F-CE8F-4AE6-98BC-6AB9C99B11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206D-4B30-4D3C-B54E-D0CE8AD81716}" type="slidenum">
              <a:rPr b="0" lang="ru-RU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2781360"/>
            <a:ext cx="48942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69564"/>
                </a:solidFill>
                <a:latin typeface="Garamond"/>
              </a:rPr>
              <a:t>Инерция </a:t>
            </a:r>
            <a:endParaRPr b="1" lang="en-US" sz="6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708000" y="259920"/>
            <a:ext cx="54356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Инерция жизни, инерция скуки,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Инерция мысли и бытия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И если б не это,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В какой части света,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Не помня разлуки,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Мог ныне быть я?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b2500"/>
                </a:solidFill>
                <a:latin typeface="Garamond"/>
              </a:rPr>
              <a:t>.</a:t>
            </a:r>
            <a:endParaRPr b="0" lang="en-US" sz="1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900000" y="5445000"/>
            <a:ext cx="8064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Цель урока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Что такое инерция?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Где проявляется инерция?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Как учитывать явление инерции?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590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Аристотель  -  Галилей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95280" y="2565360"/>
            <a:ext cx="4255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Arial"/>
              </a:rPr>
              <a:t>Закон движения Аристотеля</a:t>
            </a:r>
            <a:endParaRPr b="0" lang="en-US" sz="2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Arial"/>
              </a:rPr>
              <a:t>Чтобы тело равномерно двигалось, на него должно действовать другое тело.</a:t>
            </a:r>
            <a:endParaRPr b="0" lang="en-US" sz="2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20400" y="5780160"/>
            <a:ext cx="39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«Природа не терпит пустоты»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108" name="Picture 5" descr="ARISTOTEL"/>
          <p:cNvPicPr/>
          <p:nvPr/>
        </p:nvPicPr>
        <p:blipFill>
          <a:blip r:embed="rId1"/>
          <a:stretch/>
        </p:blipFill>
        <p:spPr>
          <a:xfrm>
            <a:off x="0" y="189000"/>
            <a:ext cx="1389240" cy="187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galilei"/>
          <p:cNvPicPr/>
          <p:nvPr/>
        </p:nvPicPr>
        <p:blipFill>
          <a:blip r:embed="rId2"/>
          <a:stretch/>
        </p:blipFill>
        <p:spPr>
          <a:xfrm>
            <a:off x="7628040" y="189000"/>
            <a:ext cx="1515960" cy="1800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770400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b2500"/>
                </a:solidFill>
                <a:latin typeface="Arial"/>
              </a:rPr>
              <a:t>1564-1642 г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0" y="2205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b2500"/>
                </a:solidFill>
                <a:latin typeface="Arial"/>
              </a:rPr>
              <a:t>383-322 гг. до н.э.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4356000" y="2565360"/>
            <a:ext cx="47880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Arial"/>
              </a:rPr>
              <a:t>Закон движения    Галилея</a:t>
            </a:r>
            <a:endParaRPr b="0" lang="en-US" sz="2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Arial"/>
              </a:rPr>
              <a:t>Тело, </a:t>
            </a:r>
            <a:r>
              <a:rPr b="1" i="1" lang="ru-RU" sz="2800" spc="-1" strike="noStrike">
                <a:solidFill>
                  <a:srgbClr val="4b2500"/>
                </a:solidFill>
                <a:latin typeface="Arial"/>
              </a:rPr>
              <a:t>свободное</a:t>
            </a:r>
            <a:r>
              <a:rPr b="1" lang="ru-RU" sz="2800" spc="-1" strike="noStrike">
                <a:solidFill>
                  <a:srgbClr val="4b2500"/>
                </a:solidFill>
                <a:latin typeface="Arial"/>
              </a:rPr>
              <a:t> от воздействий, движется с постоянной скоростью. </a:t>
            </a:r>
            <a:r>
              <a:rPr b="1" i="1" lang="ru-RU" sz="2800" spc="-1" strike="noStrike">
                <a:solidFill>
                  <a:srgbClr val="4b2500"/>
                </a:solidFill>
                <a:latin typeface="Arial"/>
              </a:rPr>
              <a:t>При действии</a:t>
            </a:r>
            <a:r>
              <a:rPr b="1" lang="ru-RU" sz="2800" spc="-1" strike="noStrike">
                <a:solidFill>
                  <a:srgbClr val="4b2500"/>
                </a:solidFill>
                <a:latin typeface="Arial"/>
              </a:rPr>
              <a:t> на тело другого тела, оно </a:t>
            </a:r>
            <a:r>
              <a:rPr b="1" i="1" lang="ru-RU" sz="2800" spc="-1" strike="noStrike">
                <a:solidFill>
                  <a:srgbClr val="4b2500"/>
                </a:solidFill>
                <a:latin typeface="Arial"/>
              </a:rPr>
              <a:t>изменяет свою скорость</a:t>
            </a:r>
            <a:r>
              <a:rPr b="1" lang="ru-RU" sz="2800" spc="-1" strike="noStrike">
                <a:solidFill>
                  <a:srgbClr val="4b25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547640" y="836640"/>
            <a:ext cx="5977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b2500"/>
                </a:solidFill>
                <a:latin typeface="Arial"/>
              </a:rPr>
              <a:t>Спор великих: 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Чтобы скорость тела была неизменной,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547640" y="162864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Аристотель: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                 Нужно толкать  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4573440" y="1628640"/>
            <a:ext cx="306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Галилей: 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Не нужно тормозить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1403280" y="6237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2000 лет</a:t>
            </a:r>
            <a:endParaRPr b="0" lang="en-US" sz="2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9152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Явление сохранения </a:t>
            </a:r>
            <a:br>
              <a:rPr sz="4400"/>
            </a:b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скорости тела </a:t>
            </a:r>
            <a:br>
              <a:rPr sz="4400"/>
            </a:b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при отсутствии действия </a:t>
            </a:r>
            <a:br>
              <a:rPr sz="4400"/>
            </a:b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на него других тел </a:t>
            </a:r>
            <a:br>
              <a:rPr sz="4400"/>
            </a:b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называют инерцией</a:t>
            </a:r>
            <a:br>
              <a:rPr sz="4400"/>
            </a:b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C0F4-776D-4C37-BD5B-CDDD78C931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Как можно изменить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 скорость тела?</a:t>
            </a: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1440" y="3608280"/>
            <a:ext cx="7342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4b2500"/>
                </a:solidFill>
                <a:latin typeface="Times New Roman"/>
              </a:rPr>
              <a:t>Скорость тела изменяется, если на него </a:t>
            </a: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действуют другие тела!!!  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1" name="Picture 4" descr="11в"/>
          <p:cNvPicPr/>
          <p:nvPr/>
        </p:nvPicPr>
        <p:blipFill>
          <a:blip r:embed="rId1"/>
          <a:stretch/>
        </p:blipFill>
        <p:spPr>
          <a:xfrm>
            <a:off x="152280" y="152280"/>
            <a:ext cx="852480" cy="1022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Image6"/>
          <p:cNvPicPr/>
          <p:nvPr/>
        </p:nvPicPr>
        <p:blipFill>
          <a:blip r:embed="rId2"/>
          <a:stretch/>
        </p:blipFill>
        <p:spPr>
          <a:xfrm>
            <a:off x="7020000" y="885960"/>
            <a:ext cx="1877760" cy="2678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1"/>
          <p:cNvPicPr/>
          <p:nvPr/>
        </p:nvPicPr>
        <p:blipFill>
          <a:blip r:embed="rId3"/>
          <a:stretch/>
        </p:blipFill>
        <p:spPr>
          <a:xfrm>
            <a:off x="1801800" y="1484280"/>
            <a:ext cx="3370320" cy="1793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06e-i3"/>
          <p:cNvPicPr/>
          <p:nvPr/>
        </p:nvPicPr>
        <p:blipFill>
          <a:blip r:embed="rId4"/>
          <a:srcRect l="56274" t="0" r="0" b="0"/>
          <a:stretch/>
        </p:blipFill>
        <p:spPr>
          <a:xfrm>
            <a:off x="184320" y="1484280"/>
            <a:ext cx="1371600" cy="1778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06e-i3"/>
          <p:cNvPicPr/>
          <p:nvPr/>
        </p:nvPicPr>
        <p:blipFill>
          <a:blip r:embed="rId5"/>
          <a:srcRect l="0" t="15119" r="73398" b="0"/>
          <a:stretch/>
        </p:blipFill>
        <p:spPr>
          <a:xfrm>
            <a:off x="406440" y="3716280"/>
            <a:ext cx="1395360" cy="2525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Image24"/>
          <p:cNvPicPr/>
          <p:nvPr/>
        </p:nvPicPr>
        <p:blipFill>
          <a:blip r:embed="rId6"/>
          <a:stretch/>
        </p:blipFill>
        <p:spPr>
          <a:xfrm>
            <a:off x="5172120" y="1276200"/>
            <a:ext cx="165888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347F-22D3-4BE6-9507-6896446AC1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Как можно изменить</a:t>
            </a:r>
            <a:br>
              <a:rPr sz="4000"/>
            </a:b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 направление скорости тела?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9880" y="4038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b25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4b2500"/>
                </a:solidFill>
                <a:latin typeface="Times New Roman"/>
              </a:rPr>
              <a:t>Направление скорости тела изменяется, если на него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действуют другие тела!!!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30" name="Picture 4" descr="11в"/>
          <p:cNvPicPr/>
          <p:nvPr/>
        </p:nvPicPr>
        <p:blipFill>
          <a:blip r:embed="rId1"/>
          <a:stretch/>
        </p:blipFill>
        <p:spPr>
          <a:xfrm>
            <a:off x="152280" y="152280"/>
            <a:ext cx="852480" cy="1022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20"/>
          <p:cNvPicPr/>
          <p:nvPr/>
        </p:nvPicPr>
        <p:blipFill>
          <a:blip r:embed="rId2"/>
          <a:stretch/>
        </p:blipFill>
        <p:spPr>
          <a:xfrm>
            <a:off x="4191120" y="1447920"/>
            <a:ext cx="403848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clip_image005563"/>
          <p:cNvPicPr/>
          <p:nvPr/>
        </p:nvPicPr>
        <p:blipFill>
          <a:blip r:embed="rId3"/>
          <a:stretch/>
        </p:blipFill>
        <p:spPr>
          <a:xfrm>
            <a:off x="609480" y="4114800"/>
            <a:ext cx="3429000" cy="22050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762120" y="449568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762120" y="495288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762120" y="541008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136" name="Picture 12" descr="P1070155"/>
          <p:cNvPicPr/>
          <p:nvPr/>
        </p:nvPicPr>
        <p:blipFill>
          <a:blip r:embed="rId4"/>
          <a:stretch/>
        </p:blipFill>
        <p:spPr>
          <a:xfrm>
            <a:off x="609480" y="14479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3"/>
          <p:cNvSpPr/>
          <p:nvPr/>
        </p:nvSpPr>
        <p:spPr>
          <a:xfrm rot="2736600">
            <a:off x="1905120" y="335196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ff000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9" name="Объект 3" descr=""/>
          <p:cNvPicPr/>
          <p:nvPr/>
        </p:nvPicPr>
        <p:blipFill>
          <a:blip r:embed="rId1"/>
          <a:stretch/>
        </p:blipFill>
        <p:spPr>
          <a:xfrm>
            <a:off x="108000" y="-115920"/>
            <a:ext cx="9036000" cy="73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41" name="Объект 3" descr=""/>
          <p:cNvPicPr/>
          <p:nvPr/>
        </p:nvPicPr>
        <p:blipFill>
          <a:blip r:embed="rId1"/>
          <a:stretch/>
        </p:blipFill>
        <p:spPr>
          <a:xfrm>
            <a:off x="1403280" y="4680"/>
            <a:ext cx="5832720" cy="71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9:11:03Z</dcterms:created>
  <dc:creator>лена</dc:creator>
  <dc:description/>
  <dc:language>en-US</dc:language>
  <cp:lastModifiedBy>Пользователь Windows</cp:lastModifiedBy>
  <dcterms:modified xsi:type="dcterms:W3CDTF">2023-05-29T10:23:07Z</dcterms:modified>
  <cp:revision>24</cp:revision>
  <dc:subject/>
  <dc:title>Инерция</dc:title>
</cp:coreProperties>
</file>