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A08F-FF06-4D3A-B0DD-4005F39F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8CB4-DC6A-4458-A00E-E43D024E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4E5D1-8EB1-4EBC-808E-EF4C3E30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7129-ED95-463F-B2F2-6BADE136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523B-F56B-4160-B522-4ED481E1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3F94-0C24-4955-926D-A02C5189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667D-6F70-4A8A-8A83-0F69B044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8591-0E32-466F-A519-16B42384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4913-0103-4A61-A5C5-5D0E5CF0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8988-ED03-440B-9D08-9C05828E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5587-1628-4789-ABF7-AAB314E0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324A-C6AA-4F92-BDD0-533C00B0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C298-A3C4-49B4-A06C-A10156F0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3D43-C840-46C1-B3F4-7C2A9713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DEA1-48F2-4567-8441-86DC9B27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665C-24B1-4C12-B9AD-28A8F559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AE09-12CE-4D34-8996-5673421D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EBBF-DFC1-4FFC-9B62-0C0C72E0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8FBF-3A5E-4271-9293-47147874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8FF93-3685-43FE-929D-B22312A9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2967-C1B9-4A45-A3D0-580E4B4A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9B4C-CC9F-4EBB-80CD-35929EC8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73DD-FACC-4640-9F6F-517D9D58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1F64-5CD1-4DDD-AE56-BBEECDF8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25D5-F37A-4C7C-9B5C-50FC7419CE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019A-6226-4F36-9B04-47D6C39112AA}" type="slidenum">
              <a:rPr b="0" lang="ru-RU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2781360"/>
            <a:ext cx="48942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69564"/>
                </a:solidFill>
                <a:latin typeface="Garamond"/>
              </a:rPr>
              <a:t>Инерция </a:t>
            </a:r>
            <a:endParaRPr b="1" lang="en-US" sz="6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708000" y="259920"/>
            <a:ext cx="54356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Инерция жизни, инерция скуки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Инерция мысли и быти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И если б не это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В какой части света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Не помня разлуки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Мог ныне быть я?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b2500"/>
                </a:solidFill>
                <a:latin typeface="Garamond"/>
              </a:rPr>
              <a:t>.</a:t>
            </a:r>
            <a:endParaRPr b="0" lang="en-US" sz="1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00000" y="5445000"/>
            <a:ext cx="8064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Цель урок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Что такое инерция?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Где проявляется инерция?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Как учитывать явление инерции?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590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Аристотель  -  Галилей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2565360"/>
            <a:ext cx="4255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Закон движения Аристотеля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Arial"/>
              </a:rPr>
              <a:t>Чтобы тело равномерно двигалось, на него должно действовать другое тело.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20400" y="5780160"/>
            <a:ext cx="39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«Природа не терпит пустоты»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108" name="Picture 5" descr="ARISTOTEL"/>
          <p:cNvPicPr/>
          <p:nvPr/>
        </p:nvPicPr>
        <p:blipFill>
          <a:blip r:embed="rId1"/>
          <a:stretch/>
        </p:blipFill>
        <p:spPr>
          <a:xfrm>
            <a:off x="0" y="189000"/>
            <a:ext cx="1389240" cy="187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galilei"/>
          <p:cNvPicPr/>
          <p:nvPr/>
        </p:nvPicPr>
        <p:blipFill>
          <a:blip r:embed="rId2"/>
          <a:stretch/>
        </p:blipFill>
        <p:spPr>
          <a:xfrm>
            <a:off x="7628040" y="189000"/>
            <a:ext cx="1515960" cy="1800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770400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Arial"/>
              </a:rPr>
              <a:t>1564-1642 г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0" y="2205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Arial"/>
              </a:rPr>
              <a:t>383-322 гг. до н.э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4356000" y="2565360"/>
            <a:ext cx="47880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Закон движения    Галилея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Arial"/>
              </a:rPr>
              <a:t>Тело, </a:t>
            </a:r>
            <a:r>
              <a:rPr b="1" i="1" lang="ru-RU" sz="2800" spc="-1" strike="noStrike">
                <a:solidFill>
                  <a:srgbClr val="4b2500"/>
                </a:solidFill>
                <a:latin typeface="Arial"/>
              </a:rPr>
              <a:t>свободное</a:t>
            </a:r>
            <a:r>
              <a:rPr b="1" lang="ru-RU" sz="2800" spc="-1" strike="noStrike">
                <a:solidFill>
                  <a:srgbClr val="4b2500"/>
                </a:solidFill>
                <a:latin typeface="Arial"/>
              </a:rPr>
              <a:t> от воздействий, движется с постоянной скоростью. </a:t>
            </a:r>
            <a:r>
              <a:rPr b="1" i="1" lang="ru-RU" sz="2800" spc="-1" strike="noStrike">
                <a:solidFill>
                  <a:srgbClr val="4b2500"/>
                </a:solidFill>
                <a:latin typeface="Arial"/>
              </a:rPr>
              <a:t>При действии</a:t>
            </a:r>
            <a:r>
              <a:rPr b="1" lang="ru-RU" sz="2800" spc="-1" strike="noStrike">
                <a:solidFill>
                  <a:srgbClr val="4b2500"/>
                </a:solidFill>
                <a:latin typeface="Arial"/>
              </a:rPr>
              <a:t> на тело другого тела, оно </a:t>
            </a:r>
            <a:r>
              <a:rPr b="1" i="1" lang="ru-RU" sz="2800" spc="-1" strike="noStrike">
                <a:solidFill>
                  <a:srgbClr val="4b2500"/>
                </a:solidFill>
                <a:latin typeface="Arial"/>
              </a:rPr>
              <a:t>изменяет свою скорость</a:t>
            </a:r>
            <a:r>
              <a:rPr b="1" lang="ru-RU" sz="2800" spc="-1" strike="noStrike">
                <a:solidFill>
                  <a:srgbClr val="4b25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47640" y="836640"/>
            <a:ext cx="5977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2500"/>
                </a:solidFill>
                <a:latin typeface="Arial"/>
              </a:rPr>
              <a:t>Спор великих: 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Чтобы скорость тела была неизменной,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547640" y="162864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Аристотель: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                 Нужно толкать  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4573440" y="1628640"/>
            <a:ext cx="306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Галилей: 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Не нужно тормозить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1403280" y="6237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2000 лет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9152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Явление сохранения 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скорости тела 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ри отсутствии действия 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на него других тел 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называют инерцией</a:t>
            </a:r>
            <a:br>
              <a:rPr sz="4400"/>
            </a:b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FC03-95FB-4FC7-B4BD-1CE6E1AB11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Как можно изменить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 скорость тела?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1440" y="3608280"/>
            <a:ext cx="7342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4b2500"/>
                </a:solidFill>
                <a:latin typeface="Times New Roman"/>
              </a:rPr>
              <a:t>Скорость тела изменяется, если на него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действуют другие тела!!!  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1" name="Picture 4" descr="11в"/>
          <p:cNvPicPr/>
          <p:nvPr/>
        </p:nvPicPr>
        <p:blipFill>
          <a:blip r:embed="rId1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Image6"/>
          <p:cNvPicPr/>
          <p:nvPr/>
        </p:nvPicPr>
        <p:blipFill>
          <a:blip r:embed="rId2"/>
          <a:stretch/>
        </p:blipFill>
        <p:spPr>
          <a:xfrm>
            <a:off x="7020000" y="885960"/>
            <a:ext cx="1877760" cy="2678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1"/>
          <p:cNvPicPr/>
          <p:nvPr/>
        </p:nvPicPr>
        <p:blipFill>
          <a:blip r:embed="rId3"/>
          <a:stretch/>
        </p:blipFill>
        <p:spPr>
          <a:xfrm>
            <a:off x="1801800" y="1484280"/>
            <a:ext cx="3370320" cy="1793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06e-i3"/>
          <p:cNvPicPr/>
          <p:nvPr/>
        </p:nvPicPr>
        <p:blipFill>
          <a:blip r:embed="rId4"/>
          <a:srcRect l="56274" t="0" r="0" b="0"/>
          <a:stretch/>
        </p:blipFill>
        <p:spPr>
          <a:xfrm>
            <a:off x="184320" y="1484280"/>
            <a:ext cx="1371600" cy="1778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06e-i3"/>
          <p:cNvPicPr/>
          <p:nvPr/>
        </p:nvPicPr>
        <p:blipFill>
          <a:blip r:embed="rId5"/>
          <a:srcRect l="0" t="15119" r="73398" b="0"/>
          <a:stretch/>
        </p:blipFill>
        <p:spPr>
          <a:xfrm>
            <a:off x="406440" y="3716280"/>
            <a:ext cx="1395360" cy="2525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Image24"/>
          <p:cNvPicPr/>
          <p:nvPr/>
        </p:nvPicPr>
        <p:blipFill>
          <a:blip r:embed="rId6"/>
          <a:stretch/>
        </p:blipFill>
        <p:spPr>
          <a:xfrm>
            <a:off x="5172120" y="1276200"/>
            <a:ext cx="165888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1974-A01C-49A5-8D4C-C43C4F54C8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Как можно изменить</a:t>
            </a: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 направление скорости тела?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9880" y="4038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b25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4b2500"/>
                </a:solidFill>
                <a:latin typeface="Times New Roman"/>
              </a:rPr>
              <a:t>Направление скорости тела изменяется, если на него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действуют другие тела!!!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30" name="Picture 4" descr="11в"/>
          <p:cNvPicPr/>
          <p:nvPr/>
        </p:nvPicPr>
        <p:blipFill>
          <a:blip r:embed="rId1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20"/>
          <p:cNvPicPr/>
          <p:nvPr/>
        </p:nvPicPr>
        <p:blipFill>
          <a:blip r:embed="rId2"/>
          <a:stretch/>
        </p:blipFill>
        <p:spPr>
          <a:xfrm>
            <a:off x="4191120" y="1447920"/>
            <a:ext cx="403848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clip_image005563"/>
          <p:cNvPicPr/>
          <p:nvPr/>
        </p:nvPicPr>
        <p:blipFill>
          <a:blip r:embed="rId3"/>
          <a:stretch/>
        </p:blipFill>
        <p:spPr>
          <a:xfrm>
            <a:off x="609480" y="4114800"/>
            <a:ext cx="3429000" cy="2205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762120" y="44956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762120" y="49528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762120" y="54100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136" name="Picture 12" descr="P1070155"/>
          <p:cNvPicPr/>
          <p:nvPr/>
        </p:nvPicPr>
        <p:blipFill>
          <a:blip r:embed="rId4"/>
          <a:stretch/>
        </p:blipFill>
        <p:spPr>
          <a:xfrm>
            <a:off x="609480" y="14479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3"/>
          <p:cNvSpPr/>
          <p:nvPr/>
        </p:nvSpPr>
        <p:spPr>
          <a:xfrm rot="2736600">
            <a:off x="1905120" y="335196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ff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9" name="Объект 3" descr=""/>
          <p:cNvPicPr/>
          <p:nvPr/>
        </p:nvPicPr>
        <p:blipFill>
          <a:blip r:embed="rId1"/>
          <a:stretch/>
        </p:blipFill>
        <p:spPr>
          <a:xfrm>
            <a:off x="108000" y="-115920"/>
            <a:ext cx="903600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41" name="Объект 3" descr=""/>
          <p:cNvPicPr/>
          <p:nvPr/>
        </p:nvPicPr>
        <p:blipFill>
          <a:blip r:embed="rId1"/>
          <a:stretch/>
        </p:blipFill>
        <p:spPr>
          <a:xfrm>
            <a:off x="1403280" y="4680"/>
            <a:ext cx="5832720" cy="71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9:11:03Z</dcterms:created>
  <dc:creator>лена</dc:creator>
  <dc:description/>
  <dc:language>en-US</dc:language>
  <cp:lastModifiedBy>Пользователь Windows</cp:lastModifiedBy>
  <dcterms:modified xsi:type="dcterms:W3CDTF">2023-05-29T10:23:07Z</dcterms:modified>
  <cp:revision>24</cp:revision>
  <dc:subject/>
  <dc:title>Инерция</dc:title>
</cp:coreProperties>
</file>