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7027-55FD-45EA-AD29-282AB575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1FDB-A8B8-4ACA-B13D-EB2B5A4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3D15-34C8-4504-B59A-F4B073B6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5035-E8A8-4E52-8243-80708682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4EBC-8F83-4D56-9FD9-B385E847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38EA-B263-4039-B4A6-78AEF9C3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D3CE-70BC-4CFF-992F-15BA7B6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FA5D-0CC8-4CED-8DBB-8D063E3D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1DE-E7C5-4BAA-B60F-C8C9C653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76CE-25D8-448C-9642-4FDD2D60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4C47-579A-40E3-8932-2502F75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0DEE-F0B8-4179-A7A7-C8C016D5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495F-B051-4A11-B41B-C96BE9AA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04AC-F16E-48E5-B135-A68F306B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B974-08BF-4F3C-BB41-B119D11D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54ED-EFC6-47E4-9B03-AB6142FC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616A-6B66-4820-B7EE-F3B0AAE9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C7471-D66F-425A-816C-6ECD1800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D29D-932A-4637-805B-E0DFF3BF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CBB9-8805-4E7B-B58C-8B58576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0BD4-5268-47AB-846E-EA5F3F83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BFE1-ECE2-473F-A1B8-7A6ED9DA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CE4C-4573-4646-8F0B-7E089888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E3AF-3534-40F3-A6D8-7E5E6434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5684-9C36-4259-95B3-4C0845B5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9B7B-27C2-4F20-A2B1-F095A30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262E-4E0C-4A39-B591-B5258A1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DD68-D0DE-4190-821B-429C1C54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34D9-5878-49F8-8B3D-8E015DFB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3057-5113-4C33-918A-57BDFDB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8AF3-B78A-4C77-A6A0-5F389634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4405-23BC-4AB5-B0B2-85F2F75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F049-0F82-4573-A9A2-E9C72515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8C46-2F37-4144-8479-43CDC4D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39E8-F088-410C-946D-38AF44C1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198F-AA0D-43ED-AAF1-40FA7F2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DD8A-D0BF-490E-9161-61CB25EEE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01BB-1236-452F-A995-A44868DD7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11D-C526-4E22-A53D-9AF2338C5C74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1654200" y="1600200"/>
            <a:ext cx="58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1908000" y="-23760"/>
            <a:ext cx="54007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Тело может находиться в покое бесконечно долго, изменение его скорости связано с действием на него других тел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Если на тело не действуют другие тела, то скорость тела не изменяется, или тело находится в состоянии покоя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217440" y="274680"/>
            <a:ext cx="8926560" cy="6394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69564"/>
                </a:solidFill>
                <a:latin typeface="Garamond"/>
              </a:rPr>
              <a:t>Для чего в автомобиле предназначены ремни безопасности?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367920" cy="68403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Что необходимо сделать при приближении к светофору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4" name="Объект 3" descr=""/>
          <p:cNvPicPr/>
          <p:nvPr/>
        </p:nvPicPr>
        <p:blipFill>
          <a:blip r:embed="rId1"/>
          <a:stretch/>
        </p:blipFill>
        <p:spPr>
          <a:xfrm>
            <a:off x="57240" y="0"/>
            <a:ext cx="918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«Не знаю, каким я могу показаться миру, но сам себе я кажусь только мальчиком, играющим на морском берегу и развлекающимся тем, что отыскиваю камешек, более увесистый, чем обыкновенный, или красивую ракушку, в то время как великий океан истины расстилается передо мною неисследова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И.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95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4b2500"/>
                </a:solidFill>
                <a:latin typeface="Garamond"/>
              </a:rPr>
              <a:t>«Бесчисленное множество людей занимаются ныне наукой, и счастлив тот, кто движимый необычным внутренним светом, способен выбраться из темных лабиринтов, по которым он мог бы до скончания века блуждать вместе с толпой, все более и более удаляясь от выхода»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                  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Галилео Галилей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23640" y="501300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9:11:03Z</dcterms:created>
  <dc:creator>лена</dc:creator>
  <dc:description/>
  <dc:language>en-US</dc:language>
  <cp:lastModifiedBy>Пользователь Windows</cp:lastModifiedBy>
  <dcterms:modified xsi:type="dcterms:W3CDTF">2023-05-29T10:21:42Z</dcterms:modified>
  <cp:revision>23</cp:revision>
  <dc:subject/>
  <dc:title>Инерция</dc:title>
</cp:coreProperties>
</file>