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F122B-51CD-4A2B-9ABF-CD214ECE9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A2ECB-ACA1-493D-8F1E-58D83095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12508-A70E-4F30-9A91-FF0C0AE46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00A9C-C5E9-4BBD-B8C7-7F19EA69D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B095-38D4-4040-84A9-5B2A371ED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3CF3-37B3-4606-94A5-90076022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94E6-BE5C-4E52-A61F-125D136D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56C1-EAE6-4696-9F2D-A13FE99C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DC66-2D24-4800-B1F6-91CF7B8C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93E5-8988-4F85-BDE4-AE8F9818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3D29-E168-4FB1-8915-0A7BF190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27F5A-6A7C-4732-87AC-D3A6AB29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CFE7-E76F-4838-8820-EA22F6CE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1D39-50E2-4750-A3EB-4ADC1295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493C-8A50-46F2-B2F2-D52918E7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F5CA-DEB5-457E-8500-92E9DE4F0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0DB2-B073-4223-AD6A-FA25977FD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FE4B4-1AED-42CC-B2B7-1D7D2C29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FCB28-064A-4567-AB4E-E12BA053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988F0-CF91-4BE9-A13A-5FFD9D0D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29AD3-2D91-4FB1-ABB1-3768F3FE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FA8B0-61E7-4273-AD52-3EE61F0B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4DD67-5A9A-43BE-8941-D444B047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3514D-64E3-4C21-B627-158673F2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CFF59-AC09-40E3-A634-422A4CE5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B1951-D851-4CA3-A967-D0B1DD02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FF1B9-E805-46BA-A457-7FD6E1FE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0E944-2392-4CC1-B745-0BF4A4C4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A525F-73AF-415F-966B-A5EC937F3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39154-B2CA-453D-8783-DA526FB8C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2B6CC-F503-4A02-8783-399C7FC5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10D27-F378-4165-8855-52A2D531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AA652-C094-4385-8C52-9EF00FB1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4A451-F195-45D5-B3E4-7BB08119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F286B-D1FA-405E-B2EB-4A9031D0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0D31D-F28A-4CFD-B411-0431F8B3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C8CE-B333-4A82-A44E-E41E38BE7A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8BA9-66B4-4E43-BD4B-35A8C2C797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94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95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96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97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98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AEBB-3DAE-4B34-BBD3-B31B92F183BE}" type="slidenum">
              <a:rPr b="0" lang="ru-RU" sz="12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42" name="Объект 3" descr=""/>
          <p:cNvPicPr/>
          <p:nvPr/>
        </p:nvPicPr>
        <p:blipFill>
          <a:blip r:embed="rId1"/>
          <a:stretch/>
        </p:blipFill>
        <p:spPr>
          <a:xfrm>
            <a:off x="1654200" y="1600200"/>
            <a:ext cx="5835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44" name="Объект 3" descr=""/>
          <p:cNvPicPr/>
          <p:nvPr/>
        </p:nvPicPr>
        <p:blipFill>
          <a:blip r:embed="rId1"/>
          <a:stretch/>
        </p:blipFill>
        <p:spPr>
          <a:xfrm>
            <a:off x="1908000" y="-23760"/>
            <a:ext cx="540072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Тело может находиться в покое бесконечно долго, изменение его скорости связано с действием на него других тел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Если на тело не действуют другие тела, то скорость тела не изменяется, или тело находится в состоянии покоя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Объект 3" descr=""/>
          <p:cNvPicPr/>
          <p:nvPr/>
        </p:nvPicPr>
        <p:blipFill>
          <a:blip r:embed="rId1"/>
          <a:stretch/>
        </p:blipFill>
        <p:spPr>
          <a:xfrm>
            <a:off x="217440" y="274680"/>
            <a:ext cx="8926560" cy="63943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05152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69564"/>
                </a:solidFill>
                <a:latin typeface="Garamond"/>
              </a:rPr>
              <a:t>Для чего в автомобиле предназначены ремни безопасности?</a:t>
            </a:r>
            <a:endParaRPr b="1" lang="en-US" sz="3600" spc="-1" strike="noStrike">
              <a:solidFill>
                <a:srgbClr val="a6956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Объект 3" descr=""/>
          <p:cNvPicPr/>
          <p:nvPr/>
        </p:nvPicPr>
        <p:blipFill>
          <a:blip r:embed="rId1"/>
          <a:stretch/>
        </p:blipFill>
        <p:spPr>
          <a:xfrm>
            <a:off x="0" y="2133720"/>
            <a:ext cx="9367920" cy="68403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Что необходимо сделать при приближении к светофору?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54" name="Объект 3" descr=""/>
          <p:cNvPicPr/>
          <p:nvPr/>
        </p:nvPicPr>
        <p:blipFill>
          <a:blip r:embed="rId1"/>
          <a:stretch/>
        </p:blipFill>
        <p:spPr>
          <a:xfrm>
            <a:off x="57240" y="0"/>
            <a:ext cx="918216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24000" y="83628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ffff66"/>
                </a:solidFill>
                <a:latin typeface="Arial"/>
              </a:rPr>
              <a:t>«Не знаю, каким я могу показаться миру, но сам себе я кажусь только мальчиком, играющим на морском берегу и развлекающимся тем, что отыскиваю камешек, более увесистый, чем обыкновенный, или красивую ракушку, в то время как великий океан истины расстилается передо мною неисследованны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И. Ньют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95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b2500"/>
                </a:solidFill>
                <a:latin typeface="Garamond"/>
              </a:rPr>
              <a:t>   </a:t>
            </a:r>
            <a:r>
              <a:rPr b="1" i="1" lang="ru-RU" sz="3200" spc="-1" strike="noStrike">
                <a:solidFill>
                  <a:srgbClr val="4b2500"/>
                </a:solidFill>
                <a:latin typeface="Garamond"/>
              </a:rPr>
              <a:t>«Бесчисленное множество людей занимаются ныне наукой, и счастлив тот, кто движимый необычным внутренним светом, способен выбраться из темных лабиринтов, по которым он мог бы до скончания века блуждать вместе с толпой, все более и более удаляясь от выхода»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                   </a:t>
            </a: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Галилео Галилей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323640" y="501300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8T19:11:03Z</dcterms:created>
  <dc:creator>лена</dc:creator>
  <dc:description/>
  <dc:language>en-US</dc:language>
  <cp:lastModifiedBy>Пользователь Windows</cp:lastModifiedBy>
  <dcterms:modified xsi:type="dcterms:W3CDTF">2023-05-29T10:21:42Z</dcterms:modified>
  <cp:revision>23</cp:revision>
  <dc:subject/>
  <dc:title>Инерция</dc:title>
</cp:coreProperties>
</file>