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606-AFCC-4194-92B6-1D5DB026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193-5E6D-4EDC-89DC-5857EB7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1AC-A04D-48D5-AA32-38FF4FFB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CAC-A632-411E-B152-1C55E941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E57-D029-4A25-9AA7-3E243208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EFE-9478-4B27-B4C4-3F45D8A1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71A-419E-4B6F-A300-E5193F1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821-0CB6-4FC6-B4E8-64FCEF1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B61-42D1-4377-BC78-9E9C5C0F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040-1C08-4101-A800-1163D1E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197-0026-4C23-A843-D78A66B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C3E-21C2-460C-8D09-00B2CAF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55160" y="0"/>
            <a:ext cx="10393560" cy="7559280"/>
            <a:chOff x="-155160" y="0"/>
            <a:chExt cx="10393560" cy="7559280"/>
          </a:xfrm>
        </p:grpSpPr>
        <p:grpSp>
          <p:nvGrpSpPr>
            <p:cNvPr id="1" name="Group 638"/>
            <p:cNvGrpSpPr/>
            <p:nvPr/>
          </p:nvGrpSpPr>
          <p:grpSpPr>
            <a:xfrm>
              <a:off x="-155160" y="158760"/>
              <a:ext cx="10393560" cy="7104240"/>
              <a:chOff x="-155160" y="158760"/>
              <a:chExt cx="10393560" cy="710424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55160" y="206280"/>
                <a:ext cx="1572840" cy="1538640"/>
                <a:chOff x="-155160" y="206280"/>
                <a:chExt cx="1572840" cy="15386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00000">
                  <a:off x="863280" y="664200"/>
                  <a:ext cx="159480" cy="237600"/>
                </a:xfrm>
                <a:custGeom>
                  <a:avLst/>
                  <a:gdLst>
                    <a:gd name="textAreaLeft" fmla="*/ 0 w 159480"/>
                    <a:gd name="textAreaRight" fmla="*/ 159840 w 15948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00000">
                  <a:off x="923400" y="9306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575" h="114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149"/>
                      </a:lnTo>
                      <a:lnTo>
                        <a:pt x="0" y="11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00000">
                  <a:off x="993240" y="775800"/>
                  <a:ext cx="160560" cy="23760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00000">
                  <a:off x="9360" y="492840"/>
                  <a:ext cx="1243440" cy="965160"/>
                </a:xfrm>
                <a:custGeom>
                  <a:avLst/>
                  <a:gdLst>
                    <a:gd name="textAreaLeft" fmla="*/ 0 w 1243440"/>
                    <a:gd name="textAreaRight" fmla="*/ 1243800 w 124344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30760" y="1607040"/>
                <a:ext cx="1412280" cy="1368720"/>
                <a:chOff x="230760" y="1607040"/>
                <a:chExt cx="1412280" cy="136872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40000">
                  <a:off x="683640" y="2039040"/>
                  <a:ext cx="120960" cy="1796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40000">
                  <a:off x="849960" y="2171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24" h="5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40000">
                  <a:off x="790560" y="1963800"/>
                  <a:ext cx="120960" cy="1796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40000">
                  <a:off x="389880" y="1842480"/>
                  <a:ext cx="1094040" cy="897120"/>
                </a:xfrm>
                <a:custGeom>
                  <a:avLst/>
                  <a:gdLst>
                    <a:gd name="textAreaLeft" fmla="*/ 0 w 1094040"/>
                    <a:gd name="textAreaRight" fmla="*/ 1094400 w 1094040"/>
                    <a:gd name="textAreaTop" fmla="*/ 0 h 897120"/>
                    <a:gd name="textAreaBottom" fmla="*/ 897480 h 8971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50920" y="4785840"/>
                <a:ext cx="1568520" cy="1512000"/>
                <a:chOff x="250920" y="4785840"/>
                <a:chExt cx="1568520" cy="151200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680000">
                  <a:off x="749880" y="5231520"/>
                  <a:ext cx="145440" cy="21636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680000">
                  <a:off x="944280" y="5398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93" h="59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680000">
                  <a:off x="883080" y="5150520"/>
                  <a:ext cx="144000" cy="216360"/>
                </a:xfrm>
                <a:custGeom>
                  <a:avLst/>
                  <a:gdLst>
                    <a:gd name="textAreaLeft" fmla="*/ 0 w 144000"/>
                    <a:gd name="textAreaRight" fmla="*/ 144360 w 14400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680000">
                  <a:off x="431640" y="5027040"/>
                  <a:ext cx="1206720" cy="1028880"/>
                </a:xfrm>
                <a:custGeom>
                  <a:avLst/>
                  <a:gdLst>
                    <a:gd name="textAreaLeft" fmla="*/ 0 w 1206720"/>
                    <a:gd name="textAreaRight" fmla="*/ 1207080 w 1206720"/>
                    <a:gd name="textAreaTop" fmla="*/ 0 h 1028880"/>
                    <a:gd name="textAreaBottom" fmla="*/ 1029240 h 10288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8266320" y="158760"/>
                <a:ext cx="1972080" cy="1901160"/>
                <a:chOff x="8266320" y="158760"/>
                <a:chExt cx="1972080" cy="19011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680000">
                  <a:off x="8893440" y="718920"/>
                  <a:ext cx="182880" cy="272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272160"/>
                    <a:gd name="textAreaBottom" fmla="*/ 272520 h 2721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680000">
                  <a:off x="9137880" y="9284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745" h="74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680000">
                  <a:off x="9061560" y="617040"/>
                  <a:ext cx="181440" cy="27216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272160"/>
                    <a:gd name="textAreaBottom" fmla="*/ 272520 h 2721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680000">
                  <a:off x="8493840" y="462240"/>
                  <a:ext cx="1517040" cy="1293840"/>
                </a:xfrm>
                <a:custGeom>
                  <a:avLst/>
                  <a:gdLst>
                    <a:gd name="textAreaLeft" fmla="*/ 0 w 1517040"/>
                    <a:gd name="textAreaRight" fmla="*/ 1517400 w 1517040"/>
                    <a:gd name="textAreaTop" fmla="*/ 0 h 1293840"/>
                    <a:gd name="textAreaBottom" fmla="*/ 1294200 h 129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859520" y="3865680"/>
                <a:ext cx="2052720" cy="2007720"/>
                <a:chOff x="7859520" y="3865680"/>
                <a:chExt cx="2052720" cy="200772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00000">
                  <a:off x="8827560" y="4490640"/>
                  <a:ext cx="208080" cy="30996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309960"/>
                    <a:gd name="textAreaBottom" fmla="*/ 310320 h 3099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00000">
                  <a:off x="8906040" y="483804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50" h="15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00"/>
                      </a:lnTo>
                      <a:lnTo>
                        <a:pt x="0" y="150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00000">
                  <a:off x="8997480" y="4636080"/>
                  <a:ext cx="209520" cy="30996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309960"/>
                    <a:gd name="textAreaBottom" fmla="*/ 310320 h 3099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00000">
                  <a:off x="8074440" y="4239720"/>
                  <a:ext cx="1622520" cy="125964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1259640"/>
                    <a:gd name="textAreaBottom" fmla="*/ 1260000 h 1259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8389440" y="5624640"/>
                <a:ext cx="1690920" cy="1638360"/>
                <a:chOff x="8389440" y="5624640"/>
                <a:chExt cx="1690920" cy="163836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40000">
                  <a:off x="8931600" y="6141960"/>
                  <a:ext cx="145080" cy="2152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40000">
                  <a:off x="9130680" y="6300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27" h="62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40000">
                  <a:off x="9059760" y="6051960"/>
                  <a:ext cx="145080" cy="2152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40000">
                  <a:off x="8579880" y="5906520"/>
                  <a:ext cx="1309680" cy="1073880"/>
                </a:xfrm>
                <a:custGeom>
                  <a:avLst/>
                  <a:gdLst>
                    <a:gd name="textAreaLeft" fmla="*/ 0 w 1309680"/>
                    <a:gd name="textAreaRight" fmla="*/ 1310040 w 1309680"/>
                    <a:gd name="textAreaTop" fmla="*/ 0 h 1073880"/>
                    <a:gd name="textAreaBottom" fmla="*/ 1074240 h 107388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61920"/>
              <a:ext cx="10126440" cy="7497360"/>
              <a:chOff x="0" y="61920"/>
              <a:chExt cx="10126440" cy="749736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8120" y="61920"/>
                <a:ext cx="2092320" cy="1866240"/>
                <a:chOff x="78120" y="61920"/>
                <a:chExt cx="2092320" cy="186624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40000">
                  <a:off x="840240" y="653040"/>
                  <a:ext cx="219960" cy="32652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40000">
                  <a:off x="1126800" y="92304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50" h="9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40000">
                  <a:off x="1054440" y="550080"/>
                  <a:ext cx="219960" cy="32652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00000">
                  <a:off x="236160" y="266760"/>
                  <a:ext cx="1775880" cy="1456200"/>
                </a:xfrm>
                <a:custGeom>
                  <a:avLst/>
                  <a:gdLst>
                    <a:gd name="textAreaLeft" fmla="*/ 0 w 1775880"/>
                    <a:gd name="textAreaRight" fmla="*/ 1776240 w 1775880"/>
                    <a:gd name="textAreaTop" fmla="*/ 0 h 1456200"/>
                    <a:gd name="textAreaBottom" fmla="*/ 1456560 h 1456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982640" y="507960"/>
                <a:ext cx="1445400" cy="1355760"/>
                <a:chOff x="7982640" y="507960"/>
                <a:chExt cx="1445400" cy="13557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380000">
                  <a:off x="8678160" y="805320"/>
                  <a:ext cx="138960" cy="20664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380000">
                  <a:off x="8767800" y="1036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66" h="56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380000">
                  <a:off x="8814960" y="865440"/>
                  <a:ext cx="137880" cy="2066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380000">
                  <a:off x="8128440" y="694080"/>
                  <a:ext cx="1153080" cy="983520"/>
                </a:xfrm>
                <a:custGeom>
                  <a:avLst/>
                  <a:gdLst>
                    <a:gd name="textAreaLeft" fmla="*/ 0 w 1153080"/>
                    <a:gd name="textAreaRight" fmla="*/ 1153440 w 1153080"/>
                    <a:gd name="textAreaTop" fmla="*/ 0 h 983520"/>
                    <a:gd name="textAreaBottom" fmla="*/ 983880 h 9835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00000">
                <a:off x="7780680" y="40813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69" h="1937">
                    <a:moveTo>
                      <a:pt x="0" y="0"/>
                    </a:moveTo>
                    <a:lnTo>
                      <a:pt x="0" y="0"/>
                    </a:lnTo>
                    <a:lnTo>
                      <a:pt x="0" y="1937"/>
                    </a:lnTo>
                    <a:lnTo>
                      <a:pt x="0" y="19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8632440" y="4643640"/>
                <a:ext cx="1494000" cy="1356480"/>
                <a:chOff x="8632440" y="4643640"/>
                <a:chExt cx="1494000" cy="135648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20000">
                  <a:off x="9216000" y="5385600"/>
                  <a:ext cx="136440" cy="20268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20000">
                  <a:off x="9296280" y="5614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90" h="59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20000">
                  <a:off x="9346680" y="5453280"/>
                  <a:ext cx="136440" cy="20268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60000">
                  <a:off x="8763120" y="4816440"/>
                  <a:ext cx="1232280" cy="1010520"/>
                </a:xfrm>
                <a:custGeom>
                  <a:avLst/>
                  <a:gdLst>
                    <a:gd name="textAreaLeft" fmla="*/ 0 w 1232280"/>
                    <a:gd name="textAreaRight" fmla="*/ 1232640 w 1232280"/>
                    <a:gd name="textAreaTop" fmla="*/ 0 h 1010520"/>
                    <a:gd name="textAreaBottom" fmla="*/ 1010880 h 1010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879880"/>
                <a:ext cx="1309320" cy="1679400"/>
                <a:chOff x="0" y="5879880"/>
                <a:chExt cx="1309320" cy="167940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412200" y="6287400"/>
                  <a:ext cx="24120" cy="33660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 flipH="1">
                  <a:off x="431640" y="66312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47840" y="6484680"/>
                  <a:ext cx="305640" cy="147960"/>
                </a:xfrm>
                <a:custGeom>
                  <a:avLst/>
                  <a:gdLst>
                    <a:gd name="textAreaLeft" fmla="*/ 0 w 305640"/>
                    <a:gd name="textAreaRight" fmla="*/ 306000 w 30564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879880"/>
                  <a:ext cx="1309320" cy="1679400"/>
                </a:xfrm>
                <a:custGeom>
                  <a:avLst/>
                  <a:gdLst>
                    <a:gd name="textAreaLeft" fmla="*/ 0 w 1309320"/>
                    <a:gd name="textAreaRight" fmla="*/ 1309680 w 1309320"/>
                    <a:gd name="textAreaTop" fmla="*/ 0 h 1679400"/>
                    <a:gd name="textAreaBottom" fmla="*/ 1679760 h 167940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528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3137760"/>
                <a:ext cx="1025280" cy="1434600"/>
                <a:chOff x="0" y="3137760"/>
                <a:chExt cx="1025280" cy="14346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799080"/>
                  <a:ext cx="92880" cy="14472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 flipH="1">
                  <a:off x="95040" y="3951720"/>
                  <a:ext cx="360" cy="2160"/>
                </a:xfrm>
                <a:custGeom>
                  <a:avLst/>
                  <a:gdLst/>
                  <a:ahLst/>
                  <a:rect l="l" t="t" r="r" b="b"/>
                  <a:pathLst>
                    <a:path w="0" h="259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590"/>
                      </a:lnTo>
                      <a:lnTo>
                        <a:pt x="0" y="259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11240" y="3589200"/>
                  <a:ext cx="237960" cy="35460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354600"/>
                    <a:gd name="textAreaBottom" fmla="*/ 354960 h 3546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3137760"/>
                  <a:ext cx="1025280" cy="1434600"/>
                </a:xfrm>
                <a:custGeom>
                  <a:avLst/>
                  <a:gdLst>
                    <a:gd name="textAreaLeft" fmla="*/ 0 w 1025280"/>
                    <a:gd name="textAreaRight" fmla="*/ 1025640 w 1025280"/>
                    <a:gd name="textAreaTop" fmla="*/ 0 h 1434600"/>
                    <a:gd name="textAreaBottom" fmla="*/ 1434960 h 14346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528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5375880" y="6288120"/>
                <a:ext cx="1931760" cy="1271160"/>
                <a:chOff x="5375880" y="6288120"/>
                <a:chExt cx="1931760" cy="127116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6171840" y="6886800"/>
                  <a:ext cx="16920" cy="4233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423360"/>
                    <a:gd name="textAreaBottom" fmla="*/ 423720 h 4233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 flipH="1">
                  <a:off x="6183360" y="73206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6203880" y="7145640"/>
                  <a:ext cx="389160" cy="1771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5375880" y="6288120"/>
                  <a:ext cx="1931760" cy="1271160"/>
                </a:xfrm>
                <a:custGeom>
                  <a:avLst/>
                  <a:gdLst>
                    <a:gd name="textAreaLeft" fmla="*/ 0 w 1931760"/>
                    <a:gd name="textAreaRight" fmla="*/ 1932120 w 193176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528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8651880" y="1680120"/>
                <a:ext cx="1427760" cy="1857600"/>
                <a:chOff x="8651880" y="1680120"/>
                <a:chExt cx="1427760" cy="185760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9322920" y="2196000"/>
                  <a:ext cx="326520" cy="214560"/>
                </a:xfrm>
                <a:custGeom>
                  <a:avLst/>
                  <a:gdLst>
                    <a:gd name="textAreaLeft" fmla="*/ 0 w 326520"/>
                    <a:gd name="textAreaRight" fmla="*/ 326880 w 32652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 flipH="1">
                  <a:off x="9653400" y="2419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9667080" y="2019600"/>
                  <a:ext cx="72720" cy="3866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386640"/>
                    <a:gd name="textAreaBottom" fmla="*/ 387000 h 386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8651880" y="1680120"/>
                  <a:ext cx="1427760" cy="1857600"/>
                </a:xfrm>
                <a:custGeom>
                  <a:avLst/>
                  <a:gdLst>
                    <a:gd name="textAreaLeft" fmla="*/ 0 w 1427760"/>
                    <a:gd name="textAreaRight" fmla="*/ 1428120 w 1427760"/>
                    <a:gd name="textAreaTop" fmla="*/ 0 h 1857600"/>
                    <a:gd name="textAreaBottom" fmla="*/ 1857960 h 185760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8465400" y="6551640"/>
                <a:ext cx="1468080" cy="1007640"/>
                <a:chOff x="8465400" y="6551640"/>
                <a:chExt cx="1468080" cy="10076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8465400" y="6995160"/>
                  <a:ext cx="222840" cy="10476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 flipH="1">
                  <a:off x="8690400" y="7105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8696520" y="6850800"/>
                  <a:ext cx="15480" cy="243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8731440" y="6551640"/>
                  <a:ext cx="1202040" cy="1007640"/>
                </a:xfrm>
                <a:custGeom>
                  <a:avLst/>
                  <a:gdLst>
                    <a:gd name="textAreaLeft" fmla="*/ 0 w 1202040"/>
                    <a:gd name="textAreaRight" fmla="*/ 1202400 w 1202040"/>
                    <a:gd name="textAreaTop" fmla="*/ 0 h 1007640"/>
                    <a:gd name="textAreaBottom" fmla="*/ 1008000 h 10076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10158840" cy="7520400"/>
              <a:chOff x="0" y="0"/>
              <a:chExt cx="10158840" cy="752040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8483040" y="3106440"/>
                <a:ext cx="1544400" cy="3818880"/>
                <a:chOff x="8483040" y="3106440"/>
                <a:chExt cx="1544400" cy="3818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00000">
                  <a:off x="8905680" y="3431160"/>
                  <a:ext cx="121680" cy="181440"/>
                </a:xfrm>
                <a:custGeom>
                  <a:avLst/>
                  <a:gdLst>
                    <a:gd name="textAreaLeft" fmla="*/ 0 w 121680"/>
                    <a:gd name="textAreaRight" fmla="*/ 122040 w 12168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00000">
                  <a:off x="9062280" y="3582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97" h="49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00000">
                  <a:off x="9024840" y="3376440"/>
                  <a:ext cx="120960" cy="1814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00000">
                  <a:off x="8617680" y="3279600"/>
                  <a:ext cx="1011600" cy="8625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862560"/>
                    <a:gd name="textAreaBottom" fmla="*/ 862920 h 8625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780000">
                  <a:off x="8735760" y="5787360"/>
                  <a:ext cx="1192320" cy="101664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016640"/>
                    <a:gd name="textAreaBottom" fmla="*/ 1017000 h 1016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7562160" y="6090120"/>
                <a:ext cx="1213560" cy="1430280"/>
                <a:chOff x="7562160" y="6090120"/>
                <a:chExt cx="1213560" cy="143028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80000">
                  <a:off x="8505360" y="60901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21" h="5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40000">
                  <a:off x="7624800" y="6549120"/>
                  <a:ext cx="1087560" cy="89172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891720"/>
                    <a:gd name="textAreaBottom" fmla="*/ 892080 h 8917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528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964560" y="1163880"/>
                <a:ext cx="2028240" cy="1931760"/>
                <a:chOff x="6964560" y="1163880"/>
                <a:chExt cx="2028240" cy="193176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0000">
                  <a:off x="7896240" y="1750680"/>
                  <a:ext cx="205920" cy="3070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0000">
                  <a:off x="7995600" y="209664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43" h="148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84"/>
                      </a:lnTo>
                      <a:lnTo>
                        <a:pt x="0" y="148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0000">
                  <a:off x="8079480" y="1875240"/>
                  <a:ext cx="207360" cy="3070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0000">
                  <a:off x="7175520" y="1506240"/>
                  <a:ext cx="1605960" cy="1246680"/>
                </a:xfrm>
                <a:custGeom>
                  <a:avLst/>
                  <a:gdLst>
                    <a:gd name="textAreaLeft" fmla="*/ 0 w 1605960"/>
                    <a:gd name="textAreaRight" fmla="*/ 1606320 w 1605960"/>
                    <a:gd name="textAreaTop" fmla="*/ 0 h 1246680"/>
                    <a:gd name="textAreaBottom" fmla="*/ 1247040 h 12466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528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953200" y="4114080"/>
                <a:ext cx="1205640" cy="1023120"/>
                <a:chOff x="8953200" y="4114080"/>
                <a:chExt cx="1205640" cy="102312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00000">
                  <a:off x="9367920" y="4436280"/>
                  <a:ext cx="135720" cy="201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00000">
                  <a:off x="9543240" y="460476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489" h="97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78"/>
                      </a:lnTo>
                      <a:lnTo>
                        <a:pt x="0" y="97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00000">
                  <a:off x="9500400" y="4375080"/>
                  <a:ext cx="136440" cy="20196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880000">
                  <a:off x="9027000" y="4214880"/>
                  <a:ext cx="1058040" cy="821160"/>
                </a:xfrm>
                <a:custGeom>
                  <a:avLst/>
                  <a:gdLst>
                    <a:gd name="textAreaLeft" fmla="*/ 0 w 1058040"/>
                    <a:gd name="textAreaRight" fmla="*/ 1058400 w 1058040"/>
                    <a:gd name="textAreaTop" fmla="*/ 0 h 821160"/>
                    <a:gd name="textAreaBottom" fmla="*/ 821520 h 8211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756000"/>
                <a:ext cx="1446840" cy="1663560"/>
                <a:chOff x="0" y="756000"/>
                <a:chExt cx="1446840" cy="166356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427680" y="1591560"/>
                  <a:ext cx="392400" cy="2124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 flipH="1">
                  <a:off x="827280" y="1809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838080" y="1351440"/>
                  <a:ext cx="47160" cy="44244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442440"/>
                    <a:gd name="textAreaBottom" fmla="*/ 442800 h 44244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756000"/>
                  <a:ext cx="1446840" cy="1663560"/>
                </a:xfrm>
                <a:custGeom>
                  <a:avLst/>
                  <a:gdLst>
                    <a:gd name="textAreaLeft" fmla="*/ 0 w 1446840"/>
                    <a:gd name="textAreaRight" fmla="*/ 1447200 w 1446840"/>
                    <a:gd name="textAreaTop" fmla="*/ 0 h 1663560"/>
                    <a:gd name="textAreaBottom" fmla="*/ 1663920 h 166356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710960"/>
                <a:ext cx="1314360" cy="1504440"/>
                <a:chOff x="0" y="4710960"/>
                <a:chExt cx="1314360" cy="150444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441000" y="5113440"/>
                  <a:ext cx="14760" cy="3974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7440"/>
                    <a:gd name="textAreaBottom" fmla="*/ 397800 h 39744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 flipH="1">
                  <a:off x="483480" y="54352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58640" y="5369400"/>
                  <a:ext cx="369720" cy="15408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710960"/>
                  <a:ext cx="1314360" cy="1504440"/>
                </a:xfrm>
                <a:custGeom>
                  <a:avLst/>
                  <a:gdLst>
                    <a:gd name="textAreaLeft" fmla="*/ 0 w 1314360"/>
                    <a:gd name="textAreaRight" fmla="*/ 1314720 w 1314360"/>
                    <a:gd name="textAreaTop" fmla="*/ 0 h 1504440"/>
                    <a:gd name="textAreaBottom" fmla="*/ 1504800 h 150444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8120520" y="0"/>
                <a:ext cx="1396080" cy="1091520"/>
                <a:chOff x="8120520" y="0"/>
                <a:chExt cx="1396080" cy="109152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8487360" y="0"/>
                  <a:ext cx="204480" cy="20736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 flipH="1">
                  <a:off x="8694360" y="2131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8703720" y="0"/>
                  <a:ext cx="93600" cy="2044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8120520" y="0"/>
                  <a:ext cx="1396080" cy="1091520"/>
                </a:xfrm>
                <a:custGeom>
                  <a:avLst/>
                  <a:gdLst>
                    <a:gd name="textAreaLeft" fmla="*/ 0 w 1396080"/>
                    <a:gd name="textAreaRight" fmla="*/ 1396440 w 1396080"/>
                    <a:gd name="textAreaTop" fmla="*/ 0 h 1091520"/>
                    <a:gd name="textAreaBottom" fmla="*/ 1091880 h 109152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9176040" y="1091880"/>
                <a:ext cx="903240" cy="1175400"/>
                <a:chOff x="9176040" y="1091880"/>
                <a:chExt cx="903240" cy="117540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9600840" y="1418760"/>
                  <a:ext cx="206640" cy="1357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 flipH="1">
                  <a:off x="9809640" y="1560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9818640" y="1307160"/>
                  <a:ext cx="46080" cy="244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9176040" y="1091880"/>
                  <a:ext cx="903240" cy="117540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1175400"/>
                    <a:gd name="textAreaBottom" fmla="*/ 1175760 h 117540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dt" idx="1"/>
          </p:nvPr>
        </p:nvSpPr>
        <p:spPr>
          <a:xfrm>
            <a:off x="7096680" y="6560640"/>
            <a:ext cx="2351880" cy="4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2"/>
          </p:nvPr>
        </p:nvSpPr>
        <p:spPr>
          <a:xfrm>
            <a:off x="1301760" y="6560640"/>
            <a:ext cx="5794560" cy="4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3"/>
          </p:nvPr>
        </p:nvSpPr>
        <p:spPr>
          <a:xfrm>
            <a:off x="631800" y="6561000"/>
            <a:ext cx="669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20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C8076F5B-18C9-4DA6-85B7-5ABB49F1EDD5}" type="slidenum">
              <a:rPr b="0" lang="ru-RU" sz="20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ru-RU" sz="1500" spc="-1" strike="noStrike">
              <a:solidFill>
                <a:srgbClr val="40404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ru-RU" sz="1300" spc="-1" strike="noStrike">
              <a:solidFill>
                <a:srgbClr val="40404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ru-RU" sz="1300" spc="-1" strike="noStrike">
              <a:solidFill>
                <a:srgbClr val="40404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182520" y="-181080"/>
            <a:ext cx="9937440" cy="7559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136440" y="0"/>
            <a:ext cx="994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28 «Надеж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40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" descr=""/>
          <p:cNvPicPr/>
          <p:nvPr/>
        </p:nvPicPr>
        <p:blipFill>
          <a:blip r:embed="rId2"/>
          <a:stretch/>
        </p:blipFill>
        <p:spPr>
          <a:xfrm>
            <a:off x="5040360" y="0"/>
            <a:ext cx="504000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-31680" y="1440"/>
            <a:ext cx="539388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" descr=""/>
          <p:cNvPicPr/>
          <p:nvPr/>
        </p:nvPicPr>
        <p:blipFill>
          <a:blip r:embed="rId2"/>
          <a:stretch/>
        </p:blipFill>
        <p:spPr>
          <a:xfrm>
            <a:off x="5111640" y="1440"/>
            <a:ext cx="499248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11160" y="33480"/>
            <a:ext cx="4524120" cy="7559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4535640" y="-108000"/>
            <a:ext cx="554472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1800360" y="0"/>
            <a:ext cx="6408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2205000" y="0"/>
            <a:ext cx="567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303640" y="0"/>
            <a:ext cx="567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503280" y="466560"/>
            <a:ext cx="914508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Тип проекта: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природоохранный социально-образов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одолжительность проекта: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долгосрочный с 01.09.19. по 31.05.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Участники проекта:</a:t>
            </a:r>
            <a:r>
              <a:rPr b="0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 проекте участвуют педагоги ДОУ, воспитанники младших, средних, старших и подготовительных групп детского сада «Надежда» и их родители (законные представител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503280" y="250920"/>
            <a:ext cx="871344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– формирование у ребёнка богатого внутреннего мира и системы ценностных отношений к природе, её животному и растительному миру, развитие внутренней потребности любви к природе и, как следствие, бережного отношения к ней, воспитание у ребёнка культуры природолюбия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0" y="0"/>
            <a:ext cx="10080360" cy="61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ать ребёнку знания об окружающей его Природе, познакомить с разнообразием животного и растительного мира его малой род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пособствовать развитию понимания ребёнком неразделимого единства человека и природы, понимание общечеловеческой ценности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мочь ребёнку осознать необходимость сохранения, охраны и спасения природы для выживания на земле само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ширить общий кругозор детей, способствовать развитию их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пособствовать воспитанию потребности принимать активное участие в природоохранной и экол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431640" y="108000"/>
            <a:ext cx="9432720" cy="69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ервый этап проекта был подготовительный. </a:t>
            </a: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этом этапе определились с целями, задачами, спрогнозировали результаты проекта. Было подобрано программно-методическое обеспечение по данной проблеме; наглядно-демонстрационный, иллюстрированный, раздаточный материал. Разработали перспективный план работы по проекту. Изучили и проанализировали художественную литературу по реализации природоохранного социально-образовательного проекта «Эколята-Дошколята»; аудио- и видео материалы, интернет – ресурсы. Включили в проект образы сказочных героев «Эколят» – друзей и защитников Природы. В работе с родителями, в рамках проекта разработали: памятки, консультации для родителей, с целью привлечения внимания к проблеме защиты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360360" y="0"/>
            <a:ext cx="97200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 основной, самый плодотворный и содержательны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тьми проводились наблюдения, беседы, презентации о жизни животных и растений: «Береги Природу», «Будь вежлив с Природой и внимателен к Природе», «Умей гулять на Природе», «Дружить с Природой», «Единство Человека и Природы», «Чудеса Природы», «Правила поведения на Природе» и т. д., отгадывание загадок, словесные и дидактические игры: «Как вести себя в лесу», «Алые цветки», «Что легче?» «Подарки от берёзы», «Зачем и почему у животных?», «Кто как кричит», «Детки с ветки», «Кто, где живет и чем питается» и мн.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0" y="179280"/>
            <a:ext cx="1008036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кт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дагоги совместно с воспитанниками всего детского сада провели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аздник: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ята – друзья и защитники природы»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pring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2455596%5b%5bfn=Весна%5d%5d</Template>
  <TotalTime>75</TotalTime>
  <Application>LibreOffice/7.4.7.2$Linux_X86_64 LibreOffice_project/40$Build-2</Application>
  <AppVersion>15.0000</AppVersion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ользователь</dc:creator>
  <dc:description/>
  <dc:language>en-US</dc:language>
  <cp:lastModifiedBy>Никита</cp:lastModifiedBy>
  <dcterms:modified xsi:type="dcterms:W3CDTF">2023-05-30T18:16:40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8</vt:r8>
  </property>
</Properties>
</file>