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082-D73A-4A6B-A00C-EE4BD48A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AD0-A3AB-4D4A-AACB-002FDAE1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E24-9367-4B64-B217-CE999744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7156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3912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400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7156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3912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CDF-638E-4D21-8D4B-2A2F95B0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D39-76F8-4E1F-96A6-421C6A43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EF3-A788-418A-AA1C-7975933C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ED8-142A-45B3-BB05-AA0C98B5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BA7-78FA-466E-B971-5DE680E5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20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31F-8D89-4EB4-996D-500C3E93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12F-2265-459C-A50D-E819651E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95B-40F6-4A7C-A727-F9C36CB0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16C-4BA0-4C0F-8F18-79A24A61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-155160" y="0"/>
            <a:ext cx="10393560" cy="7559280"/>
            <a:chOff x="-155160" y="0"/>
            <a:chExt cx="10393560" cy="7559280"/>
          </a:xfrm>
        </p:grpSpPr>
        <p:grpSp>
          <p:nvGrpSpPr>
            <p:cNvPr id="1" name="Group 638"/>
            <p:cNvGrpSpPr/>
            <p:nvPr/>
          </p:nvGrpSpPr>
          <p:grpSpPr>
            <a:xfrm>
              <a:off x="-155160" y="158760"/>
              <a:ext cx="10393560" cy="7104240"/>
              <a:chOff x="-155160" y="158760"/>
              <a:chExt cx="10393560" cy="7104240"/>
            </a:xfrm>
          </p:grpSpPr>
          <p:grpSp>
            <p:nvGrpSpPr>
              <p:cNvPr id="2" name="Group 121"/>
              <p:cNvGrpSpPr/>
              <p:nvPr/>
            </p:nvGrpSpPr>
            <p:grpSpPr>
              <a:xfrm>
                <a:off x="-155160" y="206280"/>
                <a:ext cx="1572840" cy="1538640"/>
                <a:chOff x="-155160" y="206280"/>
                <a:chExt cx="1572840" cy="1538640"/>
              </a:xfrm>
            </p:grpSpPr>
            <p:sp>
              <p:nvSpPr>
                <p:cNvPr id="3" name="Freeform 72"/>
                <p:cNvSpPr/>
                <p:nvPr/>
              </p:nvSpPr>
              <p:spPr>
                <a:xfrm rot="2400000">
                  <a:off x="863280" y="664200"/>
                  <a:ext cx="159480" cy="237600"/>
                </a:xfrm>
                <a:custGeom>
                  <a:avLst/>
                  <a:gdLst>
                    <a:gd name="textAreaLeft" fmla="*/ 0 w 159480"/>
                    <a:gd name="textAreaRight" fmla="*/ 159840 w 159480"/>
                    <a:gd name="textAreaTop" fmla="*/ 0 h 237600"/>
                    <a:gd name="textAreaBottom" fmla="*/ 237960 h 23760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Freeform 73"/>
                <p:cNvSpPr/>
                <p:nvPr/>
              </p:nvSpPr>
              <p:spPr>
                <a:xfrm rot="2400000">
                  <a:off x="923400" y="9306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575" h="114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149"/>
                      </a:lnTo>
                      <a:lnTo>
                        <a:pt x="0" y="114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74"/>
                <p:cNvSpPr/>
                <p:nvPr/>
              </p:nvSpPr>
              <p:spPr>
                <a:xfrm rot="2400000">
                  <a:off x="993240" y="775800"/>
                  <a:ext cx="160560" cy="237600"/>
                </a:xfrm>
                <a:custGeom>
                  <a:avLst/>
                  <a:gdLst>
                    <a:gd name="textAreaLeft" fmla="*/ 0 w 160560"/>
                    <a:gd name="textAreaRight" fmla="*/ 160920 w 160560"/>
                    <a:gd name="textAreaTop" fmla="*/ 0 h 237600"/>
                    <a:gd name="textAreaBottom" fmla="*/ 237960 h 23760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Freeform 75"/>
                <p:cNvSpPr/>
                <p:nvPr/>
              </p:nvSpPr>
              <p:spPr>
                <a:xfrm rot="2400000">
                  <a:off x="9360" y="492840"/>
                  <a:ext cx="1243440" cy="965160"/>
                </a:xfrm>
                <a:custGeom>
                  <a:avLst/>
                  <a:gdLst>
                    <a:gd name="textAreaLeft" fmla="*/ 0 w 1243440"/>
                    <a:gd name="textAreaRight" fmla="*/ 1243800 w 1243440"/>
                    <a:gd name="textAreaTop" fmla="*/ 0 h 965160"/>
                    <a:gd name="textAreaBottom" fmla="*/ 965520 h 9651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" name="Group 142"/>
              <p:cNvGrpSpPr/>
              <p:nvPr/>
            </p:nvGrpSpPr>
            <p:grpSpPr>
              <a:xfrm>
                <a:off x="230760" y="1607040"/>
                <a:ext cx="1412280" cy="1368720"/>
                <a:chOff x="230760" y="1607040"/>
                <a:chExt cx="1412280" cy="1368720"/>
              </a:xfrm>
            </p:grpSpPr>
            <p:sp>
              <p:nvSpPr>
                <p:cNvPr id="8" name="Freeform 79"/>
                <p:cNvSpPr/>
                <p:nvPr/>
              </p:nvSpPr>
              <p:spPr>
                <a:xfrm rot="19440000">
                  <a:off x="683640" y="2039040"/>
                  <a:ext cx="120960" cy="17964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79640"/>
                    <a:gd name="textAreaBottom" fmla="*/ 180000 h 17964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Freeform 80"/>
                <p:cNvSpPr/>
                <p:nvPr/>
              </p:nvSpPr>
              <p:spPr>
                <a:xfrm rot="19440000">
                  <a:off x="849960" y="2171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524" h="52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Freeform 81"/>
                <p:cNvSpPr/>
                <p:nvPr/>
              </p:nvSpPr>
              <p:spPr>
                <a:xfrm rot="19440000">
                  <a:off x="790560" y="1963800"/>
                  <a:ext cx="120960" cy="17964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79640"/>
                    <a:gd name="textAreaBottom" fmla="*/ 180000 h 17964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82"/>
                <p:cNvSpPr/>
                <p:nvPr/>
              </p:nvSpPr>
              <p:spPr>
                <a:xfrm rot="19440000">
                  <a:off x="389880" y="1842480"/>
                  <a:ext cx="1094040" cy="897120"/>
                </a:xfrm>
                <a:custGeom>
                  <a:avLst/>
                  <a:gdLst>
                    <a:gd name="textAreaLeft" fmla="*/ 0 w 1094040"/>
                    <a:gd name="textAreaRight" fmla="*/ 1094400 w 1094040"/>
                    <a:gd name="textAreaTop" fmla="*/ 0 h 897120"/>
                    <a:gd name="textAreaBottom" fmla="*/ 897480 h 8971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Group 147"/>
              <p:cNvGrpSpPr/>
              <p:nvPr/>
            </p:nvGrpSpPr>
            <p:grpSpPr>
              <a:xfrm>
                <a:off x="250920" y="4785840"/>
                <a:ext cx="1568520" cy="1512000"/>
                <a:chOff x="250920" y="4785840"/>
                <a:chExt cx="1568520" cy="1512000"/>
              </a:xfrm>
            </p:grpSpPr>
            <p:sp>
              <p:nvSpPr>
                <p:cNvPr id="13" name="Freeform 86"/>
                <p:cNvSpPr/>
                <p:nvPr/>
              </p:nvSpPr>
              <p:spPr>
                <a:xfrm rot="19680000">
                  <a:off x="749880" y="5231520"/>
                  <a:ext cx="145440" cy="21636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6360"/>
                    <a:gd name="textAreaBottom" fmla="*/ 216720 h 2163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87"/>
                <p:cNvSpPr/>
                <p:nvPr/>
              </p:nvSpPr>
              <p:spPr>
                <a:xfrm rot="19680000">
                  <a:off x="944280" y="53982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593" h="59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88"/>
                <p:cNvSpPr/>
                <p:nvPr/>
              </p:nvSpPr>
              <p:spPr>
                <a:xfrm rot="19680000">
                  <a:off x="883080" y="5150520"/>
                  <a:ext cx="144000" cy="216360"/>
                </a:xfrm>
                <a:custGeom>
                  <a:avLst/>
                  <a:gdLst>
                    <a:gd name="textAreaLeft" fmla="*/ 0 w 144000"/>
                    <a:gd name="textAreaRight" fmla="*/ 144360 w 144000"/>
                    <a:gd name="textAreaTop" fmla="*/ 0 h 216360"/>
                    <a:gd name="textAreaBottom" fmla="*/ 216720 h 2163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89"/>
                <p:cNvSpPr/>
                <p:nvPr/>
              </p:nvSpPr>
              <p:spPr>
                <a:xfrm rot="19680000">
                  <a:off x="431640" y="5027040"/>
                  <a:ext cx="1206720" cy="1028880"/>
                </a:xfrm>
                <a:custGeom>
                  <a:avLst/>
                  <a:gdLst>
                    <a:gd name="textAreaLeft" fmla="*/ 0 w 1206720"/>
                    <a:gd name="textAreaRight" fmla="*/ 1207080 w 1206720"/>
                    <a:gd name="textAreaTop" fmla="*/ 0 h 1028880"/>
                    <a:gd name="textAreaBottom" fmla="*/ 1029240 h 10288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" name="Group 172"/>
              <p:cNvGrpSpPr/>
              <p:nvPr/>
            </p:nvGrpSpPr>
            <p:grpSpPr>
              <a:xfrm>
                <a:off x="8266320" y="158760"/>
                <a:ext cx="1972080" cy="1901160"/>
                <a:chOff x="8266320" y="158760"/>
                <a:chExt cx="1972080" cy="1901160"/>
              </a:xfrm>
            </p:grpSpPr>
            <p:sp>
              <p:nvSpPr>
                <p:cNvPr id="18" name="Freeform 86"/>
                <p:cNvSpPr/>
                <p:nvPr/>
              </p:nvSpPr>
              <p:spPr>
                <a:xfrm rot="19680000">
                  <a:off x="8893440" y="718920"/>
                  <a:ext cx="182880" cy="27216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272160"/>
                    <a:gd name="textAreaBottom" fmla="*/ 272520 h 2721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87"/>
                <p:cNvSpPr/>
                <p:nvPr/>
              </p:nvSpPr>
              <p:spPr>
                <a:xfrm rot="19680000">
                  <a:off x="9137880" y="9284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745" h="74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88"/>
                <p:cNvSpPr/>
                <p:nvPr/>
              </p:nvSpPr>
              <p:spPr>
                <a:xfrm rot="19680000">
                  <a:off x="9061560" y="617040"/>
                  <a:ext cx="181440" cy="272160"/>
                </a:xfrm>
                <a:custGeom>
                  <a:avLst/>
                  <a:gdLst>
                    <a:gd name="textAreaLeft" fmla="*/ 0 w 181440"/>
                    <a:gd name="textAreaRight" fmla="*/ 181800 w 181440"/>
                    <a:gd name="textAreaTop" fmla="*/ 0 h 272160"/>
                    <a:gd name="textAreaBottom" fmla="*/ 272520 h 2721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89"/>
                <p:cNvSpPr/>
                <p:nvPr/>
              </p:nvSpPr>
              <p:spPr>
                <a:xfrm rot="19680000">
                  <a:off x="8493840" y="462240"/>
                  <a:ext cx="1517040" cy="1293840"/>
                </a:xfrm>
                <a:custGeom>
                  <a:avLst/>
                  <a:gdLst>
                    <a:gd name="textAreaLeft" fmla="*/ 0 w 1517040"/>
                    <a:gd name="textAreaRight" fmla="*/ 1517400 w 1517040"/>
                    <a:gd name="textAreaTop" fmla="*/ 0 h 1293840"/>
                    <a:gd name="textAreaBottom" fmla="*/ 1294200 h 12938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Group 177"/>
              <p:cNvGrpSpPr/>
              <p:nvPr/>
            </p:nvGrpSpPr>
            <p:grpSpPr>
              <a:xfrm>
                <a:off x="7859520" y="3865680"/>
                <a:ext cx="2052720" cy="2007720"/>
                <a:chOff x="7859520" y="3865680"/>
                <a:chExt cx="2052720" cy="2007720"/>
              </a:xfrm>
            </p:grpSpPr>
            <p:sp>
              <p:nvSpPr>
                <p:cNvPr id="23" name="Freeform 72"/>
                <p:cNvSpPr/>
                <p:nvPr/>
              </p:nvSpPr>
              <p:spPr>
                <a:xfrm rot="2400000">
                  <a:off x="8827560" y="4490640"/>
                  <a:ext cx="208080" cy="309960"/>
                </a:xfrm>
                <a:custGeom>
                  <a:avLst/>
                  <a:gdLst>
                    <a:gd name="textAreaLeft" fmla="*/ 0 w 208080"/>
                    <a:gd name="textAreaRight" fmla="*/ 208440 w 208080"/>
                    <a:gd name="textAreaTop" fmla="*/ 0 h 309960"/>
                    <a:gd name="textAreaBottom" fmla="*/ 310320 h 3099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73"/>
                <p:cNvSpPr/>
                <p:nvPr/>
              </p:nvSpPr>
              <p:spPr>
                <a:xfrm rot="2400000">
                  <a:off x="8906040" y="483804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750" h="150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500"/>
                      </a:lnTo>
                      <a:lnTo>
                        <a:pt x="0" y="150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74"/>
                <p:cNvSpPr/>
                <p:nvPr/>
              </p:nvSpPr>
              <p:spPr>
                <a:xfrm rot="2400000">
                  <a:off x="8997480" y="4636080"/>
                  <a:ext cx="209520" cy="309960"/>
                </a:xfrm>
                <a:custGeom>
                  <a:avLst/>
                  <a:gdLst>
                    <a:gd name="textAreaLeft" fmla="*/ 0 w 209520"/>
                    <a:gd name="textAreaRight" fmla="*/ 209880 w 209520"/>
                    <a:gd name="textAreaTop" fmla="*/ 0 h 309960"/>
                    <a:gd name="textAreaBottom" fmla="*/ 310320 h 3099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75"/>
                <p:cNvSpPr/>
                <p:nvPr/>
              </p:nvSpPr>
              <p:spPr>
                <a:xfrm rot="2400000">
                  <a:off x="8074440" y="4239720"/>
                  <a:ext cx="1622520" cy="1259640"/>
                </a:xfrm>
                <a:custGeom>
                  <a:avLst/>
                  <a:gdLst>
                    <a:gd name="textAreaLeft" fmla="*/ 0 w 1622520"/>
                    <a:gd name="textAreaRight" fmla="*/ 1622880 w 1622520"/>
                    <a:gd name="textAreaTop" fmla="*/ 0 h 1259640"/>
                    <a:gd name="textAreaBottom" fmla="*/ 1260000 h 1259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Group 182"/>
              <p:cNvGrpSpPr/>
              <p:nvPr/>
            </p:nvGrpSpPr>
            <p:grpSpPr>
              <a:xfrm>
                <a:off x="8389440" y="5624640"/>
                <a:ext cx="1690920" cy="1638360"/>
                <a:chOff x="8389440" y="5624640"/>
                <a:chExt cx="1690920" cy="1638360"/>
              </a:xfrm>
            </p:grpSpPr>
            <p:sp>
              <p:nvSpPr>
                <p:cNvPr id="28" name="Freeform 79"/>
                <p:cNvSpPr/>
                <p:nvPr/>
              </p:nvSpPr>
              <p:spPr>
                <a:xfrm rot="19440000">
                  <a:off x="8931600" y="6141960"/>
                  <a:ext cx="145080" cy="21528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215280"/>
                    <a:gd name="textAreaBottom" fmla="*/ 215640 h 2152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80"/>
                <p:cNvSpPr/>
                <p:nvPr/>
              </p:nvSpPr>
              <p:spPr>
                <a:xfrm rot="19440000">
                  <a:off x="9130680" y="6300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627" h="62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81"/>
                <p:cNvSpPr/>
                <p:nvPr/>
              </p:nvSpPr>
              <p:spPr>
                <a:xfrm rot="19440000">
                  <a:off x="9059760" y="6051960"/>
                  <a:ext cx="145080" cy="21528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215280"/>
                    <a:gd name="textAreaBottom" fmla="*/ 215640 h 2152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82"/>
                <p:cNvSpPr/>
                <p:nvPr/>
              </p:nvSpPr>
              <p:spPr>
                <a:xfrm rot="19440000">
                  <a:off x="8579880" y="5906520"/>
                  <a:ext cx="1309680" cy="1073880"/>
                </a:xfrm>
                <a:custGeom>
                  <a:avLst/>
                  <a:gdLst>
                    <a:gd name="textAreaLeft" fmla="*/ 0 w 1309680"/>
                    <a:gd name="textAreaRight" fmla="*/ 1310040 w 1309680"/>
                    <a:gd name="textAreaTop" fmla="*/ 0 h 1073880"/>
                    <a:gd name="textAreaBottom" fmla="*/ 1074240 h 107388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Group 669"/>
            <p:cNvGrpSpPr/>
            <p:nvPr/>
          </p:nvGrpSpPr>
          <p:grpSpPr>
            <a:xfrm>
              <a:off x="0" y="61920"/>
              <a:ext cx="10126440" cy="7497360"/>
              <a:chOff x="0" y="61920"/>
              <a:chExt cx="10126440" cy="7497360"/>
            </a:xfrm>
          </p:grpSpPr>
          <p:grpSp>
            <p:nvGrpSpPr>
              <p:cNvPr id="33" name="Group 32"/>
              <p:cNvGrpSpPr/>
              <p:nvPr/>
            </p:nvGrpSpPr>
            <p:grpSpPr>
              <a:xfrm>
                <a:off x="78120" y="61920"/>
                <a:ext cx="2092320" cy="1866240"/>
                <a:chOff x="78120" y="61920"/>
                <a:chExt cx="2092320" cy="1866240"/>
              </a:xfrm>
            </p:grpSpPr>
            <p:sp>
              <p:nvSpPr>
                <p:cNvPr id="34" name="Freeform 79"/>
                <p:cNvSpPr/>
                <p:nvPr/>
              </p:nvSpPr>
              <p:spPr>
                <a:xfrm rot="20040000">
                  <a:off x="840240" y="653040"/>
                  <a:ext cx="219960" cy="326520"/>
                </a:xfrm>
                <a:custGeom>
                  <a:avLst/>
                  <a:gdLst>
                    <a:gd name="textAreaLeft" fmla="*/ 0 w 219960"/>
                    <a:gd name="textAreaRight" fmla="*/ 220320 w 21996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80"/>
                <p:cNvSpPr/>
                <p:nvPr/>
              </p:nvSpPr>
              <p:spPr>
                <a:xfrm rot="20040000">
                  <a:off x="1126800" y="923040"/>
                  <a:ext cx="720" cy="7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950" h="95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81"/>
                <p:cNvSpPr/>
                <p:nvPr/>
              </p:nvSpPr>
              <p:spPr>
                <a:xfrm rot="20040000">
                  <a:off x="1054440" y="550080"/>
                  <a:ext cx="219960" cy="326520"/>
                </a:xfrm>
                <a:custGeom>
                  <a:avLst/>
                  <a:gdLst>
                    <a:gd name="textAreaLeft" fmla="*/ 0 w 219960"/>
                    <a:gd name="textAreaRight" fmla="*/ 220320 w 21996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2"/>
                <p:cNvSpPr/>
                <p:nvPr/>
              </p:nvSpPr>
              <p:spPr>
                <a:xfrm rot="20700000">
                  <a:off x="236160" y="266760"/>
                  <a:ext cx="1775880" cy="1456200"/>
                </a:xfrm>
                <a:custGeom>
                  <a:avLst/>
                  <a:gdLst>
                    <a:gd name="textAreaLeft" fmla="*/ 0 w 1775880"/>
                    <a:gd name="textAreaRight" fmla="*/ 1776240 w 1775880"/>
                    <a:gd name="textAreaTop" fmla="*/ 0 h 1456200"/>
                    <a:gd name="textAreaBottom" fmla="*/ 1456560 h 14562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" name="Group 48"/>
              <p:cNvGrpSpPr/>
              <p:nvPr/>
            </p:nvGrpSpPr>
            <p:grpSpPr>
              <a:xfrm>
                <a:off x="7982640" y="507960"/>
                <a:ext cx="1445400" cy="1355760"/>
                <a:chOff x="7982640" y="507960"/>
                <a:chExt cx="1445400" cy="1355760"/>
              </a:xfrm>
            </p:grpSpPr>
            <p:sp>
              <p:nvSpPr>
                <p:cNvPr id="39" name="Freeform 86"/>
                <p:cNvSpPr/>
                <p:nvPr/>
              </p:nvSpPr>
              <p:spPr>
                <a:xfrm rot="1380000">
                  <a:off x="8678160" y="805320"/>
                  <a:ext cx="138960" cy="206640"/>
                </a:xfrm>
                <a:custGeom>
                  <a:avLst/>
                  <a:gdLst>
                    <a:gd name="textAreaLeft" fmla="*/ 0 w 138960"/>
                    <a:gd name="textAreaRight" fmla="*/ 139320 w 13896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87"/>
                <p:cNvSpPr/>
                <p:nvPr/>
              </p:nvSpPr>
              <p:spPr>
                <a:xfrm rot="1380000">
                  <a:off x="8767800" y="1036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566" h="56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88"/>
                <p:cNvSpPr/>
                <p:nvPr/>
              </p:nvSpPr>
              <p:spPr>
                <a:xfrm rot="1380000">
                  <a:off x="8814960" y="865440"/>
                  <a:ext cx="137880" cy="20664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89"/>
                <p:cNvSpPr/>
                <p:nvPr/>
              </p:nvSpPr>
              <p:spPr>
                <a:xfrm rot="1380000">
                  <a:off x="8128440" y="694080"/>
                  <a:ext cx="1153080" cy="983520"/>
                </a:xfrm>
                <a:custGeom>
                  <a:avLst/>
                  <a:gdLst>
                    <a:gd name="textAreaLeft" fmla="*/ 0 w 1153080"/>
                    <a:gd name="textAreaRight" fmla="*/ 1153440 w 1153080"/>
                    <a:gd name="textAreaTop" fmla="*/ 0 h 983520"/>
                    <a:gd name="textAreaBottom" fmla="*/ 983880 h 9835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" name="Freeform 73"/>
              <p:cNvSpPr/>
              <p:nvPr/>
            </p:nvSpPr>
            <p:spPr>
              <a:xfrm rot="1500000">
                <a:off x="7780680" y="4081320"/>
                <a:ext cx="720" cy="1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969" h="1937">
                    <a:moveTo>
                      <a:pt x="0" y="0"/>
                    </a:moveTo>
                    <a:lnTo>
                      <a:pt x="0" y="0"/>
                    </a:lnTo>
                    <a:lnTo>
                      <a:pt x="0" y="1937"/>
                    </a:lnTo>
                    <a:lnTo>
                      <a:pt x="0" y="19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" name="Group 63"/>
              <p:cNvGrpSpPr/>
              <p:nvPr/>
            </p:nvGrpSpPr>
            <p:grpSpPr>
              <a:xfrm>
                <a:off x="8632440" y="4643640"/>
                <a:ext cx="1494000" cy="1356480"/>
                <a:chOff x="8632440" y="4643640"/>
                <a:chExt cx="1494000" cy="1356480"/>
              </a:xfrm>
            </p:grpSpPr>
            <p:sp>
              <p:nvSpPr>
                <p:cNvPr id="45" name="Freeform 79"/>
                <p:cNvSpPr/>
                <p:nvPr/>
              </p:nvSpPr>
              <p:spPr>
                <a:xfrm rot="1620000">
                  <a:off x="9216000" y="5385600"/>
                  <a:ext cx="136440" cy="202680"/>
                </a:xfrm>
                <a:custGeom>
                  <a:avLst/>
                  <a:gdLst>
                    <a:gd name="textAreaLeft" fmla="*/ 0 w 136440"/>
                    <a:gd name="textAreaRight" fmla="*/ 136800 w 136440"/>
                    <a:gd name="textAreaTop" fmla="*/ 0 h 202680"/>
                    <a:gd name="textAreaBottom" fmla="*/ 203040 h 2026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80"/>
                <p:cNvSpPr/>
                <p:nvPr/>
              </p:nvSpPr>
              <p:spPr>
                <a:xfrm rot="1620000">
                  <a:off x="9296280" y="5614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590" h="59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81"/>
                <p:cNvSpPr/>
                <p:nvPr/>
              </p:nvSpPr>
              <p:spPr>
                <a:xfrm rot="1620000">
                  <a:off x="9346680" y="5453280"/>
                  <a:ext cx="136440" cy="202680"/>
                </a:xfrm>
                <a:custGeom>
                  <a:avLst/>
                  <a:gdLst>
                    <a:gd name="textAreaLeft" fmla="*/ 0 w 136440"/>
                    <a:gd name="textAreaRight" fmla="*/ 136800 w 136440"/>
                    <a:gd name="textAreaTop" fmla="*/ 0 h 202680"/>
                    <a:gd name="textAreaBottom" fmla="*/ 203040 h 2026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82"/>
                <p:cNvSpPr/>
                <p:nvPr/>
              </p:nvSpPr>
              <p:spPr>
                <a:xfrm rot="20460000">
                  <a:off x="8763120" y="4816440"/>
                  <a:ext cx="1232280" cy="1010520"/>
                </a:xfrm>
                <a:custGeom>
                  <a:avLst/>
                  <a:gdLst>
                    <a:gd name="textAreaLeft" fmla="*/ 0 w 1232280"/>
                    <a:gd name="textAreaRight" fmla="*/ 1232640 w 1232280"/>
                    <a:gd name="textAreaTop" fmla="*/ 0 h 1010520"/>
                    <a:gd name="textAreaBottom" fmla="*/ 1010880 h 10105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" name="Group 87"/>
              <p:cNvGrpSpPr/>
              <p:nvPr/>
            </p:nvGrpSpPr>
            <p:grpSpPr>
              <a:xfrm>
                <a:off x="0" y="5879880"/>
                <a:ext cx="1309320" cy="1679400"/>
                <a:chOff x="0" y="5879880"/>
                <a:chExt cx="1309320" cy="1679400"/>
              </a:xfrm>
            </p:grpSpPr>
            <p:sp>
              <p:nvSpPr>
                <p:cNvPr id="50" name="Freeform 21"/>
                <p:cNvSpPr/>
                <p:nvPr/>
              </p:nvSpPr>
              <p:spPr>
                <a:xfrm>
                  <a:off x="412200" y="6287400"/>
                  <a:ext cx="24120" cy="33660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22"/>
                <p:cNvSpPr/>
                <p:nvPr/>
              </p:nvSpPr>
              <p:spPr>
                <a:xfrm flipH="1">
                  <a:off x="431640" y="66312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23"/>
                <p:cNvSpPr/>
                <p:nvPr/>
              </p:nvSpPr>
              <p:spPr>
                <a:xfrm>
                  <a:off x="447840" y="6484680"/>
                  <a:ext cx="305640" cy="147960"/>
                </a:xfrm>
                <a:custGeom>
                  <a:avLst/>
                  <a:gdLst>
                    <a:gd name="textAreaLeft" fmla="*/ 0 w 305640"/>
                    <a:gd name="textAreaRight" fmla="*/ 306000 w 30564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4"/>
                <p:cNvSpPr/>
                <p:nvPr/>
              </p:nvSpPr>
              <p:spPr>
                <a:xfrm>
                  <a:off x="0" y="5879880"/>
                  <a:ext cx="1309320" cy="1679400"/>
                </a:xfrm>
                <a:custGeom>
                  <a:avLst/>
                  <a:gdLst>
                    <a:gd name="textAreaLeft" fmla="*/ 0 w 1309320"/>
                    <a:gd name="textAreaRight" fmla="*/ 1309680 w 1309320"/>
                    <a:gd name="textAreaTop" fmla="*/ 0 h 1679400"/>
                    <a:gd name="textAreaBottom" fmla="*/ 1679760 h 167940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9528">
                  <a:solidFill>
                    <a:srgbClr val="abcb6a">
                      <a:alpha val="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Group 92"/>
              <p:cNvGrpSpPr/>
              <p:nvPr/>
            </p:nvGrpSpPr>
            <p:grpSpPr>
              <a:xfrm>
                <a:off x="0" y="3137760"/>
                <a:ext cx="1025280" cy="1434600"/>
                <a:chOff x="0" y="3137760"/>
                <a:chExt cx="1025280" cy="1434600"/>
              </a:xfrm>
            </p:grpSpPr>
            <p:sp>
              <p:nvSpPr>
                <p:cNvPr id="55" name="Freeform 49"/>
                <p:cNvSpPr/>
                <p:nvPr/>
              </p:nvSpPr>
              <p:spPr>
                <a:xfrm>
                  <a:off x="0" y="3799080"/>
                  <a:ext cx="92880" cy="144720"/>
                </a:xfrm>
                <a:custGeom>
                  <a:avLst/>
                  <a:gdLst>
                    <a:gd name="textAreaLeft" fmla="*/ 0 w 92880"/>
                    <a:gd name="textAreaRight" fmla="*/ 93240 w 92880"/>
                    <a:gd name="textAreaTop" fmla="*/ 0 h 144720"/>
                    <a:gd name="textAreaBottom" fmla="*/ 145080 h 14472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0"/>
                <p:cNvSpPr/>
                <p:nvPr/>
              </p:nvSpPr>
              <p:spPr>
                <a:xfrm flipH="1">
                  <a:off x="95040" y="3951720"/>
                  <a:ext cx="360" cy="2160"/>
                </a:xfrm>
                <a:custGeom>
                  <a:avLst/>
                  <a:gdLst/>
                  <a:ahLst/>
                  <a:rect l="l" t="t" r="r" b="b"/>
                  <a:pathLst>
                    <a:path w="0" h="259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590"/>
                      </a:lnTo>
                      <a:lnTo>
                        <a:pt x="0" y="259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51"/>
                <p:cNvSpPr/>
                <p:nvPr/>
              </p:nvSpPr>
              <p:spPr>
                <a:xfrm>
                  <a:off x="111240" y="3589200"/>
                  <a:ext cx="237960" cy="35460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354600"/>
                    <a:gd name="textAreaBottom" fmla="*/ 354960 h 35460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52"/>
                <p:cNvSpPr/>
                <p:nvPr/>
              </p:nvSpPr>
              <p:spPr>
                <a:xfrm>
                  <a:off x="0" y="3137760"/>
                  <a:ext cx="1025280" cy="1434600"/>
                </a:xfrm>
                <a:custGeom>
                  <a:avLst/>
                  <a:gdLst>
                    <a:gd name="textAreaLeft" fmla="*/ 0 w 1025280"/>
                    <a:gd name="textAreaRight" fmla="*/ 1025640 w 1025280"/>
                    <a:gd name="textAreaTop" fmla="*/ 0 h 1434600"/>
                    <a:gd name="textAreaBottom" fmla="*/ 1434960 h 14346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rgbClr val="d8f2ab">
                    <a:alpha val="14000"/>
                  </a:srgbClr>
                </a:solidFill>
                <a:ln w="9528">
                  <a:solidFill>
                    <a:srgbClr val="abcb6a">
                      <a:alpha val="1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97"/>
              <p:cNvGrpSpPr/>
              <p:nvPr/>
            </p:nvGrpSpPr>
            <p:grpSpPr>
              <a:xfrm>
                <a:off x="5375880" y="6288120"/>
                <a:ext cx="1931760" cy="1271160"/>
                <a:chOff x="5375880" y="6288120"/>
                <a:chExt cx="1931760" cy="1271160"/>
              </a:xfrm>
            </p:grpSpPr>
            <p:sp>
              <p:nvSpPr>
                <p:cNvPr id="60" name="Freeform 28"/>
                <p:cNvSpPr/>
                <p:nvPr/>
              </p:nvSpPr>
              <p:spPr>
                <a:xfrm>
                  <a:off x="6171840" y="6886800"/>
                  <a:ext cx="16920" cy="42336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423360"/>
                    <a:gd name="textAreaBottom" fmla="*/ 423720 h 42336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9"/>
                <p:cNvSpPr/>
                <p:nvPr/>
              </p:nvSpPr>
              <p:spPr>
                <a:xfrm flipH="1">
                  <a:off x="6183360" y="73206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30"/>
                <p:cNvSpPr/>
                <p:nvPr/>
              </p:nvSpPr>
              <p:spPr>
                <a:xfrm>
                  <a:off x="6203880" y="7145640"/>
                  <a:ext cx="389160" cy="1771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77120"/>
                    <a:gd name="textAreaBottom" fmla="*/ 177480 h 17712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31"/>
                <p:cNvSpPr/>
                <p:nvPr/>
              </p:nvSpPr>
              <p:spPr>
                <a:xfrm>
                  <a:off x="5375880" y="6288120"/>
                  <a:ext cx="1931760" cy="1271160"/>
                </a:xfrm>
                <a:custGeom>
                  <a:avLst/>
                  <a:gdLst>
                    <a:gd name="textAreaLeft" fmla="*/ 0 w 1931760"/>
                    <a:gd name="textAreaRight" fmla="*/ 1932120 w 1931760"/>
                    <a:gd name="textAreaTop" fmla="*/ 0 h 1271160"/>
                    <a:gd name="textAreaBottom" fmla="*/ 1271520 h 127116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rgbClr val="d8f2ab">
                    <a:alpha val="9000"/>
                  </a:srgbClr>
                </a:solidFill>
                <a:ln w="9528">
                  <a:solidFill>
                    <a:srgbClr val="feffff">
                      <a:alpha val="12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Group 102"/>
              <p:cNvGrpSpPr/>
              <p:nvPr/>
            </p:nvGrpSpPr>
            <p:grpSpPr>
              <a:xfrm>
                <a:off x="8651880" y="1680120"/>
                <a:ext cx="1427760" cy="1857600"/>
                <a:chOff x="8651880" y="1680120"/>
                <a:chExt cx="1427760" cy="1857600"/>
              </a:xfrm>
            </p:grpSpPr>
            <p:sp>
              <p:nvSpPr>
                <p:cNvPr id="65" name="Freeform 70"/>
                <p:cNvSpPr/>
                <p:nvPr/>
              </p:nvSpPr>
              <p:spPr>
                <a:xfrm>
                  <a:off x="9322920" y="2196000"/>
                  <a:ext cx="326520" cy="214560"/>
                </a:xfrm>
                <a:custGeom>
                  <a:avLst/>
                  <a:gdLst>
                    <a:gd name="textAreaLeft" fmla="*/ 0 w 326520"/>
                    <a:gd name="textAreaRight" fmla="*/ 326880 w 32652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71"/>
                <p:cNvSpPr/>
                <p:nvPr/>
              </p:nvSpPr>
              <p:spPr>
                <a:xfrm flipH="1">
                  <a:off x="9653400" y="24195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72"/>
                <p:cNvSpPr/>
                <p:nvPr/>
              </p:nvSpPr>
              <p:spPr>
                <a:xfrm>
                  <a:off x="9667080" y="2019600"/>
                  <a:ext cx="72720" cy="38664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386640"/>
                    <a:gd name="textAreaBottom" fmla="*/ 387000 h 386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3"/>
                <p:cNvSpPr/>
                <p:nvPr/>
              </p:nvSpPr>
              <p:spPr>
                <a:xfrm>
                  <a:off x="8651880" y="1680120"/>
                  <a:ext cx="1427760" cy="1857600"/>
                </a:xfrm>
                <a:custGeom>
                  <a:avLst/>
                  <a:gdLst>
                    <a:gd name="textAreaLeft" fmla="*/ 0 w 1427760"/>
                    <a:gd name="textAreaRight" fmla="*/ 1428120 w 1427760"/>
                    <a:gd name="textAreaTop" fmla="*/ 0 h 1857600"/>
                    <a:gd name="textAreaBottom" fmla="*/ 1857960 h 185760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112"/>
              <p:cNvGrpSpPr/>
              <p:nvPr/>
            </p:nvGrpSpPr>
            <p:grpSpPr>
              <a:xfrm>
                <a:off x="8465400" y="6551640"/>
                <a:ext cx="1468080" cy="1007640"/>
                <a:chOff x="8465400" y="6551640"/>
                <a:chExt cx="1468080" cy="1007640"/>
              </a:xfrm>
            </p:grpSpPr>
            <p:sp>
              <p:nvSpPr>
                <p:cNvPr id="70" name="Freeform 35"/>
                <p:cNvSpPr/>
                <p:nvPr/>
              </p:nvSpPr>
              <p:spPr>
                <a:xfrm>
                  <a:off x="8465400" y="6995160"/>
                  <a:ext cx="222840" cy="104760"/>
                </a:xfrm>
                <a:custGeom>
                  <a:avLst/>
                  <a:gdLst>
                    <a:gd name="textAreaLeft" fmla="*/ 0 w 222840"/>
                    <a:gd name="textAreaRight" fmla="*/ 223200 w 22284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6"/>
                <p:cNvSpPr/>
                <p:nvPr/>
              </p:nvSpPr>
              <p:spPr>
                <a:xfrm flipH="1">
                  <a:off x="8690400" y="71056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7"/>
                <p:cNvSpPr/>
                <p:nvPr/>
              </p:nvSpPr>
              <p:spPr>
                <a:xfrm>
                  <a:off x="8696520" y="6850800"/>
                  <a:ext cx="15480" cy="2437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243720"/>
                    <a:gd name="textAreaBottom" fmla="*/ 244080 h 24372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8"/>
                <p:cNvSpPr/>
                <p:nvPr/>
              </p:nvSpPr>
              <p:spPr>
                <a:xfrm>
                  <a:off x="8731440" y="6551640"/>
                  <a:ext cx="1202040" cy="1007640"/>
                </a:xfrm>
                <a:custGeom>
                  <a:avLst/>
                  <a:gdLst>
                    <a:gd name="textAreaLeft" fmla="*/ 0 w 1202040"/>
                    <a:gd name="textAreaRight" fmla="*/ 1202400 w 1202040"/>
                    <a:gd name="textAreaTop" fmla="*/ 0 h 1007640"/>
                    <a:gd name="textAreaBottom" fmla="*/ 1008000 h 10076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" name="Group 715"/>
            <p:cNvGrpSpPr/>
            <p:nvPr/>
          </p:nvGrpSpPr>
          <p:grpSpPr>
            <a:xfrm>
              <a:off x="0" y="0"/>
              <a:ext cx="10158840" cy="7520400"/>
              <a:chOff x="0" y="0"/>
              <a:chExt cx="10158840" cy="7520400"/>
            </a:xfrm>
          </p:grpSpPr>
          <p:grpSp>
            <p:nvGrpSpPr>
              <p:cNvPr id="75" name="Group 129"/>
              <p:cNvGrpSpPr/>
              <p:nvPr/>
            </p:nvGrpSpPr>
            <p:grpSpPr>
              <a:xfrm>
                <a:off x="8483040" y="3106440"/>
                <a:ext cx="1544400" cy="3818880"/>
                <a:chOff x="8483040" y="3106440"/>
                <a:chExt cx="1544400" cy="3818880"/>
              </a:xfrm>
            </p:grpSpPr>
            <p:sp>
              <p:nvSpPr>
                <p:cNvPr id="76" name="Freeform 86"/>
                <p:cNvSpPr/>
                <p:nvPr/>
              </p:nvSpPr>
              <p:spPr>
                <a:xfrm rot="20100000">
                  <a:off x="8905680" y="3431160"/>
                  <a:ext cx="121680" cy="181440"/>
                </a:xfrm>
                <a:custGeom>
                  <a:avLst/>
                  <a:gdLst>
                    <a:gd name="textAreaLeft" fmla="*/ 0 w 121680"/>
                    <a:gd name="textAreaRight" fmla="*/ 122040 w 12168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87"/>
                <p:cNvSpPr/>
                <p:nvPr/>
              </p:nvSpPr>
              <p:spPr>
                <a:xfrm rot="20100000">
                  <a:off x="9062280" y="3582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497" h="49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8"/>
                <p:cNvSpPr/>
                <p:nvPr/>
              </p:nvSpPr>
              <p:spPr>
                <a:xfrm rot="20100000">
                  <a:off x="9024840" y="3376440"/>
                  <a:ext cx="120960" cy="18144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9"/>
                <p:cNvSpPr/>
                <p:nvPr/>
              </p:nvSpPr>
              <p:spPr>
                <a:xfrm rot="20100000">
                  <a:off x="8617680" y="3279600"/>
                  <a:ext cx="1011600" cy="862560"/>
                </a:xfrm>
                <a:custGeom>
                  <a:avLst/>
                  <a:gdLst>
                    <a:gd name="textAreaLeft" fmla="*/ 0 w 1011600"/>
                    <a:gd name="textAreaRight" fmla="*/ 1011960 w 1011600"/>
                    <a:gd name="textAreaTop" fmla="*/ 0 h 862560"/>
                    <a:gd name="textAreaBottom" fmla="*/ 862920 h 86256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2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9"/>
                <p:cNvSpPr/>
                <p:nvPr/>
              </p:nvSpPr>
              <p:spPr>
                <a:xfrm rot="780000">
                  <a:off x="8735760" y="5787360"/>
                  <a:ext cx="1192320" cy="101664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016640"/>
                    <a:gd name="textAreaBottom" fmla="*/ 1017000 h 1016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134"/>
              <p:cNvGrpSpPr/>
              <p:nvPr/>
            </p:nvGrpSpPr>
            <p:grpSpPr>
              <a:xfrm>
                <a:off x="7562160" y="6090120"/>
                <a:ext cx="1213560" cy="1430280"/>
                <a:chOff x="7562160" y="6090120"/>
                <a:chExt cx="1213560" cy="1430280"/>
              </a:xfrm>
            </p:grpSpPr>
            <p:sp>
              <p:nvSpPr>
                <p:cNvPr id="82" name="Freeform 80"/>
                <p:cNvSpPr/>
                <p:nvPr/>
              </p:nvSpPr>
              <p:spPr>
                <a:xfrm rot="1980000">
                  <a:off x="8505360" y="60901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521" h="5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2"/>
                <p:cNvSpPr/>
                <p:nvPr/>
              </p:nvSpPr>
              <p:spPr>
                <a:xfrm rot="540000">
                  <a:off x="7624800" y="6549120"/>
                  <a:ext cx="1087560" cy="891720"/>
                </a:xfrm>
                <a:custGeom>
                  <a:avLst/>
                  <a:gdLst>
                    <a:gd name="textAreaLeft" fmla="*/ 0 w 1087560"/>
                    <a:gd name="textAreaRight" fmla="*/ 1087920 w 1087560"/>
                    <a:gd name="textAreaTop" fmla="*/ 0 h 891720"/>
                    <a:gd name="textAreaBottom" fmla="*/ 892080 h 8917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abcb6a">
                    <a:alpha val="10000"/>
                  </a:srgbClr>
                </a:solidFill>
                <a:ln w="9528">
                  <a:solidFill>
                    <a:srgbClr val="abcb6a">
                      <a:alpha val="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154"/>
              <p:cNvGrpSpPr/>
              <p:nvPr/>
            </p:nvGrpSpPr>
            <p:grpSpPr>
              <a:xfrm>
                <a:off x="6964560" y="1163880"/>
                <a:ext cx="2028240" cy="1931760"/>
                <a:chOff x="6964560" y="1163880"/>
                <a:chExt cx="2028240" cy="1931760"/>
              </a:xfrm>
            </p:grpSpPr>
            <p:sp>
              <p:nvSpPr>
                <p:cNvPr id="85" name="Freeform 72"/>
                <p:cNvSpPr/>
                <p:nvPr/>
              </p:nvSpPr>
              <p:spPr>
                <a:xfrm rot="2040000">
                  <a:off x="7896240" y="1750680"/>
                  <a:ext cx="205920" cy="3070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73"/>
                <p:cNvSpPr/>
                <p:nvPr/>
              </p:nvSpPr>
              <p:spPr>
                <a:xfrm rot="2040000">
                  <a:off x="7995600" y="209664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743" h="148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484"/>
                      </a:lnTo>
                      <a:lnTo>
                        <a:pt x="0" y="148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74"/>
                <p:cNvSpPr/>
                <p:nvPr/>
              </p:nvSpPr>
              <p:spPr>
                <a:xfrm rot="2040000">
                  <a:off x="8079480" y="1875240"/>
                  <a:ext cx="207360" cy="307080"/>
                </a:xfrm>
                <a:custGeom>
                  <a:avLst/>
                  <a:gdLst>
                    <a:gd name="textAreaLeft" fmla="*/ 0 w 207360"/>
                    <a:gd name="textAreaRight" fmla="*/ 207720 w 2073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75"/>
                <p:cNvSpPr/>
                <p:nvPr/>
              </p:nvSpPr>
              <p:spPr>
                <a:xfrm rot="2040000">
                  <a:off x="7175520" y="1506240"/>
                  <a:ext cx="1605960" cy="1246680"/>
                </a:xfrm>
                <a:custGeom>
                  <a:avLst/>
                  <a:gdLst>
                    <a:gd name="textAreaLeft" fmla="*/ 0 w 1605960"/>
                    <a:gd name="textAreaRight" fmla="*/ 1606320 w 1605960"/>
                    <a:gd name="textAreaTop" fmla="*/ 0 h 1246680"/>
                    <a:gd name="textAreaBottom" fmla="*/ 1247040 h 124668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9528">
                  <a:solidFill>
                    <a:srgbClr val="d8f2ab">
                      <a:alpha val="1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164"/>
              <p:cNvGrpSpPr/>
              <p:nvPr/>
            </p:nvGrpSpPr>
            <p:grpSpPr>
              <a:xfrm>
                <a:off x="8953200" y="4114080"/>
                <a:ext cx="1205640" cy="1023120"/>
                <a:chOff x="8953200" y="4114080"/>
                <a:chExt cx="1205640" cy="1023120"/>
              </a:xfrm>
            </p:grpSpPr>
            <p:sp>
              <p:nvSpPr>
                <p:cNvPr id="90" name="Freeform 72"/>
                <p:cNvSpPr/>
                <p:nvPr/>
              </p:nvSpPr>
              <p:spPr>
                <a:xfrm rot="20100000">
                  <a:off x="9367920" y="4436280"/>
                  <a:ext cx="135720" cy="20196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201960"/>
                    <a:gd name="textAreaBottom" fmla="*/ 202320 h 2019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73"/>
                <p:cNvSpPr/>
                <p:nvPr/>
              </p:nvSpPr>
              <p:spPr>
                <a:xfrm rot="20100000">
                  <a:off x="9543240" y="460476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489" h="97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78"/>
                      </a:lnTo>
                      <a:lnTo>
                        <a:pt x="0" y="97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74"/>
                <p:cNvSpPr/>
                <p:nvPr/>
              </p:nvSpPr>
              <p:spPr>
                <a:xfrm rot="20100000">
                  <a:off x="9500400" y="4375080"/>
                  <a:ext cx="136440" cy="201960"/>
                </a:xfrm>
                <a:custGeom>
                  <a:avLst/>
                  <a:gdLst>
                    <a:gd name="textAreaLeft" fmla="*/ 0 w 136440"/>
                    <a:gd name="textAreaRight" fmla="*/ 136800 w 136440"/>
                    <a:gd name="textAreaTop" fmla="*/ 0 h 201960"/>
                    <a:gd name="textAreaBottom" fmla="*/ 202320 h 2019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75"/>
                <p:cNvSpPr/>
                <p:nvPr/>
              </p:nvSpPr>
              <p:spPr>
                <a:xfrm rot="20880000">
                  <a:off x="9027000" y="4214880"/>
                  <a:ext cx="1058040" cy="821160"/>
                </a:xfrm>
                <a:custGeom>
                  <a:avLst/>
                  <a:gdLst>
                    <a:gd name="textAreaLeft" fmla="*/ 0 w 1058040"/>
                    <a:gd name="textAreaRight" fmla="*/ 1058400 w 1058040"/>
                    <a:gd name="textAreaTop" fmla="*/ 0 h 821160"/>
                    <a:gd name="textAreaBottom" fmla="*/ 821520 h 8211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48"/>
              <p:cNvGrpSpPr/>
              <p:nvPr/>
            </p:nvGrpSpPr>
            <p:grpSpPr>
              <a:xfrm>
                <a:off x="0" y="756000"/>
                <a:ext cx="1446840" cy="1663560"/>
                <a:chOff x="0" y="756000"/>
                <a:chExt cx="1446840" cy="1663560"/>
              </a:xfrm>
            </p:grpSpPr>
            <p:sp>
              <p:nvSpPr>
                <p:cNvPr id="95" name="Freeform 42"/>
                <p:cNvSpPr/>
                <p:nvPr/>
              </p:nvSpPr>
              <p:spPr>
                <a:xfrm>
                  <a:off x="427680" y="1591560"/>
                  <a:ext cx="392400" cy="212400"/>
                </a:xfrm>
                <a:custGeom>
                  <a:avLst/>
                  <a:gdLst>
                    <a:gd name="textAreaLeft" fmla="*/ 0 w 392400"/>
                    <a:gd name="textAreaRight" fmla="*/ 392760 w 39240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3"/>
                <p:cNvSpPr/>
                <p:nvPr/>
              </p:nvSpPr>
              <p:spPr>
                <a:xfrm flipH="1">
                  <a:off x="827280" y="18093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4"/>
                <p:cNvSpPr/>
                <p:nvPr/>
              </p:nvSpPr>
              <p:spPr>
                <a:xfrm>
                  <a:off x="838080" y="1351440"/>
                  <a:ext cx="47160" cy="442440"/>
                </a:xfrm>
                <a:custGeom>
                  <a:avLst/>
                  <a:gdLst>
                    <a:gd name="textAreaLeft" fmla="*/ 0 w 47160"/>
                    <a:gd name="textAreaRight" fmla="*/ 47520 w 47160"/>
                    <a:gd name="textAreaTop" fmla="*/ 0 h 442440"/>
                    <a:gd name="textAreaBottom" fmla="*/ 442800 h 44244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5"/>
                <p:cNvSpPr/>
                <p:nvPr/>
              </p:nvSpPr>
              <p:spPr>
                <a:xfrm>
                  <a:off x="0" y="756000"/>
                  <a:ext cx="1446840" cy="1663560"/>
                </a:xfrm>
                <a:custGeom>
                  <a:avLst/>
                  <a:gdLst>
                    <a:gd name="textAreaLeft" fmla="*/ 0 w 1446840"/>
                    <a:gd name="textAreaRight" fmla="*/ 1447200 w 1446840"/>
                    <a:gd name="textAreaTop" fmla="*/ 0 h 1663560"/>
                    <a:gd name="textAreaBottom" fmla="*/ 1663920 h 166356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53"/>
              <p:cNvGrpSpPr/>
              <p:nvPr/>
            </p:nvGrpSpPr>
            <p:grpSpPr>
              <a:xfrm>
                <a:off x="0" y="4710960"/>
                <a:ext cx="1314360" cy="1504440"/>
                <a:chOff x="0" y="4710960"/>
                <a:chExt cx="1314360" cy="1504440"/>
              </a:xfrm>
            </p:grpSpPr>
            <p:sp>
              <p:nvSpPr>
                <p:cNvPr id="100" name="Freeform 56"/>
                <p:cNvSpPr/>
                <p:nvPr/>
              </p:nvSpPr>
              <p:spPr>
                <a:xfrm>
                  <a:off x="441000" y="5113440"/>
                  <a:ext cx="14760" cy="3974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97440"/>
                    <a:gd name="textAreaBottom" fmla="*/ 397800 h 39744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57"/>
                <p:cNvSpPr/>
                <p:nvPr/>
              </p:nvSpPr>
              <p:spPr>
                <a:xfrm flipH="1">
                  <a:off x="483480" y="54352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58"/>
                <p:cNvSpPr/>
                <p:nvPr/>
              </p:nvSpPr>
              <p:spPr>
                <a:xfrm>
                  <a:off x="458640" y="5369400"/>
                  <a:ext cx="369720" cy="154080"/>
                </a:xfrm>
                <a:custGeom>
                  <a:avLst/>
                  <a:gdLst>
                    <a:gd name="textAreaLeft" fmla="*/ 0 w 369720"/>
                    <a:gd name="textAreaRight" fmla="*/ 370080 w 36972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59"/>
                <p:cNvSpPr/>
                <p:nvPr/>
              </p:nvSpPr>
              <p:spPr>
                <a:xfrm>
                  <a:off x="0" y="4710960"/>
                  <a:ext cx="1314360" cy="1504440"/>
                </a:xfrm>
                <a:custGeom>
                  <a:avLst/>
                  <a:gdLst>
                    <a:gd name="textAreaLeft" fmla="*/ 0 w 1314360"/>
                    <a:gd name="textAreaRight" fmla="*/ 1314720 w 1314360"/>
                    <a:gd name="textAreaTop" fmla="*/ 0 h 1504440"/>
                    <a:gd name="textAreaBottom" fmla="*/ 1504800 h 150444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58"/>
              <p:cNvGrpSpPr/>
              <p:nvPr/>
            </p:nvGrpSpPr>
            <p:grpSpPr>
              <a:xfrm>
                <a:off x="8120520" y="0"/>
                <a:ext cx="1396080" cy="1091520"/>
                <a:chOff x="8120520" y="0"/>
                <a:chExt cx="1396080" cy="1091520"/>
              </a:xfrm>
            </p:grpSpPr>
            <p:sp>
              <p:nvSpPr>
                <p:cNvPr id="105" name="Freeform 63"/>
                <p:cNvSpPr/>
                <p:nvPr/>
              </p:nvSpPr>
              <p:spPr>
                <a:xfrm>
                  <a:off x="8487360" y="0"/>
                  <a:ext cx="204480" cy="20736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207360"/>
                    <a:gd name="textAreaBottom" fmla="*/ 207720 h 20736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64"/>
                <p:cNvSpPr/>
                <p:nvPr/>
              </p:nvSpPr>
              <p:spPr>
                <a:xfrm flipH="1">
                  <a:off x="8694360" y="21312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65"/>
                <p:cNvSpPr/>
                <p:nvPr/>
              </p:nvSpPr>
              <p:spPr>
                <a:xfrm>
                  <a:off x="8703720" y="0"/>
                  <a:ext cx="93600" cy="20448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66"/>
                <p:cNvSpPr/>
                <p:nvPr/>
              </p:nvSpPr>
              <p:spPr>
                <a:xfrm>
                  <a:off x="8120520" y="0"/>
                  <a:ext cx="1396080" cy="1091520"/>
                </a:xfrm>
                <a:custGeom>
                  <a:avLst/>
                  <a:gdLst>
                    <a:gd name="textAreaLeft" fmla="*/ 0 w 1396080"/>
                    <a:gd name="textAreaRight" fmla="*/ 1396440 w 1396080"/>
                    <a:gd name="textAreaTop" fmla="*/ 0 h 1091520"/>
                    <a:gd name="textAreaBottom" fmla="*/ 1091880 h 109152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63"/>
              <p:cNvGrpSpPr/>
              <p:nvPr/>
            </p:nvGrpSpPr>
            <p:grpSpPr>
              <a:xfrm>
                <a:off x="9176040" y="1091880"/>
                <a:ext cx="903240" cy="1175400"/>
                <a:chOff x="9176040" y="1091880"/>
                <a:chExt cx="903240" cy="1175400"/>
              </a:xfrm>
            </p:grpSpPr>
            <p:sp>
              <p:nvSpPr>
                <p:cNvPr id="110" name="Freeform 70"/>
                <p:cNvSpPr/>
                <p:nvPr/>
              </p:nvSpPr>
              <p:spPr>
                <a:xfrm>
                  <a:off x="9600840" y="1418760"/>
                  <a:ext cx="206640" cy="13572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135720"/>
                    <a:gd name="textAreaBottom" fmla="*/ 136080 h 1357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71"/>
                <p:cNvSpPr/>
                <p:nvPr/>
              </p:nvSpPr>
              <p:spPr>
                <a:xfrm flipH="1">
                  <a:off x="9809640" y="15602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72"/>
                <p:cNvSpPr/>
                <p:nvPr/>
              </p:nvSpPr>
              <p:spPr>
                <a:xfrm>
                  <a:off x="9818640" y="1307160"/>
                  <a:ext cx="46080" cy="2448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244800"/>
                    <a:gd name="textAreaBottom" fmla="*/ 245160 h 24480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73"/>
                <p:cNvSpPr/>
                <p:nvPr/>
              </p:nvSpPr>
              <p:spPr>
                <a:xfrm>
                  <a:off x="9176040" y="1091880"/>
                  <a:ext cx="903240" cy="117540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1175400"/>
                    <a:gd name="textAreaBottom" fmla="*/ 1175760 h 117540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PlaceHolder 1"/>
          <p:cNvSpPr>
            <a:spLocks noGrp="1"/>
          </p:cNvSpPr>
          <p:nvPr>
            <p:ph type="dt" idx="1"/>
          </p:nvPr>
        </p:nvSpPr>
        <p:spPr>
          <a:xfrm>
            <a:off x="7096680" y="6560640"/>
            <a:ext cx="2351880" cy="40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2"/>
          </p:nvPr>
        </p:nvSpPr>
        <p:spPr>
          <a:xfrm>
            <a:off x="1301760" y="6560640"/>
            <a:ext cx="5794560" cy="40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3"/>
          </p:nvPr>
        </p:nvSpPr>
        <p:spPr>
          <a:xfrm>
            <a:off x="631800" y="6561000"/>
            <a:ext cx="669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20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35C7CB3C-FC0A-4741-AB38-49F2D74D4AB1}" type="slidenum">
              <a:rPr b="0" lang="ru-RU" sz="20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ru-RU" sz="1500" spc="-1" strike="noStrike">
              <a:solidFill>
                <a:srgbClr val="40404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3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ru-RU" sz="1300" spc="-1" strike="noStrike">
              <a:solidFill>
                <a:srgbClr val="40404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3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ru-RU" sz="1300" spc="-1" strike="noStrike">
              <a:solidFill>
                <a:srgbClr val="40404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" descr=""/>
          <p:cNvPicPr/>
          <p:nvPr/>
        </p:nvPicPr>
        <p:blipFill>
          <a:blip r:embed="rId1"/>
          <a:stretch/>
        </p:blipFill>
        <p:spPr>
          <a:xfrm>
            <a:off x="182520" y="-181080"/>
            <a:ext cx="9937440" cy="75592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"/>
          <p:cNvSpPr/>
          <p:nvPr/>
        </p:nvSpPr>
        <p:spPr>
          <a:xfrm>
            <a:off x="136440" y="0"/>
            <a:ext cx="9943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28 «Надеж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58040" cy="75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58040" cy="75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5400360" cy="7559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2" descr=""/>
          <p:cNvPicPr/>
          <p:nvPr/>
        </p:nvPicPr>
        <p:blipFill>
          <a:blip r:embed="rId2"/>
          <a:stretch/>
        </p:blipFill>
        <p:spPr>
          <a:xfrm>
            <a:off x="5040360" y="0"/>
            <a:ext cx="5040000" cy="75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1" descr=""/>
          <p:cNvPicPr/>
          <p:nvPr/>
        </p:nvPicPr>
        <p:blipFill>
          <a:blip r:embed="rId1"/>
          <a:stretch/>
        </p:blipFill>
        <p:spPr>
          <a:xfrm>
            <a:off x="-31680" y="1440"/>
            <a:ext cx="5393880" cy="7559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2" descr=""/>
          <p:cNvPicPr/>
          <p:nvPr/>
        </p:nvPicPr>
        <p:blipFill>
          <a:blip r:embed="rId2"/>
          <a:stretch/>
        </p:blipFill>
        <p:spPr>
          <a:xfrm>
            <a:off x="5111640" y="1440"/>
            <a:ext cx="4992480" cy="75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" descr=""/>
          <p:cNvPicPr/>
          <p:nvPr/>
        </p:nvPicPr>
        <p:blipFill>
          <a:blip r:embed="rId1"/>
          <a:stretch/>
        </p:blipFill>
        <p:spPr>
          <a:xfrm>
            <a:off x="11160" y="33480"/>
            <a:ext cx="4524120" cy="75592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" descr=""/>
          <p:cNvPicPr/>
          <p:nvPr/>
        </p:nvPicPr>
        <p:blipFill>
          <a:blip r:embed="rId2"/>
          <a:stretch/>
        </p:blipFill>
        <p:spPr>
          <a:xfrm>
            <a:off x="4535640" y="-108000"/>
            <a:ext cx="5544720" cy="75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" descr=""/>
          <p:cNvPicPr/>
          <p:nvPr/>
        </p:nvPicPr>
        <p:blipFill>
          <a:blip r:embed="rId1"/>
          <a:stretch/>
        </p:blipFill>
        <p:spPr>
          <a:xfrm>
            <a:off x="1800360" y="0"/>
            <a:ext cx="6408360" cy="75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"/>
          <p:cNvPicPr/>
          <p:nvPr/>
        </p:nvPicPr>
        <p:blipFill>
          <a:blip r:embed="rId1"/>
          <a:stretch/>
        </p:blipFill>
        <p:spPr>
          <a:xfrm>
            <a:off x="2205000" y="0"/>
            <a:ext cx="5670360" cy="75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303640" y="0"/>
            <a:ext cx="5670360" cy="75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2"/>
          <p:cNvSpPr/>
          <p:nvPr/>
        </p:nvSpPr>
        <p:spPr>
          <a:xfrm>
            <a:off x="503280" y="466560"/>
            <a:ext cx="9145080" cy="57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Тип проекта:</a:t>
            </a:r>
            <a:r>
              <a:rPr b="0" lang="ru-RU" sz="3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природоохранный социально-образоват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одолжительность проекта:</a:t>
            </a:r>
            <a:r>
              <a:rPr b="0" lang="ru-RU" sz="3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долгосрочный с 01.09.19. по 31.05.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Участники проекта:</a:t>
            </a:r>
            <a:r>
              <a:rPr b="0" lang="ru-RU" sz="3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 проекте участвуют педагоги ДОУ, воспитанники младших, средних, старших и подготовительных групп детского сада «Надежда» и их родители (законные представители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503280" y="250920"/>
            <a:ext cx="8713440" cy="56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 проекта</a:t>
            </a:r>
            <a:r>
              <a:rPr b="1" lang="ru-RU" sz="3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– формирование у ребёнка богатого внутреннего мира и системы ценностных отношений к природе, её животному и растительному миру, развитие внутренней потребности любви к природе и, как следствие, бережного отношения к ней, воспитание у ребёнка культуры природолюбия</a:t>
            </a:r>
            <a:r>
              <a:rPr b="0" lang="ru-RU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0" y="0"/>
            <a:ext cx="10080360" cy="61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ать ребёнку знания об окружающей его Природе, познакомить с разнообразием животного и растительного мира его малой род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пособствовать развитию понимания ребёнком неразделимого единства человека и природы, понимание общечеловеческой ценности прир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омочь ребёнку осознать необходимость сохранения, охраны и спасения природы для выживания на земле самого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сширить общий кругозор детей, способствовать развитию их творческих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пособствовать воспитанию потребности принимать активное участие в природоохранной и экол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431640" y="108000"/>
            <a:ext cx="9432720" cy="69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ервый этап проекта был подготовительный. </a:t>
            </a: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а этом этапе определились с целями, задачами, спрогнозировали результаты проекта. Было подобрано программно-методическое обеспечение по данной проблеме; наглядно-демонстрационный, иллюстрированный, раздаточный материал. Разработали перспективный план работы по проекту. Изучили и проанализировали художественную литературу по реализации природоохранного социально-образовательного проекта «Эколята-Дошколята»; аудио- и видео материалы, интернет – ресурсы. Включили в проект образы сказочных героев «Эколят» – друзей и защитников Природы. В работе с родителями, в рамках проекта разработали: памятки, консультации для родителей, с целью привлечения внимания к проблеме защиты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360360" y="0"/>
            <a:ext cx="972000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этап основной, самый плодотворный и содержательный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детьми проводились наблюдения, беседы, презентации о жизни животных и растений: «Береги Природу», «Будь вежлив с Природой и внимателен к Природе», «Умей гулять на Природе», «Дружить с Природой», «Единство Человека и Природы», «Чудеса Природы», «Правила поведения на Природе» и т. д., отгадывание загадок, словесные и дидактические игры: «Как вести себя в лесу», «Алые цветки», «Что легче?» «Подарки от берёзы», «Зачем и почему у животных?», «Кто как кричит», «Детки с ветки», «Кто, где живет и чем питается» и мн.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0" y="179280"/>
            <a:ext cx="1008036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октябр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едагоги совместно с воспитанниками всего детского сада провели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й праздник: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олята – друзья и защитники природы»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58040" cy="75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58040" cy="75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pring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2455596%5b%5bfn=Весна%5d%5d</Template>
  <TotalTime>75</TotalTime>
  <Application>LibreOffice/7.4.7.2$Linux_X86_64 LibreOffice_project/40$Build-2</Application>
  <AppVersion>15.0000</AppVersion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>Пользователь</dc:creator>
  <dc:description/>
  <dc:language>en-US</dc:language>
  <cp:lastModifiedBy>Никита</cp:lastModifiedBy>
  <dcterms:modified xsi:type="dcterms:W3CDTF">2023-05-30T18:16:40Z</dcterms:modified>
  <cp:revision>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8</vt:r8>
  </property>
</Properties>
</file>