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637-BF0F-4704-B4DE-9ACFA83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C2A-4318-479A-805F-7359145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A92-E448-4A3B-8FB2-3FD94109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97D-9593-4DC2-87CC-4B5F73C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EEE-726A-442F-B706-90A5DF0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E4D-3F51-4D66-AFEC-3FC03D66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D4F-27B7-486C-B71E-F4B2048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350-027F-4E5E-BD35-9CFB0D4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47D-855B-4312-9A5B-A424D9FA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74A-1AD5-426E-A676-ADB112D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D03-7FF7-4B12-BBAA-82A10CF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F62-81D4-41C6-A7A1-9FAF5E0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74D5-5188-41AA-93C2-F0B12F4A9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8"/>
          <p:cNvSpPr/>
          <p:nvPr/>
        </p:nvSpPr>
        <p:spPr>
          <a:xfrm>
            <a:off x="468360" y="404640"/>
            <a:ext cx="7929360" cy="1417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10 октябр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ropis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117"/>
          <p:cNvSpPr/>
          <p:nvPr/>
        </p:nvSpPr>
        <p:spPr>
          <a:xfrm>
            <a:off x="0" y="0"/>
            <a:ext cx="5000760" cy="57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торяем то, что зн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"/>
          <p:cNvGrpSpPr/>
          <p:nvPr/>
        </p:nvGrpSpPr>
        <p:grpSpPr>
          <a:xfrm>
            <a:off x="1371600" y="4952880"/>
            <a:ext cx="7238520" cy="1697040"/>
            <a:chOff x="1371600" y="4952880"/>
            <a:chExt cx="7238520" cy="1697040"/>
          </a:xfrm>
        </p:grpSpPr>
        <p:grpSp>
          <p:nvGrpSpPr>
            <p:cNvPr id="44" name="Group 3"/>
            <p:cNvGrpSpPr/>
            <p:nvPr/>
          </p:nvGrpSpPr>
          <p:grpSpPr>
            <a:xfrm>
              <a:off x="1371600" y="4952880"/>
              <a:ext cx="7238520" cy="1697040"/>
              <a:chOff x="1371600" y="4952880"/>
              <a:chExt cx="7238520" cy="169704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2334960" y="4952880"/>
                <a:ext cx="972720" cy="73008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Rectangle 5"/>
              <p:cNvSpPr/>
              <p:nvPr/>
            </p:nvSpPr>
            <p:spPr>
              <a:xfrm>
                <a:off x="1660320" y="5105160"/>
                <a:ext cx="331200" cy="79560"/>
              </a:xfrm>
              <a:prstGeom prst="rect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6"/>
              <p:cNvSpPr/>
              <p:nvPr/>
            </p:nvSpPr>
            <p:spPr>
              <a:xfrm>
                <a:off x="1456920" y="5600520"/>
                <a:ext cx="2035080" cy="67788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7"/>
              <p:cNvSpPr/>
              <p:nvPr/>
            </p:nvSpPr>
            <p:spPr>
              <a:xfrm>
                <a:off x="1658520" y="6132240"/>
                <a:ext cx="55872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8"/>
              <p:cNvSpPr/>
              <p:nvPr/>
            </p:nvSpPr>
            <p:spPr>
              <a:xfrm>
                <a:off x="2819160" y="6132240"/>
                <a:ext cx="558360" cy="51768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9"/>
              <p:cNvSpPr/>
              <p:nvPr/>
            </p:nvSpPr>
            <p:spPr>
              <a:xfrm>
                <a:off x="2523960" y="5033880"/>
                <a:ext cx="702720" cy="477720"/>
              </a:xfrm>
              <a:prstGeom prst="rect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"/>
              <p:cNvSpPr/>
              <p:nvPr/>
            </p:nvSpPr>
            <p:spPr>
              <a:xfrm>
                <a:off x="3651120" y="4962240"/>
                <a:ext cx="2422080" cy="1316160"/>
              </a:xfrm>
              <a:prstGeom prst="rect">
                <a:avLst/>
              </a:prstGeom>
              <a:solidFill>
                <a:srgbClr val="99cc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Oval 11"/>
              <p:cNvSpPr/>
              <p:nvPr/>
            </p:nvSpPr>
            <p:spPr>
              <a:xfrm>
                <a:off x="4024080" y="6091200"/>
                <a:ext cx="5727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12"/>
              <p:cNvSpPr/>
              <p:nvPr/>
            </p:nvSpPr>
            <p:spPr>
              <a:xfrm>
                <a:off x="5184360" y="6091200"/>
                <a:ext cx="5727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3"/>
              <p:cNvSpPr/>
              <p:nvPr/>
            </p:nvSpPr>
            <p:spPr>
              <a:xfrm>
                <a:off x="1371600" y="5681520"/>
                <a:ext cx="85320" cy="531720"/>
              </a:xfrm>
              <a:prstGeom prst="rect">
                <a:avLst/>
              </a:prstGeom>
              <a:solidFill>
                <a:srgbClr val="69be78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6173640" y="4962240"/>
                <a:ext cx="2436480" cy="1316160"/>
              </a:xfrm>
              <a:prstGeom prst="rect">
                <a:avLst/>
              </a:prstGeom>
              <a:solidFill>
                <a:srgbClr val="ffb3d9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5"/>
              <p:cNvSpPr/>
              <p:nvPr/>
            </p:nvSpPr>
            <p:spPr>
              <a:xfrm>
                <a:off x="6561000" y="6091200"/>
                <a:ext cx="5583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6"/>
              <p:cNvSpPr/>
              <p:nvPr/>
            </p:nvSpPr>
            <p:spPr>
              <a:xfrm>
                <a:off x="7721280" y="6091200"/>
                <a:ext cx="560160" cy="519120"/>
              </a:xfrm>
              <a:prstGeom prst="ellipse">
                <a:avLst/>
              </a:prstGeom>
              <a:solidFill>
                <a:srgbClr val="716f6e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1887120" y="5562360"/>
                <a:ext cx="113184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ffff00"/>
                    </a:solidFill>
                    <a:latin typeface="Comic Sans MS"/>
                  </a:rPr>
                  <a:t>-ЕК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8"/>
            <p:cNvSpPr/>
            <p:nvPr/>
          </p:nvSpPr>
          <p:spPr>
            <a:xfrm>
              <a:off x="1739520" y="5213160"/>
              <a:ext cx="185400" cy="41292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61" name="Rectangle 20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3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6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8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1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4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76" name="Rectangle 35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6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7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1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43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6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9"/>
          <p:cNvGrpSpPr/>
          <p:nvPr/>
        </p:nvGrpSpPr>
        <p:grpSpPr>
          <a:xfrm>
            <a:off x="457200" y="3048120"/>
            <a:ext cx="7224840" cy="1829880"/>
            <a:chOff x="457200" y="3048120"/>
            <a:chExt cx="7224840" cy="1829880"/>
          </a:xfrm>
        </p:grpSpPr>
        <p:sp>
          <p:nvSpPr>
            <p:cNvPr id="91" name="Rectangle 50"/>
            <p:cNvSpPr/>
            <p:nvPr/>
          </p:nvSpPr>
          <p:spPr>
            <a:xfrm>
              <a:off x="830160" y="3377880"/>
              <a:ext cx="185760" cy="42516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1"/>
            <p:cNvSpPr/>
            <p:nvPr/>
          </p:nvSpPr>
          <p:spPr>
            <a:xfrm>
              <a:off x="1603440" y="3048120"/>
              <a:ext cx="974520" cy="755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2"/>
            <p:cNvSpPr/>
            <p:nvPr/>
          </p:nvSpPr>
          <p:spPr>
            <a:xfrm>
              <a:off x="457200" y="3887640"/>
              <a:ext cx="85680" cy="54900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3"/>
            <p:cNvSpPr/>
            <p:nvPr/>
          </p:nvSpPr>
          <p:spPr>
            <a:xfrm>
              <a:off x="528480" y="3790800"/>
              <a:ext cx="2035440" cy="701280"/>
            </a:xfrm>
            <a:prstGeom prst="rect">
              <a:avLst/>
            </a:prstGeom>
            <a:solidFill>
              <a:srgbClr val="69be78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730080" y="4341600"/>
              <a:ext cx="55728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1890720" y="4341600"/>
              <a:ext cx="560160" cy="53640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6"/>
            <p:cNvSpPr/>
            <p:nvPr/>
          </p:nvSpPr>
          <p:spPr>
            <a:xfrm>
              <a:off x="1776240" y="3171600"/>
              <a:ext cx="703440" cy="4950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7"/>
            <p:cNvSpPr/>
            <p:nvPr/>
          </p:nvSpPr>
          <p:spPr>
            <a:xfrm>
              <a:off x="744480" y="3309840"/>
              <a:ext cx="328680" cy="82080"/>
            </a:xfrm>
            <a:prstGeom prst="rect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8"/>
            <p:cNvSpPr/>
            <p:nvPr/>
          </p:nvSpPr>
          <p:spPr>
            <a:xfrm>
              <a:off x="2722680" y="3130560"/>
              <a:ext cx="2422440" cy="1361520"/>
            </a:xfrm>
            <a:prstGeom prst="rect">
              <a:avLst/>
            </a:prstGeom>
            <a:solidFill>
              <a:srgbClr val="cc99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309564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4255920" y="4300560"/>
              <a:ext cx="5731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5245200" y="3130560"/>
              <a:ext cx="2436840" cy="136152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563256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792840" y="4300560"/>
              <a:ext cx="558720" cy="536040"/>
            </a:xfrm>
            <a:prstGeom prst="ellipse">
              <a:avLst/>
            </a:prstGeom>
            <a:solidFill>
              <a:srgbClr val="716f6e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72"/>
          <p:cNvSpPr/>
          <p:nvPr/>
        </p:nvSpPr>
        <p:spPr>
          <a:xfrm>
            <a:off x="1001880" y="3657600"/>
            <a:ext cx="139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-ИК-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83"/>
          <p:cNvSpPr/>
          <p:nvPr/>
        </p:nvSpPr>
        <p:spPr>
          <a:xfrm>
            <a:off x="1116000" y="404640"/>
            <a:ext cx="3059280" cy="2521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че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85"/>
          <p:cNvSpPr/>
          <p:nvPr/>
        </p:nvSpPr>
        <p:spPr>
          <a:xfrm>
            <a:off x="3564000" y="2997360"/>
            <a:ext cx="4937040" cy="2016000"/>
          </a:xfrm>
          <a:prstGeom prst="wedgeEllipseCallout">
            <a:avLst>
              <a:gd name="adj1" fmla="val 34203"/>
              <a:gd name="adj2" fmla="val 6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пиши,  вставляя  пропущенные  буквы, объясняя выбор бу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"/>
          <p:cNvSpPr/>
          <p:nvPr/>
        </p:nvSpPr>
        <p:spPr>
          <a:xfrm>
            <a:off x="61128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лат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08"/>
          <p:cNvGrpSpPr/>
          <p:nvPr/>
        </p:nvGrpSpPr>
        <p:grpSpPr>
          <a:xfrm>
            <a:off x="2268360" y="404280"/>
            <a:ext cx="1008360" cy="703800"/>
            <a:chOff x="2268360" y="404280"/>
            <a:chExt cx="1008360" cy="703800"/>
          </a:xfrm>
        </p:grpSpPr>
        <p:sp>
          <p:nvSpPr>
            <p:cNvPr id="110" name="Text Box 104"/>
            <p:cNvSpPr/>
            <p:nvPr/>
          </p:nvSpPr>
          <p:spPr>
            <a:xfrm>
              <a:off x="2268360" y="404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2340000" y="404280"/>
              <a:ext cx="503280" cy="288000"/>
              <a:chOff x="2340000" y="404280"/>
              <a:chExt cx="503280" cy="288000"/>
            </a:xfrm>
          </p:grpSpPr>
          <p:sp>
            <p:nvSpPr>
              <p:cNvPr id="112" name="Line 105"/>
              <p:cNvSpPr/>
              <p:nvPr/>
            </p:nvSpPr>
            <p:spPr>
              <a:xfrm flipV="1">
                <a:off x="2340000" y="404280"/>
                <a:ext cx="21600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06"/>
              <p:cNvSpPr/>
              <p:nvPr/>
            </p:nvSpPr>
            <p:spPr>
              <a:xfrm>
                <a:off x="2556000" y="404640"/>
                <a:ext cx="2872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Text Box 114"/>
          <p:cNvSpPr/>
          <p:nvPr/>
        </p:nvSpPr>
        <p:spPr>
          <a:xfrm>
            <a:off x="478800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ист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15"/>
          <p:cNvGrpSpPr/>
          <p:nvPr/>
        </p:nvGrpSpPr>
        <p:grpSpPr>
          <a:xfrm>
            <a:off x="6445080" y="404280"/>
            <a:ext cx="1008360" cy="703800"/>
            <a:chOff x="6445080" y="404280"/>
            <a:chExt cx="1008360" cy="703800"/>
          </a:xfrm>
        </p:grpSpPr>
        <p:sp>
          <p:nvSpPr>
            <p:cNvPr id="116" name="Text Box 116"/>
            <p:cNvSpPr/>
            <p:nvPr/>
          </p:nvSpPr>
          <p:spPr>
            <a:xfrm>
              <a:off x="6445080" y="404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17"/>
            <p:cNvGrpSpPr/>
            <p:nvPr/>
          </p:nvGrpSpPr>
          <p:grpSpPr>
            <a:xfrm>
              <a:off x="6516720" y="404280"/>
              <a:ext cx="503280" cy="288000"/>
              <a:chOff x="6516720" y="404280"/>
              <a:chExt cx="503280" cy="288000"/>
            </a:xfrm>
          </p:grpSpPr>
          <p:sp>
            <p:nvSpPr>
              <p:cNvPr id="118" name="Line 118"/>
              <p:cNvSpPr/>
              <p:nvPr/>
            </p:nvSpPr>
            <p:spPr>
              <a:xfrm flipV="1">
                <a:off x="6516720" y="404280"/>
                <a:ext cx="21600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19"/>
              <p:cNvSpPr/>
              <p:nvPr/>
            </p:nvSpPr>
            <p:spPr>
              <a:xfrm>
                <a:off x="6732720" y="404640"/>
                <a:ext cx="2872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Text Box 120"/>
          <p:cNvSpPr/>
          <p:nvPr/>
        </p:nvSpPr>
        <p:spPr>
          <a:xfrm>
            <a:off x="611280" y="1268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ол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21"/>
          <p:cNvGrpSpPr/>
          <p:nvPr/>
        </p:nvGrpSpPr>
        <p:grpSpPr>
          <a:xfrm>
            <a:off x="1692360" y="1268280"/>
            <a:ext cx="1008000" cy="703440"/>
            <a:chOff x="1692360" y="1268280"/>
            <a:chExt cx="1008000" cy="703440"/>
          </a:xfrm>
        </p:grpSpPr>
        <p:sp>
          <p:nvSpPr>
            <p:cNvPr id="122" name="Text Box 122"/>
            <p:cNvSpPr/>
            <p:nvPr/>
          </p:nvSpPr>
          <p:spPr>
            <a:xfrm>
              <a:off x="1692360" y="12682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123"/>
            <p:cNvGrpSpPr/>
            <p:nvPr/>
          </p:nvGrpSpPr>
          <p:grpSpPr>
            <a:xfrm>
              <a:off x="1763640" y="1268280"/>
              <a:ext cx="502560" cy="287280"/>
              <a:chOff x="1763640" y="1268280"/>
              <a:chExt cx="502560" cy="287280"/>
            </a:xfrm>
          </p:grpSpPr>
          <p:sp>
            <p:nvSpPr>
              <p:cNvPr id="124" name="Line 124"/>
              <p:cNvSpPr/>
              <p:nvPr/>
            </p:nvSpPr>
            <p:spPr>
              <a:xfrm flipV="1">
                <a:off x="1763640" y="126828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5"/>
              <p:cNvSpPr/>
              <p:nvPr/>
            </p:nvSpPr>
            <p:spPr>
              <a:xfrm>
                <a:off x="1979280" y="126828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126"/>
          <p:cNvSpPr/>
          <p:nvPr/>
        </p:nvSpPr>
        <p:spPr>
          <a:xfrm>
            <a:off x="4859280" y="1268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илет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127"/>
          <p:cNvGrpSpPr/>
          <p:nvPr/>
        </p:nvGrpSpPr>
        <p:grpSpPr>
          <a:xfrm>
            <a:off x="6300720" y="1268280"/>
            <a:ext cx="1008000" cy="703440"/>
            <a:chOff x="6300720" y="1268280"/>
            <a:chExt cx="1008000" cy="703440"/>
          </a:xfrm>
        </p:grpSpPr>
        <p:sp>
          <p:nvSpPr>
            <p:cNvPr id="128" name="Text Box 128"/>
            <p:cNvSpPr/>
            <p:nvPr/>
          </p:nvSpPr>
          <p:spPr>
            <a:xfrm>
              <a:off x="6300720" y="12682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129"/>
            <p:cNvGrpSpPr/>
            <p:nvPr/>
          </p:nvGrpSpPr>
          <p:grpSpPr>
            <a:xfrm>
              <a:off x="6372000" y="1268280"/>
              <a:ext cx="502560" cy="287280"/>
              <a:chOff x="6372000" y="1268280"/>
              <a:chExt cx="502560" cy="287280"/>
            </a:xfrm>
          </p:grpSpPr>
          <p:sp>
            <p:nvSpPr>
              <p:cNvPr id="130" name="Line 130"/>
              <p:cNvSpPr/>
              <p:nvPr/>
            </p:nvSpPr>
            <p:spPr>
              <a:xfrm flipV="1">
                <a:off x="6372000" y="126828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131"/>
              <p:cNvSpPr/>
              <p:nvPr/>
            </p:nvSpPr>
            <p:spPr>
              <a:xfrm>
                <a:off x="6587640" y="126828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Oval 132"/>
          <p:cNvSpPr/>
          <p:nvPr/>
        </p:nvSpPr>
        <p:spPr>
          <a:xfrm>
            <a:off x="5076720" y="333360"/>
            <a:ext cx="3059280" cy="252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 исче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3"/>
          <p:cNvGrpSpPr/>
          <p:nvPr/>
        </p:nvGrpSpPr>
        <p:grpSpPr>
          <a:xfrm>
            <a:off x="5076720" y="331920"/>
            <a:ext cx="3059280" cy="2520720"/>
            <a:chOff x="5076720" y="331920"/>
            <a:chExt cx="3059280" cy="2520720"/>
          </a:xfrm>
        </p:grpSpPr>
        <p:sp>
          <p:nvSpPr>
            <p:cNvPr id="134" name="Oval 134"/>
            <p:cNvSpPr/>
            <p:nvPr/>
          </p:nvSpPr>
          <p:spPr>
            <a:xfrm>
              <a:off x="5076720" y="331920"/>
              <a:ext cx="3059280" cy="25207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Comic Sans MS"/>
                </a:rPr>
                <a:t>-ИК-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135"/>
            <p:cNvGrpSpPr/>
            <p:nvPr/>
          </p:nvGrpSpPr>
          <p:grpSpPr>
            <a:xfrm>
              <a:off x="5724360" y="763200"/>
              <a:ext cx="1224000" cy="432000"/>
              <a:chOff x="5724360" y="763200"/>
              <a:chExt cx="1224000" cy="432000"/>
            </a:xfrm>
          </p:grpSpPr>
          <p:sp>
            <p:nvSpPr>
              <p:cNvPr id="136" name="Line 136"/>
              <p:cNvSpPr/>
              <p:nvPr/>
            </p:nvSpPr>
            <p:spPr>
              <a:xfrm flipV="1">
                <a:off x="5724360" y="763200"/>
                <a:ext cx="64944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37"/>
              <p:cNvSpPr/>
              <p:nvPr/>
            </p:nvSpPr>
            <p:spPr>
              <a:xfrm>
                <a:off x="6373800" y="763560"/>
                <a:ext cx="57456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AutoShape 139">
            <a:hlinkClick r:id="rId3" action="ppaction://hlinksldjump"/>
          </p:cNvPr>
          <p:cNvSpPr/>
          <p:nvPr/>
        </p:nvSpPr>
        <p:spPr>
          <a:xfrm>
            <a:off x="25092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45"/>
          <p:cNvGrpSpPr/>
          <p:nvPr/>
        </p:nvGrpSpPr>
        <p:grpSpPr>
          <a:xfrm>
            <a:off x="1116000" y="403200"/>
            <a:ext cx="3059280" cy="2520720"/>
            <a:chOff x="1116000" y="403200"/>
            <a:chExt cx="3059280" cy="2520720"/>
          </a:xfrm>
        </p:grpSpPr>
        <p:sp>
          <p:nvSpPr>
            <p:cNvPr id="140" name="Oval 146"/>
            <p:cNvSpPr/>
            <p:nvPr/>
          </p:nvSpPr>
          <p:spPr>
            <a:xfrm>
              <a:off x="1116000" y="403200"/>
              <a:ext cx="3059280" cy="25207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Comic Sans MS"/>
                </a:rPr>
                <a:t>-ЕК-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147"/>
            <p:cNvGrpSpPr/>
            <p:nvPr/>
          </p:nvGrpSpPr>
          <p:grpSpPr>
            <a:xfrm>
              <a:off x="1763640" y="834480"/>
              <a:ext cx="1224000" cy="432000"/>
              <a:chOff x="1763640" y="834480"/>
              <a:chExt cx="1224000" cy="432000"/>
            </a:xfrm>
          </p:grpSpPr>
          <p:sp>
            <p:nvSpPr>
              <p:cNvPr id="142" name="Line 148"/>
              <p:cNvSpPr/>
              <p:nvPr/>
            </p:nvSpPr>
            <p:spPr>
              <a:xfrm flipV="1">
                <a:off x="1763640" y="834480"/>
                <a:ext cx="64944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49"/>
              <p:cNvSpPr/>
              <p:nvPr/>
            </p:nvSpPr>
            <p:spPr>
              <a:xfrm>
                <a:off x="2413080" y="834840"/>
                <a:ext cx="57456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Text Box 151"/>
          <p:cNvSpPr/>
          <p:nvPr/>
        </p:nvSpPr>
        <p:spPr>
          <a:xfrm>
            <a:off x="61128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соч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162"/>
          <p:cNvGrpSpPr/>
          <p:nvPr/>
        </p:nvGrpSpPr>
        <p:grpSpPr>
          <a:xfrm>
            <a:off x="2050920" y="2060640"/>
            <a:ext cx="1008360" cy="703440"/>
            <a:chOff x="2050920" y="2060640"/>
            <a:chExt cx="1008360" cy="703440"/>
          </a:xfrm>
        </p:grpSpPr>
        <p:sp>
          <p:nvSpPr>
            <p:cNvPr id="146" name="Text Box 163"/>
            <p:cNvSpPr/>
            <p:nvPr/>
          </p:nvSpPr>
          <p:spPr>
            <a:xfrm>
              <a:off x="2050920" y="2060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е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164"/>
            <p:cNvGrpSpPr/>
            <p:nvPr/>
          </p:nvGrpSpPr>
          <p:grpSpPr>
            <a:xfrm>
              <a:off x="2122560" y="2060640"/>
              <a:ext cx="503280" cy="294480"/>
              <a:chOff x="2122560" y="2060640"/>
              <a:chExt cx="503280" cy="294480"/>
            </a:xfrm>
          </p:grpSpPr>
          <p:sp>
            <p:nvSpPr>
              <p:cNvPr id="148" name="Line 165"/>
              <p:cNvSpPr/>
              <p:nvPr/>
            </p:nvSpPr>
            <p:spPr>
              <a:xfrm flipV="1">
                <a:off x="2122560" y="2060640"/>
                <a:ext cx="21600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66"/>
              <p:cNvSpPr/>
              <p:nvPr/>
            </p:nvSpPr>
            <p:spPr>
              <a:xfrm>
                <a:off x="2338560" y="2060640"/>
                <a:ext cx="2872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Text Box 167"/>
          <p:cNvSpPr/>
          <p:nvPr/>
        </p:nvSpPr>
        <p:spPr>
          <a:xfrm>
            <a:off x="4859280" y="21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уб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68"/>
          <p:cNvGrpSpPr/>
          <p:nvPr/>
        </p:nvGrpSpPr>
        <p:grpSpPr>
          <a:xfrm>
            <a:off x="5651640" y="2133720"/>
            <a:ext cx="1008000" cy="703440"/>
            <a:chOff x="5651640" y="2133720"/>
            <a:chExt cx="1008000" cy="703440"/>
          </a:xfrm>
        </p:grpSpPr>
        <p:sp>
          <p:nvSpPr>
            <p:cNvPr id="152" name="Text Box 169"/>
            <p:cNvSpPr/>
            <p:nvPr/>
          </p:nvSpPr>
          <p:spPr>
            <a:xfrm>
              <a:off x="565164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d60093"/>
                  </a:solidFill>
                  <a:latin typeface="Times New Roman"/>
                </a:rPr>
                <a:t>и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170"/>
            <p:cNvGrpSpPr/>
            <p:nvPr/>
          </p:nvGrpSpPr>
          <p:grpSpPr>
            <a:xfrm>
              <a:off x="5722920" y="2133720"/>
              <a:ext cx="502560" cy="287280"/>
              <a:chOff x="5722920" y="2133720"/>
              <a:chExt cx="502560" cy="287280"/>
            </a:xfrm>
          </p:grpSpPr>
          <p:sp>
            <p:nvSpPr>
              <p:cNvPr id="154" name="Line 171"/>
              <p:cNvSpPr/>
              <p:nvPr/>
            </p:nvSpPr>
            <p:spPr>
              <a:xfrm flipV="1">
                <a:off x="5722920" y="2133720"/>
                <a:ext cx="215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72"/>
              <p:cNvSpPr/>
              <p:nvPr/>
            </p:nvSpPr>
            <p:spPr>
              <a:xfrm>
                <a:off x="5938560" y="2133720"/>
                <a:ext cx="28692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6" name="Рисунок 116" descr="1проверка.png"/>
          <p:cNvPicPr/>
          <p:nvPr/>
        </p:nvPicPr>
        <p:blipFill>
          <a:blip r:embed="rId5"/>
          <a:stretch/>
        </p:blipFill>
        <p:spPr>
          <a:xfrm>
            <a:off x="5705640" y="-71280"/>
            <a:ext cx="3438360" cy="22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0138 L 0.3349 0.67337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0138 L 0.3349 0.67337 E">
                                      <p:cBhvr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0.27314 E">
                                      <p:cBhvr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0.27314 E">
                                      <p:cBhvr>
                                        <p:cTn id="3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073 0.525 E">
                                      <p:cBhvr>
                                        <p:cTn id="5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073 0.525 E">
                                      <p:cBhvr>
                                        <p:cTn id="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.67199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.67199 E">
                                      <p:cBhvr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0138 L 0.05121 0.2743 E">
                                      <p:cBhvr>
                                        <p:cTn id="7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0138 L 0.05121 0.2743 E">
                                      <p:cBhvr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.23101 E">
                                      <p:cBhvr>
                                        <p:cTn id="8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.23101 E"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116000" y="8380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0" y="8380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791320" y="8380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116000" y="1268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уж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116000" y="170028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н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116000" y="2133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роход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116000" y="2565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ын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116000" y="2997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вон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1116000" y="342900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абл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1116000" y="386064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д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1116000" y="429264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ле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116000" y="4724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луб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116000" y="5157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жди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116000" y="5589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кет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116000" y="6021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оч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4572000" y="12682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5796000" y="170028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5796000" y="213372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4572000" y="2565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4572000" y="2997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5796000" y="342900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4572000" y="386064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5796000" y="429264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4572000" y="47242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9"/>
          <p:cNvSpPr/>
          <p:nvPr/>
        </p:nvSpPr>
        <p:spPr>
          <a:xfrm>
            <a:off x="4572000" y="5157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5796000" y="5589720"/>
            <a:ext cx="12970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4572000" y="60213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2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4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72000" y="2133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4572000" y="2133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8"/>
          <p:cNvSpPr/>
          <p:nvPr/>
        </p:nvSpPr>
        <p:spPr>
          <a:xfrm>
            <a:off x="5796000" y="2565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5796000" y="2565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0"/>
          <p:cNvSpPr/>
          <p:nvPr/>
        </p:nvSpPr>
        <p:spPr>
          <a:xfrm>
            <a:off x="5796000" y="2997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5796000" y="2997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572000" y="42926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4572000" y="42926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572000" y="5589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4572000" y="558972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796000" y="386064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5796000" y="386064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0"/>
          <p:cNvSpPr/>
          <p:nvPr/>
        </p:nvSpPr>
        <p:spPr>
          <a:xfrm>
            <a:off x="5796000" y="4724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5796000" y="4724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5796000" y="515772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3"/>
          <p:cNvSpPr/>
          <p:nvPr/>
        </p:nvSpPr>
        <p:spPr>
          <a:xfrm>
            <a:off x="5796000" y="515772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5796000" y="6021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5796000" y="6021360"/>
            <a:ext cx="129528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56"/>
          <p:cNvSpPr txBox="1"/>
          <p:nvPr/>
        </p:nvSpPr>
        <p:spPr>
          <a:xfrm>
            <a:off x="380880" y="228600"/>
            <a:ext cx="78343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latin typeface="Times New Roman"/>
              </a:rPr>
              <a:t>Вставь суффикс -ик- или -ек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52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29913 -0.00023 E">
                                      <p:cBhvr>
                                        <p:cTn id="21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-0.19305 -0.00023 E">
                                      <p:cBhvr>
                                        <p:cTn id="22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15364 -0.00023 E">
                                      <p:cBhvr>
                                        <p:cTn id="23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0712 -0.00023 E">
                                      <p:cBhvr>
                                        <p:cTn id="238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30712 -0.00023 E">
                                      <p:cBhvr>
                                        <p:cTn id="24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L -0.16145 -0.00023 E">
                                      <p:cBhvr>
                                        <p:cTn id="25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17725 -0.00023 E">
                                      <p:cBhvr>
                                        <p:cTn id="25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18507 -0.00023 E">
                                      <p:cBhvr>
                                        <p:cTn id="26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32275 -0.00024 E">
                                      <p:cBhvr>
                                        <p:cTn id="27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-0.29132 -1.85185E-006 E">
                                      <p:cBhvr>
                                        <p:cTn id="280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29913 -0.00024 E">
                                      <p:cBhvr>
                                        <p:cTn id="28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1493 -0.00023 E">
                                      <p:cBhvr>
                                        <p:cTn id="29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Группа 5"/>
          <p:cNvGrpSpPr/>
          <p:nvPr/>
        </p:nvGrpSpPr>
        <p:grpSpPr>
          <a:xfrm>
            <a:off x="1571760" y="4929120"/>
            <a:ext cx="6000480" cy="908280"/>
            <a:chOff x="1571760" y="4929120"/>
            <a:chExt cx="6000480" cy="90828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1571760" y="4929120"/>
              <a:ext cx="60004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7"/>
            <p:cNvSpPr/>
            <p:nvPr/>
          </p:nvSpPr>
          <p:spPr>
            <a:xfrm>
              <a:off x="1928880" y="5072040"/>
              <a:ext cx="545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Упражнение 6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Группа 14"/>
          <p:cNvGrpSpPr/>
          <p:nvPr/>
        </p:nvGrpSpPr>
        <p:grpSpPr>
          <a:xfrm>
            <a:off x="642960" y="571680"/>
            <a:ext cx="8501040" cy="1476360"/>
            <a:chOff x="642960" y="571680"/>
            <a:chExt cx="8501040" cy="1476360"/>
          </a:xfrm>
        </p:grpSpPr>
        <p:sp>
          <p:nvSpPr>
            <p:cNvPr id="213" name="Text Box 4"/>
            <p:cNvSpPr/>
            <p:nvPr/>
          </p:nvSpPr>
          <p:spPr>
            <a:xfrm>
              <a:off x="642960" y="785880"/>
              <a:ext cx="73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Какое значение придают словам суффикс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2" descr="Q:\Все рисунки\школьные предметы рисунки\vupros.1234892705.jpg"/>
            <p:cNvPicPr/>
            <p:nvPr/>
          </p:nvPicPr>
          <p:blipFill>
            <a:blip r:embed="rId2"/>
            <a:stretch/>
          </p:blipFill>
          <p:spPr>
            <a:xfrm>
              <a:off x="7643880" y="571680"/>
              <a:ext cx="150012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Скругленный прямоугольник 29"/>
          <p:cNvSpPr/>
          <p:nvPr/>
        </p:nvSpPr>
        <p:spPr>
          <a:xfrm>
            <a:off x="714240" y="0"/>
            <a:ext cx="7929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пределяем тему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0"/>
          <p:cNvSpPr/>
          <p:nvPr/>
        </p:nvSpPr>
        <p:spPr>
          <a:xfrm>
            <a:off x="571680" y="20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м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ур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285840" y="2786040"/>
            <a:ext cx="8572320" cy="200016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ема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Правописание суффиксов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14240" y="14288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 какими суффиксами мы уже знак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85800" y="1125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пишите, вставив пропущенные буквы. Выделите суффик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45960" y="236376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уч_к, хвост_к, билет_к, хвост_к, стол_к, ключ_к, ореш_к, журавл_к, корабл_к, куст_к,  дожд_к, нос_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Скругленный прямоугольник 4"/>
          <p:cNvSpPr/>
          <p:nvPr/>
        </p:nvSpPr>
        <p:spPr>
          <a:xfrm>
            <a:off x="714240" y="142920"/>
            <a:ext cx="7929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меняем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"/>
          <p:cNvSpPr/>
          <p:nvPr/>
        </p:nvSpPr>
        <p:spPr>
          <a:xfrm>
            <a:off x="857160" y="142920"/>
            <a:ext cx="79297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730600" y="725400"/>
            <a:ext cx="4054320" cy="749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1285920" y="1857240"/>
            <a:ext cx="7072200" cy="7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УФФИКС – это часть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Группа 6"/>
          <p:cNvGrpSpPr/>
          <p:nvPr/>
        </p:nvGrpSpPr>
        <p:grpSpPr>
          <a:xfrm>
            <a:off x="1571400" y="1428840"/>
            <a:ext cx="2362320" cy="374400"/>
            <a:chOff x="1571400" y="1428840"/>
            <a:chExt cx="2362320" cy="374400"/>
          </a:xfrm>
        </p:grpSpPr>
        <p:sp>
          <p:nvSpPr>
            <p:cNvPr id="226" name="Прямая соединительная линия 5"/>
            <p:cNvSpPr/>
            <p:nvPr/>
          </p:nvSpPr>
          <p:spPr>
            <a:xfrm flipH="1">
              <a:off x="1571400" y="1428840"/>
              <a:ext cx="123804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Прямая соединительная линия 6"/>
            <p:cNvSpPr/>
            <p:nvPr/>
          </p:nvSpPr>
          <p:spPr>
            <a:xfrm>
              <a:off x="2790720" y="1428840"/>
              <a:ext cx="1143000" cy="37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Прямоугольник 7" descr=""/>
          <p:cNvPicPr/>
          <p:nvPr/>
        </p:nvPicPr>
        <p:blipFill>
          <a:blip r:embed="rId2"/>
          <a:stretch/>
        </p:blipFill>
        <p:spPr>
          <a:xfrm>
            <a:off x="2305080" y="2651040"/>
            <a:ext cx="5765760" cy="7509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8"/>
          <p:cNvSpPr/>
          <p:nvPr/>
        </p:nvSpPr>
        <p:spPr>
          <a:xfrm>
            <a:off x="1285920" y="3214800"/>
            <a:ext cx="7072200" cy="6429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ит после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Прямоугольник 9" descr=""/>
          <p:cNvPicPr/>
          <p:nvPr/>
        </p:nvPicPr>
        <p:blipFill>
          <a:blip r:embed="rId3"/>
          <a:stretch/>
        </p:blipFill>
        <p:spPr>
          <a:xfrm>
            <a:off x="2230560" y="3938760"/>
            <a:ext cx="5773680" cy="7491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0"/>
          <p:cNvSpPr/>
          <p:nvPr/>
        </p:nvSpPr>
        <p:spPr>
          <a:xfrm>
            <a:off x="571680" y="4643280"/>
            <a:ext cx="8215200" cy="857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лужит для образования нов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7215120" cy="44290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2286000" y="2000160"/>
            <a:ext cx="59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Упр. 66, зад 1,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Рыба - рыб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bf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642960" y="428760"/>
            <a:ext cx="807228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Дуга 4"/>
          <p:cNvSpPr/>
          <p:nvPr/>
        </p:nvSpPr>
        <p:spPr>
          <a:xfrm rot="18046200">
            <a:off x="3798720" y="2981160"/>
            <a:ext cx="1170000" cy="1547640"/>
          </a:xfrm>
          <a:custGeom>
            <a:avLst/>
            <a:gdLst/>
            <a:ahLst/>
            <a:rect l="l" t="t" r="r" b="b"/>
            <a:pathLst>
              <a:path stroke="0" w="1169987" h="1547813">
                <a:moveTo>
                  <a:pt x="584993" y="0"/>
                </a:moveTo>
                <a:cubicBezTo>
                  <a:pt x="908076" y="0"/>
                  <a:pt x="1169987" y="346490"/>
                  <a:pt x="1169987" y="773907"/>
                </a:cubicBezTo>
                <a:lnTo>
                  <a:pt x="584994" y="773907"/>
                </a:lnTo>
                <a:cubicBezTo>
                  <a:pt x="584994" y="515938"/>
                  <a:pt x="584993" y="257969"/>
                  <a:pt x="584993" y="0"/>
                </a:cubicBezTo>
                <a:close/>
              </a:path>
              <a:path fill="none" w="1169987" h="1547813">
                <a:moveTo>
                  <a:pt x="584993" y="0"/>
                </a:moveTo>
                <a:cubicBezTo>
                  <a:pt x="908076" y="0"/>
                  <a:pt x="1169987" y="346490"/>
                  <a:pt x="1169987" y="7739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Дуга 9"/>
          <p:cNvSpPr/>
          <p:nvPr/>
        </p:nvSpPr>
        <p:spPr>
          <a:xfrm rot="18046200">
            <a:off x="5254200" y="3052440"/>
            <a:ext cx="1170000" cy="1548000"/>
          </a:xfrm>
          <a:custGeom>
            <a:avLst/>
            <a:gdLst/>
            <a:ahLst/>
            <a:rect l="l" t="t" r="r" b="b"/>
            <a:pathLst>
              <a:path stroke="0" w="1169988" h="1547812">
                <a:moveTo>
                  <a:pt x="584994" y="0"/>
                </a:moveTo>
                <a:cubicBezTo>
                  <a:pt x="908077" y="0"/>
                  <a:pt x="1169988" y="346490"/>
                  <a:pt x="1169988" y="773906"/>
                </a:cubicBezTo>
                <a:lnTo>
                  <a:pt x="584994" y="773906"/>
                </a:lnTo>
                <a:lnTo>
                  <a:pt x="584994" y="0"/>
                </a:lnTo>
                <a:close/>
              </a:path>
              <a:path fill="none" w="1169988" h="1547812">
                <a:moveTo>
                  <a:pt x="584994" y="0"/>
                </a:moveTo>
                <a:cubicBezTo>
                  <a:pt x="908077" y="0"/>
                  <a:pt x="1169988" y="346490"/>
                  <a:pt x="1169988" y="77390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Группа 16"/>
          <p:cNvGrpSpPr/>
          <p:nvPr/>
        </p:nvGrpSpPr>
        <p:grpSpPr>
          <a:xfrm>
            <a:off x="6156000" y="2997360"/>
            <a:ext cx="320400" cy="419040"/>
            <a:chOff x="6156000" y="2997360"/>
            <a:chExt cx="320400" cy="419040"/>
          </a:xfrm>
        </p:grpSpPr>
        <p:sp>
          <p:nvSpPr>
            <p:cNvPr id="238" name="Прямая соединительная линия 11"/>
            <p:cNvSpPr/>
            <p:nvPr/>
          </p:nvSpPr>
          <p:spPr>
            <a:xfrm flipH="1">
              <a:off x="6156000" y="2997360"/>
              <a:ext cx="15876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Прямая соединительная линия 12"/>
            <p:cNvSpPr/>
            <p:nvPr/>
          </p:nvSpPr>
          <p:spPr>
            <a:xfrm>
              <a:off x="6317640" y="2997360"/>
              <a:ext cx="15876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пользователь</cp:lastModifiedBy>
  <dcterms:modified xsi:type="dcterms:W3CDTF">2023-05-31T07:37:13Z</dcterms:modified>
  <cp:revision>76</cp:revision>
  <dc:subject/>
  <dc:title>Слайд 1</dc:title>
</cp:coreProperties>
</file>