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FF0-775C-4D6A-A533-C1BAA032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E49-0081-4953-9727-920A1200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CEB-60BF-4F30-86A0-4DE07EE0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366-5462-4581-B02C-8724AC02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80D-C62C-41FF-B68B-B4DCBA8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B78-660C-4FD9-B017-3D448BD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6CE-1E74-4E7C-B7C1-D61ED4E0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C2C-14FA-4C9E-872F-D925635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AEA-B7E0-45D2-935A-8910EA05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2B8-4288-42F2-BB2D-1FFAA45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20C-C0B9-4CD5-9AE6-2D6B0E7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7C1-85E8-4FA3-BA89-73BE30D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F5CD-584A-4BD4-BF99-734FD84ACB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460520"/>
            <a:ext cx="6551640" cy="20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Georgia"/>
              </a:rPr>
              <a:t>Физкультурные мину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6064200" y="5357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46200" y="260280"/>
            <a:ext cx="770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Georgia"/>
              </a:rPr>
              <a:t>Муниципальное бюджетное дошкольное образовательное учреждение № 19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Georgia"/>
              </a:rPr>
              <a:t>«Детский сад общеразвивающего вида с приоритетным осуществлением деятельности по художественно-эстетическому направлению развития воспитанник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476360" y="49417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Андреева Валенти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Monotype Corsiva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835200" y="3938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Упражнения для снятия общего или локального уто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438120" y="1574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Двигательно-речевые физминутки дают отдых различным группам мышц, активизируют деятельность мозга, сердечно-сосудистой и дыхательной системы, улучшают кровоснабжение внутренних органов. Кроме того, они помогают взрослым развивать у дошкольников координацию движений, стимулируют развитие речевых навыков, активизируют память, внимание, развивают творческое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95280" y="404640"/>
            <a:ext cx="8569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Чаще всего в практике 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физкультминутки под стихотворные тексты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При подборе стихотворений к конкретному занятию 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Georgia"/>
              </a:rPr>
              <a:t>следует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ажно, чтобы содержание текста сочеталось с темой занятия, его программной задач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еимущество отдается стихам с четким ритмом, т.к. под них легче выполнять разнообразные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екст произносится воспитателем или воспроизводится в записи, т. к. при произнесении текста детьми у них может сбиться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99880" y="620640"/>
            <a:ext cx="38404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ногами топ-то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руками хлоп-хло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глазами миг-ми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плечами чик-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 - сюда, два - т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овернись вокруг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 - присели, два - прив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уки кверху все под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-два, раз-д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Заниматься нам п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117040" y="62064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Мы пис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4859280" y="1268280"/>
            <a:ext cx="3845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ы писали, рисо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 теперь мы дружно в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учками похл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жками пот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Чуть покружимся боч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ядем и писать нач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11280" y="476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На  </a:t>
            </a: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занятиях по математике </a:t>
            </a: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уместно проводить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физминутки со сч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332000" y="1631880"/>
            <a:ext cx="352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оработали мы дру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А теперь поспать нам ну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Дети кладут голову на сто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закрывают глаз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Тише, тише, тиш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В нашу комнату приш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5316480" y="1424160"/>
            <a:ext cx="31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ы считали, умнож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Очень, очень мы ус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Раз, два - выше го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Три, четыре - руки ш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ять, шесть - тихо с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осидим, отдох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И опять считать начнем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24000" y="3938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ожно во время физминуток закрепить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знание геометрических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5280" y="151776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Много надо ль нам, ребя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ля умелых наших ру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рисуем два квадра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А на них огромный кру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А потом - еще круж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реугольный колпач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от и вышел очень,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Развеселый чуда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3826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Для проведения некоторых физминуток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используются наглядные пос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284720" y="1001880"/>
            <a:ext cx="36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раз ударю в буб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раз дрова наруб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иседаем стольк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мячиков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покажу кружоч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сделаем прыж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точек будет в круг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раз поднимем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елочек зеле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только выполним накл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 присядем стольк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колько уточек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носочки вста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толок доста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 тихонько сяд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332000" y="620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684360" y="141300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Для дошкольников держать в руках карандаш или кисточку – большой труд. Они очень крепко сжимают  пальчики, считая, что чем крепче они  их держат, там красивее у них получится рисунок, цифры или буквы. В итоге мелкие мышцы руки и кисти быстро устают и требуют расслабления. Что может помочь в этом случае? Лучшей физминуткой в такой ситуации является пальчиковая гимна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39640" y="620640"/>
            <a:ext cx="820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Раз, два, три, четыре, пять –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Будем листья собирать.            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жимают и разжимают кулачки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березы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,                            Загибают большо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рябины,                  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указательны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ики тополя,                          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средни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ья осины,                     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безымянный пал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Листики дуба мы соберем,      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Загибают мизинец.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аме осенний букет отнесем.  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жимают и разжимают     кула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547640" y="476280"/>
            <a:ext cx="543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Дыхательная гимнастика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95280" y="105264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ри выполнении дыхательных упражнений следует обратить внимание на то, что ребенок в силу анатомических особенностей почти не может увеличить объем каждого отдельного вдоха, поэтому усиление газообмена обеспечивается значительным учащением дыхания.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Физические упражнения, подвижные игры, дыхательные упражнения способствуют углублению дыхания, развитию и регуляции газообмена на более высоком уровне. Дыхательные упражнения помогают повысить возбудимость коры больших полушарий мозга, активизировать детей на занятии.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се упражнения проводятся в хорошо проветренном помещении или при открытой форточке, окне, фрам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11280" y="907920"/>
            <a:ext cx="792144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Чудо-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Arial"/>
              </a:rPr>
              <a:t>После слов «задержу дыхание» дети делают вдох и задерживают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Носиком дыш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Дышу свобод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Глубоко и тих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Как уго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ыполню з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Задержу дыхание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Раз, два, три, четыре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Снова дыш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Глубже, ш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743560" y="39060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Упражнения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50920" y="1022400"/>
            <a:ext cx="849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90% всей информации об окружающем мире человек получает с помощью органа зрения. Нагрузка на глаза у современного ребенка огромная, а отдыхают они только во время 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Гимнастика для глаз полезна всем (а детям особенно) в целях профилактики нарушений зрения.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пециалистами по охране зрения разработаны различн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Для профилактики близорукости и замедления её прогрессирования следует использовать </a:t>
            </a:r>
            <a:r>
              <a:rPr b="0" i="1" lang="ru-RU" sz="2000" spc="-1" strike="noStrike" u="sng">
                <a:solidFill>
                  <a:srgbClr val="660033"/>
                </a:solidFill>
                <a:uFillTx/>
                <a:latin typeface="Arial"/>
              </a:rPr>
              <a:t>специальную гимнастику для глаз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 —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офтальмотренажёр, специальную схему зрительно-двигательных проекций.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Эта схема разработана группой профессора, доктора медицинских наук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В. Ф. Базар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Здоровье — не всё,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но всё без здоровья — ничто.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     Сок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Georgia"/>
              </a:rPr>
              <a:t>Человек — высшее творение природы. Но для того, чтобы сполна наслаждаться её сокровищами, он должен отвечать, по крайней мере, одному требованию — быть здо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8136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пражнения для глаз предусматривают движение глазного яблока по всем направл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Упражнения на расши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зрительно-пространственной акти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1. Гимнастика для глаз на офтальмотренажё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2. Использование разного рода фигур и линий, по которым дети «бегают»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3. Работа с расположенными на стенах групповой комнаты карточк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755640" y="692280"/>
            <a:ext cx="777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Гимнастика для глаз по методу Г.А. Шичко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124000" y="1432080"/>
            <a:ext cx="40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. Пальм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2. Верх-вниз, влево-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3.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4.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5. Покорчим р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6. Рисование н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7. Раскраш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8. Расширение поля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9.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0. Ча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Гимнастик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для улучшения сл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220500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Работа над улучшением зрения положительно сказывается и на слухе. И, в свою очередь, работа над улучшением слуха оказывает благотворное воздействие на органы з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79280" y="549360"/>
            <a:ext cx="8640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есколько упражнений на развитие слуха, которые воспитатель может делать на физминут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гибаем верхнюю часть уха вниз. Разгибаем, пригибаем, словно бы раскатывая и скатывая ушко. Ушки должны стать тепл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йдите ямочку возле козелка. Нажали на ямочки сразу обоих ушек — отпустили, нажали, отпуст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жали пальчиками на мочки, помассировали, отпуст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Массируем круговыми движениями все ухо, в одну сторону, в другую сторону. Массировать нужно одновременно оба 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делали веточку из безымянного и указательного пальцев, засунули туда свои ушки и — вверх-вниз, вверх-вниз — так, чтобы передняя и задняя стороны ваших ушек хорошенько массиров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чинаем дергать себя за ушки — сначала 10 раз вниз, а потом беремся за серединку и дергаем вверх тоже 10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нова возьмитесь за мочку уха и хорошенько ее помассируй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тяните ушки в сторону — снова 10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Теперь выгибаем их вперед, а затем в обратную сторону (10 ра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68360" y="126828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Известно, что при эмоциональном напряжении, когда ребенок сильно возбужден, взволнован, угнетен, возникает избыточное напряжение в отдельных группах мышц. Самостоятельно дети не могут избавиться от этого напряжения, начинают нервничать, что приводит к напряжению новых групп мышц. Детей необходимо учить чувствовать это напряжение, изменять его степень или снимать совсем, расслабляя определенные группы мышц. При расслаблении мышц эмоциональное напряжение ослабевает или исчезает совсем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. </a:t>
            </a:r>
            <a:r>
              <a:rPr b="0" lang="ru-RU" sz="2000" spc="-1" strike="noStrike" u="sng">
                <a:solidFill>
                  <a:srgbClr val="660033"/>
                </a:solidFill>
                <a:uFillTx/>
                <a:latin typeface="Georgia"/>
              </a:rPr>
              <a:t>Релаксационная техника «напряжение-расслабление»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— это самый лучший способ научиться распознавать существующие в мышцах напряжения и избавляться от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982160" y="530280"/>
            <a:ext cx="58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Релаксацион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68360" y="476280"/>
            <a:ext cx="8351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«Самол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Во время чтения стихотворения дети раскидывают руки, мышцы напряжены, спина выпрямлена. Парашюты опустились, сели на стулья и расслабились, руки вниз,     голова опущ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Руки в стороны, в полет отправляем само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равое крыло вперед, левое крыло впер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летает самолет. Впереди огни зажг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К облакам мы подня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Вот лес, мы тут приготовим параш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арашюты все раскры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    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Мы легонько приземл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971720" y="674640"/>
            <a:ext cx="457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Заключение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900000" y="89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468360" y="1258920"/>
            <a:ext cx="81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Физминутка - это один из обязательных, продуманных элементов в непосредственной образовательной деятельности. Она необходима и важна,  это -  “минутка” активного и здорового отды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Физминутка – это весело, интересно и полез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835280" y="4762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Литература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93640" y="134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Афонин И., Травинка В. Как прекрасен этот мир, посмотри! — Санкт-Петербург, Изд. ПИТЕР, 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Бачина О.В., Коробова Н.Ф. Пальчиковая гимнастика с предметами. Определение ведущей руки и развитие навыков письма у детей 6-8 лет: Практическое пособие для педагогов и родителей, - 3-е изд., испр. и доп. – М.: АРКТИ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Волина В. Праздник числа, Учимся играя. — М., новая шко­ла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4. Физическая культура шестилеток. Под ред. профессора Н. Т. Лебедевой. — Минск, 19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5. Фомин Н. А. Возрастные основы физического воспитания. — М., Физкультура и спорт, 197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6. Услуги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0033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620640"/>
            <a:ext cx="792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2c16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Georgia"/>
              </a:rPr>
              <a:t>По данным ученых-физиологов образовательная деятельность требует от детей большого нервного напряжения. Во время непосредственной образовательной деятельности у дошкольников любого возраста значительную нагрузку испытывают их органы зрения, слуха, мышцы кистей рук и всего туловища, часто длительно находящегося в статическом положении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39640" y="40968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Физкультурные минутки – необходимая составляющая любой непосредственной образовательной деятельности в ДОУ, независимо от возраста дет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395280" y="187164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</a:rPr>
              <a:t>Любая непосредственная образовательная деятельность, не связанная с движением, является тяжелой нагрузкой на организм дошкольников, так как для них характерна неустойчивость нервных процессов. Они быстро утомляются, снижается устойчивость внимания, у детей теряется интерес к деятельности, что, конечно, отрицательно влияет на ее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2876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Очевидно, что взрослые должны предупредить возникновение утомления у малышей, своевременно обнаружить признаки его появления и как можно быстрее, эффективнее снять их, так как утомление, накапливаясь, может перерасти в переутомление и стать причиной возникновения различных нервных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14520" y="2205000"/>
            <a:ext cx="7561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Каждый воспитатель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знаки утомления у дет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-4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появляются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-9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 непосредственной образовате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у дет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-6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-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-12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-8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лет - чере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-15</a:t>
            </a:r>
            <a:r>
              <a:rPr b="1" lang="ru-RU" sz="1800" spc="-1" strike="noStrike">
                <a:solidFill>
                  <a:srgbClr val="422c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мину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5493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Утомление может проявляться по-разному: зевотой, рассеянным вниманием, отвлекаемостью, раздражительностью, появлением непроизвольных движений, нарушением осанки и координаци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979640" y="2060640"/>
            <a:ext cx="4753080" cy="3143160"/>
          </a:xfrm>
          <a:prstGeom prst="rect">
            <a:avLst/>
          </a:prstGeom>
          <a:gradFill rotWithShape="0">
            <a:gsLst>
              <a:gs pos="0">
                <a:srgbClr val="ffe980"/>
              </a:gs>
              <a:gs pos="100000">
                <a:srgbClr val="fff6da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Первые признаки утомления служат сигналом к выполнению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физкультминуток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.</a:t>
            </a:r>
            <a:r>
              <a:rPr b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Georgia"/>
              </a:rPr>
              <a:t>Они снимают напряжение мышц, вызванное неподвижным состоянием, переключают внимание с одной деятельности на другую, успокаивают нервную систему и восстанавливают работоспособ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44560" y="463680"/>
            <a:ext cx="59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Время начала физкультурной минутки определяется самим воспит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24000" y="1413000"/>
            <a:ext cx="40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Физминутки в ДОУ, как правило, проводятся примерно в середине непосредственной образо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4000" y="27748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лительность физкультурных минуток обычно составляет 1-2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859280" y="141300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Каждая физминутка включает комплекс из 3-4 правильно подобранных упражнений, повторяемых 4-6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838760" y="2612880"/>
            <a:ext cx="39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овсем необязательно провести лишь одну физминутку, больший эффект будет от сочетания физминуток различного ви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187280" y="4124160"/>
            <a:ext cx="69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а короткое время удается снять общее или локальное утомление, значительно улучшить самочувств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Требования к проведению физкультминут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24000" y="1382760"/>
            <a:ext cx="349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Комплексы подбираются в зависимости от вида занятия, его содержания. Упражнения должны быть разнообразны, так как однообразие снижает интерес к ним, а следовательно, их результ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643280" y="1413000"/>
            <a:ext cx="36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Физминутки должны проводиться на начальном этапе утомления, выполнение упражнений при сильном утомлении не дает желаемого результата. Важно обеспечить позитивный эмоциональный наст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773280" y="4032360"/>
            <a:ext cx="73436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845360" y="3589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иды физкультминут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68360" y="882720"/>
            <a:ext cx="698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снятия общего или локального утом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кистей р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гимнастика для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гимнастика для улучшения сл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 для профилактики плоскостоп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пражнения, корректирующие осанк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ыхательна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210760" y="2924280"/>
            <a:ext cx="48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озможные оши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39640" y="3438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дбор упражнений без учета вида деятельности на данном заня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увеличение или уменьшение продолжительности упражнений (без     принятия во внимание степени утомления дете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ыполнение движений с недостаточн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етная запись Майкрософт</cp:lastModifiedBy>
  <dcterms:modified xsi:type="dcterms:W3CDTF">2023-05-31T17:08:07Z</dcterms:modified>
  <cp:revision>751</cp:revision>
  <dc:subject/>
  <dc:title>Diapositiva 1</dc:title>
</cp:coreProperties>
</file>