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F1E-C1DD-4655-8C57-481B479E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E56-02E8-427F-8580-DE85C35B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0A4-4F4D-4B0E-A5F1-1D03A606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562-F6BD-4174-9190-A82A38D6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900-3EF0-434C-8D75-B791AC36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2F7-4080-47FB-82F9-53CBE018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BB2-3D13-4E0B-85D3-0EA67473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F88-2409-45A1-84B1-C66F761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C06-E415-4DBC-A1BE-E3B2FC86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053-BEDD-4465-AFB4-65644E6E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724-9314-42A6-8819-6A4EBE9B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417-01A0-4E95-8ADC-8E54D070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DDE2-2948-49FF-A3AE-8A68BCDD07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460520"/>
            <a:ext cx="6551640" cy="20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Georgia"/>
              </a:rPr>
              <a:t>Физкультурные минут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6064200" y="5357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46200" y="260280"/>
            <a:ext cx="770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Georgia"/>
              </a:rPr>
              <a:t>Муниципальное бюджетное дошкольное образовательное учреждение № 19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Georgia"/>
              </a:rPr>
              <a:t>«Детский сад общеразвивающего вида с приоритетным осуществлением деятельности по художественно-эстетическому направлению развития воспитанник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1476360" y="494172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Monotype Corsiva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Monotype Corsiva"/>
              </a:rPr>
              <a:t>Андреева Валенти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Monotype Corsiva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835200" y="39384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Упражнения для снятия общего или локального утом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438120" y="157464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Двигательно-речевые физминутки дают отдых различным группам мышц, активизируют деятельность мозга, сердечно-сосудистой и дыхательной системы, улучшают кровоснабжение внутренних органов. Кроме того, они помогают взрослым развивать у дошкольников координацию движений, стимулируют развитие речевых навыков, активизируют память, внимание, развивают творческое вооб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95280" y="404640"/>
            <a:ext cx="85694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Чаще всего в практике 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физкультминутки под стихотворные тексты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При подборе стихотворений к конкретному занятию 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Georgia"/>
              </a:rPr>
              <a:t>следует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ажно, чтобы содержание текста сочеталось с темой занятия, его программной задач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реимущество отдается стихам с четким ритмом, т.к. под них легче выполнять разнообразные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текст произносится воспитателем или воспроизводится в записи, т. к. при произнесении текста детьми у них может сбиться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99880" y="620640"/>
            <a:ext cx="384048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**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ногами топ-топ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руками хлоп-хлоп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глазами миг-ми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плечами чик-ч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аз - сюда, два - т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Повернись вокруг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аз - присели, два - прив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уки кверху все подн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аз-два, раз-д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Заниматься нам п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117040" y="62064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Мы пис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4859280" y="1268280"/>
            <a:ext cx="38451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писали, рисов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А теперь мы дружно в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учками похлоп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жками потоп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Чуть покружимся боч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ядем и писать нач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11280" y="476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На  </a:t>
            </a: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занятиях по математике </a:t>
            </a: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уместно проводить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физминутки со сч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332000" y="1631880"/>
            <a:ext cx="352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Поработали мы друж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А теперь поспать нам нуж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(Дети кладут голову на сто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закрывают глаз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Тише, тише, тиш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В нашу комнату приш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5316480" y="1424160"/>
            <a:ext cx="316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Мы считали, умножа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Очень, очень мы ус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Раз, два - выше гол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Три, четыре - руки ш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Пять, шесть - тихо се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Посидим, отдох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И опять считать начнем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24000" y="39384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Можно во время физминуток закрепить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знание геометрических 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95280" y="1517760"/>
            <a:ext cx="32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Много надо ль нам, ребя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Для умелых наших ру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рисуем два квадра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А на них огромный кру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А потом - еще круж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Треугольный колпач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от и вышел очень, оч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Развеселый чуда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851280" y="3826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Для проведения некоторых физминуток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используются наглядные пос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284720" y="1001880"/>
            <a:ext cx="36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раз ударю в бубе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только раз дрова наруб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риседаем столько 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мячиков у н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покажу кружоч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только сделаем прыжо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точек будет в круг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только раз поднимем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елочек зелен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только выполним накл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И присядем столько 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уточек у н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 носочки встан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толок доста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И тихонько сяд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332000" y="620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Пальчиковая гимнас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684360" y="141300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Для дошкольников держать в руках карандаш или кисточку – большой труд. Они очень крепко сжимают  пальчики, считая, что чем крепче они  их держат, там красивее у них получится рисунок, цифры или буквы. В итоге мелкие мышцы руки и кисти быстро устают и требуют расслабления. Что может помочь в этом случае? Лучшей физминуткой в такой ситуации является пальчиковая гимна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39640" y="620640"/>
            <a:ext cx="820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аз, два, три, четыре, пять –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Будем листья собирать.            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Сжимают и разжимают кулачки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ья березы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,                            Загибают большой пал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ья рябины,                          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Загибают указательный пал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ики тополя,                          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Загибают средний пал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ья осины,                             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Загибают безымянный пал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ики дуба мы соберем,        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Загибают мизин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аме осенний букет отнесем.  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Сжимают и разжимают     кула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547640" y="476280"/>
            <a:ext cx="5435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Дыхательная гимнастика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95280" y="105264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При выполнении дыхательных упражнений следует обратить внимание на то, что ребенок в силу анатомических особенностей почти не может увеличить объем каждого отдельного вдоха, поэтому усиление газообмена обеспечивается значительным учащением дыхания.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Физические упражнения, подвижные игры, дыхательные упражнения способствуют углублению дыхания, развитию и регуляции газообмена на более высоком уровне. Дыхательные упражнения помогают повысить возбудимость коры больших полушарий мозга, активизировать детей на занятии.</a:t>
            </a:r>
            <a:r>
              <a:rPr b="1" lang="ru-RU" sz="20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Все упражнения проводятся в хорошо проветренном помещении или при открытой форточке, окне, фрам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11280" y="907920"/>
            <a:ext cx="792144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Чудо-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Arial"/>
              </a:rPr>
              <a:t>После слов «задержу дыхание» дети делают вдох и задерживают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Носиком дыш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Дышу свобод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Глубоко и тих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Как уго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Выполню зад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Задержу дыхание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Раз, два, три, четыре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Снова дыш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Глубже, ш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743560" y="39060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Упражнения дл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250920" y="1022400"/>
            <a:ext cx="849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90% всей информации об окружающем мире человек получает с помощью органа зрения. Нагрузка на глаза у современного ребенка огромная, а отдыхают они только во время с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Гимнастика для глаз полезна всем (а детям особенно) в целях профилактики нарушений зрения.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Специалистами по охране зрения разработаны различны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Для профилактики близорукости и замедления её прогрессирования следует использовать </a:t>
            </a:r>
            <a:r>
              <a:rPr b="0" i="1" lang="ru-RU" sz="2000" spc="-1" strike="noStrike" u="sng">
                <a:solidFill>
                  <a:srgbClr val="660033"/>
                </a:solidFill>
                <a:uFillTx/>
                <a:latin typeface="Arial"/>
              </a:rPr>
              <a:t>специальную гимнастику для глаз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 —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офтальмотренажёр, специальную схему зрительно-двигательных проекций.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Эта схема разработана группой профессора, доктора медицинских наук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В. Ф. Базар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Здоровье — не всё, 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но всё без здоровья — ничто.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     Сок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Georgia"/>
              </a:rPr>
              <a:t>Человек — высшее творение природы. Но для того, чтобы сполна наслаждаться её сокровищами, он должен отвечать, по крайней мере, одному требованию — быть здор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6786720" y="6643800"/>
            <a:ext cx="2357280" cy="214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8136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Упражнения для глаз предусматривают движение глазного яблока по всем направл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Упражнения на расши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зрительно-пространственной актив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1. Гимнастика для глаз на офтальмотренажё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2. Использование разного рода фигур и линий, по которым дети «бегают» глаз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3. Работа с расположенными на стенах групповой комнаты карточкам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25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755640" y="692280"/>
            <a:ext cx="777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Гимнастика для глаз по методу Г.А. Шичко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2124000" y="1432080"/>
            <a:ext cx="401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1. Пальм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2. Верх-вниз, влево-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3.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4. 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5. Покорчим р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6. Рисование н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7. Раскраш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8. Расширение поля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9.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10. Ча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Гимнастик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для улучшения сл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2205000"/>
            <a:ext cx="8229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Georgia"/>
              </a:rPr>
              <a:t>Работа над улучшением зрения положительно сказывается и на слухе. И, в свою очередь, работа над улучшением слуха оказывает благотворное воздействие на органы з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79280" y="549360"/>
            <a:ext cx="86407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Несколько упражнений на развитие слуха, которые воспитатель может делать на физминут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ригибаем верхнюю часть уха вниз. Разгибаем, пригибаем, словно бы раскатывая и скатывая ушко. Ушки должны стать тепл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йдите ямочку возле козелка. Нажали на ямочки сразу обоих ушек — отпустили, нажали, отпуст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жали пальчиками на мочки, помассировали, отпуст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Массируем круговыми движениями все ухо, в одну сторону, в другую сторону. Массировать нужно одновременно оба 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Сделали веточку из безымянного и указательного пальцев, засунули туда свои ушки и — вверх-вниз, вверх-вниз — так, чтобы передняя и задняя стороны ваших ушек хорошенько массиров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чинаем дергать себя за ушки — сначала 10 раз вниз, а потом беремся за серединку и дергаем вверх тоже 10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Снова возьмитесь за мочку уха и хорошенько ее помассируй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тяните ушки в сторону — снова 10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Теперь выгибаем их вперед, а затем в обратную сторону (10 ра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68360" y="126828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Известно, что при эмоциональном напряжении, когда ребенок сильно возбужден, взволнован, угнетен, возникает избыточное напряжение в отдельных группах мышц. Самостоятельно дети не могут избавиться от этого напряжения, начинают нервничать, что приводит к напряжению новых групп мышц. Детей необходимо учить чувствовать это напряжение, изменять его степень или снимать совсем, расслабляя определенные группы мышц. При расслаблении мышц эмоциональное напряжение ослабевает или исчезает совсем</a:t>
            </a:r>
            <a:r>
              <a:rPr b="1" lang="ru-RU" sz="2000" spc="-1" strike="noStrike">
                <a:solidFill>
                  <a:srgbClr val="660033"/>
                </a:solidFill>
                <a:latin typeface="Georgia"/>
              </a:rPr>
              <a:t>. </a:t>
            </a:r>
            <a:r>
              <a:rPr b="0" lang="ru-RU" sz="2000" spc="-1" strike="noStrike" u="sng">
                <a:solidFill>
                  <a:srgbClr val="660033"/>
                </a:solidFill>
                <a:uFillTx/>
                <a:latin typeface="Georgia"/>
              </a:rPr>
              <a:t>Релаксационная техника «напряжение-расслабление»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— это самый лучший способ научиться распознавать существующие в мышцах напряжения и избавляться от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1982160" y="530280"/>
            <a:ext cx="58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Релаксацион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468360" y="476280"/>
            <a:ext cx="8351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«Самол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Во время чтения стихотворения дети раскидывают руки, мышцы напряжены, спина выпрямлена. Парашюты опустились, сели на стулья и расслабились, руки вниз,     голова опущ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Руки в стороны, в полет отправляем само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Правое крыло вперед, левое крыло впере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Улетает самолет. Впереди огни зажг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К облакам мы подня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Вот лес, мы тут приготовим параш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Парашюты все раскры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Мы легонько приземл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971720" y="674640"/>
            <a:ext cx="4572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Заключение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900000" y="890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468360" y="1258920"/>
            <a:ext cx="8136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Georgia"/>
              </a:rPr>
              <a:t>Физминутка - это один из обязательных, продуманных элементов в непосредственной образовательной деятельности. Она необходима и важна,  это -  “минутка” активного и здорового отды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Физминутка – это весело, интересно и полез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1835280" y="47628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Литература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593640" y="134136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Афонин И., Травинка В. Как прекрасен этот мир, посмотри! — Санкт-Петербург, Изд. ПИТЕР, 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Бачина О.В., Коробова Н.Ф. Пальчиковая гимнастика с предметами. Определение ведущей руки и развитие навыков письма у детей 6-8 лет: Практическое пособие для педагогов и родителей, - 3-е изд., испр. и доп. – М.: АРКТИ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Волина В. Праздник числа, Учимся играя. — М., новая шко­ла, 19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4. Физическая культура шестилеток. Под ред. профессора Н. Т. Лебедевой. — Минск, 198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5. Фомин Н. А. Возрастные основы физического воспитания. — М., Физкультура и спорт, 197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6. Услуги инте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0033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11280" y="620640"/>
            <a:ext cx="7921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2c16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660033"/>
                </a:solidFill>
                <a:latin typeface="Georgia"/>
              </a:rPr>
              <a:t>По данным ученых-физиологов образовательная деятельность требует от детей большого нервного напряжения. Во время непосредственной образовательной деятельности у дошкольников любого возраста значительную нагрузку испытывают их органы зрения, слуха, мышцы кистей рук и всего туловища, часто длительно находящегося в статическом положении</a:t>
            </a: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539640" y="40968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Georgia"/>
              </a:rPr>
              <a:t>Физкультурные минутки – необходимая составляющая любой непосредственной образовательной деятельности в ДОУ, независимо от возраста дет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395280" y="187164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Любая непосредственная образовательная деятельность, не связанная с движением, является тяжелой нагрузкой на организм дошкольников, так как для них характерна неустойчивость нервных процессов. Они быстро утомляются, снижается устойчивость внимания, у детей теряется интерес к деятельности, что, конечно, отрицательно влияет на ее эффе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428760"/>
            <a:ext cx="849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Очевидно, что взрослые должны предупредить возникновение утомления у малышей, своевременно обнаружить признаки его появления и как можно быстрее, эффективнее снять их, так как утомление, накапливаясь, может перерасти в переутомление и стать причиной возникновения различных нервных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614520" y="2205000"/>
            <a:ext cx="7561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Каждый воспитатель должен 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знаки утомления у дет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-4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лет появляются чере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-9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минут непосредственной образовательн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у дет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-6</a:t>
            </a:r>
            <a:r>
              <a:rPr b="1" lang="ru-RU" sz="1800" spc="-1" strike="noStrike">
                <a:solidFill>
                  <a:srgbClr val="422c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лет - чере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-12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мин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422c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-8</a:t>
            </a:r>
            <a:r>
              <a:rPr b="1" lang="ru-RU" sz="1800" spc="-1" strike="noStrike">
                <a:solidFill>
                  <a:srgbClr val="422c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лет - чере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-15</a:t>
            </a:r>
            <a:r>
              <a:rPr b="1" lang="ru-RU" sz="1800" spc="-1" strike="noStrike">
                <a:solidFill>
                  <a:srgbClr val="422c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мину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54936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Утомление может проявляться по-разному: зевотой, рассеянным вниманием, отвлекаемостью, раздражительностью, появлением непроизвольных движений, нарушением осанки и координаци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979640" y="2060640"/>
            <a:ext cx="4753080" cy="3143160"/>
          </a:xfrm>
          <a:prstGeom prst="rect">
            <a:avLst/>
          </a:prstGeom>
          <a:gradFill rotWithShape="0">
            <a:gsLst>
              <a:gs pos="0">
                <a:srgbClr val="ffe980"/>
              </a:gs>
              <a:gs pos="100000">
                <a:srgbClr val="fff6da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Первые признаки утомления служат сигналом к выполнению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физкультминуток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.</a:t>
            </a:r>
            <a:r>
              <a:rPr b="1" lang="ru-RU" sz="20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Они снимают напряжение мышц, вызванное неподвижным состоянием, переключают внимание с одной деятельности на другую, успокаивают нервную систему и восстанавливают работоспособ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44560" y="463680"/>
            <a:ext cx="59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Время начала физкультурной минутки определяется самим воспит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324000" y="1413000"/>
            <a:ext cx="40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Физминутки в ДОУ, как правило, проводятся примерно в середине непосредственной образователь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324000" y="277488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Длительность физкультурных минуток обычно составляет 1-2 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859280" y="141300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Каждая физминутка включает комплекс из 3-4 правильно подобранных упражнений, повторяемых 4-6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838760" y="2612880"/>
            <a:ext cx="39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овсем необязательно провести лишь одну физминутку, больший эффект будет от сочетания физминуток различного ви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1187280" y="4124160"/>
            <a:ext cx="69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За короткое время удается снять общее или локальное утомление, значительно улучшить самочувствие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libri"/>
              </a:rPr>
              <a:t>Требования к проведению физкультминут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24000" y="1382760"/>
            <a:ext cx="349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Комплексы подбираются в зависимости от вида занятия, его содержания. Упражнения должны быть разнообразны, так как однообразие снижает интерес к ним, а следовательно, их результа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643280" y="1413000"/>
            <a:ext cx="36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Физминутки должны проводиться на начальном этапе утомления, выполнение упражнений при сильном утомлении не дает желаемого результата. Важно обеспечить позитивный эмоциональный наст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773280" y="4032360"/>
            <a:ext cx="73436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1845360" y="358920"/>
            <a:ext cx="48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Виды физкультминут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68360" y="882720"/>
            <a:ext cx="698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пражнения для снятия общего или локального утом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пражнения для кистей ру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гимнастика для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гимнастика для улучшения слух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пражнения для профилактики плоскостоп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пражнения, корректирующие осанк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дыхательная гимна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210760" y="2924280"/>
            <a:ext cx="48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Возможные ошиб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539640" y="3438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дбор упражнений без учета вида деятельности на данном занят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величение или уменьшение продолжительности упражнений (без     принятия во внимание степени утомления дете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ыполнение движений с недостаточной амплиту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Учетная запись Майкрософт</cp:lastModifiedBy>
  <dcterms:modified xsi:type="dcterms:W3CDTF">2023-05-31T17:08:07Z</dcterms:modified>
  <cp:revision>751</cp:revision>
  <dc:subject/>
  <dc:title>Diapositiva 1</dc:title>
</cp:coreProperties>
</file>