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1CF5-F170-4243-9E18-E849BC08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EB6-805B-46DF-A60F-A574AA9C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7AA-3954-4B28-9339-8E43105F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B7B-925C-4EFC-B919-EE752705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20BE-8C63-4FAE-8258-6411103D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F60B-B794-4AFB-8D38-BF50E21D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BFB7-D109-4953-AF3A-48264501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5B18-4BAD-45F5-A88B-9F9D8DF8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3BDA-115F-40E0-9CE3-B03D196E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63F6-22D6-4B85-B017-FD7DDE58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0B2B-A9BC-4751-8354-EF13EBDA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C10-1B6A-487B-B413-622CDCF0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8201-09CE-4278-9383-820F4C42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A40C-EA96-4E56-AE5E-4767A847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F745-CCC6-43F5-B487-4E1D9C39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F357-D394-4698-9E31-B9452BD2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B4F8-7AAE-4DD4-8238-3A508019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EF88-02C1-4165-B1AD-793ED163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EF6-7B4B-4F89-8575-ED5D4D27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23B-A279-420B-B05A-0C9F8FEB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71B-24EE-4438-85A0-4D7E87BF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F8AE-48DA-4F5F-A9D9-889C2D59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6736-ACCA-46CD-B9DC-6524EB27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9D3-7281-4053-BD84-9CC1FDD7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9EDD-F199-42F8-8DB2-D4B3211B0C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FFFB-0134-43D4-B1EA-9605A55A03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КТ  в профессиональной деятельности педагога ДОУ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очетова Н.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pic_1346934769vP8Up87t"/>
          <p:cNvPicPr/>
          <p:nvPr/>
        </p:nvPicPr>
        <p:blipFill>
          <a:blip r:embed="rId1"/>
          <a:stretch/>
        </p:blipFill>
        <p:spPr>
          <a:xfrm>
            <a:off x="6553080" y="24382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ое место при использовании ИКТ занимает работа с родителями: 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Возможность продемонстрировать любые документы, фотоматериалы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Оптимальное сочетание индивидуальной работы с групповой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Использование ИКТ при проведении родительских собраний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ации по использованию информационно-коммуникационных технологий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030a0"/>
                </a:solidFill>
                <a:latin typeface="Arial"/>
              </a:rPr>
              <a:t>При использовании данных технологи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030a0"/>
                </a:solidFill>
                <a:latin typeface="Arial"/>
              </a:rPr>
              <a:t>воспитатель, прежде всего, должен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030a0"/>
                </a:solidFill>
                <a:latin typeface="Arial"/>
              </a:rPr>
              <a:t>руководствоваться Санитарн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030a0"/>
                </a:solidFill>
                <a:latin typeface="Arial"/>
              </a:rPr>
              <a:t>эпидемиологическими требованиями к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030a0"/>
                </a:solidFill>
                <a:latin typeface="Arial"/>
              </a:rPr>
              <a:t>устройству, содержанию и режим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030a0"/>
                </a:solidFill>
                <a:latin typeface="Arial"/>
              </a:rPr>
              <a:t>работы дошкольных учреждений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зор наиболее востребованных и популярных сайтов для педагогов 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http://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ww.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ob.1september.ru/ газ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Дошкольное воспи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kostyor.ru/ «Сказки для дет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дел электронной версии 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Костер» посвященный сказк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http://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ww.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oshkolnik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http://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ww.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ochemu4ka.ru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http://www.solnet.ee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//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ww.nsportal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maam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21004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 «ИКТ - компетентность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опрос № 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Что значит авторизоваться на сайте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Посетить сайт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Завести друзей на сайт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Найти страницу контакт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Войти под своим логином и паролем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 «ИКТ - компетентность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опрос № 2</a:t>
            </a:r>
            <a:br>
              <a:rPr sz="3100"/>
            </a:b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ограмма, через которую пользователь может смотреть веб-страницы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Почтовый клиент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Браузер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Файловый менеджер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Рабочий стол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 «ИКТ - компетентность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62120" y="11426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прос № 3</a:t>
            </a:r>
            <a:br>
              <a:rPr sz="3100"/>
            </a:b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такое электронная почта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Это логин на сайта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Технология по пересылке электронных сообщений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Это электронное имя пользователя со знаком @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Технология оцифровки писем в электронны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 «ИКТ - компетентность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62120" y="18284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прос № 4 </a:t>
            </a:r>
            <a:br>
              <a:rPr sz="3100"/>
            </a:b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такое адресная строка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Это то, куда вводят адрес сайт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Это то, куда вводят адрес своей электронной поч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Это то, где находится название сайт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Это белая строка с английскими буква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 «ИКТ - компетентность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2120" y="18284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прос № 5 </a:t>
            </a:r>
            <a:br>
              <a:rPr sz="3100"/>
            </a:b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такое блог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Интернет-дневник, онлайн-дневник, веб-сайт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Веб-сайт с мультимеди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Личная статья пользовател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Часть сайта в рамке с неизменным содержанием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 «ИКТ - компетентность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2120" y="18284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опрос № 6</a:t>
            </a:r>
            <a:br>
              <a:rPr sz="3100"/>
            </a:b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Что такое плагиат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Неуникальный текс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Возможность определить автора текст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Вид африканского попуга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Умышленное присвоение авторств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 «ИКТ - компетентность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62120" y="18284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прос № 7 </a:t>
            </a:r>
            <a:br>
              <a:rPr sz="3100"/>
            </a:b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такое аватар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Это фильм Джеймса Кэмеро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Это квадратный селф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Это изображение для профиля на сайт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Это маленькая фотография человека для сайт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964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Человек образованный — тот,  кто знает, где найти то, чего он не знает</a:t>
            </a:r>
            <a:br>
              <a:rPr sz="2000"/>
            </a:b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                                      Георг Зиммель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спользование информационно-коммуникационных технологий в детском саду – актуальная проблема современного дошкольного воспитани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2i"/>
          <p:cNvPicPr/>
          <p:nvPr/>
        </p:nvPicPr>
        <p:blipFill>
          <a:blip r:embed="rId1"/>
          <a:stretch/>
        </p:blipFill>
        <p:spPr>
          <a:xfrm>
            <a:off x="2819520" y="4038480"/>
            <a:ext cx="3733560" cy="20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 «ИКТ - компетентность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62120" y="18284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прос № 8</a:t>
            </a:r>
            <a:br>
              <a:rPr sz="3100"/>
            </a:b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такое СПАМ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Рассылка рекламы лицам, не выражавшим желания их получать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Коммерческое предложени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Вид договора в интернет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Оскорбительное сообщени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 «ИКТ - компетентность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62120" y="18284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прос № 9</a:t>
            </a:r>
            <a:br>
              <a:rPr sz="3100"/>
            </a:b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ля сохранения документа на новом месте и/или под другим именем выбирают пункт меню Файл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Сохрани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Сохранить как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 Созда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Откры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6" name="preview-image" descr="http://www.pcsoftgame.ru/uploads/posts/1238374242_1be684ca1ca4.jpg"/>
          <p:cNvPicPr/>
          <p:nvPr/>
        </p:nvPicPr>
        <p:blipFill>
          <a:blip r:embed="rId1"/>
          <a:stretch/>
        </p:blipFill>
        <p:spPr>
          <a:xfrm>
            <a:off x="1676520" y="1989000"/>
            <a:ext cx="6264000" cy="34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ормационные технологии, это не только и не столько компьютеры и их программное обеспечение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д информационно – коммуникативными технологиями подразумевается использование компьютера, интернета, телевизора, видео, DVD, CD, мультимедиа, аудиовизуального оборудования, то есть всего того, что может представлять широкие возможности для коммуникаци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своей работе педагог может использовать следующие средства информационно-коммуникативных технологий: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Компьютер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Мультимедийный проектор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Принтер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Видеомагнитофон, DVD плейер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Телевизор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Магнитофо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Фотоаппара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Видеокаме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Электронные доск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"/>
          <p:cNvPicPr/>
          <p:nvPr/>
        </p:nvPicPr>
        <p:blipFill>
          <a:blip r:embed="rId1"/>
          <a:stretch/>
        </p:blipFill>
        <p:spPr>
          <a:xfrm>
            <a:off x="6553080" y="1765440"/>
            <a:ext cx="2286000" cy="19875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"/>
          <p:cNvPicPr/>
          <p:nvPr/>
        </p:nvPicPr>
        <p:blipFill>
          <a:blip r:embed="rId2"/>
          <a:stretch/>
        </p:blipFill>
        <p:spPr>
          <a:xfrm>
            <a:off x="4818240" y="3809880"/>
            <a:ext cx="2398680" cy="23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 же можно выделить следующие виды интерактивных материалов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Фотографии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Видеоролики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Видеофрагменты (фильмов, сказок, мультфильмов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Презентации (электронные книги, электронные выставки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Детские развивающие компьютерные игры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Возможно создание коллекций цифровых фотографий и мультфильмо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ование компьютерных технологий помогает: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привлекать пассивных слушателей к активной деятель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делать образовательную деятельность более наглядной и интенсивно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формировать информационную культуру у дет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активизировать познавательный интерес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реализовывать личностно-ориентированный и дифференцированный подходы в обучени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дисциплинировать самого воспитателя, формировать его интерес к работ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активизировать мыслительные процессы (анализ, синтез, сравнение и др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имущества использования интерактивных материалов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нные материал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позволяют увеличить восприятие материала за счет увеличения количества иллюстративного материа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использование мультимедийных презентаций обеспечивает наглядность, которая способствует восприятию и лучшему запоминанию материала, что очень важно, учитывая наглядно-образное мышление детей дошкольного возрас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использование новых приёмов объяснения и закрепления, особенно в игровой форме, повышает непроизвольное внимание детей, помогает развить произвольно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имущества использования интерактивных материал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непосредственно образовательная деятельность с использованием информационно-коммуникационных технологий побуждает детей к поисковой и познавательной деятельности, включая и поиск в сети Интернет самостоятельно или вместе с родителям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высокая динамика непосредственно образовательной деятельности способствует эффективному усвоению материала, развитию памяти, воображения, творчества дет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Подбор иллюстративного материала к ООД и для оформления стендов, альбомов, группы, кабинетов (сканирование, Интернет; принтер, презентация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Создание дидактических иг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зентаци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уществуют следующие виды презентаций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Для обозначения темы или как сопровождение объяснения педагога;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Для сопровождения небольших театрализованных сценок или постановок сказок деть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Для сопровождения праздника для детей или для контроля знаний и 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Для сопровождения конце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Для проведения родительских собр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09:42:40Z</dcterms:created>
  <dc:creator>Алексей</dc:creator>
  <dc:description/>
  <dc:language>en-US</dc:language>
  <cp:lastModifiedBy>дет сад</cp:lastModifiedBy>
  <dcterms:modified xsi:type="dcterms:W3CDTF">2023-05-26T03:02:0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0400000000000102a0010207f7000400038000</vt:lpwstr>
  </property>
  <property fmtid="{D5CDD505-2E9C-101B-9397-08002B2CF9AE}" pid="3" name="Version">
    <vt:r8>1</vt:r8>
  </property>
</Properties>
</file>