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D060-518E-48B1-9710-C42900821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7561-DC89-4FC2-8C3C-0EDE5303F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1AFC-42FE-4955-B987-5FE4ABC9F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83CE-99C5-4CC0-A0EC-5C23F5896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E04BE-88BE-4885-9A68-9D55D091A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4B6DA-CB74-408B-9204-0FD01EA0E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4FE9B-B4BA-4C4B-B1E6-266B8667F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CBF77-8CBD-4BE0-A1D1-BC6FD09F8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BA620-E566-4444-B738-ECAFABA86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A81BF-479F-43EB-9B47-302CCD496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F1559-832F-4193-8225-3776B809F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C4B2-0693-42BC-8FD8-1078D2DFF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B481B-F4A3-49C8-9433-31D658A7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C10D6-5BB5-48AF-A53A-258DDE160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38472-7E5B-4B99-99DE-97B6012F4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E4066-8638-499F-8117-D5C561A32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3F49F-2F8E-4D91-A7A1-0D293B7B7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5C59-62DD-4341-B547-B6A118978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F4FE-8112-40BD-AED0-9D6C5036C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3B18-B976-48C1-8327-588E87221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4B59-362B-4599-A354-41FF18975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3351-BACC-47C5-8BB5-6811FD24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7505-1621-4664-B33A-B3607E66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983D-3609-4853-A014-671475396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DCEFD-92AB-4A39-AB09-CB80314D458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AB910-1141-4605-B764-1C5D59586F2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КТ  в профессиональной деятельности педагога ДОУ</a:t>
            </a:r>
            <a:endParaRPr b="0" lang="en-US" sz="37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Кочетова Н.В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pic_1346934769vP8Up87t"/>
          <p:cNvPicPr/>
          <p:nvPr/>
        </p:nvPicPr>
        <p:blipFill>
          <a:blip r:embed="rId1"/>
          <a:stretch/>
        </p:blipFill>
        <p:spPr>
          <a:xfrm>
            <a:off x="6553080" y="243828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обое место при использовании ИКТ занимает работа с родителями: 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Возможность продемонстрировать любые документы, фотоматериалы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Оптимальное сочетание индивидуальной работы с групповой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Использование ИКТ при проведении родительских собраний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комендации по использованию информационно-коммуникационных технологий 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7030a0"/>
                </a:solidFill>
                <a:latin typeface="Arial"/>
              </a:rPr>
              <a:t>При использовании данных технологий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7030a0"/>
                </a:solidFill>
                <a:latin typeface="Arial"/>
              </a:rPr>
              <a:t>воспитатель, прежде всего, должен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7030a0"/>
                </a:solidFill>
                <a:latin typeface="Arial"/>
              </a:rPr>
              <a:t>руководствоваться Санитарно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7030a0"/>
                </a:solidFill>
                <a:latin typeface="Arial"/>
              </a:rPr>
              <a:t>эпидемиологическими требованиями к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7030a0"/>
                </a:solidFill>
                <a:latin typeface="Arial"/>
              </a:rPr>
              <a:t>устройству, содержанию и режиму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7030a0"/>
                </a:solidFill>
                <a:latin typeface="Arial"/>
              </a:rPr>
              <a:t>работы дошкольных учреждений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зор наиболее востребованных и популярных сайтов для педагогов 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http://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www.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ob.1september.ru/ газ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Дошкольное воспита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http://www.kostyor.ru/ «Сказки для дете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аздел электронной версии журн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Костер» посвященный сказка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http://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www.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oshkolnik.ru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http://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www.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pochemu4ka.ru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http://www.solnet.ee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http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://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www.nsportal.ru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http://www.maam.ru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Рисунок 1" descr=""/>
          <p:cNvPicPr/>
          <p:nvPr/>
        </p:nvPicPr>
        <p:blipFill>
          <a:blip r:embed="rId1"/>
          <a:stretch/>
        </p:blipFill>
        <p:spPr>
          <a:xfrm>
            <a:off x="6095880" y="4038480"/>
            <a:ext cx="2210040" cy="221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ст «ИКТ - компетентность»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Вопрос № 1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100"/>
            </a:br>
            <a:r>
              <a:rPr b="0" lang="ru-RU" sz="31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Что значит авторизоваться на сайте?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- Посетить сайт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- Завести друзей на сайте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- Найти страницу контактов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- Войти под своим логином и паролем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ст «ИКТ - компетентность»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62120" y="1905120"/>
            <a:ext cx="80769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Вопрос № 2</a:t>
            </a:r>
            <a:br>
              <a:rPr sz="3100"/>
            </a:br>
            <a:r>
              <a:rPr b="0" lang="ru-RU" sz="31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Программа, через которую пользователь может смотреть веб-страницы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- Почтовый клиент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- Браузер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- Файловый менеджер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- Рабочий стол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ст «ИКТ - компетентность»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762120" y="114264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опрос № 3</a:t>
            </a:r>
            <a:br>
              <a:rPr sz="3100"/>
            </a:br>
            <a:r>
              <a:rPr b="0" lang="ru-RU" sz="31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Что такое электронная почта?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Это логин на сайтах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Технология по пересылке электронных сообщений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Это электронное имя пользователя со знаком @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Технология оцифровки писем в электронные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ст «ИКТ - компетентность»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762120" y="1828440"/>
            <a:ext cx="80769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опрос № 4 </a:t>
            </a:r>
            <a:br>
              <a:rPr sz="3100"/>
            </a:br>
            <a:r>
              <a:rPr b="0" lang="ru-RU" sz="31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Что такое адресная строка?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Это то, куда вводят адрес сайта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Это то, куда вводят адрес своей электронной почты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Это то, где находится название сайта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Это белая строка с английскими буквами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ст «ИКТ - компетентность»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762120" y="1828440"/>
            <a:ext cx="80769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опрос № 5 </a:t>
            </a:r>
            <a:br>
              <a:rPr sz="3100"/>
            </a:br>
            <a:r>
              <a:rPr b="0" lang="ru-RU" sz="31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Что такое блог?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Интернет-дневник, онлайн-дневник, веб-сайт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Веб-сайт с мультимедиа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Личная статья пользователя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Часть сайта в рамке с неизменным содержанием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ст «ИКТ - компетентность»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762120" y="1828440"/>
            <a:ext cx="80769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Вопрос № 6</a:t>
            </a:r>
            <a:br>
              <a:rPr sz="3100"/>
            </a:br>
            <a:r>
              <a:rPr b="0" lang="ru-RU" sz="31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Что такое плагиат?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- Неуникальный текст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- Возможность определить автора текста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- Вид африканского попугая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- Умышленное присвоение авторства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ст «ИКТ - компетентность»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62120" y="1828440"/>
            <a:ext cx="80769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опрос № 7 </a:t>
            </a:r>
            <a:br>
              <a:rPr sz="3100"/>
            </a:br>
            <a:r>
              <a:rPr b="0" lang="ru-RU" sz="31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Что такое аватар?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Это фильм Джеймса Кэмерона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Это квадратный селфи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Это изображение для профиля на сайте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Это маленькая фотография человека для сайта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769644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Человек образованный — тот,  кто знает, где найти то, чего он не знает</a:t>
            </a:r>
            <a:br>
              <a:rPr sz="2000"/>
            </a:br>
            <a:r>
              <a:rPr b="0" lang="ru-RU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                                      Георг Зиммель</a:t>
            </a:r>
            <a:endParaRPr b="0" lang="en-US" sz="2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спользование информационно-коммуникационных технологий в детском саду – актуальная проблема современного дошкольного воспитания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2i"/>
          <p:cNvPicPr/>
          <p:nvPr/>
        </p:nvPicPr>
        <p:blipFill>
          <a:blip r:embed="rId1"/>
          <a:stretch/>
        </p:blipFill>
        <p:spPr>
          <a:xfrm>
            <a:off x="2819520" y="4038480"/>
            <a:ext cx="3733560" cy="20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ст «ИКТ - компетентность»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762120" y="1828440"/>
            <a:ext cx="80769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опрос № 8</a:t>
            </a:r>
            <a:br>
              <a:rPr sz="3100"/>
            </a:br>
            <a:r>
              <a:rPr b="0" lang="ru-RU" sz="31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Что такое СПАМ?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Рассылка рекламы лицам, не выражавшим желания их получать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Коммерческое предложение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Вид договора в интернете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Оскорбительное сообщение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ст «ИКТ - компетентность»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762120" y="1828440"/>
            <a:ext cx="80769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опрос № 9</a:t>
            </a:r>
            <a:br>
              <a:rPr sz="3100"/>
            </a:br>
            <a:r>
              <a:rPr b="0" lang="ru-RU" sz="31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ля сохранения документа на новом месте и/или под другим именем выбирают пункт меню Файл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Сохранить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Сохранить как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 Создать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Открыть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36" name="preview-image" descr="http://www.pcsoftgame.ru/uploads/posts/1238374242_1be684ca1ca4.jpg"/>
          <p:cNvPicPr/>
          <p:nvPr/>
        </p:nvPicPr>
        <p:blipFill>
          <a:blip r:embed="rId1"/>
          <a:stretch/>
        </p:blipFill>
        <p:spPr>
          <a:xfrm>
            <a:off x="1676520" y="1989000"/>
            <a:ext cx="6264000" cy="34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формационные технологии, это не только и не столько компьютеры и их программное обеспечение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686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Под информационно – коммуникативными технологиями подразумевается использование компьютера, интернета, телевизора, видео, DVD, CD, мультимедиа, аудиовизуального оборудования, то есть всего того, что может представлять широкие возможности для коммуникации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 своей работе педагог может использовать следующие средства информационно-коммуникативных технологий: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Компьютер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Мультимедийный проектор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Принтер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Видеомагнитофон, DVD плейер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Телевизор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Магнитофо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Фотоаппара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Видеокамер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Электронные доски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3" descr=""/>
          <p:cNvPicPr/>
          <p:nvPr/>
        </p:nvPicPr>
        <p:blipFill>
          <a:blip r:embed="rId1"/>
          <a:stretch/>
        </p:blipFill>
        <p:spPr>
          <a:xfrm>
            <a:off x="6553080" y="1765440"/>
            <a:ext cx="2286000" cy="198756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4" descr=""/>
          <p:cNvPicPr/>
          <p:nvPr/>
        </p:nvPicPr>
        <p:blipFill>
          <a:blip r:embed="rId2"/>
          <a:stretch/>
        </p:blipFill>
        <p:spPr>
          <a:xfrm>
            <a:off x="4818240" y="3809880"/>
            <a:ext cx="2398680" cy="233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к же можно выделить следующие виды интерактивных материалов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 Фотографии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 Видеоролики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 Видеофрагменты (фильмов, сказок, мультфильмов)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 Презентации (электронные книги, электронные выставки)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 Детские развивающие компьютерные игры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 Возможно создание коллекций цифровых фотографий и мультфильмов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пользование компьютерных технологий помогает: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привлекать пассивных слушателей к активной деятельности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делать образовательную деятельность более наглядной и интенсивной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формировать информационную культуру у детей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активизировать познавательный интерес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реализовывать личностно-ориентированный и дифференцированный подходы в обучении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дисциплинировать самого воспитателя, формировать его интерес к работе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активизировать мыслительные процессы (анализ, синтез, сравнение и др.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имущества использования интерактивных материалов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анные материал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позволяют увеличить восприятие материала за счет увеличения количества иллюстративного материал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использование мультимедийных презентаций обеспечивает наглядность, которая способствует восприятию и лучшему запоминанию материала, что очень важно, учитывая наглядно-образное мышление детей дошкольного возраст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использование новых приёмов объяснения и закрепления, особенно в игровой форме, повышает непроизвольное внимание детей, помогает развить произвольно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имущества использования интерактивных материалов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 непосредственно образовательная деятельность с использованием информационно-коммуникационных технологий побуждает детей к поисковой и познавательной деятельности, включая и поиск в сети Интернет самостоятельно или вместе с родителями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 высокая динамика непосредственно образовательной деятельности способствует эффективному усвоению материала, развитию памяти, воображения, творчества дете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 Подбор иллюстративного материала к ООД и для оформления стендов, альбомов, группы, кабинетов (сканирование, Интернет; принтер, презентация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 Создание дидактических игр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зентации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уществуют следующие виды презентаций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Для обозначения темы или как сопровождение объяснения педагога;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Для сопровождения небольших театрализованных сценок или постановок сказок деть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Для сопровождения праздника для детей или для контроля знаний и д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Для сопровождения концер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Для проведения родительских собр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1T09:42:40Z</dcterms:created>
  <dc:creator>Алексей</dc:creator>
  <dc:description/>
  <dc:language>en-US</dc:language>
  <cp:lastModifiedBy>дет сад</cp:lastModifiedBy>
  <dcterms:modified xsi:type="dcterms:W3CDTF">2023-05-26T03:02:04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a0400000000000102a0010207f7000400038000</vt:lpwstr>
  </property>
  <property fmtid="{D5CDD505-2E9C-101B-9397-08002B2CF9AE}" pid="3" name="Version">
    <vt:r8>1</vt:r8>
  </property>
</Properties>
</file>