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C00D-CA1C-4407-A577-AD100BD62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DEF4-F660-4659-8059-ED31F3C2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658B-7A61-4244-96C0-983761EAB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B2EE-56FA-4B0F-BD53-5BFB3ACC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F735-8DF7-4CFD-A579-79AC2A12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38DA-39F6-4F99-A922-5733E69C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15A5-2500-424F-927D-B290ED68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54DF-894C-4CBA-B9A6-9B8F3B01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80BC-46F2-44D6-9445-A6BEED9B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C11F-9B26-463C-831C-B82C087A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C53C-F70F-4973-9A32-1BD489A4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9163-510B-413C-8471-33D5E20D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24D28-16C2-4A87-9C04-630EB005B69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1640" y="215640"/>
            <a:ext cx="9360000" cy="2757240"/>
          </a:xfrm>
          <a:prstGeom prst="rect">
            <a:avLst/>
          </a:prstGeom>
          <a:solidFill>
            <a:srgbClr val="ffff99"/>
          </a:solidFill>
          <a:ln w="36000">
            <a:solidFill>
              <a:srgbClr val="000000"/>
            </a:solidFill>
            <a:round/>
          </a:ln>
        </p:spPr>
        <p:txBody>
          <a:bodyPr lIns="0" rIns="0" tIns="2016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ели урока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 как электричество вырабатывается и   поступает в дом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ся с правилами безопасного обращения с электроприбора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359080" y="3413160"/>
            <a:ext cx="4984560" cy="37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0000" y="5976720"/>
            <a:ext cx="907092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когда не берись за электроприборы мокрыми руками! Вода очень хорошо проводит электрический 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448000" y="216000"/>
            <a:ext cx="5688000" cy="52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5640" y="5695920"/>
            <a:ext cx="9504360" cy="1720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вынимай вилку из розетки,дергая за шнур,-он может оборваться и оголить провод,по которому проходит электрический т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471760" y="360360"/>
            <a:ext cx="6240600" cy="533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6000" y="59371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е прикасайся к оголенным провода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309760" y="360360"/>
            <a:ext cx="6618240" cy="490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4360" y="5851080"/>
            <a:ext cx="907092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ты заметил искру,когда нажал на выключатель или воткнул вилку в розетку,скажи об этом взросл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16360" y="341280"/>
            <a:ext cx="4795920" cy="541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7280" y="64087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гда уходишь из дома,не забывай выключать свет и электроприб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19280" y="144360"/>
            <a:ext cx="6408720" cy="619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9T01:04:24Z</dcterms:created>
  <dc:creator/>
  <dc:description/>
  <dc:language>en-US</dc:language>
  <cp:lastModifiedBy/>
  <cp:revision>1</cp:revision>
  <dc:subject/>
  <dc:title/>
</cp:coreProperties>
</file>