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226-F827-42B7-AF7E-D22C4CC1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083-1C0B-48CE-BA9C-1939A9D0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FE3-482B-4127-AEAA-E44B433E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FF8-ABD7-421F-BC29-B7707762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B43-EA31-4A92-8A7A-8534CA14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01E-3B49-4DB4-8E22-12DE3201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BCE-3407-4495-94BF-37B97FAA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0D4-5BB5-4786-B02F-E98ED3F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D89-CE87-4A56-A917-B3F7AAF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C3F-B347-48C1-A029-D6F6AE6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E25-F7CD-4C19-9B8D-288DC1D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F2A-4011-4F87-9AB7-67A6021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C56CC-3731-4B70-A6E6-CF76222EDD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1640" y="215640"/>
            <a:ext cx="9360000" cy="2757240"/>
          </a:xfrm>
          <a:prstGeom prst="rect">
            <a:avLst/>
          </a:prstGeom>
          <a:solidFill>
            <a:srgbClr val="ffff99"/>
          </a:solidFill>
          <a:ln w="36000">
            <a:solidFill>
              <a:srgbClr val="000000"/>
            </a:solidFill>
            <a:round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и урока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как электричество вырабатывается и   поступает в до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равилами безопасного обращения с электроприбор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9080" y="3413160"/>
            <a:ext cx="498456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5976720"/>
            <a:ext cx="9070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берись за электроприборы мокрыми руками! Вода очень хорошо проводи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48000" y="216000"/>
            <a:ext cx="5688000" cy="52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640" y="5695920"/>
            <a:ext cx="9504360" cy="172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вынимай вилку из розетки,дергая за шнур,-он может оборваться и оголить провод,по которому проходит электрический т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71760" y="360360"/>
            <a:ext cx="6240600" cy="53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3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прикасайся к оголенным провод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09760" y="360360"/>
            <a:ext cx="6618240" cy="49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5851080"/>
            <a:ext cx="9070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заметил искру,когда нажал на выключатель или воткнул вилку в розетку,скажи об этом взросл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16360" y="341280"/>
            <a:ext cx="4795920" cy="54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64087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уходишь из дома,не забывай выключать свет и электропри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9280" y="144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1:04:24Z</dcterms:created>
  <dc:creator/>
  <dc:description/>
  <dc:language>en-US</dc:language>
  <cp:lastModifiedBy/>
  <cp:revision>1</cp:revision>
  <dc:subject/>
  <dc:title/>
</cp:coreProperties>
</file>