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CAA-3E83-45D3-8F66-C21210CB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213-D0A8-4A3A-BBA1-84D71EB5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79A-6A16-407A-A9B3-1D067842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4184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5548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4184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5548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685-E453-4D91-80ED-87CEEB08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9F9-850A-4564-982F-C126E599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C20-5F3C-4C50-8C86-091D6C8E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87AC-DDE2-48EB-BFBC-5F91E78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6DA7-CBA9-4054-904D-7D4CA09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62BC-A695-4142-ABB6-EF02AE3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D2D-A4DE-4D04-B11E-1D0046A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EB60-978A-497F-8836-4D72A76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361-5E87-4C30-8C28-905CC05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C50D-DE1B-4F12-8001-99A104F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1B3D-D3F4-45E3-9FC4-073C4A9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D5D-F827-4A02-A77D-A943310C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867-C866-4C18-802E-32980E9F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184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5548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94184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25548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F6E5-BB3E-40B1-9C9D-BEE706DF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9419-7AF7-4477-ABD6-8A6FEC07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DE13-F50E-4B15-A5F0-51AEEA0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483F-76F1-4C1A-AFBC-749C5B5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5CC2-64C8-4BEB-ADC2-21FF69A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8D3B-B8D1-46E7-AA42-94739F9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818-0077-4F0C-A077-16C99DD6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CFCC-DFE4-4DE6-AD07-EBC904F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517C-CADF-45F8-A90F-3EB0757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B4C9-92CA-415E-959C-0EE7B30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B018-EFC5-4A81-9637-F70B30F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C4DA-9D54-4129-99D2-51F1EB9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5792-3982-4C91-BBEA-F43AB75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4184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55480" y="182520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94184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255480" y="4097520"/>
            <a:ext cx="125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F0E1-C109-4F7E-903C-4A593E9D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70D-C06C-4C03-A545-27A10D0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463-7B60-4B98-933E-62A14E2E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5D6-3512-460F-B879-4753FA9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428-902B-4FF5-AA4D-3BA6606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8640" y="409752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A3A-13D7-4B85-A568-E1321CB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8640" y="1825200"/>
            <a:ext cx="189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84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47A-11AA-40ED-82D4-29F8D324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09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160"/>
            <a:ext cx="3084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C14-C900-41E6-8369-18F86BA217BA}" type="slidenum"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22200" indent="-3222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160"/>
            <a:ext cx="3084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64B4-712F-43F2-929E-27A430536E5C}" type="slidenum"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38847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43360" indent="-24336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160"/>
            <a:ext cx="3084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8CD1-8170-4FEE-87EE-45234ACAA480}" type="slidenum">
              <a:rPr b="0" lang="ru-RU" sz="1200" spc="-1" strike="noStrike">
                <a:solidFill>
                  <a:srgbClr val="8b8b8b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61920" y="1495440"/>
            <a:ext cx="58388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15791"/>
                </a:solidFill>
                <a:latin typeface="Arial"/>
              </a:rPr>
              <a:t>Формирование экологической культуры у детей дошкольного возраста посредством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-24300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Цель проектной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8000" y="3645000"/>
            <a:ext cx="3024000" cy="2913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836640"/>
            <a:ext cx="93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оздать условия для подготовки детей к обучению основам экологии, сформи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у детей представление о необходимости бережного и созидательного отношения к при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через различные виды деятельности: познавательную, исследовательскую, творческую (художественно-эстетическую), ценностно-ориентированную, коммуникатив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627280" y="3524400"/>
            <a:ext cx="3222720" cy="3333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66680"/>
            <a:ext cx="83167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 процессе экологического воспитания могут иметь место следующие виды деятельности: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197000"/>
            <a:ext cx="7416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90720"/>
            <a:ext cx="69138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южетно-ролевая игра, отражающая различные события в природе или природосозидающую деятельность взросл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актическая деятельность по созданию или поддержанию условий для живых объектов в зеленой зоне детского сада (труд в природе), а также деятельность по восстановлению предметов (починка игрушек, книг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детское творчество на основе впечатлений от природы или деятельности людей в прир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бщение с природой, контакт с объектами растительного и животного мира — комплексная деятельность, включающая наблюдение, оценочные суждения, любование, действия по уходу, приручение и дрессировку (в случае с животным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9080" y="188640"/>
            <a:ext cx="788652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15791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620640"/>
            <a:ext cx="7164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экспериментирование: практическая познавательная деятельность с объектами природы, сопровождающаяся наблюдением, высказываниями. Экспериментирование с живыми объектами является позитивной деятельностью лишь в том случае, если поисковые действия осуществляются с учетом потребностей живого существа и не носят деструктивный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речевая деятельность (вопросы, сообщения, участие в беседе, диалоге); обмен информацией, впечатлениями, уточнение представлений о природе с помощью с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наблюдение (самостоятельная познавательная деятельность), обеспечивающее получение информации о природе и деятельности людей в прир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просмотр книг, картин, телепередач природоведческого содержания деятельность, способствующая получению новых и уточнению имеющихся представлений о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- проектн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979640" cy="973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311640" y="1860480"/>
            <a:ext cx="56131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обеспечение психологического благополучия и здоровья детей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познавательных способностей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творческого воображения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творческого мышления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развитие коммуникативных навыков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357120"/>
            <a:ext cx="78343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omic Sans MS"/>
              </a:rPr>
              <a:t>Задачи проектной деятельност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3060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1280" y="177840"/>
            <a:ext cx="829764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ие детьми основ экологической культуры во многом зависит от воспитателя детского сада: от его экологической и методической грамотности, понимания важности экологического воспитания в формировании личности воспитанников, от умений создавать условия для подобной работы, увлечь детей и увлекаться этими проблемами са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Arial"/>
              </a:rPr>
              <a:t>Хорошим подспорьем в этом является метод проектов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, который открывает массу возможностей для полноценного экологического воспитания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08720" y="2708280"/>
            <a:ext cx="319716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616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ждение детей в проблемную игровую ситуацию (ведущая роль педагог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ация желания искать пути разрешения проблемной ситуации (вместе с педагогом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9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ачальных предпосылок поисковой деятельности (практические опыты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57120"/>
            <a:ext cx="78343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каждом возрасте существует своя специфика задач, так в младшем дошкольном возрасте - эт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старшем дошкольном возрасте - это:</a:t>
            </a: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1267920"/>
            <a:ext cx="59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едпосылок поисковой деятельности, интеллектуальной инициатив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2622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404640"/>
            <a:ext cx="684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ап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125360"/>
            <a:ext cx="770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оект включает три основных этап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1-й — подготовительный: постановка цели и задач, определение методов исследования, предварительная работа с педагогами, детьми и их родителями, выбор оборудования и материа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Подготовка к работе педагогов детского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2. Сотрудничество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3. Подготовка материалов и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4. Работа с литерату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5. Подготовительная работа с дет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6. Выбор объекта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7. Подготовка альб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3017880" cy="21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4640"/>
            <a:ext cx="7704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2-й — собственно исследовательский: поиск ответов на поставленные вопросы разными способ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Исследовательская деятельность детей обязательно сочетается с рисованием, лепкой, сочинением рассказов, сказок, играми и другими видами детской деятельности. Большое внимание уделяется эмоциональному восприятию дерева и природы в целом, умению видеть ее красоту и сопереживать. Дети также участвуют в трудовой деятельности и в случае необходимости оказывают растению помощь, создавая для него благоприятную среду (уход за деревом, изготовление кормушек, скворечников и т.п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80000" y="4365720"/>
            <a:ext cx="30956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1125360"/>
            <a:ext cx="770400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3-й — обобщающий (заключитель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Третий этап экологического проекта предполагает анализ и обобщение результатов, полученных в процессе исследовательской деятельности, закрепление знаний, поведенческих навыков детей. На этой же стадии разрабатываются различные рекомендации. В процессе работы по данному этапу дошкольники сочиняют рассказы и сказки, иллюстрируют их, отражают результаты наблюдений в играх, составляют задачи, придумывают природоохранные знаки, проводят праздник «День дерева» и изготавливают для дерева подарки, вместе с родителями составляют рекламу дерева, ищут литературу о 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4392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30480" y="746280"/>
            <a:ext cx="7284960" cy="42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Человек стал человеком, когда услышал шепот листьев и песню кузнечика, журчание весеннего ручья и звон серебряных  колокольчиков в бездонном     летнем небе, шорох снежинок и завывание вьюги за окном, ласковый плеск волны, торжественную тишину ночи, - услышал и, затаив дыхание, слушает сотни и тысячи лет чудесную музыку природы»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5318280"/>
            <a:ext cx="78868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. 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476280"/>
            <a:ext cx="684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052640"/>
            <a:ext cx="4392720" cy="76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 современном мире проблемы окружающей среды (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экологические проблемы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) приобрели первостепенно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асущной задачей стало принятие мер по защите окружающей среды от загрязнения и разрушения, сохранению всего генетического разнообразия живых существ, сбережения генофонда план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собо остро в сложившихся условиях встала задача экологического образования населения. Первостепенное значение при этом придается экологическому образованию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9560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0480" y="260280"/>
            <a:ext cx="728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5300640"/>
            <a:ext cx="788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125360"/>
            <a:ext cx="770400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ие детьми основ экологической культуры во многом зависит от воспитателя детского сада: от его экологической и методической грамотности, понимания важности экологического воспитания в формировании личности воспитанников, от умений создавать условия для подобной работы, увлечь детей и увлекаться этими проблемами са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Arial"/>
              </a:rPr>
              <a:t>Хорошим подспорьем в этом является метод проектов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, который открывает массу возможностей для полноценного экологического воспитания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863800"/>
            <a:ext cx="45720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700360" y="4797360"/>
            <a:ext cx="352728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745920"/>
            <a:ext cx="7904160" cy="54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следует организовать так, чтобы у каждого ребенка было желание участвовать в исследовательской деятельности, проявлять инициативу, чтобы дети осознавали, что экологический проект содержит такие задания, которые будут для него интересны и которые никто кроме него, не сможет выполн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предоставлять детям свободу выбора. Несмотря на то, что в проекте существует ряд заданий, которые выполняются всеми участниками проекта, кто-нибудь из детей может внести свое предложение: осуществить наблюдение, сделать рисунки. Свобода выбора должна реализовываться и в процессе определения объекта исследования. В действиях детей должна проявляется их индивидуальность. Разнообразные работы, в основе которых лежат самостоятельные разработки, гораздо интереснее сравнивать и обсужда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0560" y="430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Формирование у детей экологических</a:t>
            </a: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представлений через проектную деятельн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20480" y="1155240"/>
            <a:ext cx="53751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кологическом воспитании детей необходимо не только наблюдать за природой, но и общаться с ней, ухаживать за растениями, животными. Это можно выразить при помощи игры, творчества, музыки, тогда происходит закрепление впечатлений и знаний, полученных ребенком, и он постепенно начинает ощущать связь природы со своей жизнью,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направлений экологического воспитания и обучения является ознакомление детей с окружающей сре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алышей формируются способности сосредоточивать внимание на предметах ближайшего окружения и явлениях окружающей действительности, умение сравнивать, анализировать, устанавливать простейшие причинно-следственные связи, выделять в предметах определенные свойства, групп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96712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6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omic Sans MS"/>
              </a:rPr>
              <a:t>Проектная деятельность, как ни какая другая поддерживает детскую познавательную инициативу в условиях детского сада и семь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267920"/>
            <a:ext cx="59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ектно-исследовательская деятельность как метод экологического образования приобретает в последнее время все большую популярность. Это связано с его эффективностью, а также с общей тенденцией в образовании- переходе от изучения конкретных знаний к методам их полу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любом случае, независимо от того, где, как и с чьим участием организуется проектно-исследовательская деятельность, целесообразно придерживать следующих рекомендаци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262240" cy="149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27640" y="4797360"/>
            <a:ext cx="22622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6600" y="1500120"/>
            <a:ext cx="855504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44680"/>
            <a:ext cx="8209080" cy="64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К любым наблюдениям детей следует относиться серьезно, и при этом хвалить их как можно чаще. Дети должны почувствовать всю значимость своей деятельности. Подобное отношение взрослого является прекрасным стимулом развития познавательного интереса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обходимо проявлять доброжелательность и заинтересованность в отношении детских исследований. Недопустимо говорить, что ребенок что-то выполнил неправильно, а его являются ошибочными. Это может привести к исчезновению у ребенка интереса к его раб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 случае, если кто-то из детей допустил ошибку, сделал неверные выводы, не нужно акцентировать на этом внимание, а лучше незаметно, совместно с ребенком при помощи наводящих вопросов проанализировать его деятельность так, чтобы ему стало самому понятно, где и в чем он не прав. Дети не должен бояться ошибиться в процессе исследований, к тому же стоит иметь в виду, что одни и те же явления и процессы можно рассматривать с разны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1522440" cy="24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196120" cy="61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ремиться постоянно поддерживать интерес детей к окружающей их природе, детскую любознательность, которые являются характерными для данного возраста. Сохранение этих качеств является залогом успешной реализации проек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выполнения исследовательской деятельности должны быть максимально задействованы все органы чувств ребенка: зрение, слух, обоняние, осязание. При этом с помощью соответствующих заданий необходимо развивать и эмоциональную сферу дет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 помочь детям увидеть необыкновенное в повседневном и обыденн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10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76720" y="3357720"/>
            <a:ext cx="29336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28200" y="475920"/>
            <a:ext cx="6823080" cy="57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907920"/>
            <a:ext cx="65530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Деятельность в рамках проекта необходимо осуществлять в небольшом объеме, но регуля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 следует забывать об индивидуальном подходе к каждому ребенку, который имеет большое значение для дошкольников. Нужно предоставить ребенку возможность поделиться своими впечатлениями о природе с друзьями, родителями, воспитателями, учителями в рассказах, рисунках, музыке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Работа по проекту должна осуществляться как сотворчество взрослых и детей. Педагог должен выступать в роли соавтора проекта, а для того, чтобы дети почувствовали это, следует делиться с ними своими чувствами и впечатл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04640"/>
            <a:ext cx="610236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 следует делать нравоучительных выводов, которые не связаны с работой по проекту, на основе высказы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ледует стремиться развивать творчество и фантазию. Не страшно, если дети будут дополнять реальные исслед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обходимо стараться привлечь к участию в проекте членов семьи ребенка. Многие родители могут заинтересоваться исследованиями, а работа в рамках проекта будет способствовать формированию и поддержанию семейных традиций, сотрудничеству детей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идерживаясь данных рекомендаций, можно сделать проектно-исследовательскую деятельность эффективным инструментом формирования знаний, умений, а самое главное - понимания необходимости бережного отношения к природе, которое будет сформировано исходя из личного опыта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5272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2:47:52Z</dcterms:created>
  <dc:creator>admin</dc:creator>
  <dc:description/>
  <dc:language>en-US</dc:language>
  <cp:lastModifiedBy>a01290097@outlook.com</cp:lastModifiedBy>
  <dcterms:modified xsi:type="dcterms:W3CDTF">2023-05-31T18:34:13Z</dcterms:modified>
  <cp:revision>1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