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5741-54D4-4889-9992-CC8A0C5D5E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: Давлатова Ольга Юр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E6B9-C763-46DE-9762-11E3E36CBF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318-DBB5-4960-A780-F8EB2DA4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97F8-19BA-43A2-BBB7-783F3BD8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422-446E-4989-84A3-12E4A7E8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AE4-CCB9-49B6-A598-6375FC39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C19-F106-4ACE-8F5A-53C8A921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E43-1ED8-49E5-97EC-FEFED716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E39-841A-4BC2-AD14-425CC283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569-CC04-443D-84FB-7EE2816F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260-2119-4319-A934-45D24267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150-724A-4CB0-BACD-84D5D02F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8A3-C31C-4188-81AB-CD35BC92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9FD-839E-45FA-9BBE-2D5E3961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E198-E5D3-4872-92A4-F73D7F4C47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f_4a095a91a7df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25600"/>
            <a:ext cx="7772400" cy="20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46c0a"/>
                </a:solidFill>
                <a:latin typeface="Arial"/>
              </a:rPr>
              <a:t>Синквейн –  технология развития речи  дошкольников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63370117_1283114586_24.png"/>
          <p:cNvPicPr/>
          <p:nvPr/>
        </p:nvPicPr>
        <p:blipFill>
          <a:blip r:embed="rId2"/>
          <a:stretch/>
        </p:blipFill>
        <p:spPr>
          <a:xfrm>
            <a:off x="285840" y="2792520"/>
            <a:ext cx="3143160" cy="406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Объект 1"/>
          <p:cNvGraphicFramePr/>
          <p:nvPr/>
        </p:nvGraphicFramePr>
        <p:xfrm>
          <a:off x="4476600" y="5295960"/>
          <a:ext cx="26100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Объект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6600" y="5295960"/>
                    <a:ext cx="2610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714840" y="4919400"/>
            <a:ext cx="525600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Воспитатель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Медведева Е. 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250920" y="476280"/>
            <a:ext cx="828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й метод может легко интегрироваться со всеми образовательными областями, а простота построения синквейна позволяет быстро получить результ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творческом использовании синквейна на занятиях он воспринимается дошкольниками как увлекательная иг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нужно помнить, что необходимо составлять синквейн только на темы хорошо известные детьми и обязательно показывать образ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1328967010_model-vypusknika-nachalnoy-shkoly.jpg"/>
          <p:cNvPicPr/>
          <p:nvPr/>
        </p:nvPicPr>
        <p:blipFill>
          <a:blip r:embed="rId2"/>
          <a:stretch/>
        </p:blipFill>
        <p:spPr>
          <a:xfrm>
            <a:off x="3178080" y="426240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https://xn----7sbfgff4byabk7g.xn--p1ai/images/tehnologii/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395280" y="1420920"/>
            <a:ext cx="842472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 чём же его эффективность и значимость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Во-первы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, его простота. Синквейн могут составить в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Во-вторы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, в составлении синквейна каждый ребенок может реализовать свои творческие, интеллектуальные возмо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инквейн является игровым прие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оставление синквейна используется как заключительное задание по пройденному матери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оставление синквейна используется для проведения рефлексии, анализа и синтеза полученн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Прямоугольник 4" descr=""/>
          <p:cNvPicPr/>
          <p:nvPr/>
        </p:nvPicPr>
        <p:blipFill>
          <a:blip r:embed="rId2"/>
          <a:stretch/>
        </p:blipFill>
        <p:spPr>
          <a:xfrm>
            <a:off x="573120" y="212760"/>
            <a:ext cx="78580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52560" y="404640"/>
            <a:ext cx="885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ТЕР-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КИЙ  АКТУ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ЦИПЛИНИРУЕТ ВОЛНУЕТ  ОБЪЕДИН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ДРУГИХ ПОСМОТРЕТЬ, ДА СЕБЯ ПОКАЗ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ЫТ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9" descr="znayka.png"/>
          <p:cNvPicPr/>
          <p:nvPr/>
        </p:nvPicPr>
        <p:blipFill>
          <a:blip r:embed="rId2"/>
          <a:stretch/>
        </p:blipFill>
        <p:spPr>
          <a:xfrm>
            <a:off x="6865920" y="3500280"/>
            <a:ext cx="20430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1403280" y="1339920"/>
            <a:ext cx="75265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инквейн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– это французское пятистишие, похожее на японские стихо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инквейн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помогает пополнить словарный зап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инквейн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учит краткому переска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инквейн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учит находить и выделять в большом объеме информации главную мыс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очинение синквейн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– процесс творческий. Это интересное занятие помогает самовыражению детей, через сочинение собственных нерифмованных стих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оставить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инквейн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олучается у все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инквейн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омогает развить речь и мыш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инквейн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облегчает процесс усвоения понятий и их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инквейн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— это также способ контроля и самоконтроля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9280" indent="-1079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дети могут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сравнить синквейны и оценивать 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4" descr=""/>
          <p:cNvPicPr/>
          <p:nvPr/>
        </p:nvPicPr>
        <p:blipFill>
          <a:blip r:embed="rId2"/>
          <a:stretch/>
        </p:blipFill>
        <p:spPr>
          <a:xfrm>
            <a:off x="573120" y="212760"/>
            <a:ext cx="7858080" cy="927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phcc7A1OgX.jpg"/>
          <p:cNvPicPr/>
          <p:nvPr/>
        </p:nvPicPr>
        <p:blipFill>
          <a:blip r:embed="rId3"/>
          <a:stretch/>
        </p:blipFill>
        <p:spPr>
          <a:xfrm>
            <a:off x="-142920" y="3929040"/>
            <a:ext cx="2187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428760" y="500040"/>
            <a:ext cx="89294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Синквейн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— слово французское, в переводе означает «стихотворение из пяти стр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Форма синквейна была разработана американской поэтессой Аделаидой Крэп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428760" y="2214720"/>
            <a:ext cx="85010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Синквейн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рифмованная пятистрочная стихотворная фор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писанная по определённым прав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755640" y="565308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9" descr="znayka.png"/>
          <p:cNvPicPr/>
          <p:nvPr/>
        </p:nvPicPr>
        <p:blipFill>
          <a:blip r:embed="rId2"/>
          <a:stretch/>
        </p:blipFill>
        <p:spPr>
          <a:xfrm>
            <a:off x="6643800" y="3159000"/>
            <a:ext cx="2265120" cy="34848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Neznaika2a.JPG"/>
          <p:cNvPicPr/>
          <p:nvPr/>
        </p:nvPicPr>
        <p:blipFill>
          <a:blip r:embed="rId3"/>
          <a:stretch/>
        </p:blipFill>
        <p:spPr>
          <a:xfrm>
            <a:off x="179280" y="222120"/>
            <a:ext cx="2320920" cy="18496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2" descr=""/>
          <p:cNvPicPr/>
          <p:nvPr/>
        </p:nvPicPr>
        <p:blipFill>
          <a:blip r:embed="rId4"/>
          <a:stretch/>
        </p:blipFill>
        <p:spPr>
          <a:xfrm>
            <a:off x="1785960" y="500040"/>
            <a:ext cx="6675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304920" y="582480"/>
            <a:ext cx="8534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Чтобы составить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синквейн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, нужно научиться находить в тексте, в материале главные элементы, делать выводы и заключения, высказывать своё мнение, анализировать, обобщать, вычленять, объединять и кратко излаг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ожно сказать, что это полёт мысли, свободное мини-творчество, подчиненное определенным прави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1328967010_model-vypusknika-nachalnoy-shkoly.jpg"/>
          <p:cNvPicPr/>
          <p:nvPr/>
        </p:nvPicPr>
        <p:blipFill>
          <a:blip r:embed="rId2"/>
          <a:stretch/>
        </p:blipFill>
        <p:spPr>
          <a:xfrm>
            <a:off x="6572160" y="402264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1476360" y="1968480"/>
            <a:ext cx="70167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инквейн состоит из 5 стр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Его форма напоминает ёлочку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724040" y="3441600"/>
            <a:ext cx="216072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2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4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17" descr=""/>
          <p:cNvPicPr/>
          <p:nvPr/>
        </p:nvPicPr>
        <p:blipFill>
          <a:blip r:embed="rId2"/>
          <a:stretch/>
        </p:blipFill>
        <p:spPr>
          <a:xfrm>
            <a:off x="573120" y="212760"/>
            <a:ext cx="7858080" cy="1755720"/>
          </a:xfrm>
          <a:prstGeom prst="rect">
            <a:avLst/>
          </a:prstGeom>
          <a:ln w="0">
            <a:noFill/>
          </a:ln>
        </p:spPr>
      </p:pic>
      <p:grpSp>
        <p:nvGrpSpPr>
          <p:cNvPr id="68" name="Группа 20"/>
          <p:cNvGrpSpPr/>
          <p:nvPr/>
        </p:nvGrpSpPr>
        <p:grpSpPr>
          <a:xfrm>
            <a:off x="5143680" y="3429000"/>
            <a:ext cx="2705040" cy="2862360"/>
            <a:chOff x="5143680" y="3429000"/>
            <a:chExt cx="2705040" cy="2862360"/>
          </a:xfrm>
        </p:grpSpPr>
        <p:grpSp>
          <p:nvGrpSpPr>
            <p:cNvPr id="69" name="Группа 23"/>
            <p:cNvGrpSpPr/>
            <p:nvPr/>
          </p:nvGrpSpPr>
          <p:grpSpPr>
            <a:xfrm>
              <a:off x="5143680" y="3429000"/>
              <a:ext cx="2705040" cy="2304720"/>
              <a:chOff x="5143680" y="3429000"/>
              <a:chExt cx="2705040" cy="2304720"/>
            </a:xfrm>
          </p:grpSpPr>
          <p:sp>
            <p:nvSpPr>
              <p:cNvPr id="70" name="Равнобедренный треугольник 7"/>
              <p:cNvSpPr/>
              <p:nvPr/>
            </p:nvSpPr>
            <p:spPr>
              <a:xfrm>
                <a:off x="7201080" y="515772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Равнобедренный треугольник 8"/>
              <p:cNvSpPr/>
              <p:nvPr/>
            </p:nvSpPr>
            <p:spPr>
              <a:xfrm>
                <a:off x="6480360" y="5157720"/>
                <a:ext cx="64908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Равнобедренный треугольник 9"/>
              <p:cNvSpPr/>
              <p:nvPr/>
            </p:nvSpPr>
            <p:spPr>
              <a:xfrm>
                <a:off x="6151680" y="342900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Равнобедренный треугольник 10"/>
              <p:cNvSpPr/>
              <p:nvPr/>
            </p:nvSpPr>
            <p:spPr>
              <a:xfrm>
                <a:off x="5862600" y="4005000"/>
                <a:ext cx="64908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Равнобедренный треугольник 11"/>
              <p:cNvSpPr/>
              <p:nvPr/>
            </p:nvSpPr>
            <p:spPr>
              <a:xfrm>
                <a:off x="6512040" y="400500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Равнобедренный треугольник 12"/>
              <p:cNvSpPr/>
              <p:nvPr/>
            </p:nvSpPr>
            <p:spPr>
              <a:xfrm>
                <a:off x="6870960" y="458136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Равнобедренный треугольник 13"/>
              <p:cNvSpPr/>
              <p:nvPr/>
            </p:nvSpPr>
            <p:spPr>
              <a:xfrm>
                <a:off x="6151680" y="458136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Равнобедренный треугольник 14"/>
              <p:cNvSpPr/>
              <p:nvPr/>
            </p:nvSpPr>
            <p:spPr>
              <a:xfrm>
                <a:off x="5504040" y="458136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Равнобедренный треугольник 15"/>
              <p:cNvSpPr/>
              <p:nvPr/>
            </p:nvSpPr>
            <p:spPr>
              <a:xfrm>
                <a:off x="5143680" y="515772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Равнобедренный треугольник 16"/>
              <p:cNvSpPr/>
              <p:nvPr/>
            </p:nvSpPr>
            <p:spPr>
              <a:xfrm>
                <a:off x="5791320" y="515772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Равнобедренный треугольник 18"/>
            <p:cNvSpPr/>
            <p:nvPr/>
          </p:nvSpPr>
          <p:spPr>
            <a:xfrm>
              <a:off x="6143760" y="5715360"/>
              <a:ext cx="647640" cy="5760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108000" y="0"/>
            <a:ext cx="8928000" cy="67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пишется в каждой ст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ервая строка синквейн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– заголовок, тема, состоящие из одного слова (обычно существительное, означающее предмет или действие, о котором идёт речь).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(Например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ёжик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торая строка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– два слова. Прилагательные. Это описание признаков предмета или его свойства, раскрывающие тему синквейна.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(серый,колюч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Третья строк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бычно состоит из трёх глаголов или деепричастий, описывающих действия предмета.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(фыркает, спит, сворачивает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Четвёртая строка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– это словосочетание или предложение, состоящее из нескольких слов, которые отражают личное отношение автора синквейна к тому, о чем говорится в тек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(Мне нравится маленький ёж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ятая строка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– последняя. Одно слово – существительное для выражения своих чувств или ассоциаций, связанных с предметом, о котором говорится в синквейне, то есть это личное выражение автора к теме или повторение сути, либо синоним.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(Лес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6df73023ff92862cacd80578dd92648b_ae59e32c0e6b650b11462577bb816a8b.jpg"/>
          <p:cNvPicPr/>
          <p:nvPr/>
        </p:nvPicPr>
        <p:blipFill>
          <a:blip r:embed="rId2"/>
          <a:stretch/>
        </p:blipFill>
        <p:spPr>
          <a:xfrm>
            <a:off x="179280" y="210960"/>
            <a:ext cx="2694240" cy="321804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052800" y="1125360"/>
            <a:ext cx="6091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1.                Арбу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2.       Круглый, вку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3. Катится, растет, зре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4. Арбуз – это большая я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5.                 Л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250920" y="189000"/>
            <a:ext cx="86421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жно сказать, чт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инквейн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это стихи, в которых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фмы, но есть смыс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работы над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инквей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Составление краткого рассказа по готовому синквейну (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м слов и фраз, входящих в состав последнег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Составление синквейна по прослушанному расска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Коррекция и совершенствование готового синквей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Анализ неполного синквейна для опре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сутствующей части (например, дан синквейн без указ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ы, первой строки — на основе существу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к необходимо ее определи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Использование синквейна на занятиях для закре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ной лексической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2"/>
          <p:cNvSpPr/>
          <p:nvPr/>
        </p:nvSpPr>
        <p:spPr>
          <a:xfrm>
            <a:off x="131760" y="176040"/>
            <a:ext cx="89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ставление синквей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прослушанному рассказу или ска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468360" y="1044720"/>
            <a:ext cx="84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ставление синквейна по сказке «Заюшкина избушка».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xn----etbbrbbbjgx3byb3d.xn--p1ai/d/513282/d/Scan_20140124_141045.jpg"/>
          <p:cNvPicPr/>
          <p:nvPr/>
        </p:nvPicPr>
        <p:blipFill>
          <a:blip r:embed="rId2"/>
          <a:stretch/>
        </p:blipFill>
        <p:spPr>
          <a:xfrm>
            <a:off x="638280" y="1727280"/>
            <a:ext cx="3762360" cy="482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www.razvitierebenka.net/teatr/zajushkina_izbushka.jpg"/>
          <p:cNvPicPr/>
          <p:nvPr/>
        </p:nvPicPr>
        <p:blipFill>
          <a:blip r:embed="rId3"/>
          <a:stretch/>
        </p:blipFill>
        <p:spPr>
          <a:xfrm>
            <a:off x="5021280" y="1701720"/>
            <a:ext cx="34243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"/>
          <p:cNvSpPr/>
          <p:nvPr/>
        </p:nvSpPr>
        <p:spPr>
          <a:xfrm>
            <a:off x="179280" y="333360"/>
            <a:ext cx="46087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йчик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ый, трусливый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чет, боится, просит (помощи).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жалко зайчика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очный герой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496960" y="3898800"/>
            <a:ext cx="395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етух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ый, отваж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, защитил, выгнал (лис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ух поступил см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очный г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5219640" y="1019160"/>
            <a:ext cx="39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трая, наг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нала, обманула, обхитр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а поступила пло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очный г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8:09:41Z</dcterms:created>
  <dc:creator>1</dc:creator>
  <dc:description/>
  <dc:language>en-US</dc:language>
  <cp:lastModifiedBy>MedvedevaElena</cp:lastModifiedBy>
  <dcterms:modified xsi:type="dcterms:W3CDTF">2023-04-25T18:45:20Z</dcterms:modified>
  <cp:revision>70</cp:revision>
  <dc:subject/>
  <dc:title>Слайд 1</dc:title>
</cp:coreProperties>
</file>