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wmf" ContentType="image/x-wmf"/>
  <Override PartName="/ppt/media/image6.gif" ContentType="image/gif"/>
  <Override PartName="/ppt/media/image7.png" ContentType="image/png"/>
  <Override PartName="/ppt/media/image12.png" ContentType="image/png"/>
  <Override PartName="/ppt/media/image11.jpeg" ContentType="image/jpe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dt" idx="5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 type="ftr" idx="5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 type="sldNum" idx="6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F0620-0BEF-473D-9F60-C40AB40DDBC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C327D-C17A-46E7-B993-5824A56F7C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85DF-D7B9-421B-B091-3067BF10D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D8FB-2B41-4188-8722-D9156FD84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5F8B12-4276-40AC-AEF0-4978F7913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80D79E-B1B7-4B97-9F76-90E567314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83515F-B14F-4B02-A4E4-3C26917B5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9CAD4C-687F-4F0C-A205-8D90285F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2F819B-E9F7-4EB1-856D-02D0BE48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F7631C-2708-40B6-BC03-754FA472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98D1D6-635A-4C79-BC5B-53F8C3095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71E790-53A9-4A39-B8C6-2E3840C82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9597CB-AB8C-49FA-8817-7818F596B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5C1842-5D4D-4FAD-BD6C-5EB652F98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DA2E-6147-44D5-AF6B-F9AED9EC3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11A34A-E969-46F4-9160-67E2D2B92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8CF54B-EBDD-4C3D-BB24-DA5316460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DD7E0D-BB93-4C02-B548-EB04EA801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DB509B-B7F4-4930-A704-3241C7624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6CB29F-775D-42B1-B86B-AE2B72F57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77B439-F04F-469F-A6E6-11AFF093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1E18AF-1D59-4447-915A-5E67211F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70C05F-2774-468C-940F-7B08D4FF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7AD54D-6D69-4CB1-BDE8-EAB5B7CA0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7124B7-85EE-401E-AAB3-6448A3EF9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9653-9BE0-4B3E-BC63-2F9FF6744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EF5E13-CC25-4D86-88C3-B2AF50005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D898F8-39DE-4859-9C44-F03ED6931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CB4476-E826-4D1E-99F6-04C48E2AE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2F9CA8-2729-49FA-899A-AE19E6886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CE388C-FC7C-4018-9078-F06EDF4AA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B5F8FD-6114-427E-9C58-2976FE798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402304-7AEA-4C15-B538-196A247CF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FD777D-ED5A-4BCC-A9AC-99D6CEA4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CE8E52-D33C-41E2-BAC0-B6C33DAD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8AD500-6380-4840-95F2-A6FE2FB2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852F2-9C04-4E9B-9CF3-24017E5DD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95A482-3C31-4E3A-86E5-342E2589B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FEF559-6A13-4495-8DB4-FF6B9312D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97E96C-0DAB-4E91-B177-281315A02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2E1D6B-CCA0-480F-A964-0D2F11ED1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2025E1-A86E-47CB-8E2A-020C09B6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7FFCB7-2E94-44CE-BC0D-9C3926B98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82307A-8AC6-4A00-AABE-1E9FEE42D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120DC1-CD9D-4B1A-A9D1-993D2044C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89535C-9BE3-43CD-9E1C-99974BFBA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4B5D42-C1B0-4839-A627-F7A8AF80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1425A-B7FC-46A2-9990-088DFDAA9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F8C428-3F16-4226-AE5C-70F87CE6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79310E-1BCC-435D-BE40-B35EBD04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31C79A-C9C6-4862-B63E-CD166B29F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027A60-4329-4DF8-BD43-79D28CC2A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C0F304-F26A-4E57-B2D9-F21CD634E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837D25-82C0-4E1C-8C1E-2FE479F68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7C796E-F4B7-4E3F-A98D-1685E9E8E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B859B6-3F94-4CF7-B43B-493F37D6F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9374AC-AC17-41FE-957A-A7C330499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49A374-A2F3-45D9-8FC6-901EF54CD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710A9-13FD-458C-B263-6C18AA07E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B57E8D-B88A-4B69-8E10-9ADF1ADE8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59A204-C64E-4C9C-8495-EA2A8849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A34606-715A-4540-BC84-9B8773F6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E9D1CD-339E-4BD5-BCF8-3F61C3EA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91E2AD-1B8D-47CD-BB81-C2D9B6D4F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B44849-5BD8-4792-8F4E-6467C1236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FB8BC6-8104-4F56-B1BF-E68F2A1EF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976F85-4FD2-4123-AB01-5C003BEEC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8FF502-DD9B-434B-B81A-3D7057C78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2E66A8-82ED-4AD1-A797-92CC61A69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2D683-D43C-41F2-BD72-F996287F7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95B35D-5670-494B-A1C6-4DED9484C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868497-47A5-4678-8800-7C4D3E74D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E424B6-DBE3-40BF-9DAD-825EED63D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273945-5528-4C51-BD5F-F6447346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A850FD-8368-4336-BD24-DD0FCA97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667BC0-96AC-48BD-9169-445FDB0D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AE58B4-C7A4-43DB-9E9B-0FBF004BE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9388CA-098A-4AA2-A09B-0F9869D5F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FD8B00-C93E-4C31-A7B3-E89C7DA87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5DF658-B5C0-41B0-B7B5-1E303668A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FF3AE-3B5D-42F1-8A0A-D8853BA20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7311D0-DE9D-4CF2-94E3-2990D270C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A2C7D2-77AC-4A60-B940-8363A57CA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DDCC55-50FC-4778-9CC4-62B662B4F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E126E5-0551-4F95-A63A-40C2EB337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DADB82-AFB8-4554-A8A3-0B415D426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F284F6-DB7D-49B0-ACC3-76557A59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0A0314-ECC7-4B18-A8CF-A070A856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BE2865-C3E2-4DA6-9946-E51D1AE7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8BD350-CD5B-459D-881B-B7031F923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E05FD0-D5DF-4F0A-9A16-928ADE3D9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8AC26-3319-44A5-BDF8-EE6B01B1E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B8CB2F-A237-4D3D-8AFF-8A22BFA1C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950810-58AE-4C10-A811-202DB3D6E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138F9B-FE6E-494B-A861-80DDACBCF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77BA16-3DEB-49FE-B9F3-C4DF880D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AB311D-E146-4F07-8EC0-F9C3034C7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F38FB5-27A0-4EDF-B0AC-B037359C2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E5BCA9-117E-41F2-932A-07DF54EA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038440-67CF-479E-82BD-106EBE68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C43A9C-D8B3-4662-82C2-060DB843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0B3AAE-4185-4D66-B29D-1C12E3CB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9E2A3-BC3F-4F5F-9C84-69467296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8E413C-2CBB-4E3F-A72E-8DFB8BB47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FA8B7D-0D24-4AA8-AFEB-054746EE9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F8FB62-FD12-4FA5-91D1-2F743427A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375FD5-8253-42BC-ACD5-B6EF96022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0467F6-97D3-4BD0-8005-0CEE8611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D38A6D-9A1C-4519-A45B-9BC8774FA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82554B-51DB-4A99-94D7-C42C18402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2C4633-44CB-44C0-87CF-268780BE3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78177D-3C7F-4FFA-B0BD-18E697F4D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D6654E-7D0E-49F4-811A-6226001E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9DAA-BD3A-4736-8D42-664569CE3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A39CA-DD8E-4D13-BF49-76B877C2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C0FAC9-0E54-4E2B-AE39-62E06AD2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3B39A4-9905-47BA-A1F8-38543750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00585C-E042-4601-84BC-FE4F700D8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21932E-D438-4A78-B7B1-D5D28D473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E1AD3A-7EDF-4437-80BF-D3875C17A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400550-6123-4632-952F-E280B660C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65CDD0-7BC5-4728-824E-4FBE7FC98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B19657-7209-4339-A111-5C93EE40E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541F1A-5E39-43D5-9065-0C576DAC7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F5010C-D37B-4CB1-9B7C-48491E12D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36509-796A-46FD-9CE8-1F5749CD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4B3B7C-02C0-4D9D-A800-54E7326B5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B53E56-A95E-4B91-B3B5-168FFC4A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1AA6DD-092C-49B6-8CFE-69817052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9039AC-7AE0-4ABB-B69B-C338B587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19BD2A-F0E5-4EA3-A01F-656D8F15D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26800B-3EF6-400B-81FE-0DD706AB0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45250D-F561-45F1-BC03-59A173850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396632-95FB-429F-BA86-EEBF99EEC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D78541-EFB1-4213-A428-DBF382BC1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DC2067-C64E-410D-9AB7-5092FC79D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17F34-919B-4096-B027-B95979B63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DE2289-594F-44E3-849D-739DACC34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EDB582-5E02-4696-895D-AD8496991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DE18C5-0B26-48EB-BEEA-937FB3593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446E53-3892-448C-966C-7084B36B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0AF57F-11E6-404F-9D45-024A79A3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B24DFA-10A8-48AD-A63D-C067BC01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E2CA58-4555-4C71-9E06-4B855843E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80AC84-4694-4695-BC36-0DBEA35E9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AC84E1-2D91-45B0-BB2D-A1E1A7F91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8ABA9-73D1-416F-BF24-0BFCD0819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CC16C-E8B7-4148-9CDA-38F5DC12B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D9A1B-77C1-485A-A863-6151E6484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54A9B-3190-4CFE-A3C1-248A16727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DFA26-9C4A-4DAD-A652-7C93510E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95D45-3E31-40C2-A500-CC27AE3B8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E1238-D06E-474A-B001-9F925582A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A291-3AFF-4B15-8498-95210E28C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C3DE6-203D-441A-AADE-4F39D6E69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26663-CC1E-4E38-AA23-2DA0EADA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C4D0C-77EF-4078-A130-08EEABDF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ABFA9-D09F-443B-A8AC-52D7B6FC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35DB4-120B-48EE-98EC-52957E0DF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3E2A5-5FE8-4B1C-80F9-FA973D973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64785-069C-43D9-ADA3-DAB3B9DA8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B143AA-7368-4AE5-9CB8-5527EB2CE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E650C2-9FA9-4821-847B-40A552594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FC7B7A-9FC8-45EF-B10B-22CC55DCD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C6F5-DF5F-4EFD-ADE2-3C091A654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E5D6D9-134B-450B-A39C-552930301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658307-E21F-431A-A338-C04EAC2FA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7306FE-7FD4-4ADD-904E-36CA9DA65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9E56DE-26E9-4D47-96AC-F2CAA71F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CCA23F-83AB-41B6-B9A3-E7FC1E56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2AF32F-DBEB-4E26-88A1-33151D6B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11B280-2481-4C73-B247-B2F570C98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623697-2011-4B65-BB13-9D4181209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57A88A-F28D-4E33-B82C-B912FD57B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A487D-E2D1-43F2-B1A3-F52BF5383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6848-62D4-45E8-B345-87884557A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DB89B-7C75-425A-86C1-98B18D81E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A58E4-6DBD-4CC2-A7F3-37D06D1FC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893D4-A90E-4B3D-BA1D-39F2E6345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DCFCF-E05E-463F-81EB-58E81A303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9C4D9-5582-4151-9C85-F831E55B6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DEE6E-98FE-4DF5-B0CD-6291FF61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AF4C1-CCCA-48E7-BB2F-510FB458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2B574-E775-4D4C-9020-7831A4B3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6A3A0-F085-4405-B58D-6C72E08A6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CDC4D-678A-4FAB-9A91-602A1CB5A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15B9-0EF6-4E0B-8ED0-692588BE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48CA4-BE7B-454B-97BC-1DFDEA5D1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761C4B-8751-49DF-AD34-1AD16C203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7912F5-62DE-4051-8048-F848FAE1F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1C30FE-E83F-4B30-99DF-B8CCCC563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A34AB9-9CC1-49C1-9184-8E5766A0E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DD7714-97B5-4AF9-8172-AD4EF47DE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C6F955-8BA6-41F0-9827-1AE6D5F3F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FC5632-5E93-44EF-B925-7B7064E6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3EA62B-A0F0-4674-B23B-49AE91A0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3B4AD9-6E25-4F16-A7CC-DA4CC2AF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555E-0EB6-4EA7-8EC8-91331F7E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342E49-6CCB-45FF-8029-13A9250B1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38B662-5E85-4323-9D86-6C7712CDB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D85BCC-A5F0-40ED-BD90-CD72EA6CD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475344-5CE6-49D3-9B9F-D1932E9F9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8B96C0-A369-4427-A970-C30DC9715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60AB6B-F5C2-4A66-AC5E-45C8B24FC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D3AB52-2FF2-46D1-8A6A-C7399386F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1AA2A2-7BBA-4482-A72F-897EA43F8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6763BD-F829-4A38-A14B-AECFE9442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557F58-EDB3-4F57-B604-8F0BA7C0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8B6F-7E35-4740-8F35-A939AB64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7A9B10-A02E-4F95-852C-13941338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14934B-A011-4AAD-AE27-76898EA2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1FB599-B1C0-496C-8C0E-BDA78C08D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F21ACE-F201-4D31-98B4-129D67B15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3190FB-25BF-47D5-B6CB-D66B187BB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1056DA-F540-4367-9B34-F51CB1354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B110C3-2775-4D32-9C43-A6DB45C87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3C0376-6100-43C0-B663-A762FE74F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3615FF-C754-4AC1-9D8A-9558B2C7F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1E388F-3B90-435C-807B-5B50D8878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A555-A939-4CA5-A722-E259FFD7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0DCECF-06D0-4247-9366-BA4D4CBFA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F53D7D-2C91-40E0-AD91-CD37CE94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38F353-5163-4FCF-96A2-0B4BFCB1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ED9EFF-B1FD-4AB8-B898-F4F9E624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553726-B52A-40FC-9EC8-A321F7963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E54490-F40A-40CD-944C-12C4333CE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14B988-7E36-4480-B980-65ECA7E8B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24F82F-96D4-46A0-9931-F5343EB6D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D3BCE0-B7F6-43C2-8780-3BA4D163D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5D72FB-5893-4AB8-8F6C-3ABBD0715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ctr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algn="ctr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1F15-C600-4C3F-9C6F-5EC6882C857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471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2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249"/>
              </a:spcBef>
              <a:buClr>
                <a:srgbClr val="a7a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algn="r">
              <a:spcBef>
                <a:spcPts val="249"/>
              </a:spcBef>
              <a:buClr>
                <a:srgbClr val="a7a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2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3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249"/>
              </a:spcBef>
              <a:buClr>
                <a:srgbClr val="a7a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algn="r">
              <a:spcBef>
                <a:spcPts val="249"/>
              </a:spcBef>
              <a:buClr>
                <a:srgbClr val="a7a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11B56-FA30-4E30-910F-11601FE225D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516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520" name="Скругленный прямоугольник 10" descr=""/>
            <p:cNvPicPr/>
            <p:nvPr/>
          </p:nvPicPr>
          <p:blipFill>
            <a:blip r:embed="rId4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249"/>
              </a:spcBef>
              <a:buClr>
                <a:srgbClr val="a7a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algn="r">
              <a:spcBef>
                <a:spcPts val="249"/>
              </a:spcBef>
              <a:buClr>
                <a:srgbClr val="a7a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249"/>
              </a:spcBef>
              <a:buClr>
                <a:srgbClr val="a7a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algn="r">
              <a:spcBef>
                <a:spcPts val="249"/>
              </a:spcBef>
              <a:buClr>
                <a:srgbClr val="a7a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C787A-CB23-45A3-B223-BD53774C7AF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565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3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249"/>
              </a:spcBef>
              <a:buClr>
                <a:srgbClr val="a7a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algn="r">
              <a:spcBef>
                <a:spcPts val="249"/>
              </a:spcBef>
              <a:buClr>
                <a:srgbClr val="a7a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3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3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249"/>
              </a:spcBef>
              <a:buClr>
                <a:srgbClr val="a7a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algn="r">
              <a:spcBef>
                <a:spcPts val="249"/>
              </a:spcBef>
              <a:buClr>
                <a:srgbClr val="a7a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453C5-49E3-4D2F-8B2E-1071EF01D8E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610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dt" idx="3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249"/>
              </a:spcBef>
              <a:buClr>
                <a:srgbClr val="a7a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algn="r">
              <a:spcBef>
                <a:spcPts val="249"/>
              </a:spcBef>
              <a:buClr>
                <a:srgbClr val="a7a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 type="ftr" idx="3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 type="sldNum" idx="3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249"/>
              </a:spcBef>
              <a:buClr>
                <a:srgbClr val="a7a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algn="r">
              <a:spcBef>
                <a:spcPts val="249"/>
              </a:spcBef>
              <a:buClr>
                <a:srgbClr val="a7a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0B4DC-EA7F-406F-907B-A25C30080FE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655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6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249"/>
              </a:spcBef>
              <a:buClr>
                <a:srgbClr val="a7a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algn="r">
              <a:spcBef>
                <a:spcPts val="249"/>
              </a:spcBef>
              <a:buClr>
                <a:srgbClr val="a7a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4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4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249"/>
              </a:spcBef>
              <a:buClr>
                <a:srgbClr val="a7a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algn="r">
              <a:spcBef>
                <a:spcPts val="249"/>
              </a:spcBef>
              <a:buClr>
                <a:srgbClr val="a7a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C6A7F-B171-49A5-9BE0-E2E6EBBC37A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9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700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1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 type="dt" idx="4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249"/>
              </a:spcBef>
              <a:buClr>
                <a:srgbClr val="a7a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algn="r">
              <a:spcBef>
                <a:spcPts val="249"/>
              </a:spcBef>
              <a:buClr>
                <a:srgbClr val="a7a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 type="ftr" idx="4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 type="sldNum" idx="4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249"/>
              </a:spcBef>
              <a:buClr>
                <a:srgbClr val="a7a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algn="r">
              <a:spcBef>
                <a:spcPts val="249"/>
              </a:spcBef>
              <a:buClr>
                <a:srgbClr val="a7a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1A5E8-0379-4C3B-AA5D-728A523800B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5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746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7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 type="dt" idx="4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249"/>
              </a:spcBef>
              <a:buClr>
                <a:srgbClr val="a7a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algn="r">
              <a:spcBef>
                <a:spcPts val="249"/>
              </a:spcBef>
              <a:buClr>
                <a:srgbClr val="a7a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 type="ftr" idx="4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 type="sldNum" idx="4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249"/>
              </a:spcBef>
              <a:buClr>
                <a:srgbClr val="a7a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algn="r">
              <a:spcBef>
                <a:spcPts val="249"/>
              </a:spcBef>
              <a:buClr>
                <a:srgbClr val="a7a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D3623-3E92-4D34-9AB3-CE53C12411F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0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791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2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3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 type="dt" idx="4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249"/>
              </a:spcBef>
              <a:buClr>
                <a:srgbClr val="a7a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algn="r">
              <a:spcBef>
                <a:spcPts val="249"/>
              </a:spcBef>
              <a:buClr>
                <a:srgbClr val="a7a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 type="ftr" idx="5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 type="sldNum" idx="5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249"/>
              </a:spcBef>
              <a:buClr>
                <a:srgbClr val="a7a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algn="r">
              <a:spcBef>
                <a:spcPts val="249"/>
              </a:spcBef>
              <a:buClr>
                <a:srgbClr val="a7a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D1034-2D82-4921-A5E6-0E72A650628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7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838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dt" idx="5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249"/>
              </a:spcBef>
              <a:buClr>
                <a:srgbClr val="a7a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algn="r">
              <a:spcBef>
                <a:spcPts val="249"/>
              </a:spcBef>
              <a:buClr>
                <a:srgbClr val="a7a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 type="ftr" idx="5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 type="sldNum" idx="5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249"/>
              </a:spcBef>
              <a:buClr>
                <a:srgbClr val="a7a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algn="r">
              <a:spcBef>
                <a:spcPts val="249"/>
              </a:spcBef>
              <a:buClr>
                <a:srgbClr val="a7a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732E3-1323-4B60-9192-E8AC4A7F11E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2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883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4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 type="dt" idx="5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249"/>
              </a:spcBef>
              <a:buClr>
                <a:srgbClr val="a7a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algn="r">
              <a:spcBef>
                <a:spcPts val="249"/>
              </a:spcBef>
              <a:buClr>
                <a:srgbClr val="a7a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 type="ftr" idx="5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 type="sldNum" idx="5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249"/>
              </a:spcBef>
              <a:buClr>
                <a:srgbClr val="a7a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algn="r">
              <a:spcBef>
                <a:spcPts val="249"/>
              </a:spcBef>
              <a:buClr>
                <a:srgbClr val="a7a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D973A-FA95-4492-9349-58B3CD2CF6C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49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503CF-B399-4988-AA99-7868BEC5A965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ctr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algn="ctr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829D3-554D-436E-8ED2-F49C46277DB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sldNum" idx="1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ctr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algn="ctr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3BE34-82CE-4C21-98C2-13EAC785935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1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3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4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5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ctr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algn="ctr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A32B6-74AC-4AE3-A4F0-5ECFDD917E8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ctr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algn="ctr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469E-821D-41F4-9F15-816808C46B6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ctr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algn="ctr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6B11C-DB08-41D9-ADF8-9ED21A530DE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sldNum" idx="2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ctr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algn="ctr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C993A-0718-4783-87C6-C805A189634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ftr" idx="2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42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26" name="Скругленный прямоугольник 10" descr=""/>
            <p:cNvPicPr/>
            <p:nvPr/>
          </p:nvPicPr>
          <p:blipFill>
            <a:blip r:embed="rId4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2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249"/>
              </a:spcBef>
              <a:buClr>
                <a:srgbClr val="a7a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algn="r">
              <a:spcBef>
                <a:spcPts val="249"/>
              </a:spcBef>
              <a:buClr>
                <a:srgbClr val="a7a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2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Num" idx="2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249"/>
              </a:spcBef>
              <a:buClr>
                <a:srgbClr val="a7a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algn="r">
              <a:spcBef>
                <a:spcPts val="249"/>
              </a:spcBef>
              <a:buClr>
                <a:srgbClr val="a7a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AA406-AC51-4AA0-89CA-89094B1A027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entury Schoolbook"/>
              </a:rPr>
              <a:t>ОРГАНИЗАЦИЯ РАБОТЫ С РОДИТЕЛЯМИ МЛАДШИХ ШКОЛЬНИКОВ ПО ПРОФИЛАКТИКЕ ДЕВИАНТНОГО ПОВЕДЕНИЯ.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934" name="Picture 7" descr="BD06200_"/>
          <p:cNvPicPr/>
          <p:nvPr/>
        </p:nvPicPr>
        <p:blipFill>
          <a:blip r:embed="rId2"/>
          <a:stretch/>
        </p:blipFill>
        <p:spPr>
          <a:xfrm>
            <a:off x="476280" y="3048120"/>
            <a:ext cx="2714760" cy="3124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"/>
          <p:cNvSpPr txBox="1"/>
          <p:nvPr/>
        </p:nvSpPr>
        <p:spPr>
          <a:xfrm>
            <a:off x="456840" y="152280"/>
            <a:ext cx="7467480" cy="632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94% родителей приобретают педагогические знания на лекциях, беседах, родительских собраниях, конференциях и т.д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51% родителей получают знания через различные формы просвещения систематически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48% посещают беседы, родительские собрания от случая к случаю. В их число входят родители из неблагополучных семе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958" name="Рисунок 4" descr="http://gyseva.nsknet.ru/_mod_files/ce_images/news/detialkogolikov_290x200.jpg"/>
          <p:cNvPicPr/>
          <p:nvPr/>
        </p:nvPicPr>
        <p:blipFill>
          <a:blip r:embed="rId1"/>
          <a:stretch/>
        </p:blipFill>
        <p:spPr>
          <a:xfrm>
            <a:off x="3505320" y="4191120"/>
            <a:ext cx="299088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entury Schoolbook"/>
              </a:rPr>
              <a:t>III</a:t>
            </a:r>
            <a:r>
              <a:rPr b="1" lang="ru-RU" sz="2200" spc="-1" strike="noStrike">
                <a:solidFill>
                  <a:srgbClr val="ff0000"/>
                </a:solidFill>
                <a:latin typeface="Century Schoolbook"/>
              </a:rPr>
              <a:t> ЭТАП. ДЕЯТЕЛЬНОСТНЫЙ.</a:t>
            </a:r>
            <a:br>
              <a:rPr sz="2200"/>
            </a:br>
            <a:endParaRPr b="0" lang="en-US" sz="2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456840" y="837720"/>
            <a:ext cx="7620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Деятельностный этап решает следующую задачу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1.Вовлечение детей и родителей в разнообразную общественно - полезную деятельность, отвечающую их интересам и личностным особенностям, по следующим направлениям: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Century Schoolbook"/>
              </a:rPr>
              <a:t>Литературно-краеведческое направление: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1) посещение музеев города;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2)проведение тематических литературно-краеведческих чтений (проблема девиантного поведения) на базе библиотеки школы;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3)принятие участия в городских конкурсах и чтениях, посвященных краеведению, поэзии, прозе.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Century Schoolbook"/>
              </a:rPr>
              <a:t>Художественно-эстетическое направление: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1)посещение центра детского творчества, знакомство с деятельностью кружков, посещение концертов.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2)принятие участия в мероприятиях, проводимых на уровне школы, города, участие в городских выставках, концертах, конкурсах.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3)проведение концертов и «Ярмарок талантов» для учеников и родителей (и совместно с ними).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Century Schoolbook"/>
              </a:rPr>
              <a:t>Физкультурно-оздоровительное направление: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1) проведение соревнований (забег «Против вредных привычек»); между командами детей и родителей; между семьями («Папа, мама, я - спортивная семья»).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2) принятие участия в городских и региональных спортивных мероприятиях.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Возможные методы работы по профилактике девиантного поведения с младшими школьниками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62" name=""/>
          <p:cNvSpPr txBox="1"/>
          <p:nvPr/>
        </p:nvSpPr>
        <p:spPr>
          <a:xfrm>
            <a:off x="228600" y="19047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- сказкотерапия , которая включает анализ сказок, групповое сочинение историй, драматизация сказок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- арттерапия – это свободное и тематическое рисование, аппликация, лепка из глины, конструирование из бумаги и картона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- визуализация;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- психогимнастика - этюды на выражение различных эмоций;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- игровые методы включают подвижные, сюжетно-ролевые игры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- моделирование и анализ проблемных ситуаций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- этические беседы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Picture 4" descr="image004"/>
          <p:cNvPicPr/>
          <p:nvPr/>
        </p:nvPicPr>
        <p:blipFill>
          <a:blip r:embed="rId1"/>
          <a:stretch/>
        </p:blipFill>
        <p:spPr>
          <a:xfrm>
            <a:off x="5479920" y="285840"/>
            <a:ext cx="3597480" cy="272556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entury Schoolbook"/>
              </a:rPr>
              <a:t>IV</a:t>
            </a:r>
            <a:r>
              <a:rPr b="1" lang="ru-RU" sz="2200" spc="-1" strike="noStrike">
                <a:solidFill>
                  <a:srgbClr val="ff0000"/>
                </a:solidFill>
                <a:latin typeface="Century Schoolbook"/>
              </a:rPr>
              <a:t> ЭТАП. ОЦЕНОЧНЫЙ</a:t>
            </a:r>
            <a:r>
              <a:rPr b="1" lang="ru-RU" sz="2200" spc="-1" strike="noStrike">
                <a:solidFill>
                  <a:srgbClr val="fe8637"/>
                </a:solidFill>
                <a:latin typeface="Century Schoolbook"/>
              </a:rPr>
              <a:t>.</a:t>
            </a:r>
            <a:br>
              <a:rPr sz="2200"/>
            </a:br>
            <a:endParaRPr b="0" lang="en-US" sz="2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75960" y="761760"/>
            <a:ext cx="5715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озможно 2 варианта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) положительно решается проблема ребенка (на этом этапе деятельность прекращается)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) частично решается проблема ребенка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Тогда необходимо выяснить на каком этапе были допущены ошибки или возникли неопределенные препятствия и произвести корректировку деятельности. После этого необходимо повторное решение проблемы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e8637"/>
                </a:solidFill>
                <a:latin typeface="Century Schoolbook"/>
              </a:rPr>
              <a:t>СИЛА СОВРЕМЕННОГО УЧИТЕЛЯ В ЛЮБВИ К ДЕТЯМ, ЖЕЛАНИИ ИМИ ДОБРА, ПРИЗНАНИИ И УВАЖЕНИИ ЛИЧНОСТИ ВОСПИТАННИКА. </a:t>
            </a:r>
            <a:br>
              <a:rPr sz="2700"/>
            </a:b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 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67" name=""/>
          <p:cNvSpPr txBox="1"/>
          <p:nvPr/>
        </p:nvSpPr>
        <p:spPr>
          <a:xfrm>
            <a:off x="456840" y="762120"/>
            <a:ext cx="7467480" cy="1828800"/>
          </a:xfrm>
          <a:prstGeom prst="rect">
            <a:avLst/>
          </a:prstGeom>
          <a:noFill/>
          <a:ln w="9360">
            <a:solidFill>
              <a:srgbClr val="b32c1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968" name="Рисунок 6" descr="http://gyseva.nsknet.ru/_mod_files/ce_images/news/16754511_9e55f81_316x200.jpg"/>
          <p:cNvPicPr/>
          <p:nvPr/>
        </p:nvPicPr>
        <p:blipFill>
          <a:blip r:embed="rId1"/>
          <a:stretch/>
        </p:blipFill>
        <p:spPr>
          <a:xfrm>
            <a:off x="411120" y="2968560"/>
            <a:ext cx="457524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"/>
          <p:cNvSpPr txBox="1"/>
          <p:nvPr/>
        </p:nvSpPr>
        <p:spPr>
          <a:xfrm>
            <a:off x="-457200" y="64004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6" name="Rectangle 5"/>
          <p:cNvSpPr/>
          <p:nvPr/>
        </p:nvSpPr>
        <p:spPr>
          <a:xfrm>
            <a:off x="76320" y="34848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нятие «девиантное» произошло от латинского deviatio – отклонени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Прямоугольник 7"/>
          <p:cNvSpPr/>
          <p:nvPr/>
        </p:nvSpPr>
        <p:spPr>
          <a:xfrm>
            <a:off x="304920" y="1981080"/>
            <a:ext cx="56386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e8637"/>
                </a:solidFill>
                <a:uFillTx/>
                <a:latin typeface="Arial"/>
                <a:ea typeface="Times New Roman"/>
              </a:rPr>
              <a:t>Отклоняющееся, девиантное поведение</a:t>
            </a:r>
            <a:r>
              <a:rPr b="0" lang="ru-RU" sz="2800" spc="-1" strike="noStrike">
                <a:solidFill>
                  <a:srgbClr val="fe8637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– система поступков или отдельные поступки, противоречащие принятым в обществе правовым или нравственным норм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ФОРМЫ ОТКЛОНЕНИЙ, ХАРАКТЕРНЫЕ ДЛЯ МЛАДШЕГО ШКОЛЬНИКА.</a:t>
            </a:r>
            <a:br>
              <a:rPr sz="27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304560" y="106668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Типичными нарушениями поведения детей, по М. Э. Вайнер, являются: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гиперактивное поведение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(повышенная потребность в движении, обусловленная преимущественно нейродинамическими особенностями ребенка);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демонстративное поведение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(намеренное и осознанное нарушение принятых норм, правил поведения; варианты такого поведения: детское кривляние, капризы, сопровождающиеся внешними проявлениями раздраженности);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протестное поведение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(негативизм, строптивость, упрямство);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агрессивное поведение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(физическая, вербальная агрессия);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инфантильное поведение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(сохранение в поведении ребенка черт, присущих более раннему возрасту);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конформное поведение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(полностью подчинено внешним условиям, требованиям других людей);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симптоматическое поведение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(закодированное сообщение, своеобразный сигнал тревоги со стороны ребенка, например у ребенка закономерно поднимается температура именно в день проведения контрольной работы, диктанта)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r>
              <a:rPr b="1" lang="ru-RU" sz="2700" spc="-1" strike="noStrike">
                <a:solidFill>
                  <a:srgbClr val="ff0000"/>
                </a:solidFill>
                <a:latin typeface="Century Schoolbook"/>
              </a:rPr>
              <a:t>В СОВРЕМЕННОЙ ПЕДАГОГИКЕ ВЫДЕЛЯЮТ 3 ТЕХНОЛОГИИ: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41" name=""/>
          <p:cNvSpPr txBox="1"/>
          <p:nvPr/>
        </p:nvSpPr>
        <p:spPr>
          <a:xfrm>
            <a:off x="456840" y="144792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циально-педагогическая профилактика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сихолого-педагогическое сопровождение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циально психологическая реабилитац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entury Schoolbook"/>
              </a:rPr>
              <a:t>Технология социально – педагогической профилактики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fe8637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правлена на предупреждение, устранение или нейтрализацию основных причин или условий, вызывающих различного рода социальные отклонения в поведении детей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942" name="Picture 4" descr="ALUNO03"/>
          <p:cNvPicPr/>
          <p:nvPr/>
        </p:nvPicPr>
        <p:blipFill>
          <a:blip r:embed="rId1"/>
          <a:stretch/>
        </p:blipFill>
        <p:spPr>
          <a:xfrm>
            <a:off x="533520" y="5029200"/>
            <a:ext cx="8841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75f6d"/>
                </a:solidFill>
                <a:latin typeface="Century Schoolbook"/>
              </a:rPr>
              <a:t>ПРОФИЛАКТИЧЕСКАЯ РАБОТА С РОДИТЕЛЯМИ МЛАДШИХ ШКОЛЬНИКОВ ПО ПРОФИЛАКТИКЕ ДЕВИАНТНОГО ПОВЕДЕНИЯ В НАШЕЙ ШКОЛЕ ВЫСТРАИВАЕТСЯ ПОЭТАПНО.</a:t>
            </a:r>
            <a:br>
              <a:rPr sz="1600"/>
            </a:br>
            <a:endParaRPr b="0" lang="en-US" sz="1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Schoolbook"/>
              </a:rPr>
              <a:t>I</a:t>
            </a: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 этап: Диагностический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иагностический этап подразумевает решение следующих задач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. Собрать необходимую информацию об учащихся и их родителях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. Исследовать состояние проблемы девиантного поведения в школе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945" name="Picture 4" descr="18590664"/>
          <p:cNvPicPr/>
          <p:nvPr/>
        </p:nvPicPr>
        <p:blipFill>
          <a:blip r:embed="rId1"/>
          <a:stretch/>
        </p:blipFill>
        <p:spPr>
          <a:xfrm>
            <a:off x="762120" y="4637160"/>
            <a:ext cx="1600200" cy="19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e8637"/>
                </a:solidFill>
                <a:latin typeface="Century Schoolbook"/>
              </a:rPr>
              <a:t>МЕТОДЫ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533160" y="99072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 u="sng">
                <a:solidFill>
                  <a:srgbClr val="000000"/>
                </a:solidFill>
                <a:uFillTx/>
                <a:latin typeface="Century Schoolbook"/>
              </a:rPr>
              <a:t>1.Беседа</a:t>
            </a: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 – применяется  с целью самораскрытия ребенка и родителей в процессе общения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 u="sng">
                <a:solidFill>
                  <a:srgbClr val="000000"/>
                </a:solidFill>
                <a:uFillTx/>
                <a:latin typeface="Century Schoolbook"/>
              </a:rPr>
              <a:t>2. Наблюдение</a:t>
            </a: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 – используется с целью  выявления отклонений в поведении детей младшего школьного возраста, во взаимоотношениях между родителями и детьми с девиантным поведением.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00000"/>
                </a:solidFill>
                <a:uFillTx/>
                <a:latin typeface="Century Schoolbook"/>
              </a:rPr>
              <a:t>3. </a:t>
            </a:r>
            <a:r>
              <a:rPr b="0" i="1" lang="ru-RU" sz="1700" spc="-1" strike="noStrike" u="sng">
                <a:solidFill>
                  <a:srgbClr val="000000"/>
                </a:solidFill>
                <a:uFillTx/>
                <a:latin typeface="Century Schoolbook"/>
              </a:rPr>
              <a:t>Проективные методики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Century Schoolbook"/>
              </a:rPr>
              <a:t>.</a:t>
            </a: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 «Рисунок семьи», «Динамический рисунок семьи», «Семья животных».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 u="sng">
                <a:solidFill>
                  <a:srgbClr val="000000"/>
                </a:solidFill>
                <a:uFillTx/>
                <a:latin typeface="Century Schoolbook"/>
              </a:rPr>
              <a:t>4.Личностные тесты и опросники.</a:t>
            </a:r>
            <a:r>
              <a:rPr b="0" i="1" lang="ru-RU" sz="1700" spc="-1" strike="noStrike">
                <a:solidFill>
                  <a:srgbClr val="000000"/>
                </a:solidFill>
                <a:latin typeface="Century Schoolbook"/>
              </a:rPr>
              <a:t> (</a:t>
            </a: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тест-опросник родительского отношения, опросник "Измерение родительских установок и реакций", Опросник "Анализ семейных взаимоотношений«)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В дополнение к вышеперечисленным методам применяется метод социометрии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 u="sng">
                <a:solidFill>
                  <a:srgbClr val="000000"/>
                </a:solidFill>
                <a:uFillTx/>
                <a:latin typeface="Century Schoolbook"/>
              </a:rPr>
              <a:t>5. Социометрия</a:t>
            </a: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 – С помощью социометрии можно изучить типологию социального поведения людей в условиях групповой деятельности, судить о социально-психологической совместимости членов конкретной группы (в данном исследовании – семьи)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8" name="Рисунок 5" descr="http://gyseva.nsknet.ru/_mod_files/ce_images/news/180573_image_large_267x200.jpg"/>
          <p:cNvPicPr/>
          <p:nvPr/>
        </p:nvPicPr>
        <p:blipFill>
          <a:blip r:embed="rId1"/>
          <a:stretch/>
        </p:blipFill>
        <p:spPr>
          <a:xfrm>
            <a:off x="6095880" y="228600"/>
            <a:ext cx="2543400" cy="1905120"/>
          </a:xfrm>
          <a:prstGeom prst="rect">
            <a:avLst/>
          </a:prstGeom>
          <a:ln w="0">
            <a:noFill/>
          </a:ln>
        </p:spPr>
      </p:pic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entury Schoolbook"/>
              </a:rPr>
              <a:t>II</a:t>
            </a:r>
            <a:r>
              <a:rPr b="1" lang="ru-RU" sz="2700" spc="-1" strike="noStrike">
                <a:solidFill>
                  <a:srgbClr val="ff0000"/>
                </a:solidFill>
                <a:latin typeface="Century Schoolbook"/>
              </a:rPr>
              <a:t>. ИНФОРМАЦИОННЫЙ ЭТАП 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457200" y="9144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направлен на решение следующих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задач: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1.Осуществить общественную пропаганду профилактики  данной проблемы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(размещение публикаций о проблеме девиантного поведения детей в местной прессе, демонстрация документальных фильмов, посвященных данной проблеме, организация библиотечных выставок)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2. Осуществить просветительно-деятельностную поддержку родителей: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через следующие формы работы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Лекции (на родительских собраниях, МО, педагогических советах)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Тренинги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Индивидуальное консультирование по проблеме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еминары и диспуты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Круглые столы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entury Schoolbook"/>
              </a:rPr>
              <a:t>ТЕМЫ БЕСЕД СОЦИАЛЬНОГО ПЕДАГОГА С РОДИТЕЛЯМИ:</a:t>
            </a:r>
            <a:endParaRPr b="0" lang="en-US" sz="2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0" y="1142640"/>
            <a:ext cx="8686800" cy="525780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lvl="3" marL="1519200" indent="-514440">
              <a:spcBef>
                <a:spcPts val="499"/>
              </a:spcBef>
              <a:buClr>
                <a:srgbClr val="244583"/>
              </a:buClr>
              <a:buSzPct val="73000"/>
              <a:buFont typeface="Century Schoolbook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Здоровая нравственная атмосфера семьи - необходимое условие правильного воспитания ребенка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519200" indent="-514440">
              <a:spcBef>
                <a:spcPts val="499"/>
              </a:spcBef>
              <a:buClr>
                <a:srgbClr val="244583"/>
              </a:buClr>
              <a:buSzPct val="73000"/>
              <a:buFont typeface="Century Schoolbook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Учет возрастных, психологических и индивидуальных особенностей в процессе воспитания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519200" indent="-514440">
              <a:spcBef>
                <a:spcPts val="499"/>
              </a:spcBef>
              <a:buClr>
                <a:srgbClr val="244583"/>
              </a:buClr>
              <a:buSzPct val="73000"/>
              <a:buFont typeface="Century Schoolbook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оспитание положительных навыков и привычек у детей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519200" indent="-514440">
              <a:spcBef>
                <a:spcPts val="499"/>
              </a:spcBef>
              <a:buClr>
                <a:srgbClr val="244583"/>
              </a:buClr>
              <a:buSzPct val="73000"/>
              <a:buFont typeface="Century Schoolbook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О формах поощрения и наказания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519200" indent="-514440">
              <a:spcBef>
                <a:spcPts val="499"/>
              </a:spcBef>
              <a:buClr>
                <a:srgbClr val="244583"/>
              </a:buClr>
              <a:buSzPct val="73000"/>
              <a:buFont typeface="Century Schoolbook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риучение ребенка к труду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519200" indent="-514440">
              <a:spcBef>
                <a:spcPts val="499"/>
              </a:spcBef>
              <a:buClr>
                <a:srgbClr val="244583"/>
              </a:buClr>
              <a:buSzPct val="73000"/>
              <a:buFont typeface="Century Schoolbook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Режим дня школьника как необходимое условие правильного воспитания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519200" indent="-514440">
              <a:spcBef>
                <a:spcPts val="499"/>
              </a:spcBef>
              <a:buClr>
                <a:srgbClr val="244583"/>
              </a:buClr>
              <a:buSzPct val="73000"/>
              <a:buFont typeface="Century Schoolbook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Единство требований со стороны школы и родителей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519200" indent="-514440">
              <a:spcBef>
                <a:spcPts val="499"/>
              </a:spcBef>
              <a:buClr>
                <a:srgbClr val="244583"/>
              </a:buClr>
              <a:buSzPct val="73000"/>
              <a:buFont typeface="Century Schoolbook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оспитание скромности и выдержки у детей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519200" indent="-514440">
              <a:spcBef>
                <a:spcPts val="499"/>
              </a:spcBef>
              <a:buClr>
                <a:srgbClr val="244583"/>
              </a:buClr>
              <a:buSzPct val="73000"/>
              <a:buFont typeface="Century Schoolbook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чему ребенок становится трудным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519200" indent="-514440">
              <a:spcBef>
                <a:spcPts val="499"/>
              </a:spcBef>
              <a:buClr>
                <a:srgbClr val="244583"/>
              </a:buClr>
              <a:buSzPct val="73000"/>
              <a:buFont typeface="Century Schoolbook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оспитание чувств любви и уважения к матер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7467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Schoolbook"/>
              </a:rPr>
              <a:t>ТЕМЫ ПАМЯТОК ДЛЯ РОДИТЕЛЕЙ: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- Как вести себя в конфликтных ситуациях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- Что должен уметь первоклассник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- Что должен уметь второклассник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- Что должен уметь третьеклассник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- Правила поведения в общественных местах, в школе и др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формление стендов, уголков для родителе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955" name="Picture 5" descr=""/>
          <p:cNvPicPr/>
          <p:nvPr/>
        </p:nvPicPr>
        <p:blipFill>
          <a:blip r:embed="rId1"/>
          <a:stretch/>
        </p:blipFill>
        <p:spPr>
          <a:xfrm>
            <a:off x="762120" y="4724280"/>
            <a:ext cx="2906640" cy="202752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3" descr=""/>
          <p:cNvPicPr/>
          <p:nvPr/>
        </p:nvPicPr>
        <p:blipFill>
          <a:blip r:embed="rId2"/>
          <a:stretch/>
        </p:blipFill>
        <p:spPr>
          <a:xfrm>
            <a:off x="6248520" y="304920"/>
            <a:ext cx="2479680" cy="17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22-11-16T10:56:55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