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6.gif" ContentType="image/gif"/>
  <Override PartName="/ppt/media/image7.png" ContentType="image/png"/>
  <Override PartName="/ppt/media/image12.png" ContentType="image/png"/>
  <Override PartName="/ppt/media/image11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CF3-4182-444D-91DA-0BB03980D1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34E-3549-4DAC-A748-646620E8B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22C-0984-44C0-8DD6-A0B07BC6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094-4422-4ED0-8E4B-12873D4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36093-925C-4FE9-874D-5EFCBA7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15137-7FEE-4897-B76F-842142C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D5D1F-29ED-4607-96AC-FB3BBBC4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C2C6F-029F-4681-A35C-0F574AC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6DED8-C0BB-4E53-BFCD-BDAC028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FAA61-F252-44A9-A970-3F41E1A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52CC1-62BD-48F6-9EE6-D926D78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83862-C91A-475E-AEAA-6F3D61D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E1A11-85CE-4DA0-9BE2-7381A4A2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1116D-D41E-401B-AB02-D17AFC98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6B7-34D5-4DF9-AF88-FA8345A3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7B51C-7216-4515-B1BA-E4548C7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B137B-CEA3-4E58-990E-DF1BA1AD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69A37-60C8-4688-A5CB-1B12183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EA69C-6044-41F7-ABF2-39F627F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80A5-E77C-4E31-BB03-7F34F13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53234-3C2B-4371-990D-610353C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7222F-983F-45CF-B396-B34B694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18467-1BFC-4A45-8316-05A7C31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3DC63-92DB-4E55-8B88-91670A4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340B4-5DE8-47D8-B3C6-3F34B817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C8F-C55F-44D9-BB70-1C41A03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59AFB-96EC-40CA-A99B-BFD48BB1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EC06-3830-4F8E-B146-99C58738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55313-0928-4916-997A-5AA5988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945B6-8997-4E92-AAAE-EC427BD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874EF-3D19-42AC-99CE-D88A59A5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58F2-9B5A-43A8-8E82-1FB6173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09BE3-8B73-4BD7-BBB1-3C0997C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CAA5B-48CD-4B6F-BE05-61A9973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6D113-169B-45D8-A2B0-91058AB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1028-2798-4D06-8D05-32263FE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D6CF-2FE9-4983-A911-DB6F1399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B568A-0F7E-4E14-8417-00E6294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DA8B3-D4E1-4A8A-9BA1-270FA481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AB0C-A65C-4B75-A9E2-4C352A00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00D64-D7BA-4F6C-BDC3-B465B3DC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3686-2805-47B6-8AA2-60D0DCCE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0E88E-D1A4-4057-8A0D-621A17F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2B659-DD87-404A-8F55-E76C44D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5A539-A983-4549-9BCF-56ED7AC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2CE6-6D1A-4F0F-9A70-562C3108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22B0B-B661-40CF-9B2F-07B34DD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F2E-83A6-4A01-83F2-3F7F54B2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AC1B3-B863-41B4-84CB-739091A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A5498-5782-4F18-AF10-D758393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4FBBA-EA11-4EF6-8C3F-2982E63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D0210-7C7C-47EE-9AEF-25C1F445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E4350-3634-4B9B-B9B5-1CDD6780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65668-D12F-4974-AEE0-39E80088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B3BE0-4E60-4FB1-87C4-BE913516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038F2-0B17-4ED2-835B-BCA7DA3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EE4D3-8B0A-4754-96F1-40C3923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0E8B4-580D-4752-98DA-3DE29CC3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441-523C-4DE2-8F7E-4654CB3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267B2-FD8B-4DF8-B963-AA3A64F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0AB57-B6A5-49A9-945A-C7109CEA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D5AC9-321C-4E70-B14C-5E607C1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1F1A5-E03C-4EAF-A034-E45A57D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2DC09-14D2-4D37-8012-B7D4B0D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480E4-2D8B-4463-84EF-D7B2F919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07DA0-4184-4347-87A4-5C2578E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530D6-C39C-4547-8E32-93BCB34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70884-EC81-4FC8-87C2-D852D2B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3DF07-AB75-41D2-B40F-3DD6EBE6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B760-E5C8-4000-AF2F-F92BFC8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91608-6D3B-4D27-86DF-25B1C1D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1B860-CA06-4EAD-8064-B8574B1F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BEF37-35D6-4163-BAE4-86E9877E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594B0-C682-4C60-B9EA-C76A2BB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7CD93-446B-4255-81F7-EC1B426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4DD4B-3CF1-4E7A-A687-1F6C4C7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E67B4-9B3D-4531-B059-021C5479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2396A-87E8-42E2-9B93-410DA955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A35B9-5E7A-4546-8E90-70408B4D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62CBA-C3C4-452A-95D7-07A143B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ADE-DB2D-46C8-A426-CB36921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01DDD-6045-4B8B-A5FE-3F88276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BB714-2E9F-476C-89B5-72C7A5D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BD39A-2F63-4487-B11B-F2BB0E9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8283D-D3BF-4D5D-8960-C0EA6273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ACAAE-6468-46A2-BEC1-9296EC0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253E7-11A1-48BB-BF82-AA20099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8D5FB-993D-47FA-B288-F270D988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8E052-C255-4990-B8BF-3836A0B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88B25-6E8F-4792-B198-4CD6185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ED339-C44C-4917-9417-54B66696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82A-FA48-439E-8E1F-4CE6BE7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7C8CF-7898-4473-AC36-A58B8DCD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54837-EE94-4734-AE8B-076AA84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1CFA4-EE17-48C4-ADF0-FFAA8C3A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8C442-5320-4099-BEDD-AF62F64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85674-7D53-4C73-A6DF-7D9003F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2762A-4F09-40FF-A15E-C626884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C21F5-3DC9-4A45-A741-428D663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6F579-9562-4E54-9921-90F1958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CEBDF-EABB-4367-97CD-05371C3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D790D-E5E5-41FB-91D2-C4889ED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E3E-D360-4688-B771-B879E38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474FC-9A10-487A-A0EA-C722308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DCD1E-2D91-49AC-A9EE-1B3190AF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05EF1-4EB5-442C-A941-6A973AB7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D2ADD-8F88-4775-94F9-8AA4A55E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8C024-8188-4625-9475-A9A7E66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8B8CC-0E77-491C-A3C1-840A6D4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35141-5A15-4916-AE6C-D228434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8B206-11E8-4EBE-8B6D-04153A81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6C98F-5431-4B0B-8951-9E80886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0440B-2018-481E-95B4-B890B5C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F92-E3BC-484A-8558-781E2F27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A3DB-737F-40D2-B925-A906F8C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EEA74-4D89-4338-9355-D917F56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3D146-9F54-4C7A-BA15-583C109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50639-8418-445C-A63A-2035750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55146-7E94-4CBE-B0DA-81EBCBF0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E74EF-2F98-4CCA-A7FD-2CD01DCA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A064A-A233-4BC6-8583-B12C0CDF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D9071-2C78-4D5E-975A-D466408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26F57-04B5-4075-9F4E-6305AA8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14465-003D-4E94-A755-7DB9B3B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98F97-A986-4EA3-8474-825AB404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070-8FEA-49D4-987C-1F7477A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C2FA4-8807-42C4-9B41-F32EA5ED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85808-94F2-4F1B-8E72-1A160FD5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99705-5176-4E61-AB6C-6283647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D334F-5C8C-467B-B581-F459FA7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D32F8-2189-4B90-A238-68FD543E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D6656-08CC-484F-9499-7839047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A166A-4063-432E-BF9F-4966BE4C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1DA06-8DD8-4F61-B8E1-F80A9034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A0BC9-6047-4A74-AA7B-FDCFF95C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CCBD2-4E29-462C-B7CF-23A4420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EE5B-5BDC-4130-B4CD-9000975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012BB-3DE8-4EAD-A8A2-923F5B4C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781FA-DE99-4701-943E-CD04E14B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3D0BC-E2E3-4729-8654-7AD8502C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BEBDC-E12D-4E5A-A12D-5C6616E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532B2-1BFE-466A-B3BD-5D9FE64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4960B-75F4-4FFE-8673-9DFF38D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8E0BA-C189-43C5-9F39-5B8BCA4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6D7BA-C111-4568-AE8D-E1CA24CA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1D032-C76B-4A7F-86A7-54E61C79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AA32-A546-479A-ABF3-77B1A1C1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78F-B870-4339-B397-E4103DF2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EB30-B690-4EF3-87B6-47A7B723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2D1D-F739-45E5-BF35-F61DE04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1D7F-7C9E-474A-8BC2-00CCABD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49EA-55A5-476F-9A8D-19C4495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524C-B15F-42C3-A643-638CD3D9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82A-7E76-4A37-883A-A842280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3A40-76E4-42A1-8A06-5B8DA533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A83B-4116-4B2F-B480-1FC0B35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C252-D8C3-4967-A726-A5E8F410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31DB-839D-4EA1-910B-F9AD9A7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3D9F-3F63-4E32-8AF0-E71AA59E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514F-B553-4F17-9547-929DD50B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4FB2-05FC-4048-BE1D-0E1F893C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80988-BA9F-4E61-A330-BA9C0334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E4247-BF3A-4C88-AC35-708DCC5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ABA7D-315B-43AD-87FE-9C3C5B8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BC0-5102-4339-AC09-BEA683A9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411EF-BA47-4EBA-9214-FC3C48FF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53C31-9A6C-4DE7-83FF-02859984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7FF63-47E9-4DA8-AFE0-92329C2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4DC72-2E29-401D-B4C0-25AED0A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4D02B-2E45-4D98-8818-A69CB2F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DAD7C-2EFA-4D3F-8CB4-B824CAE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08BEC-1C00-4205-8525-9C8B2E9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80CFD-F90B-4568-939D-D53EF620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1EA56-3C13-49AA-8BBC-DB30EEC5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49E1-43BE-4FD7-85AE-34C28D67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31F-2CA5-4FA5-BD28-C4A22C7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FF26-03A7-4B38-8D7F-D945E8E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87F3-E3FE-47BE-8924-AAE4B0CF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61BD-6718-482F-97CA-D7C74E2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E064C-1497-4732-8FC9-D19B5241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3754-BD91-4501-8A7B-9397505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A304-E45B-4B57-9363-B4EFA97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0999-9627-4900-AF9D-01B694E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EDAB1-0BC3-4EC4-B13E-D7B07D1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2B49-507A-4542-9416-6B8B161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2F6A-0865-41A0-94AB-5218359D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426-9F9C-4E71-959F-0CC7884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4D79-7505-4CB9-AA1E-E260FD92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CB8D6-01D1-4C54-A7C8-694050C2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F4BE4-BF54-4E8C-B4CA-DCBB051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193B2-6E2A-4C4C-911E-6CA50902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DA64A-E5A0-427F-AECD-9D14688C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65BDA-B595-4488-94E8-541D7D28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51EDB-E28C-491A-945F-879F1876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66E00-A8BC-4A38-BF10-24248B0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AF729-CCB9-4186-B9A7-70F9EA9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305A5-7548-4FF8-BFFC-7845B9D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8CD-75A1-4540-A67C-9168519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0EFF-42E0-4DAF-8BD8-293FBFE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44C70-6D4F-41EA-8C8A-3B23AB4F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5F367-17C0-4E3C-9A36-F6528825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D2A74-2856-4E21-8BD5-5908EC62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75291-02E0-41B4-983A-01566D7C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17A36-A4C6-4F04-BCA5-5BCF5EB9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3D285-CEF6-4CC2-BE8C-065801F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64935-29D0-4F1A-8EF4-F7B6BF1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5EB98-702E-434C-BEF8-9871420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81293-EB47-40AB-97DA-428E0DD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1F1-C77A-427C-92D9-2AE30CD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B097C-431A-497E-A891-57BADA5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4AD7A-AACB-4754-A469-C90D2B5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AF634-A37D-47BF-BB44-15E0422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89D7A-1EF4-42F3-859B-6B6E1DD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876F6-9F5F-4852-96B6-32A2C6E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B5E5B-E675-4697-9831-6FA53CB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BF943-C8C9-4B9D-B502-D7F496C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B897E-4B23-4E9E-AA33-E11CBF17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EBB31E-3ABC-49CB-9645-D2AC7187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108D3-9776-4B40-B10C-611AD3B7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8D3-72A5-427C-90F0-BCF2B36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3BA56-43F4-4D36-8FA5-571FE9B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574A5-6152-4292-B78D-EB9AC0B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9112E-A491-40EB-B7F1-B63E014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411FBC-6C5F-454F-8B9C-67EC1D3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E6AB2-0CCD-4CB0-A649-7BAFC2B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B296C-C1AF-464B-891B-1A27ABD6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4B626-F4E4-4846-8304-104E17F2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7E8D1-F8CC-4805-9D49-1F5012B9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7A527-20CB-4BF3-AA11-B661B8C0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ADBC4-63D6-4C1A-9109-17B81DC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745-B3A6-46C2-991D-79A57909E4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354-ECEA-4BE7-93F6-05C413953B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2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38FE-C1A0-419C-AEBE-C36ECA65B0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6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5060-DC20-4C4A-B8D0-79669FE336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61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C48B-2FAD-409C-80F1-091C55481C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6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C7D-A427-4088-9E84-FE623C483B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0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3E9A-C490-4C7A-80F6-6581A58A03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252-FCEF-40CF-B849-893D4CA975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8DEB-F36F-4D2D-893C-FDF6E54DA6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83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E64-9FC4-4855-8492-785D4B35F8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88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DD60-8D24-46D9-A616-3CBBC4CAC6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140A-4E6E-40E5-8C15-A3F88895E81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462-5134-4E75-9541-F352AFF69F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BCB-2974-4A88-ABA0-E21D871417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31A-1B6C-427F-9A2F-A34A319EAC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614-3CD3-45D8-992B-023DBA03BC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462-B720-437C-A76F-A1D399D273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4D64-DA9F-41A6-95D7-818D7D5CFE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2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26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6042-2D97-497F-A2A3-9CC713F66E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ОРГАНИЗАЦИЯ РАБОТЫ С РОДИТЕЛЯМИ МЛАДШИХ ШКОЛЬНИКОВ ПО ПРОФИЛАКТИКЕ ДЕВИАНТНОГО ПОВЕДЕНИ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934" name="Picture 7" descr="BD06200_"/>
          <p:cNvPicPr/>
          <p:nvPr/>
        </p:nvPicPr>
        <p:blipFill>
          <a:blip r:embed="rId2"/>
          <a:stretch/>
        </p:blipFill>
        <p:spPr>
          <a:xfrm>
            <a:off x="476280" y="3048120"/>
            <a:ext cx="271476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456840" y="152280"/>
            <a:ext cx="74674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94% родителей приобретают педагогические знания на лекциях, беседах, родительских собраниях, конференциях и т.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1% родителей получают знания через различные формы просвещения систематичес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8% посещают беседы, родительские собрания от случая к случаю. В их число входят родители из неблагополучных сем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8" name="Рисунок 4" descr="http://gyseva.nsknet.ru/_mod_files/ce_images/news/detialkogolikov_290x200.jpg"/>
          <p:cNvPicPr/>
          <p:nvPr/>
        </p:nvPicPr>
        <p:blipFill>
          <a:blip r:embed="rId1"/>
          <a:stretch/>
        </p:blipFill>
        <p:spPr>
          <a:xfrm>
            <a:off x="3505320" y="4191120"/>
            <a:ext cx="29908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Schoolbook"/>
              </a:rPr>
              <a:t>III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ЭТАП. ДЕЯТЕЛЬНОСТНЫЙ.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6840" y="8377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ятельностный этап решает следующую задач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Вовлечение детей и родителей в разнообразную общественно - полезную деятельность, отвечающую их интересам и личностным особенностям, по следующим направлениям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Литературно-краеведческ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 посещение музеев города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проведение тематических литературно-краеведческих чтений (проблема девиантного поведения) на базе библиотеки школы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3)принятие участия в городских конкурсах и чтениях, посвященных краеведению, поэзии, прозе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Художественно-эстетическ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посещение центра детского творчества, знакомство с деятельностью кружков, посещение концерт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принятие участия в мероприятиях, проводимых на уровне школы, города, участие в городских выставках, концертах, конкурсах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3)проведение концертов и «Ярмарок талантов» для учеников и родителей (и совместно с ними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Физкультурно-оздоровительн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 проведение соревнований (забег «Против вредных привычек»); между командами детей и родителей; между семьями («Папа, мама, я - спортивная семья»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 принятие участия в городских и региональных спортивных мероприятиях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озможные методы работы по профилактике девиантного поведения с младшими школьник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2286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сказкотерапия , которая включает анализ сказок, групповое сочинение историй, драматизация сказок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арттерапия – это свободное и тематическое рисование, аппликация, лепка из глины, конструирование из бумаги и картон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визуализация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сихогимнастика - этюды на выражение различных эмоций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игровые методы включают подвижные, сюжетно-ролевые игры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моделирование и анализ проблемных ситуац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этические бесе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4" descr="image004"/>
          <p:cNvPicPr/>
          <p:nvPr/>
        </p:nvPicPr>
        <p:blipFill>
          <a:blip r:embed="rId1"/>
          <a:stretch/>
        </p:blipFill>
        <p:spPr>
          <a:xfrm>
            <a:off x="5479920" y="285840"/>
            <a:ext cx="3597480" cy="27255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Schoolbook"/>
              </a:rPr>
              <a:t>IV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ЭТАП. ОЦЕНОЧНЫЙ</a:t>
            </a:r>
            <a:r>
              <a:rPr b="1" lang="ru-RU" sz="2200" spc="-1" strike="noStrike">
                <a:solidFill>
                  <a:srgbClr val="fe8637"/>
                </a:solidFill>
                <a:latin typeface="Century Schoolbook"/>
              </a:rPr>
              <a:t>.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5960" y="7617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можно 2 варианта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ложительно решается проблема ребенка (на этом этапе деятельность прекращается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частично решается проблема ребен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Тогда необходимо выяснить на каком этапе были допущены ошибки или возникли неопределенные препятствия и произвести корректировку деятельности. После этого необходимо повторное решение проблемы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e8637"/>
                </a:solidFill>
                <a:latin typeface="Century Schoolbook"/>
              </a:rPr>
              <a:t>СИЛА СОВРЕМЕННОГО УЧИТЕЛЯ В ЛЮБВИ К ДЕТЯМ, ЖЕЛАНИИ ИМИ ДОБРА, ПРИЗНАНИИ И УВАЖЕНИИ ЛИЧНОСТИ ВОСПИТАННИКА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56840" y="762120"/>
            <a:ext cx="7467480" cy="1828800"/>
          </a:xfrm>
          <a:prstGeom prst="rect">
            <a:avLst/>
          </a:prstGeom>
          <a:noFill/>
          <a:ln w="9360">
            <a:solidFill>
              <a:srgbClr val="b32c1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8" name="Рисунок 6" descr="http://gyseva.nsknet.ru/_mod_files/ce_images/news/16754511_9e55f81_316x200.jpg"/>
          <p:cNvPicPr/>
          <p:nvPr/>
        </p:nvPicPr>
        <p:blipFill>
          <a:blip r:embed="rId1"/>
          <a:stretch/>
        </p:blipFill>
        <p:spPr>
          <a:xfrm>
            <a:off x="411120" y="2968560"/>
            <a:ext cx="4575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-457200" y="6400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76320" y="348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«девиантное» произошло от латинского deviatio – отклон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7"/>
          <p:cNvSpPr/>
          <p:nvPr/>
        </p:nvSpPr>
        <p:spPr>
          <a:xfrm>
            <a:off x="304920" y="198108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e8637"/>
                </a:solidFill>
                <a:uFillTx/>
                <a:latin typeface="Arial"/>
                <a:ea typeface="Times New Roman"/>
              </a:rPr>
              <a:t>Отклоняющееся, девиантное поведение</a:t>
            </a:r>
            <a:r>
              <a:rPr b="0" lang="ru-RU" sz="2800" spc="-1" strike="noStrike">
                <a:solidFill>
                  <a:srgbClr val="fe8637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система поступков или отдельные поступки, противоречащие принятым в обществе правовым или нравственным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Ы ОТКЛОНЕНИЙ, ХАРАКТЕРНЫЕ ДЛЯ МЛАДШЕГО ШКОЛЬНИКА.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04560" y="106668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ипичными нарушениями поведения детей, по М. Э. Вайнер, являются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иперакт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овышенная потребность в движении, обусловленная преимущественно нейродинамическими особенностями ребенка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монстрат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намеренное и осознанное нарушение принятых норм, правил поведения; варианты такого поведения: детское кривляние, капризы, сопровождающиеся внешними проявлениями раздраженности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тест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негативизм, строптивость, упрямство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гресс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физическая, вербальная агрессия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нфантиль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сохранение в поведении ребенка черт, присущих более раннему возрасту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нформ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олностью подчинено внешним условиям, требованиям других людей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имптоматическ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закодированное сообщение, своеобразный сигнал тревоги со стороны ребенка, например у ребенка закономерно поднимается температура именно в день проведения контрольной работы, диктанта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В СОВРЕМЕННОЙ ПЕДАГОГИКЕ ВЫДЕЛЯЮТ 3 ТЕХНОЛОГИИ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о-педагогическая профилактик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сихолого-педагогическое сопровожде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о психологическая реабилита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Технология социально – педагогической профилактики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авлена на предупреждение, устранение или нейтрализацию основных причин или условий, вызывающих различного рода социальные отклонения в поведении дет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2" name="Picture 4" descr="ALUNO03"/>
          <p:cNvPicPr/>
          <p:nvPr/>
        </p:nvPicPr>
        <p:blipFill>
          <a:blip r:embed="rId1"/>
          <a:stretch/>
        </p:blipFill>
        <p:spPr>
          <a:xfrm>
            <a:off x="533520" y="5029200"/>
            <a:ext cx="884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ПРОФИЛАКТИЧЕСКАЯ РАБОТА С РОДИТЕЛЯМИ МЛАДШИХ ШКОЛЬНИКОВ ПО ПРОФИЛАКТИКЕ ДЕВИАНТНОГО ПОВЕДЕНИЯ В НАШЕЙ ШКОЛЕ ВЫСТРАИВАЕТСЯ ПОЭТАПНО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этап: Диагностическ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агностический этап подразумевает решение следующих задач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Собрать необходимую информацию об учащихся и их родителя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Исследовать состояние проблемы девиантного поведения в школ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5" name="Picture 4" descr="18590664"/>
          <p:cNvPicPr/>
          <p:nvPr/>
        </p:nvPicPr>
        <p:blipFill>
          <a:blip r:embed="rId1"/>
          <a:stretch/>
        </p:blipFill>
        <p:spPr>
          <a:xfrm>
            <a:off x="762120" y="4637160"/>
            <a:ext cx="1600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МЕТ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5331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1.Бесед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применяется  с целью самораскрытия ребенка и родителей в процессе общени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2. Наблюдение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используется с целью  выявления отклонений в поведении детей младшего школьного возраста, во взаимоотношениях между родителями и детьми с девиантным поведением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3. </a:t>
            </a: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Проективные методики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«Рисунок семьи», «Динамический рисунок семьи», «Семья животных»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4.Личностные тесты и опросники.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ест-опросник родительского отношения, опросник "Измерение родительских установок и реакций", Опросник "Анализ семейных взаимоотношений«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дополнение к вышеперечисленным методам применяется метод социометри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5. Социометр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С помощью социометрии можно изучить типологию социального поведения людей в условиях групповой деятельности, судить о социально-психологической совместимости членов конкретной группы (в данном исследовании – семьи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Рисунок 5" descr="http://gyseva.nsknet.ru/_mod_files/ce_images/news/180573_image_large_267x200.jpg"/>
          <p:cNvPicPr/>
          <p:nvPr/>
        </p:nvPicPr>
        <p:blipFill>
          <a:blip r:embed="rId1"/>
          <a:stretch/>
        </p:blipFill>
        <p:spPr>
          <a:xfrm>
            <a:off x="6095880" y="228600"/>
            <a:ext cx="2543400" cy="190512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II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. ИНФОРМАЦИОННЫЙ ЭТАП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правлен на решение следующих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ч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Осуществить общественную пропаганду профилактики  данной проблемы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азмещение публикаций о проблеме девиантного поведения детей в местной прессе, демонстрация документальных фильмов, посвященных данной проблеме, организация библиотечных выставок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существить просветительно-деятельностную поддержку родителей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ерез следующие формы работ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екции (на родительских собраниях, МО, педагогических советах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нинг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дивидуальное консультирование по проблем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минары и диспу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углые стол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ТЕМЫ БЕСЕД СОЦИАЛЬНОГО ПЕДАГОГА С РОДИТЕЛЯМИ: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1142640"/>
            <a:ext cx="8686800" cy="5257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доровая нравственная атмосфера семьи - необходимое условие правильного воспитания ребен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ет возрастных, психологических и индивидуальных особенностей в процессе воспит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положительных навыков и привычек у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формах поощрения и наказ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учение ребенка к труд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жим дня школьника как необходимое условие правильного воспит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динство требований со стороны школы и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скромности и выдержки у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чему ребенок становится трудны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чувств любви и уважения к матер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ТЕМЫ ПАМЯТОК ДЛЯ РОДИТЕЛЕЙ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Как вести себя в конфликтных ситуациях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перво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второ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третье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Правила поведения в общественных местах, в школе и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формление стендов, уголков для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5" name="Picture 5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2906640" cy="2027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6248520" y="304920"/>
            <a:ext cx="24796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2-11-16T10:56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