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7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05A-BE2C-4470-A5E3-454CEE5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D03-466D-4FC4-A745-37C149E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200-98F8-4727-94D8-5B7AA55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A58-6B66-43A2-8BD9-4C117A5F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6FF-DE59-48B7-8205-E6009357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DAC-BA96-4D46-A6C7-AB296E57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D0D-DB0F-4E2A-B7D9-372379D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D0E-4A27-47D8-9031-9B60EFC0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69A-501A-4BB8-88D9-ABA5B00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05A-B097-4F8C-98A6-6F01260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2BE-230C-493C-93D7-DF912D9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689-9DD8-43F4-8774-4461727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4CD0-4B0A-4E44-8090-CEB3531C3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Расскажи о воздействии цвета на человека, о теплых и холодных цветах и цветовой отделке помещ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б оштукатуривании и последовательности оштукатуривания. Расскажи о том, что должен знать и уметь штукатур  2-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5840"/>
            <a:ext cx="8636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Свет и цвет, воздействие цвета на человека, теплые и холодные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4"/>
          <p:cNvSpPr/>
          <p:nvPr/>
        </p:nvSpPr>
        <p:spPr>
          <a:xfrm>
            <a:off x="735120" y="143208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5"/>
          <p:cNvSpPr/>
          <p:nvPr/>
        </p:nvSpPr>
        <p:spPr>
          <a:xfrm>
            <a:off x="679320" y="531720"/>
            <a:ext cx="3676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 – это … 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 – это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Исаака Ньютона в 166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9"/>
          <p:cNvSpPr/>
          <p:nvPr/>
        </p:nvSpPr>
        <p:spPr>
          <a:xfrm>
            <a:off x="5838840" y="49338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2"/>
          <p:cNvSpPr/>
          <p:nvPr/>
        </p:nvSpPr>
        <p:spPr>
          <a:xfrm>
            <a:off x="5083200" y="5264280"/>
            <a:ext cx="35272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сознание подразделяет хроматические цвет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6" descr="C:\Users\pc\Desktop\26.jpg"/>
          <p:cNvPicPr/>
          <p:nvPr/>
        </p:nvPicPr>
        <p:blipFill>
          <a:blip r:embed="rId1"/>
          <a:stretch/>
        </p:blipFill>
        <p:spPr>
          <a:xfrm>
            <a:off x="539640" y="1916280"/>
            <a:ext cx="3872160" cy="243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https://studfiles.net/html/2706/1268/html_Zssr5KwXt2.umsw/htmlconvd-JbGAyU9x1.jpg"/>
          <p:cNvPicPr/>
          <p:nvPr/>
        </p:nvPicPr>
        <p:blipFill>
          <a:blip r:embed="rId2"/>
          <a:stretch/>
        </p:blipFill>
        <p:spPr>
          <a:xfrm>
            <a:off x="4467240" y="2584440"/>
            <a:ext cx="4618080" cy="232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Прямоугольник 2"/>
          <p:cNvSpPr/>
          <p:nvPr/>
        </p:nvSpPr>
        <p:spPr>
          <a:xfrm>
            <a:off x="171360" y="4329000"/>
            <a:ext cx="457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аждый охотник желает 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де сидит фаз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5141880" y="1146240"/>
            <a:ext cx="3620520" cy="42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разделяют цвета 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822920" y="2028960"/>
            <a:ext cx="17524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1"/>
          <p:cNvSpPr/>
          <p:nvPr/>
        </p:nvSpPr>
        <p:spPr>
          <a:xfrm>
            <a:off x="7016760" y="2028960"/>
            <a:ext cx="17524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8"/>
          <p:cNvCxnSpPr/>
          <p:nvPr/>
        </p:nvCxnSpPr>
        <p:spPr>
          <a:xfrm>
            <a:off x="7164000" y="1619280"/>
            <a:ext cx="492840" cy="373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36"/>
          <p:cNvCxnSpPr/>
          <p:nvPr/>
        </p:nvCxnSpPr>
        <p:spPr>
          <a:xfrm flipH="1">
            <a:off x="6011280" y="1617840"/>
            <a:ext cx="508680" cy="41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39"/>
          <p:cNvCxnSpPr/>
          <p:nvPr/>
        </p:nvCxnSpPr>
        <p:spPr>
          <a:xfrm>
            <a:off x="7892640" y="4906440"/>
            <a:ext cx="108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7" name="Picture 3" descr="https://ds02.infourok.ru/uploads/ex/01d6/000028e5-67c263f1/img9.jpg"/>
          <p:cNvPicPr/>
          <p:nvPr/>
        </p:nvPicPr>
        <p:blipFill>
          <a:blip r:embed="rId3"/>
          <a:stretch/>
        </p:blipFill>
        <p:spPr>
          <a:xfrm>
            <a:off x="3090960" y="5899320"/>
            <a:ext cx="1238040" cy="45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Picture 3" descr="https://ds02.infourok.ru/uploads/ex/01d6/000028e5-67c263f1/img9.jpg"/>
          <p:cNvPicPr/>
          <p:nvPr/>
        </p:nvPicPr>
        <p:blipFill>
          <a:blip r:embed="rId4"/>
          <a:stretch/>
        </p:blipFill>
        <p:spPr>
          <a:xfrm>
            <a:off x="3036960" y="5210280"/>
            <a:ext cx="1266840" cy="44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31" descr="http://www.color-hex.com/palettes/2540.png"/>
          <p:cNvPicPr/>
          <p:nvPr/>
        </p:nvPicPr>
        <p:blipFill>
          <a:blip r:embed="rId5"/>
          <a:stretch/>
        </p:blipFill>
        <p:spPr>
          <a:xfrm>
            <a:off x="790560" y="5257800"/>
            <a:ext cx="1544760" cy="102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TextBox 16"/>
          <p:cNvSpPr/>
          <p:nvPr/>
        </p:nvSpPr>
        <p:spPr>
          <a:xfrm flipH="1">
            <a:off x="1433520" y="54752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8"/>
          <p:cNvCxnSpPr>
            <a:stCxn id="47" idx="1"/>
            <a:endCxn id="58" idx="3"/>
          </p:cNvCxnSpPr>
          <p:nvPr/>
        </p:nvCxnSpPr>
        <p:spPr>
          <a:xfrm flipH="1" flipV="1">
            <a:off x="4303080" y="5430600"/>
            <a:ext cx="780120" cy="34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50"/>
          <p:cNvCxnSpPr>
            <a:stCxn id="47" idx="1"/>
          </p:cNvCxnSpPr>
          <p:nvPr/>
        </p:nvCxnSpPr>
        <p:spPr>
          <a:xfrm flipH="1" flipV="1">
            <a:off x="2356920" y="5771520"/>
            <a:ext cx="2726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51"/>
          <p:cNvCxnSpPr>
            <a:stCxn id="47" idx="1"/>
          </p:cNvCxnSpPr>
          <p:nvPr/>
        </p:nvCxnSpPr>
        <p:spPr>
          <a:xfrm flipH="1">
            <a:off x="4331880" y="5771880"/>
            <a:ext cx="751680" cy="45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S6302266"/>
          <p:cNvPicPr/>
          <p:nvPr/>
        </p:nvPicPr>
        <p:blipFill>
          <a:blip r:embed="rId1"/>
          <a:stretch/>
        </p:blipFill>
        <p:spPr>
          <a:xfrm>
            <a:off x="446040" y="1312920"/>
            <a:ext cx="3622680" cy="3235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648320" y="6249960"/>
            <a:ext cx="55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ярных работах применяютс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9640" y="227160"/>
            <a:ext cx="33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зависимости от ориентации помещений используются цвета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5018040" y="174600"/>
            <a:ext cx="39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ветные малярные состав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лучают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5689800" y="1312920"/>
            <a:ext cx="21438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гменты – это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486320" y="2185920"/>
            <a:ext cx="1401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999040" y="2178000"/>
            <a:ext cx="13986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7520040" y="2192400"/>
            <a:ext cx="1471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9"/>
          <p:cNvCxnSpPr/>
          <p:nvPr/>
        </p:nvCxnSpPr>
        <p:spPr>
          <a:xfrm>
            <a:off x="6698880" y="1730160"/>
            <a:ext cx="108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12"/>
          <p:cNvCxnSpPr>
            <a:stCxn id="70" idx="2"/>
          </p:cNvCxnSpPr>
          <p:nvPr/>
        </p:nvCxnSpPr>
        <p:spPr>
          <a:xfrm>
            <a:off x="6761160" y="1712520"/>
            <a:ext cx="1735920" cy="43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063400" y="1731600"/>
            <a:ext cx="1607400" cy="461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Прямоугольник 4119"/>
          <p:cNvSpPr/>
          <p:nvPr/>
        </p:nvSpPr>
        <p:spPr>
          <a:xfrm>
            <a:off x="568440" y="4838760"/>
            <a:ext cx="3917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красоч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ы по насыщ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а (по густоте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раздел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4 груп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2"/>
          <a:srcRect l="0" t="19662" r="0" b="5628"/>
          <a:stretch/>
        </p:blipFill>
        <p:spPr>
          <a:xfrm>
            <a:off x="4211640" y="3213000"/>
            <a:ext cx="4959360" cy="30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5317560" y="2797200"/>
            <a:ext cx="288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ность ц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16000" y="1066680"/>
          <a:ext cx="8785080" cy="5703840"/>
        </p:xfrm>
        <a:graphic>
          <a:graphicData uri="http://schemas.openxmlformats.org/drawingml/2006/table">
            <a:tbl>
              <a:tblPr/>
              <a:tblGrid>
                <a:gridCol w="2195280"/>
                <a:gridCol w="2160720"/>
                <a:gridCol w="2232000"/>
                <a:gridCol w="2197080"/>
              </a:tblGrid>
              <a:tr h="192096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2652840" y="3016080"/>
            <a:ext cx="1717560" cy="1805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431640" y="3035160"/>
            <a:ext cx="1656000" cy="18320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398520" y="388800"/>
            <a:ext cx="871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штукатуривание – это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ледовательность оштукатуривания состоит из следующих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216000" y="-64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Расскажи об последовательности оштукатур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2" descr=""/>
          <p:cNvPicPr/>
          <p:nvPr/>
        </p:nvPicPr>
        <p:blipFill>
          <a:blip r:embed="rId3"/>
          <a:srcRect l="0" t="0" r="-11309" b="8335"/>
          <a:stretch/>
        </p:blipFill>
        <p:spPr>
          <a:xfrm>
            <a:off x="444600" y="1353960"/>
            <a:ext cx="1751040" cy="1587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"/>
          <p:cNvPicPr/>
          <p:nvPr/>
        </p:nvPicPr>
        <p:blipFill>
          <a:blip r:embed="rId4"/>
          <a:stretch/>
        </p:blipFill>
        <p:spPr>
          <a:xfrm>
            <a:off x="2170080" y="1353960"/>
            <a:ext cx="242244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"/>
          <p:cNvPicPr/>
          <p:nvPr/>
        </p:nvPicPr>
        <p:blipFill>
          <a:blip r:embed="rId5"/>
          <a:stretch/>
        </p:blipFill>
        <p:spPr>
          <a:xfrm>
            <a:off x="4737240" y="1353960"/>
            <a:ext cx="1954080" cy="1587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9" descr=""/>
          <p:cNvPicPr/>
          <p:nvPr/>
        </p:nvPicPr>
        <p:blipFill>
          <a:blip r:embed="rId6"/>
          <a:stretch/>
        </p:blipFill>
        <p:spPr>
          <a:xfrm>
            <a:off x="6948360" y="1123920"/>
            <a:ext cx="177012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7"/>
          <a:stretch/>
        </p:blipFill>
        <p:spPr>
          <a:xfrm>
            <a:off x="7110360" y="3043080"/>
            <a:ext cx="1717560" cy="17780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8"/>
          <a:stretch/>
        </p:blipFill>
        <p:spPr>
          <a:xfrm>
            <a:off x="4773600" y="3043080"/>
            <a:ext cx="1801800" cy="17780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9"/>
          <a:stretch/>
        </p:blipFill>
        <p:spPr>
          <a:xfrm>
            <a:off x="514440" y="49528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10"/>
          <a:stretch/>
        </p:blipFill>
        <p:spPr>
          <a:xfrm>
            <a:off x="2612880" y="4979880"/>
            <a:ext cx="179712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11"/>
          <a:stretch/>
        </p:blipFill>
        <p:spPr>
          <a:xfrm>
            <a:off x="4859280" y="4971960"/>
            <a:ext cx="171612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2"/>
          <a:stretch/>
        </p:blipFill>
        <p:spPr>
          <a:xfrm>
            <a:off x="7042320" y="4903920"/>
            <a:ext cx="1757160" cy="178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601560" y="10159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2631240" y="985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п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5173560" y="10303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8" descr=""/>
          <p:cNvPicPr/>
          <p:nvPr/>
        </p:nvPicPr>
        <p:blipFill>
          <a:blip r:embed="rId1"/>
          <a:stretch/>
        </p:blipFill>
        <p:spPr>
          <a:xfrm>
            <a:off x="758880" y="958680"/>
            <a:ext cx="3274920" cy="25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9" name="Рисунок 9" descr=""/>
          <p:cNvPicPr/>
          <p:nvPr/>
        </p:nvPicPr>
        <p:blipFill>
          <a:blip r:embed="rId2"/>
          <a:stretch/>
        </p:blipFill>
        <p:spPr>
          <a:xfrm>
            <a:off x="5076720" y="973080"/>
            <a:ext cx="3811680" cy="2529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0" name="Рисунок 13" descr=""/>
          <p:cNvPicPr/>
          <p:nvPr/>
        </p:nvPicPr>
        <p:blipFill>
          <a:blip r:embed="rId3"/>
          <a:stretch/>
        </p:blipFill>
        <p:spPr>
          <a:xfrm>
            <a:off x="604800" y="4062240"/>
            <a:ext cx="3817800" cy="2664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01" name="TextBox 14"/>
          <p:cNvSpPr/>
          <p:nvPr/>
        </p:nvSpPr>
        <p:spPr>
          <a:xfrm>
            <a:off x="1646280" y="-22320"/>
            <a:ext cx="6384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атур  2-го разряда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783720" y="4698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ды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5016240" y="46980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звание и назначение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7"/>
          <p:cNvSpPr/>
          <p:nvPr/>
        </p:nvSpPr>
        <p:spPr>
          <a:xfrm>
            <a:off x="616680" y="3537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ы приготовле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8"/>
          <p:cNvSpPr/>
          <p:nvPr/>
        </p:nvSpPr>
        <p:spPr>
          <a:xfrm>
            <a:off x="4617000" y="365760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особы подготовки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3" descr=""/>
          <p:cNvPicPr/>
          <p:nvPr/>
        </p:nvPicPr>
        <p:blipFill>
          <a:blip r:embed="rId4"/>
          <a:stretch/>
        </p:blipFill>
        <p:spPr>
          <a:xfrm>
            <a:off x="4892760" y="4221000"/>
            <a:ext cx="2089080" cy="1600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7" name="Рисунок 12" descr=""/>
          <p:cNvPicPr/>
          <p:nvPr/>
        </p:nvPicPr>
        <p:blipFill>
          <a:blip r:embed="rId5"/>
          <a:stretch/>
        </p:blipFill>
        <p:spPr>
          <a:xfrm>
            <a:off x="7489800" y="3736800"/>
            <a:ext cx="1530360" cy="1586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8" name="Рисунок 16" descr=""/>
          <p:cNvPicPr/>
          <p:nvPr/>
        </p:nvPicPr>
        <p:blipFill>
          <a:blip r:embed="rId6"/>
          <a:stretch/>
        </p:blipFill>
        <p:spPr>
          <a:xfrm>
            <a:off x="6235560" y="5160960"/>
            <a:ext cx="1871640" cy="1585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479520" y="1366920"/>
            <a:ext cx="2192400" cy="2071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0" name="Рисунок 7" descr=""/>
          <p:cNvPicPr/>
          <p:nvPr/>
        </p:nvPicPr>
        <p:blipFill>
          <a:blip r:embed="rId2"/>
          <a:stretch/>
        </p:blipFill>
        <p:spPr>
          <a:xfrm>
            <a:off x="5060880" y="1368360"/>
            <a:ext cx="2035080" cy="2114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1" name="Прямоугольник 8"/>
          <p:cNvSpPr/>
          <p:nvPr/>
        </p:nvSpPr>
        <p:spPr>
          <a:xfrm>
            <a:off x="3555360" y="6397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иват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1494720" y="-2052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атур  2-го разряда должен 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0" descr=""/>
          <p:cNvPicPr/>
          <p:nvPr/>
        </p:nvPicPr>
        <p:blipFill>
          <a:blip r:embed="rId3"/>
          <a:stretch/>
        </p:blipFill>
        <p:spPr>
          <a:xfrm>
            <a:off x="2778120" y="1366920"/>
            <a:ext cx="2170080" cy="2097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Рисунок 10" descr=""/>
          <p:cNvPicPr/>
          <p:nvPr/>
        </p:nvPicPr>
        <p:blipFill>
          <a:blip r:embed="rId4"/>
          <a:stretch/>
        </p:blipFill>
        <p:spPr>
          <a:xfrm>
            <a:off x="7201080" y="896760"/>
            <a:ext cx="1885680" cy="1347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5" name="Picture 9" descr="http://www.oborudunion.ru/l2509192/images/photocat/1000x1000/1000043146.jpg"/>
          <p:cNvPicPr/>
          <p:nvPr/>
        </p:nvPicPr>
        <p:blipFill>
          <a:blip r:embed="rId5"/>
          <a:stretch/>
        </p:blipFill>
        <p:spPr>
          <a:xfrm>
            <a:off x="7201080" y="2281320"/>
            <a:ext cx="1885680" cy="1611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6" name="Picture 11" descr="http://otdelka-expert.ru/wp-content/uploads/2017/05/prigotovlenie-rastvora-vruchnuyu.jpg"/>
          <p:cNvPicPr/>
          <p:nvPr/>
        </p:nvPicPr>
        <p:blipFill>
          <a:blip r:embed="rId6"/>
          <a:stretch/>
        </p:blipFill>
        <p:spPr>
          <a:xfrm>
            <a:off x="531720" y="4224240"/>
            <a:ext cx="2387520" cy="237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C:\Users\pc\Desktop\table_pic_att14916666305.png"/>
          <p:cNvPicPr/>
          <p:nvPr/>
        </p:nvPicPr>
        <p:blipFill>
          <a:blip r:embed="rId7"/>
          <a:stretch/>
        </p:blipFill>
        <p:spPr>
          <a:xfrm>
            <a:off x="6283440" y="4705200"/>
            <a:ext cx="2765160" cy="1908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8" name="TextBox 1"/>
          <p:cNvSpPr/>
          <p:nvPr/>
        </p:nvSpPr>
        <p:spPr>
          <a:xfrm>
            <a:off x="695880" y="367992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авливать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6659280" y="3987720"/>
            <a:ext cx="22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ж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мешивать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3811320" y="3648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ат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https://amstafkomanda.ru/wp-content/uploads/2019/11/1-48.jpg"/>
          <p:cNvPicPr/>
          <p:nvPr/>
        </p:nvPicPr>
        <p:blipFill>
          <a:blip r:embed="rId8"/>
          <a:stretch/>
        </p:blipFill>
        <p:spPr>
          <a:xfrm>
            <a:off x="3132000" y="4213080"/>
            <a:ext cx="2938680" cy="2395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22" name="TextBox 13"/>
          <p:cNvSpPr/>
          <p:nvPr/>
        </p:nvSpPr>
        <p:spPr>
          <a:xfrm>
            <a:off x="512640" y="1386000"/>
            <a:ext cx="36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2913480" y="136692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5088960" y="138600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7228440" y="90972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6:42:55Z</dcterms:created>
  <dc:creator>Наталья</dc:creator>
  <dc:description/>
  <dc:language>en-US</dc:language>
  <cp:lastModifiedBy>Учитель</cp:lastModifiedBy>
  <cp:lastPrinted>2018-05-25T05:38:43Z</cp:lastPrinted>
  <dcterms:modified xsi:type="dcterms:W3CDTF">2023-06-01T09:37:54Z</dcterms:modified>
  <cp:revision>104</cp:revision>
  <dc:subject/>
  <dc:title>Билет №10</dc:title>
</cp:coreProperties>
</file>