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562-D15D-4E7D-9740-B7D04D55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100-80EC-4849-8DA5-CBF29BBD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7C9-91C8-4553-87C2-922ABF51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E5B-4FE4-4557-9F87-C09258D3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DA0-9DA5-4206-957A-5B1B5A64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91B-F6A1-4DCB-9C52-6C10CB72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85E-8BF2-4066-AFB3-6F1018DA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D62-C0A7-40EA-BCE4-83BAC93D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6F0-7BF4-429D-BA73-5CE580E0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468-1E38-4E3B-A6EB-ED7989E1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139-6B9A-423F-8792-02EA3D7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55D-45A6-4A70-A275-CF943C1C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AAA9-EED7-40EB-B172-73910777E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жи о классификации зданий и сооружений, об основных конструктивных элементах з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виды штукатурки, дай им характеристику и расскажи о применен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 трех слоях штукатурного на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Классификация зданий и соор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4360" y="457200"/>
          <a:ext cx="8459640" cy="6168960"/>
        </p:xfrm>
        <a:graphic>
          <a:graphicData uri="http://schemas.openxmlformats.org/drawingml/2006/table">
            <a:tbl>
              <a:tblPr/>
              <a:tblGrid>
                <a:gridCol w="1671480"/>
                <a:gridCol w="303120"/>
                <a:gridCol w="879480"/>
                <a:gridCol w="419040"/>
                <a:gridCol w="765360"/>
                <a:gridCol w="849240"/>
                <a:gridCol w="947880"/>
                <a:gridCol w="388800"/>
                <a:gridCol w="318960"/>
                <a:gridCol w="1916280"/>
              </a:tblGrid>
              <a:tr h="3967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ания –это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ружения – это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10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Здания по назначению деля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ждан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производств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3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10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 этажности здания подразделяются 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10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 материалу основных конструкций бываю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10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 долговечности здания делятся 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рупп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рупп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групп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групп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6640">
                <a:tc gridSpan="10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 зданиям предъявляются следующие требования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.  Д.  К.  Э.  СС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2400" y="824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конструктивные элементы з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6160" y="2189160"/>
            <a:ext cx="349272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я -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-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-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rcRect l="7262" t="4173" r="3078" b="2637"/>
          <a:stretch/>
        </p:blipFill>
        <p:spPr>
          <a:xfrm>
            <a:off x="4211640" y="520560"/>
            <a:ext cx="4357800" cy="6337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886200" y="533412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57380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86727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8672760" y="110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86886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0564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8585640" y="22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05000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050000" y="43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05000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97692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2449440" y="1054080"/>
            <a:ext cx="442908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тукатурка – эт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490680" y="2887560"/>
            <a:ext cx="1898640" cy="714600"/>
          </a:xfrm>
          <a:prstGeom prst="rect">
            <a:avLst/>
          </a:prstGeom>
          <a:solidFill>
            <a:srgbClr val="cecee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е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6996240" y="2870280"/>
            <a:ext cx="2000160" cy="714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и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ж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4757760" y="2870280"/>
            <a:ext cx="2000160" cy="714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2598840" y="2887560"/>
            <a:ext cx="1993680" cy="714600"/>
          </a:xfrm>
          <a:prstGeom prst="rect">
            <a:avLst/>
          </a:prstGeom>
          <a:solidFill>
            <a:srgbClr val="cecee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ч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90680" y="4832280"/>
            <a:ext cx="1884240" cy="71460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490680" y="3855960"/>
            <a:ext cx="1908000" cy="64476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4786200" y="3870360"/>
            <a:ext cx="2000520" cy="64296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0"/>
          <p:cNvSpPr/>
          <p:nvPr/>
        </p:nvSpPr>
        <p:spPr>
          <a:xfrm>
            <a:off x="4780080" y="4840200"/>
            <a:ext cx="2000160" cy="71460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1"/>
          <p:cNvSpPr/>
          <p:nvPr/>
        </p:nvSpPr>
        <p:spPr>
          <a:xfrm>
            <a:off x="4786200" y="5859360"/>
            <a:ext cx="2000520" cy="71460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2"/>
          <p:cNvSpPr/>
          <p:nvPr/>
        </p:nvSpPr>
        <p:spPr>
          <a:xfrm>
            <a:off x="7000920" y="5681520"/>
            <a:ext cx="2000160" cy="357480"/>
          </a:xfrm>
          <a:prstGeom prst="rect">
            <a:avLst/>
          </a:prstGeom>
          <a:solidFill>
            <a:srgbClr val="f8fb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3"/>
          <p:cNvSpPr/>
          <p:nvPr/>
        </p:nvSpPr>
        <p:spPr>
          <a:xfrm>
            <a:off x="2571840" y="5859360"/>
            <a:ext cx="2000160" cy="71460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4"/>
          <p:cNvSpPr/>
          <p:nvPr/>
        </p:nvSpPr>
        <p:spPr>
          <a:xfrm>
            <a:off x="2571840" y="4832280"/>
            <a:ext cx="2000160" cy="74160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2598840" y="3870360"/>
            <a:ext cx="2000160" cy="64296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6"/>
          <p:cNvSpPr/>
          <p:nvPr/>
        </p:nvSpPr>
        <p:spPr>
          <a:xfrm>
            <a:off x="6996240" y="3870360"/>
            <a:ext cx="2000160" cy="35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7"/>
          <p:cNvSpPr/>
          <p:nvPr/>
        </p:nvSpPr>
        <p:spPr>
          <a:xfrm>
            <a:off x="6999120" y="4483080"/>
            <a:ext cx="2000520" cy="35712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8"/>
          <p:cNvSpPr/>
          <p:nvPr/>
        </p:nvSpPr>
        <p:spPr>
          <a:xfrm>
            <a:off x="6999120" y="5106960"/>
            <a:ext cx="2000520" cy="35892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826920" y="1938240"/>
            <a:ext cx="464688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…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края) – состои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0"/>
          <p:cNvSpPr/>
          <p:nvPr/>
        </p:nvSpPr>
        <p:spPr>
          <a:xfrm>
            <a:off x="6210360" y="1938240"/>
            <a:ext cx="278604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1"/>
          <p:cNvSpPr/>
          <p:nvPr/>
        </p:nvSpPr>
        <p:spPr>
          <a:xfrm>
            <a:off x="490680" y="5857920"/>
            <a:ext cx="1866600" cy="71424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2"/>
          <p:cNvSpPr/>
          <p:nvPr/>
        </p:nvSpPr>
        <p:spPr>
          <a:xfrm>
            <a:off x="7000920" y="6215040"/>
            <a:ext cx="2000160" cy="357120"/>
          </a:xfrm>
          <a:prstGeom prst="rect">
            <a:avLst/>
          </a:prstGeom>
          <a:solidFill>
            <a:srgbClr val="f8fbfc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4"/>
          <p:cNvCxnSpPr>
            <a:endCxn id="76" idx="0"/>
          </p:cNvCxnSpPr>
          <p:nvPr/>
        </p:nvCxnSpPr>
        <p:spPr>
          <a:xfrm flipH="1">
            <a:off x="3150360" y="1638000"/>
            <a:ext cx="1345320" cy="300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26"/>
          <p:cNvCxnSpPr/>
          <p:nvPr/>
        </p:nvCxnSpPr>
        <p:spPr>
          <a:xfrm>
            <a:off x="4466880" y="1638000"/>
            <a:ext cx="3020040" cy="261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28"/>
          <p:cNvCxnSpPr/>
          <p:nvPr/>
        </p:nvCxnSpPr>
        <p:spPr>
          <a:xfrm flipH="1">
            <a:off x="1243800" y="2459160"/>
            <a:ext cx="2328120" cy="411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30"/>
          <p:cNvCxnSpPr>
            <a:endCxn id="62" idx="0"/>
          </p:cNvCxnSpPr>
          <p:nvPr/>
        </p:nvCxnSpPr>
        <p:spPr>
          <a:xfrm>
            <a:off x="3571920" y="2436840"/>
            <a:ext cx="2186640" cy="4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32"/>
          <p:cNvCxnSpPr/>
          <p:nvPr/>
        </p:nvCxnSpPr>
        <p:spPr>
          <a:xfrm>
            <a:off x="3573360" y="2445840"/>
            <a:ext cx="76680" cy="43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34"/>
          <p:cNvCxnSpPr/>
          <p:nvPr/>
        </p:nvCxnSpPr>
        <p:spPr>
          <a:xfrm>
            <a:off x="3573360" y="2436480"/>
            <a:ext cx="4479120" cy="34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36"/>
          <p:cNvCxnSpPr/>
          <p:nvPr/>
        </p:nvCxnSpPr>
        <p:spPr>
          <a:xfrm>
            <a:off x="7869240" y="2486160"/>
            <a:ext cx="364320" cy="37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38"/>
          <p:cNvCxnSpPr/>
          <p:nvPr/>
        </p:nvCxnSpPr>
        <p:spPr>
          <a:xfrm>
            <a:off x="1447560" y="3596760"/>
            <a:ext cx="5400" cy="27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40"/>
          <p:cNvCxnSpPr>
            <a:stCxn id="65" idx="2"/>
            <a:endCxn id="64" idx="0"/>
          </p:cNvCxnSpPr>
          <p:nvPr/>
        </p:nvCxnSpPr>
        <p:spPr>
          <a:xfrm flipH="1">
            <a:off x="1431360" y="4500360"/>
            <a:ext cx="13320" cy="332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43"/>
          <p:cNvCxnSpPr/>
          <p:nvPr/>
        </p:nvCxnSpPr>
        <p:spPr>
          <a:xfrm flipH="1">
            <a:off x="1404720" y="5573520"/>
            <a:ext cx="216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71"/>
          <p:cNvCxnSpPr>
            <a:endCxn id="68" idx="0"/>
          </p:cNvCxnSpPr>
          <p:nvPr/>
        </p:nvCxnSpPr>
        <p:spPr>
          <a:xfrm>
            <a:off x="5785920" y="5572080"/>
            <a:ext cx="108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76"/>
          <p:cNvCxnSpPr/>
          <p:nvPr/>
        </p:nvCxnSpPr>
        <p:spPr>
          <a:xfrm>
            <a:off x="3612960" y="4563720"/>
            <a:ext cx="1080" cy="268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65"/>
          <p:cNvCxnSpPr>
            <a:endCxn id="66" idx="0"/>
          </p:cNvCxnSpPr>
          <p:nvPr/>
        </p:nvCxnSpPr>
        <p:spPr>
          <a:xfrm>
            <a:off x="5785920" y="3571560"/>
            <a:ext cx="1080" cy="29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70"/>
          <p:cNvCxnSpPr/>
          <p:nvPr/>
        </p:nvCxnSpPr>
        <p:spPr>
          <a:xfrm flipH="1">
            <a:off x="3626640" y="3597120"/>
            <a:ext cx="2520" cy="27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57"/>
          <p:cNvCxnSpPr/>
          <p:nvPr/>
        </p:nvCxnSpPr>
        <p:spPr>
          <a:xfrm>
            <a:off x="5768640" y="4552920"/>
            <a:ext cx="108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60"/>
          <p:cNvCxnSpPr/>
          <p:nvPr/>
        </p:nvCxnSpPr>
        <p:spPr>
          <a:xfrm>
            <a:off x="8071920" y="3593880"/>
            <a:ext cx="1080" cy="300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66"/>
          <p:cNvCxnSpPr/>
          <p:nvPr/>
        </p:nvCxnSpPr>
        <p:spPr>
          <a:xfrm>
            <a:off x="3634920" y="5572080"/>
            <a:ext cx="108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Прямоугольник 74"/>
          <p:cNvSpPr/>
          <p:nvPr/>
        </p:nvSpPr>
        <p:spPr>
          <a:xfrm>
            <a:off x="611280" y="84240"/>
            <a:ext cx="83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  Назови виды штукатурки, дай им характеристику и расскажи о применен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 трех слоях штукатурного на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979560" y="1114560"/>
            <a:ext cx="12110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7134120" y="1116000"/>
            <a:ext cx="704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rcRect l="26900" t="22540" r="35300" b="10981"/>
          <a:stretch/>
        </p:blipFill>
        <p:spPr>
          <a:xfrm>
            <a:off x="2484360" y="1122480"/>
            <a:ext cx="4608720" cy="4240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511280" y="249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катурные сл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3"/>
          <p:cNvSpPr/>
          <p:nvPr/>
        </p:nvSpPr>
        <p:spPr>
          <a:xfrm>
            <a:off x="4211640" y="2735280"/>
            <a:ext cx="468360" cy="50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6"/>
          <p:cNvSpPr/>
          <p:nvPr/>
        </p:nvSpPr>
        <p:spPr>
          <a:xfrm>
            <a:off x="6570720" y="2830680"/>
            <a:ext cx="468360" cy="50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5724360" y="1236600"/>
            <a:ext cx="0" cy="3816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"/>
          <p:cNvSpPr/>
          <p:nvPr/>
        </p:nvSpPr>
        <p:spPr>
          <a:xfrm>
            <a:off x="5454720" y="2830680"/>
            <a:ext cx="468360" cy="50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1749600" y="5119560"/>
            <a:ext cx="190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5"/>
          <p:cNvSpPr/>
          <p:nvPr/>
        </p:nvSpPr>
        <p:spPr>
          <a:xfrm>
            <a:off x="3995640" y="5052960"/>
            <a:ext cx="0" cy="123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4859280" y="5064120"/>
            <a:ext cx="0" cy="1233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6558120" y="5064120"/>
            <a:ext cx="0" cy="1233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6875640" y="5064120"/>
            <a:ext cx="0" cy="1233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1"/>
          <p:cNvSpPr/>
          <p:nvPr/>
        </p:nvSpPr>
        <p:spPr>
          <a:xfrm>
            <a:off x="5722920" y="5119560"/>
            <a:ext cx="0" cy="123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3"/>
          <p:cNvSpPr/>
          <p:nvPr/>
        </p:nvSpPr>
        <p:spPr>
          <a:xfrm>
            <a:off x="3873600" y="5735520"/>
            <a:ext cx="31654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0"/>
          <p:cNvSpPr/>
          <p:nvPr/>
        </p:nvSpPr>
        <p:spPr>
          <a:xfrm>
            <a:off x="3871800" y="6165720"/>
            <a:ext cx="31654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6143"/>
          <p:cNvSpPr/>
          <p:nvPr/>
        </p:nvSpPr>
        <p:spPr>
          <a:xfrm flipV="1">
            <a:off x="3957480" y="5655960"/>
            <a:ext cx="10656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6"/>
          <p:cNvSpPr/>
          <p:nvPr/>
        </p:nvSpPr>
        <p:spPr>
          <a:xfrm flipV="1">
            <a:off x="4835520" y="5633640"/>
            <a:ext cx="10620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37"/>
          <p:cNvSpPr/>
          <p:nvPr/>
        </p:nvSpPr>
        <p:spPr>
          <a:xfrm flipV="1">
            <a:off x="5656320" y="5660640"/>
            <a:ext cx="106200" cy="157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38"/>
          <p:cNvSpPr/>
          <p:nvPr/>
        </p:nvSpPr>
        <p:spPr>
          <a:xfrm flipV="1">
            <a:off x="6534000" y="5648040"/>
            <a:ext cx="10656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39"/>
          <p:cNvSpPr/>
          <p:nvPr/>
        </p:nvSpPr>
        <p:spPr>
          <a:xfrm flipV="1">
            <a:off x="6823080" y="5654160"/>
            <a:ext cx="10620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40"/>
          <p:cNvSpPr/>
          <p:nvPr/>
        </p:nvSpPr>
        <p:spPr>
          <a:xfrm flipV="1">
            <a:off x="6804000" y="6084360"/>
            <a:ext cx="10656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41"/>
          <p:cNvSpPr/>
          <p:nvPr/>
        </p:nvSpPr>
        <p:spPr>
          <a:xfrm flipV="1">
            <a:off x="3948120" y="6060600"/>
            <a:ext cx="104760" cy="157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42"/>
          <p:cNvSpPr/>
          <p:nvPr/>
        </p:nvSpPr>
        <p:spPr>
          <a:xfrm flipV="1">
            <a:off x="4807080" y="6095520"/>
            <a:ext cx="10620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43"/>
          <p:cNvSpPr/>
          <p:nvPr/>
        </p:nvSpPr>
        <p:spPr>
          <a:xfrm flipV="1">
            <a:off x="5695920" y="6086520"/>
            <a:ext cx="104760" cy="156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44"/>
          <p:cNvSpPr/>
          <p:nvPr/>
        </p:nvSpPr>
        <p:spPr>
          <a:xfrm flipV="1">
            <a:off x="6499080" y="6086520"/>
            <a:ext cx="104760" cy="156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3:22:06Z</dcterms:created>
  <dc:creator>Наталья</dc:creator>
  <dc:description/>
  <dc:language>en-US</dc:language>
  <cp:lastModifiedBy>Учитель</cp:lastModifiedBy>
  <cp:lastPrinted>2019-10-14T05:25:17Z</cp:lastPrinted>
  <dcterms:modified xsi:type="dcterms:W3CDTF">2021-04-09T07:36:37Z</dcterms:modified>
  <cp:revision>80</cp:revision>
  <dc:subject/>
  <dc:title>Билет №3</dc:title>
</cp:coreProperties>
</file>