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7A0-8066-4CC6-806F-BA836FF0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5D2-C59D-45F1-A92A-61102C3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10C-17C8-4FE1-A06B-E6727A8F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B81-BCFC-40C2-912C-1C06F0CD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70D-97A5-4D91-B533-5726B82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74A-265C-4E69-9A4E-20E3095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77A-E301-400C-90FC-42A43A9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2CC-CE09-4578-B16D-72A69A8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7DB-4283-4B1C-B202-6590DDA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69-F8B2-4726-B501-0DEAD63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2CB-CE9A-4912-B2BE-7DC99E93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CA7-372D-4F27-9591-C7B44E5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3CDB-093D-4CF4-B1B3-4B6C697C67CA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 № 4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60020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й краткую характеристику отделочных работ. Расскажи о требованиях к помещениям, подлежащим окраски и оклейке обоями. Назови основные черты строительного производ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 о производстве штукатурных работ в зимнее вре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84360" y="871560"/>
          <a:ext cx="8356320" cy="5962680"/>
        </p:xfrm>
        <a:graphic>
          <a:graphicData uri="http://schemas.openxmlformats.org/drawingml/2006/table">
            <a:tbl>
              <a:tblPr/>
              <a:tblGrid>
                <a:gridCol w="2901960"/>
                <a:gridCol w="2547720"/>
                <a:gridCol w="2906640"/>
              </a:tblGrid>
              <a:tr h="72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тукатур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лицовоч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алярные и обой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-это..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 служит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ю 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кновенная штукатурка бывает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ка состоит …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очные работы- это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ка бывает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цовка состоит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литки…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ярные работы –это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ется  для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 бывает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йные работы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для обойных работ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…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7960" y="-30600"/>
            <a:ext cx="8262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Краткая характеристика отделочных раб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95360" y="45252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став отделочных работ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2"/>
          <a:stretch/>
        </p:blipFill>
        <p:spPr>
          <a:xfrm>
            <a:off x="836640" y="4608360"/>
            <a:ext cx="2463840" cy="2062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Picture 23" descr=""/>
          <p:cNvPicPr/>
          <p:nvPr/>
        </p:nvPicPr>
        <p:blipFill>
          <a:blip r:embed="rId3"/>
          <a:stretch/>
        </p:blipFill>
        <p:spPr>
          <a:xfrm>
            <a:off x="7453440" y="4581360"/>
            <a:ext cx="1533240" cy="203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Picture 25" descr="24"/>
          <p:cNvPicPr/>
          <p:nvPr/>
        </p:nvPicPr>
        <p:blipFill>
          <a:blip r:embed="rId4"/>
          <a:stretch/>
        </p:blipFill>
        <p:spPr>
          <a:xfrm>
            <a:off x="3597120" y="4621320"/>
            <a:ext cx="2359080" cy="203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Рисунок 4" descr=""/>
          <p:cNvPicPr/>
          <p:nvPr/>
        </p:nvPicPr>
        <p:blipFill>
          <a:blip r:embed="rId5"/>
          <a:stretch/>
        </p:blipFill>
        <p:spPr>
          <a:xfrm>
            <a:off x="6084720" y="4581360"/>
            <a:ext cx="1470240" cy="203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powerpointhintergrund.com/uploads/2017/09/beige-background-2-babaimage-2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09480" y="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14544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начала малярных работ должны быть закончены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жны быть установлены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жность в помещении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пература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23880" y="3436920"/>
            <a:ext cx="394812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4738680" y="3429000"/>
            <a:ext cx="422604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4114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-76320" y="339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, предъявляемые к помещениям, подлежащим окраске и оклейке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79360" y="1236600"/>
            <a:ext cx="871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https://master-laminata.ru/wp-content/uploads/neobhodimo-zaizolirovat-styki-sten-i-pol-kak-pokazano-na-foto.jpg"/>
          <p:cNvPicPr/>
          <p:nvPr/>
        </p:nvPicPr>
        <p:blipFill>
          <a:blip r:embed="rId1"/>
          <a:stretch/>
        </p:blipFill>
        <p:spPr>
          <a:xfrm>
            <a:off x="6308640" y="1924200"/>
            <a:ext cx="27655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Рисунок 20" descr="http://utepleniedoma.com/wp-content/uploads/2014/02/uteplenie-perekrytija-cherdaka.jpg"/>
          <p:cNvPicPr/>
          <p:nvPr/>
        </p:nvPicPr>
        <p:blipFill>
          <a:blip r:embed="rId2"/>
          <a:stretch/>
        </p:blipFill>
        <p:spPr>
          <a:xfrm>
            <a:off x="3487680" y="4444920"/>
            <a:ext cx="2684520" cy="2255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Рисунок 21" descr="http://rv-remont.ru/images/novostroi/novo-min.jpg"/>
          <p:cNvPicPr/>
          <p:nvPr/>
        </p:nvPicPr>
        <p:blipFill>
          <a:blip r:embed="rId3"/>
          <a:stretch/>
        </p:blipFill>
        <p:spPr>
          <a:xfrm>
            <a:off x="585720" y="1920960"/>
            <a:ext cx="2766960" cy="228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3" name="Объект 23" descr="https://imnz.ru/upload/iblock/9bd/dveri-stalnye-dlya-podezda-i-lestnichnoy-kletki-v-spb.jpg"/>
          <p:cNvPicPr/>
          <p:nvPr/>
        </p:nvPicPr>
        <p:blipFill>
          <a:blip r:embed="rId4"/>
          <a:stretch/>
        </p:blipFill>
        <p:spPr>
          <a:xfrm>
            <a:off x="6308640" y="4448160"/>
            <a:ext cx="2759040" cy="22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" name="Picture 11" descr="https://dommovik.ru/sites/default/files/styles/760x460/public/field/image/skrinshot_23-02-2017_210223.png?itok=0YKEIHR4"/>
          <p:cNvPicPr/>
          <p:nvPr/>
        </p:nvPicPr>
        <p:blipFill>
          <a:blip r:embed="rId5"/>
          <a:stretch/>
        </p:blipFill>
        <p:spPr>
          <a:xfrm>
            <a:off x="627120" y="4457880"/>
            <a:ext cx="2725560" cy="222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Box 1"/>
          <p:cNvSpPr/>
          <p:nvPr/>
        </p:nvSpPr>
        <p:spPr>
          <a:xfrm>
            <a:off x="685080" y="12852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Сведения о производстве штукатурных работ в зимн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6"/>
          <a:stretch/>
        </p:blipFill>
        <p:spPr>
          <a:xfrm>
            <a:off x="3487680" y="1920960"/>
            <a:ext cx="2684520" cy="2289240"/>
          </a:xfrm>
          <a:prstGeom prst="rect">
            <a:avLst/>
          </a:prstGeom>
          <a:ln w="38160">
            <a:solidFill>
              <a:srgbClr val="1d2c12"/>
            </a:solidFill>
            <a:miter/>
          </a:ln>
        </p:spPr>
      </p:pic>
      <p:sp>
        <p:nvSpPr>
          <p:cNvPr id="67" name="Прямоугольник 1"/>
          <p:cNvSpPr/>
          <p:nvPr/>
        </p:nvSpPr>
        <p:spPr>
          <a:xfrm>
            <a:off x="673200" y="590400"/>
            <a:ext cx="83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укатурные работы в зимнее время выполняются с соблюдением некоторых дополнитель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68360" y="792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 при выполнении штукату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http://stroygroup66.ru/assets/images/6.jpg"/>
          <p:cNvPicPr/>
          <p:nvPr/>
        </p:nvPicPr>
        <p:blipFill>
          <a:blip r:embed="rId1"/>
          <a:srcRect l="0" t="-3098" r="0" b="0"/>
          <a:stretch/>
        </p:blipFill>
        <p:spPr>
          <a:xfrm>
            <a:off x="611280" y="1033560"/>
            <a:ext cx="5151240" cy="4776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0" name="Рисунок 22" descr="http://santech58.ru/image/data/yulia/121017.jpg"/>
          <p:cNvPicPr/>
          <p:nvPr/>
        </p:nvPicPr>
        <p:blipFill>
          <a:blip r:embed="rId2"/>
          <a:srcRect l="40281" t="13636" r="41419" b="14242"/>
          <a:stretch/>
        </p:blipFill>
        <p:spPr>
          <a:xfrm>
            <a:off x="5940360" y="1028880"/>
            <a:ext cx="1295640" cy="5424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6539040" y="1700280"/>
            <a:ext cx="120600" cy="3689280"/>
          </a:xfrm>
          <a:prstGeom prst="rect">
            <a:avLst/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6539040" y="4254480"/>
            <a:ext cx="338040" cy="7128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6561000" y="4786200"/>
            <a:ext cx="339840" cy="7164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561000" y="3348000"/>
            <a:ext cx="292320" cy="7308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7243200" y="46004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7261200" y="410544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7264080" y="313056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в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611280" y="5937120"/>
            <a:ext cx="544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мещениях, где температура ниже +8°С, запрещается работать так ка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kamburg.ru/simages/stroim_garazh_svoimi_rukami_15.jpg"/>
          <p:cNvPicPr/>
          <p:nvPr/>
        </p:nvPicPr>
        <p:blipFill>
          <a:blip r:embed="rId1"/>
          <a:stretch/>
        </p:blipFill>
        <p:spPr>
          <a:xfrm>
            <a:off x="4822920" y="3770280"/>
            <a:ext cx="4186080" cy="29527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80" name="Рисунок 3" descr="http://www.for-builders.ru/wp-content/uploads/2013/05/b2e029768c_1000-e1369982942573.jpg"/>
          <p:cNvPicPr/>
          <p:nvPr/>
        </p:nvPicPr>
        <p:blipFill>
          <a:blip r:embed="rId2"/>
          <a:stretch/>
        </p:blipFill>
        <p:spPr>
          <a:xfrm>
            <a:off x="1058760" y="1290600"/>
            <a:ext cx="3506760" cy="23209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81" name="Picture 6" descr="http://www.strt.ru/wp-content/uploads/2014/04/49hk.jpg"/>
          <p:cNvPicPr/>
          <p:nvPr/>
        </p:nvPicPr>
        <p:blipFill>
          <a:blip r:embed="rId3"/>
          <a:stretch/>
        </p:blipFill>
        <p:spPr>
          <a:xfrm>
            <a:off x="5697360" y="1228680"/>
            <a:ext cx="32688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82" name="Прямоугольник 1"/>
          <p:cNvSpPr/>
          <p:nvPr/>
        </p:nvSpPr>
        <p:spPr>
          <a:xfrm>
            <a:off x="852480" y="547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ую растворную смесь перевозят…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ется использо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153040" y="56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ие растворные смеси хранятся…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ые смесь защищаю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685240" y="-44280"/>
            <a:ext cx="55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ировка, хранение и пригото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тукатурного раствора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5"/>
          <p:cNvSpPr/>
          <p:nvPr/>
        </p:nvSpPr>
        <p:spPr>
          <a:xfrm>
            <a:off x="4865760" y="4737240"/>
            <a:ext cx="41112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9"/>
          <p:cNvSpPr/>
          <p:nvPr/>
        </p:nvSpPr>
        <p:spPr>
          <a:xfrm>
            <a:off x="4651200" y="6004080"/>
            <a:ext cx="411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0"/>
          <p:cNvSpPr/>
          <p:nvPr/>
        </p:nvSpPr>
        <p:spPr>
          <a:xfrm>
            <a:off x="7981920" y="6210360"/>
            <a:ext cx="411120" cy="33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022360" y="3340080"/>
            <a:ext cx="42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творы иногда готовят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701320" y="63658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як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ttp://rotan.com.ua/images/nelikvidi/rastvoronasos_v_komplekte_(cena_dogov_)_rabotal_2_ned_/dsc00623.jpg"/>
          <p:cNvPicPr/>
          <p:nvPr/>
        </p:nvPicPr>
        <p:blipFill>
          <a:blip r:embed="rId4"/>
          <a:stretch/>
        </p:blipFill>
        <p:spPr>
          <a:xfrm>
            <a:off x="1042920" y="4254480"/>
            <a:ext cx="3522600" cy="24685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91" name="Прямоугольник 1"/>
          <p:cNvSpPr/>
          <p:nvPr/>
        </p:nvSpPr>
        <p:spPr>
          <a:xfrm>
            <a:off x="1006560" y="364824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насосы устанавливают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мены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826920" y="115920"/>
            <a:ext cx="81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неотапливаемых помещениях, в помещениях с частичным обогревом, а также на морозе штукатурные работы выполняют растворами с противоморозными  добав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1413000"/>
          <a:ext cx="7796520" cy="5184720"/>
        </p:xfrm>
        <a:graphic>
          <a:graphicData uri="http://schemas.openxmlformats.org/drawingml/2006/table">
            <a:tbl>
              <a:tblPr/>
              <a:tblGrid>
                <a:gridCol w="2665440"/>
                <a:gridCol w="2087640"/>
                <a:gridCol w="2448000"/>
                <a:gridCol w="595440"/>
              </a:tblGrid>
              <a:tr h="12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обав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 с добавкой поташа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, затворённые хлорированной вод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творы на аммиачной вод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TextBox 6"/>
          <p:cNvSpPr/>
          <p:nvPr/>
        </p:nvSpPr>
        <p:spPr>
          <a:xfrm rot="16200000">
            <a:off x="6571080" y="380484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безопас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31:09Z</dcterms:created>
  <dc:creator>Наталья</dc:creator>
  <dc:description/>
  <dc:language>en-US</dc:language>
  <cp:lastModifiedBy>Учитель</cp:lastModifiedBy>
  <cp:lastPrinted>2018-04-16T07:11:24Z</cp:lastPrinted>
  <dcterms:modified xsi:type="dcterms:W3CDTF">2023-06-01T09:19:59Z</dcterms:modified>
  <cp:revision>109</cp:revision>
  <dc:subject/>
  <dc:title>Билет №4</dc:title>
</cp:coreProperties>
</file>