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742-74BE-43ED-B86F-F8FB880D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49B-87A6-42C9-93C3-991F9461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FE7-E511-4EAB-8A5E-E7367A99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F36-B6E3-4888-AB8E-9BE0B525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AD6-E32D-4D83-B777-CB5AD163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FAE-48A8-41B3-A86D-2D673F33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D36-BC08-4FA9-A8F6-7EE46382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DC2-5309-4913-A1FF-4C858228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A4F-5C3A-4B4D-A172-10F8FC0B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165-F02B-4ACE-8E78-5374AA8B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934-23D0-4D24-B8A6-8A587737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37D-C543-4C07-9BF0-143D190E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FB93-53EF-4F35-BE0B-76F64D0E3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Расскажи о материалах для малярных работ, их свойствах и примен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о связующих материалах  для водных и неводных сост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жи о трудовом договоре, его содержании, сроках заключения. Перечисли документы, необходимые для заключения  трудового договора работниками предпри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Материалы для малярны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12640" y="533520"/>
          <a:ext cx="8675640" cy="6824520"/>
        </p:xfrm>
        <a:graphic>
          <a:graphicData uri="http://schemas.openxmlformats.org/drawingml/2006/table">
            <a:tbl>
              <a:tblPr/>
              <a:tblGrid>
                <a:gridCol w="1828080"/>
                <a:gridCol w="740160"/>
                <a:gridCol w="218880"/>
                <a:gridCol w="1296720"/>
                <a:gridCol w="1932120"/>
                <a:gridCol w="2659680"/>
              </a:tblGrid>
              <a:tr h="82332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спомога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раски – это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помогательные материалы - 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ккативы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фикаторы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ворители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вки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бавители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одные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невод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вязу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полн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игм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4680"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одных составов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неводных составов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нителями служат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ют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патлев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унтов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40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ат для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ат для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ующие вещества для водных и неводны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71640" y="1219320"/>
          <a:ext cx="8096040" cy="4759200"/>
        </p:xfrm>
        <a:graphic>
          <a:graphicData uri="http://schemas.openxmlformats.org/drawingml/2006/table">
            <a:tbl>
              <a:tblPr/>
              <a:tblGrid>
                <a:gridCol w="3643200"/>
                <a:gridCol w="4452840"/>
              </a:tblGrid>
              <a:tr h="533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Связующие – это …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одных состав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неводных состав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Известь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лифа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Цемент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Известняк, глина, доломи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мола натуральная            (янтарь) ….    –  лак натура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Эмульсия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мола синтетическая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Клеи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Лак - синтет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838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Трудово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95440" y="811080"/>
            <a:ext cx="31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договор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договору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843280" y="1484280"/>
            <a:ext cx="352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12720" y="2287440"/>
            <a:ext cx="1871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556000" y="2276640"/>
            <a:ext cx="187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716360" y="2276640"/>
            <a:ext cx="187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ает в си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6948360" y="2276640"/>
            <a:ext cx="187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7169400" y="227664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566640" y="3321000"/>
            <a:ext cx="177804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. И. О. работ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.И.О. …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…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…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…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…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…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…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…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482920" y="3330720"/>
            <a:ext cx="201600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…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2411280" y="5850000"/>
            <a:ext cx="2087640" cy="67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одатель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рава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4716360" y="3357720"/>
            <a:ext cx="1871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4716360" y="4508640"/>
            <a:ext cx="1871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4716360" y="5734080"/>
            <a:ext cx="1871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0"/>
          <p:cNvSpPr/>
          <p:nvPr/>
        </p:nvSpPr>
        <p:spPr>
          <a:xfrm>
            <a:off x="4753800" y="4573440"/>
            <a:ext cx="177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 оговор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-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1"/>
          <p:cNvSpPr/>
          <p:nvPr/>
        </p:nvSpPr>
        <p:spPr>
          <a:xfrm>
            <a:off x="4805280" y="5800680"/>
            <a:ext cx="18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ботник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ил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6948360" y="3429000"/>
            <a:ext cx="194472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3" descr="Картинка 7 из 210"/>
          <p:cNvPicPr/>
          <p:nvPr/>
        </p:nvPicPr>
        <p:blipFill>
          <a:blip r:embed="rId1"/>
          <a:srcRect l="37571" t="0" r="2903" b="0"/>
          <a:stretch/>
        </p:blipFill>
        <p:spPr>
          <a:xfrm>
            <a:off x="7572240" y="2952720"/>
            <a:ext cx="136872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"/>
          <p:cNvPicPr/>
          <p:nvPr/>
        </p:nvPicPr>
        <p:blipFill>
          <a:blip r:embed="rId2"/>
          <a:stretch/>
        </p:blipFill>
        <p:spPr>
          <a:xfrm rot="1425000">
            <a:off x="6767280" y="2876400"/>
            <a:ext cx="950760" cy="165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Picture 35" descr=""/>
          <p:cNvPicPr/>
          <p:nvPr/>
        </p:nvPicPr>
        <p:blipFill>
          <a:blip r:embed="rId3"/>
          <a:stretch/>
        </p:blipFill>
        <p:spPr>
          <a:xfrm>
            <a:off x="7947000" y="4167360"/>
            <a:ext cx="1008000" cy="151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Picture 36" descr=""/>
          <p:cNvPicPr/>
          <p:nvPr/>
        </p:nvPicPr>
        <p:blipFill>
          <a:blip r:embed="rId4"/>
          <a:stretch/>
        </p:blipFill>
        <p:spPr>
          <a:xfrm rot="1023600">
            <a:off x="6784560" y="4095720"/>
            <a:ext cx="1093680" cy="155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8" name="Picture 3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6989760" y="5210280"/>
            <a:ext cx="1955880" cy="143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Line 38"/>
          <p:cNvSpPr/>
          <p:nvPr/>
        </p:nvSpPr>
        <p:spPr>
          <a:xfrm>
            <a:off x="349236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1"/>
          <p:cNvSpPr/>
          <p:nvPr/>
        </p:nvSpPr>
        <p:spPr>
          <a:xfrm>
            <a:off x="1455840" y="26956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2"/>
          <p:cNvSpPr/>
          <p:nvPr/>
        </p:nvSpPr>
        <p:spPr>
          <a:xfrm>
            <a:off x="558000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651640" y="4076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4"/>
          <p:cNvSpPr/>
          <p:nvPr/>
        </p:nvSpPr>
        <p:spPr>
          <a:xfrm>
            <a:off x="5724360" y="5229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7"/>
          <p:cNvSpPr/>
          <p:nvPr/>
        </p:nvSpPr>
        <p:spPr>
          <a:xfrm flipH="1">
            <a:off x="1258920" y="1916280"/>
            <a:ext cx="31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8"/>
          <p:cNvSpPr/>
          <p:nvPr/>
        </p:nvSpPr>
        <p:spPr>
          <a:xfrm>
            <a:off x="4427640" y="1916280"/>
            <a:ext cx="3097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9"/>
          <p:cNvSpPr/>
          <p:nvPr/>
        </p:nvSpPr>
        <p:spPr>
          <a:xfrm flipH="1">
            <a:off x="3708360" y="191628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0"/>
          <p:cNvSpPr/>
          <p:nvPr/>
        </p:nvSpPr>
        <p:spPr>
          <a:xfrm>
            <a:off x="4427640" y="1916280"/>
            <a:ext cx="86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1"/>
          <p:cNvSpPr/>
          <p:nvPr/>
        </p:nvSpPr>
        <p:spPr>
          <a:xfrm>
            <a:off x="2484360" y="4292640"/>
            <a:ext cx="187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2"/>
          <p:cNvSpPr/>
          <p:nvPr/>
        </p:nvSpPr>
        <p:spPr>
          <a:xfrm>
            <a:off x="2639520" y="436572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-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2484360" y="5013360"/>
            <a:ext cx="187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6"/>
          <p:cNvSpPr/>
          <p:nvPr/>
        </p:nvSpPr>
        <p:spPr>
          <a:xfrm>
            <a:off x="2493000" y="49928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-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>
            <a:off x="349236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>
            <a:off x="349236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9"/>
          <p:cNvSpPr/>
          <p:nvPr/>
        </p:nvSpPr>
        <p:spPr>
          <a:xfrm>
            <a:off x="3419640" y="551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6:14:03Z</dcterms:created>
  <dc:creator>Наталья</dc:creator>
  <dc:description/>
  <dc:language>en-US</dc:language>
  <cp:lastModifiedBy>pc</cp:lastModifiedBy>
  <cp:lastPrinted>2018-04-20T06:14:45Z</cp:lastPrinted>
  <dcterms:modified xsi:type="dcterms:W3CDTF">2023-06-01T12:27:45Z</dcterms:modified>
  <cp:revision>70</cp:revision>
  <dc:subject/>
  <dc:title>Билет №5</dc:title>
</cp:coreProperties>
</file>