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D0A8-0E55-48F1-84EE-393FD8742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6F31-0F44-4C41-BEFD-1DF73FA1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83EA-3730-4124-9771-15BB0D25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83EE-386B-4D3F-B8EC-9B4E0492A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5C07-F610-49E0-801F-EAFFEC23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C4C5-CC1B-4A18-A292-0A3B3C59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EA2A-CA04-4379-A0DF-8F357815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3547-3ACB-4B3F-A8C9-FCA5A293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F9D2-85BC-4DBB-BAF8-ADABF91F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C4F8-3498-40F1-B8FC-F9CA83B7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6872-6DE6-43EE-82C0-3512AAF9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CA24-DA14-4F80-AF68-5E78A9E9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C564-3693-40D8-9DC5-509443E160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ет №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1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Расскажи о материалах для малярных работ, их свойствах и примен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жи о связующих материалах  для водных и неводных соста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2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скажи о трудовом договоре, его содержании, сроках заключения. Перечисли документы, необходимые для заключения  трудового договора работниками предприят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1. Материалы для малярных раб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512640" y="533520"/>
          <a:ext cx="8675640" cy="6824520"/>
        </p:xfrm>
        <a:graphic>
          <a:graphicData uri="http://schemas.openxmlformats.org/drawingml/2006/table">
            <a:tbl>
              <a:tblPr/>
              <a:tblGrid>
                <a:gridCol w="1828080"/>
                <a:gridCol w="740160"/>
                <a:gridCol w="218880"/>
                <a:gridCol w="1296720"/>
                <a:gridCol w="1932120"/>
                <a:gridCol w="2659680"/>
              </a:tblGrid>
              <a:tr h="823320">
                <a:tc gridSpan="5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снов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спомогатель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 gridSpan="5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раски – это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спомогательные материалы - это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ккативы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стификаторы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ворители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ывки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бавители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одные           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невод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вязующ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полнит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игмен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это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это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это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4680">
                <a:tc>
                  <a:txBody>
                    <a:bodyPr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одных составов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неводных составов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олнителями служат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ют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патлев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рунтов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это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это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540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жат для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жат для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ующие вещества для водных и неводных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971640" y="1219320"/>
          <a:ext cx="8096040" cy="4759200"/>
        </p:xfrm>
        <a:graphic>
          <a:graphicData uri="http://schemas.openxmlformats.org/drawingml/2006/table">
            <a:tbl>
              <a:tblPr/>
              <a:tblGrid>
                <a:gridCol w="3643200"/>
                <a:gridCol w="4452840"/>
              </a:tblGrid>
              <a:tr h="533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Связующие – это …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одных состав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неводных состав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Известь -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Олифа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Цемент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Известняк, глина, доломи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мола натуральная            (янтарь) ….    –  лак натураль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Эмульсия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мола синтетическая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Клеи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Лак - синтетичес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8388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2. Трудовой дого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595440" y="811080"/>
            <a:ext cx="319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ой договор – это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этому договору -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843280" y="1484280"/>
            <a:ext cx="3529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ой дого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612720" y="2287440"/>
            <a:ext cx="1871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ыв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2556000" y="2276640"/>
            <a:ext cx="1871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4716360" y="2276640"/>
            <a:ext cx="1871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упает в си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6948360" y="2276640"/>
            <a:ext cx="1871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7169400" y="227664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566640" y="3321000"/>
            <a:ext cx="1778040" cy="29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Ф. И. О. работ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.И.О. …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…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…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…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…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…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…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…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2482920" y="3330720"/>
            <a:ext cx="201600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…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…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2411280" y="5850000"/>
            <a:ext cx="2087640" cy="674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одатель 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права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>
            <a:off x="4716360" y="3357720"/>
            <a:ext cx="1871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8"/>
          <p:cNvSpPr/>
          <p:nvPr/>
        </p:nvSpPr>
        <p:spPr>
          <a:xfrm>
            <a:off x="4716360" y="4508640"/>
            <a:ext cx="1871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9"/>
          <p:cNvSpPr/>
          <p:nvPr/>
        </p:nvSpPr>
        <p:spPr>
          <a:xfrm>
            <a:off x="4716360" y="5734080"/>
            <a:ext cx="1871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0"/>
          <p:cNvSpPr/>
          <p:nvPr/>
        </p:nvSpPr>
        <p:spPr>
          <a:xfrm>
            <a:off x="4753800" y="4573440"/>
            <a:ext cx="177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не оговор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-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1"/>
          <p:cNvSpPr/>
          <p:nvPr/>
        </p:nvSpPr>
        <p:spPr>
          <a:xfrm>
            <a:off x="4805280" y="5800680"/>
            <a:ext cx="181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аботник 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упил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2"/>
          <p:cNvSpPr/>
          <p:nvPr/>
        </p:nvSpPr>
        <p:spPr>
          <a:xfrm>
            <a:off x="6948360" y="3429000"/>
            <a:ext cx="1944720" cy="302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3" descr="Картинка 7 из 210"/>
          <p:cNvPicPr/>
          <p:nvPr/>
        </p:nvPicPr>
        <p:blipFill>
          <a:blip r:embed="rId1"/>
          <a:srcRect l="37571" t="0" r="2903" b="0"/>
          <a:stretch/>
        </p:blipFill>
        <p:spPr>
          <a:xfrm>
            <a:off x="7572240" y="2952720"/>
            <a:ext cx="1368720" cy="1800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4" descr=""/>
          <p:cNvPicPr/>
          <p:nvPr/>
        </p:nvPicPr>
        <p:blipFill>
          <a:blip r:embed="rId2"/>
          <a:stretch/>
        </p:blipFill>
        <p:spPr>
          <a:xfrm rot="1425000">
            <a:off x="6767280" y="2876400"/>
            <a:ext cx="950760" cy="1651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6" name="Picture 35" descr=""/>
          <p:cNvPicPr/>
          <p:nvPr/>
        </p:nvPicPr>
        <p:blipFill>
          <a:blip r:embed="rId3"/>
          <a:stretch/>
        </p:blipFill>
        <p:spPr>
          <a:xfrm>
            <a:off x="7947000" y="4167360"/>
            <a:ext cx="1008000" cy="1512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7" name="Picture 36" descr=""/>
          <p:cNvPicPr/>
          <p:nvPr/>
        </p:nvPicPr>
        <p:blipFill>
          <a:blip r:embed="rId4"/>
          <a:stretch/>
        </p:blipFill>
        <p:spPr>
          <a:xfrm rot="1023600">
            <a:off x="6784560" y="4095720"/>
            <a:ext cx="1093680" cy="1557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8" name="Picture 37" descr="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6989760" y="5210280"/>
            <a:ext cx="1955880" cy="143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Line 38"/>
          <p:cNvSpPr/>
          <p:nvPr/>
        </p:nvSpPr>
        <p:spPr>
          <a:xfrm>
            <a:off x="3492360" y="2708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1"/>
          <p:cNvSpPr/>
          <p:nvPr/>
        </p:nvSpPr>
        <p:spPr>
          <a:xfrm>
            <a:off x="1455840" y="269568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2"/>
          <p:cNvSpPr/>
          <p:nvPr/>
        </p:nvSpPr>
        <p:spPr>
          <a:xfrm>
            <a:off x="5580000" y="2708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3"/>
          <p:cNvSpPr/>
          <p:nvPr/>
        </p:nvSpPr>
        <p:spPr>
          <a:xfrm>
            <a:off x="5651640" y="4076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4"/>
          <p:cNvSpPr/>
          <p:nvPr/>
        </p:nvSpPr>
        <p:spPr>
          <a:xfrm>
            <a:off x="5724360" y="5229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7"/>
          <p:cNvSpPr/>
          <p:nvPr/>
        </p:nvSpPr>
        <p:spPr>
          <a:xfrm flipH="1">
            <a:off x="1258920" y="1916280"/>
            <a:ext cx="316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8"/>
          <p:cNvSpPr/>
          <p:nvPr/>
        </p:nvSpPr>
        <p:spPr>
          <a:xfrm>
            <a:off x="4427640" y="1916280"/>
            <a:ext cx="3097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9"/>
          <p:cNvSpPr/>
          <p:nvPr/>
        </p:nvSpPr>
        <p:spPr>
          <a:xfrm flipH="1">
            <a:off x="3708360" y="1916280"/>
            <a:ext cx="71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0"/>
          <p:cNvSpPr/>
          <p:nvPr/>
        </p:nvSpPr>
        <p:spPr>
          <a:xfrm>
            <a:off x="4427640" y="1916280"/>
            <a:ext cx="865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1"/>
          <p:cNvSpPr/>
          <p:nvPr/>
        </p:nvSpPr>
        <p:spPr>
          <a:xfrm>
            <a:off x="2484360" y="4292640"/>
            <a:ext cx="1871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2"/>
          <p:cNvSpPr/>
          <p:nvPr/>
        </p:nvSpPr>
        <p:spPr>
          <a:xfrm>
            <a:off x="2639520" y="436572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яется -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4"/>
          <p:cNvSpPr/>
          <p:nvPr/>
        </p:nvSpPr>
        <p:spPr>
          <a:xfrm>
            <a:off x="2484360" y="5013360"/>
            <a:ext cx="1871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6"/>
          <p:cNvSpPr/>
          <p:nvPr/>
        </p:nvSpPr>
        <p:spPr>
          <a:xfrm>
            <a:off x="2493000" y="499284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 -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7"/>
          <p:cNvSpPr/>
          <p:nvPr/>
        </p:nvSpPr>
        <p:spPr>
          <a:xfrm>
            <a:off x="349236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8"/>
          <p:cNvSpPr/>
          <p:nvPr/>
        </p:nvSpPr>
        <p:spPr>
          <a:xfrm>
            <a:off x="349236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9"/>
          <p:cNvSpPr/>
          <p:nvPr/>
        </p:nvSpPr>
        <p:spPr>
          <a:xfrm>
            <a:off x="3419640" y="551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06:14:03Z</dcterms:created>
  <dc:creator>Наталья</dc:creator>
  <dc:description/>
  <dc:language>en-US</dc:language>
  <cp:lastModifiedBy>pc</cp:lastModifiedBy>
  <cp:lastPrinted>2018-04-20T06:14:45Z</cp:lastPrinted>
  <dcterms:modified xsi:type="dcterms:W3CDTF">2023-06-01T12:27:45Z</dcterms:modified>
  <cp:revision>70</cp:revision>
  <dc:subject/>
  <dc:title>Билет №5</dc:title>
</cp:coreProperties>
</file>