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289-1200-46BE-9331-37EF5BD2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019-C219-4263-B8D5-477A6149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2B4-0041-48B5-B53E-5E98ACF1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2EE-649B-4EE5-84AD-E5BAE9B4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1A9-6C34-4E52-BE18-938E9548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72B-4BF0-4E8A-8565-BD53072F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019-CC7A-4BAA-B2FA-2A148F41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868-B534-4D07-8504-3145065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871-902D-40F4-B6E6-BD39935C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275-2B5F-4CDB-A911-9FA0CF0A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AE6-6085-4AA6-839A-339E8AE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11C-433B-4928-B5D5-DFAA731B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977C-19B3-4EB5-A9EA-51476D325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жи что такое обойные работы, назови материалы, состав и их свойства. Расскажи об инструментах для обойных ра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 подготовке вертикальных поверхностей под облицовку плиткой. Расскажи об облицовке вертикальных поверхност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817560" y="1495440"/>
            <a:ext cx="323208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.. имеют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.. являются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… украшают и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… служат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… защищают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… не требуют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4"/>
          <p:cNvSpPr/>
          <p:nvPr/>
        </p:nvSpPr>
        <p:spPr>
          <a:xfrm>
            <a:off x="611280" y="343080"/>
            <a:ext cx="8380440" cy="41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ойные работы – это…... Для изготовления обоев используют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380880" y="-2376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Обойные работы. Материалы для обойных работ. Свойства обо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789120" y="820800"/>
            <a:ext cx="829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Отделка поверхностей обоями имеет ряд преимуществ перед другими видами отделк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85880" y="3586320"/>
          <a:ext cx="3281400" cy="3024000"/>
        </p:xfrm>
        <a:graphic>
          <a:graphicData uri="http://schemas.openxmlformats.org/drawingml/2006/table">
            <a:tbl>
              <a:tblPr/>
              <a:tblGrid>
                <a:gridCol w="1555560"/>
                <a:gridCol w="1725840"/>
              </a:tblGrid>
              <a:tr h="45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ы обо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остав обо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TextBox 1"/>
          <p:cNvSpPr/>
          <p:nvPr/>
        </p:nvSpPr>
        <p:spPr>
          <a:xfrm>
            <a:off x="4794840" y="129528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ение обоев зависит от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475160" y="1868400"/>
          <a:ext cx="4438800" cy="4697640"/>
        </p:xfrm>
        <a:graphic>
          <a:graphicData uri="http://schemas.openxmlformats.org/drawingml/2006/table">
            <a:tbl>
              <a:tblPr/>
              <a:tblGrid>
                <a:gridCol w="1119240"/>
                <a:gridCol w="1185840"/>
                <a:gridCol w="1079640"/>
                <a:gridCol w="1054080"/>
              </a:tblGrid>
              <a:tr h="5065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войства обо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гостойкость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7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стойкость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нестойкость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68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ность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" name="Рисунок 17" descr="Похожее изображение"/>
          <p:cNvPicPr/>
          <p:nvPr/>
        </p:nvPicPr>
        <p:blipFill>
          <a:blip r:embed="rId1"/>
          <a:srcRect l="6701" t="4373" r="87072" b="88662"/>
          <a:stretch/>
        </p:blipFill>
        <p:spPr>
          <a:xfrm>
            <a:off x="4707000" y="3181320"/>
            <a:ext cx="655560" cy="658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8" descr="Похожее изображение"/>
          <p:cNvPicPr/>
          <p:nvPr/>
        </p:nvPicPr>
        <p:blipFill>
          <a:blip r:embed="rId2"/>
          <a:srcRect l="22236" t="5630" r="70384" b="89880"/>
          <a:stretch/>
        </p:blipFill>
        <p:spPr>
          <a:xfrm>
            <a:off x="5807160" y="3360600"/>
            <a:ext cx="834840" cy="358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9" descr="Похожее изображение"/>
          <p:cNvPicPr/>
          <p:nvPr/>
        </p:nvPicPr>
        <p:blipFill>
          <a:blip r:embed="rId3"/>
          <a:srcRect l="37213" t="5451" r="54753" b="88248"/>
          <a:stretch/>
        </p:blipFill>
        <p:spPr>
          <a:xfrm>
            <a:off x="6973920" y="3322800"/>
            <a:ext cx="774720" cy="504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0" descr="Похожее изображение"/>
          <p:cNvPicPr/>
          <p:nvPr/>
        </p:nvPicPr>
        <p:blipFill>
          <a:blip r:embed="rId4"/>
          <a:srcRect l="53209" t="4920" r="38700" b="88787"/>
          <a:stretch/>
        </p:blipFill>
        <p:spPr>
          <a:xfrm>
            <a:off x="7974000" y="3265560"/>
            <a:ext cx="863640" cy="547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Похожее изображение"/>
          <p:cNvPicPr/>
          <p:nvPr/>
        </p:nvPicPr>
        <p:blipFill>
          <a:blip r:embed="rId5"/>
          <a:srcRect l="21160" t="52827" r="70205" b="39497"/>
          <a:stretch/>
        </p:blipFill>
        <p:spPr>
          <a:xfrm>
            <a:off x="4665600" y="4726080"/>
            <a:ext cx="736560" cy="6062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2" descr="Похожее изображение"/>
          <p:cNvPicPr/>
          <p:nvPr/>
        </p:nvPicPr>
        <p:blipFill>
          <a:blip r:embed="rId6"/>
          <a:srcRect l="37028" t="52155" r="54375" b="39669"/>
          <a:stretch/>
        </p:blipFill>
        <p:spPr>
          <a:xfrm>
            <a:off x="5875200" y="4710240"/>
            <a:ext cx="700200" cy="596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3" descr="Похожее изображение"/>
          <p:cNvPicPr/>
          <p:nvPr/>
        </p:nvPicPr>
        <p:blipFill>
          <a:blip r:embed="rId7"/>
          <a:srcRect l="53684" t="52069" r="37732" b="38201"/>
          <a:stretch/>
        </p:blipFill>
        <p:spPr>
          <a:xfrm>
            <a:off x="7020000" y="4710240"/>
            <a:ext cx="684000" cy="520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4" descr="Похожее изображение"/>
          <p:cNvPicPr/>
          <p:nvPr/>
        </p:nvPicPr>
        <p:blipFill>
          <a:blip r:embed="rId8"/>
          <a:srcRect l="69321" t="51491" r="22056" b="37553"/>
          <a:stretch/>
        </p:blipFill>
        <p:spPr>
          <a:xfrm>
            <a:off x="8112240" y="4672080"/>
            <a:ext cx="668160" cy="558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266480" y="325440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Обои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для обой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870200" y="519120"/>
            <a:ext cx="71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изводства обойных работ использ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19200" y="1068480"/>
          <a:ext cx="8408880" cy="5610240"/>
        </p:xfrm>
        <a:graphic>
          <a:graphicData uri="http://schemas.openxmlformats.org/drawingml/2006/table">
            <a:tbl>
              <a:tblPr/>
              <a:tblGrid>
                <a:gridCol w="4102200"/>
                <a:gridCol w="4306680"/>
              </a:tblGrid>
              <a:tr h="671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Goudy Stout"/>
                        </a:rPr>
                        <a:t>Бордюры, фризы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Goudy Stout"/>
                        </a:rPr>
                        <a:t>Клеи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бываю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бываю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предназначе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предназначе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Рисунок 2" descr=""/>
          <p:cNvPicPr/>
          <p:nvPr/>
        </p:nvPicPr>
        <p:blipFill>
          <a:blip r:embed="rId1"/>
          <a:srcRect l="0" t="3790" r="0" b="34511"/>
          <a:stretch/>
        </p:blipFill>
        <p:spPr>
          <a:xfrm>
            <a:off x="932040" y="4330800"/>
            <a:ext cx="3579480" cy="2160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"/>
          <p:cNvPicPr/>
          <p:nvPr/>
        </p:nvPicPr>
        <p:blipFill>
          <a:blip r:embed="rId2"/>
          <a:stretch/>
        </p:blipFill>
        <p:spPr>
          <a:xfrm>
            <a:off x="949320" y="2867040"/>
            <a:ext cx="3579840" cy="1397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"/>
          <p:cNvPicPr/>
          <p:nvPr/>
        </p:nvPicPr>
        <p:blipFill>
          <a:blip r:embed="rId3"/>
          <a:stretch/>
        </p:blipFill>
        <p:spPr>
          <a:xfrm>
            <a:off x="4824360" y="2836800"/>
            <a:ext cx="41004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4720" y="620640"/>
          <a:ext cx="8639280" cy="5832720"/>
        </p:xfrm>
        <a:graphic>
          <a:graphicData uri="http://schemas.openxmlformats.org/drawingml/2006/table">
            <a:tbl>
              <a:tblPr/>
              <a:tblGrid>
                <a:gridCol w="2880000"/>
                <a:gridCol w="2879640"/>
                <a:gridCol w="2879640"/>
              </a:tblGrid>
              <a:tr h="22939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4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939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4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4"/>
          <p:cNvSpPr/>
          <p:nvPr/>
        </p:nvSpPr>
        <p:spPr>
          <a:xfrm>
            <a:off x="101520" y="63360"/>
            <a:ext cx="903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и инвентарь для производства обойных рабо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Похожее изображение"/>
          <p:cNvPicPr/>
          <p:nvPr/>
        </p:nvPicPr>
        <p:blipFill>
          <a:blip r:embed="rId1"/>
          <a:stretch/>
        </p:blipFill>
        <p:spPr>
          <a:xfrm>
            <a:off x="706320" y="923760"/>
            <a:ext cx="2621160" cy="192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Картинки по запросу Кисти для обойных работ"/>
          <p:cNvPicPr/>
          <p:nvPr/>
        </p:nvPicPr>
        <p:blipFill>
          <a:blip r:embed="rId2"/>
          <a:stretch/>
        </p:blipFill>
        <p:spPr>
          <a:xfrm>
            <a:off x="3489480" y="1052640"/>
            <a:ext cx="1914480" cy="1606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Картинки по запросу Кисти для обойных работ"/>
          <p:cNvPicPr/>
          <p:nvPr/>
        </p:nvPicPr>
        <p:blipFill>
          <a:blip r:embed="rId3"/>
          <a:stretch/>
        </p:blipFill>
        <p:spPr>
          <a:xfrm>
            <a:off x="6370560" y="939960"/>
            <a:ext cx="2441520" cy="175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Картинки по запросу контрольно измерительные материалы уровень отвес рулетка"/>
          <p:cNvPicPr/>
          <p:nvPr/>
        </p:nvPicPr>
        <p:blipFill>
          <a:blip r:embed="rId4"/>
          <a:stretch/>
        </p:blipFill>
        <p:spPr>
          <a:xfrm>
            <a:off x="2017800" y="3639960"/>
            <a:ext cx="1282680" cy="86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Картинки по запросу контрольно измерительные материалы уровень отвес рулетка"/>
          <p:cNvPicPr/>
          <p:nvPr/>
        </p:nvPicPr>
        <p:blipFill>
          <a:blip r:embed="rId5"/>
          <a:stretch/>
        </p:blipFill>
        <p:spPr>
          <a:xfrm>
            <a:off x="2104920" y="4921200"/>
            <a:ext cx="1170000" cy="7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://stroymasterkmv.ru/Graphics/38.jpg"/>
          <p:cNvPicPr/>
          <p:nvPr/>
        </p:nvPicPr>
        <p:blipFill>
          <a:blip r:embed="rId6"/>
          <a:stretch/>
        </p:blipFill>
        <p:spPr>
          <a:xfrm>
            <a:off x="3467160" y="3867120"/>
            <a:ext cx="2125440" cy="178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s://hanty-mansijsk.instrument-e.ru/wa-data/public/shop/products/68/59/75968/images/39663/39663.750x0.jpg"/>
          <p:cNvPicPr/>
          <p:nvPr/>
        </p:nvPicPr>
        <p:blipFill>
          <a:blip r:embed="rId7"/>
          <a:stretch/>
        </p:blipFill>
        <p:spPr>
          <a:xfrm>
            <a:off x="5568840" y="3770280"/>
            <a:ext cx="681120" cy="156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Картинки по запросу Валики прижимные"/>
          <p:cNvPicPr/>
          <p:nvPr/>
        </p:nvPicPr>
        <p:blipFill>
          <a:blip r:embed="rId8"/>
          <a:stretch/>
        </p:blipFill>
        <p:spPr>
          <a:xfrm>
            <a:off x="5527800" y="1073160"/>
            <a:ext cx="626760" cy="1541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"/>
          <p:cNvPicPr/>
          <p:nvPr/>
        </p:nvPicPr>
        <p:blipFill>
          <a:blip r:embed="rId9"/>
          <a:stretch/>
        </p:blipFill>
        <p:spPr>
          <a:xfrm>
            <a:off x="7588080" y="3787920"/>
            <a:ext cx="1516320" cy="183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http://mr-build.ru/wp-content/uploads/2017/10/razmetochnyj-instrument.jpg"/>
          <p:cNvPicPr/>
          <p:nvPr/>
        </p:nvPicPr>
        <p:blipFill>
          <a:blip r:embed="rId10"/>
          <a:stretch/>
        </p:blipFill>
        <p:spPr>
          <a:xfrm>
            <a:off x="600120" y="3787920"/>
            <a:ext cx="1589040" cy="1887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11"/>
          <a:stretch/>
        </p:blipFill>
        <p:spPr>
          <a:xfrm>
            <a:off x="6345360" y="4016520"/>
            <a:ext cx="1299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Объект 5" descr=""/>
          <p:cNvPicPr/>
          <p:nvPr/>
        </p:nvPicPr>
        <p:blipFill>
          <a:blip r:embed="rId1"/>
          <a:stretch/>
        </p:blipFill>
        <p:spPr>
          <a:xfrm>
            <a:off x="3433680" y="1973160"/>
            <a:ext cx="2530440" cy="220680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pic>
        <p:nvPicPr>
          <p:cNvPr id="79" name="Рисунок 6" descr=""/>
          <p:cNvPicPr/>
          <p:nvPr/>
        </p:nvPicPr>
        <p:blipFill>
          <a:blip r:embed="rId2"/>
          <a:stretch/>
        </p:blipFill>
        <p:spPr>
          <a:xfrm>
            <a:off x="636480" y="1957320"/>
            <a:ext cx="2513160" cy="223848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pic>
        <p:nvPicPr>
          <p:cNvPr id="80" name="Picture 4" descr="http://www.stroy-podskazka.ru/images/article/orig/2018/03/osobennosti-primeneniya-cementno-peschanyh-rastvorov-22.jpg"/>
          <p:cNvPicPr/>
          <p:nvPr/>
        </p:nvPicPr>
        <p:blipFill>
          <a:blip r:embed="rId3"/>
          <a:stretch/>
        </p:blipFill>
        <p:spPr>
          <a:xfrm>
            <a:off x="636480" y="4356000"/>
            <a:ext cx="2527560" cy="231768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pic>
        <p:nvPicPr>
          <p:cNvPr id="81" name="Рисунок 8" descr=""/>
          <p:cNvPicPr/>
          <p:nvPr/>
        </p:nvPicPr>
        <p:blipFill>
          <a:blip r:embed="rId4"/>
          <a:stretch/>
        </p:blipFill>
        <p:spPr>
          <a:xfrm>
            <a:off x="6219720" y="4357800"/>
            <a:ext cx="2540160" cy="233208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pic>
        <p:nvPicPr>
          <p:cNvPr id="82" name="Picture 4" descr="http://kvarremontnik.ru/wp-content/uploads/gruntovka-protsess.jpg"/>
          <p:cNvPicPr/>
          <p:nvPr/>
        </p:nvPicPr>
        <p:blipFill>
          <a:blip r:embed="rId5"/>
          <a:stretch/>
        </p:blipFill>
        <p:spPr>
          <a:xfrm>
            <a:off x="6253200" y="1957320"/>
            <a:ext cx="2471760" cy="222264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sp>
        <p:nvSpPr>
          <p:cNvPr id="83" name="Прямоугольник 9"/>
          <p:cNvSpPr/>
          <p:nvPr/>
        </p:nvSpPr>
        <p:spPr>
          <a:xfrm>
            <a:off x="181080" y="-7920"/>
            <a:ext cx="9037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Подготовка вертикальных поверхностей под облицовку плит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774720" y="55872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новное требование к поверхностям стен -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клонения от вертикали допускаютс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ачество облицовки зависит о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0" descr=""/>
          <p:cNvPicPr/>
          <p:nvPr/>
        </p:nvPicPr>
        <p:blipFill>
          <a:blip r:embed="rId6"/>
          <a:stretch/>
        </p:blipFill>
        <p:spPr>
          <a:xfrm>
            <a:off x="3433680" y="4344840"/>
            <a:ext cx="2530440" cy="233856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sp>
        <p:nvSpPr>
          <p:cNvPr id="86" name="TextBox 1"/>
          <p:cNvSpPr/>
          <p:nvPr/>
        </p:nvSpPr>
        <p:spPr>
          <a:xfrm>
            <a:off x="1755720" y="155736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оверхности состоит из опера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4"/>
          <p:cNvSpPr/>
          <p:nvPr/>
        </p:nvSpPr>
        <p:spPr>
          <a:xfrm>
            <a:off x="689040" y="3301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лицовку вертикальных поверхностей выполняют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тикальная поверхности должны быть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лицовочные работы начинают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07"/>
          <p:cNvPicPr/>
          <p:nvPr/>
        </p:nvPicPr>
        <p:blipFill>
          <a:blip r:embed="rId1"/>
          <a:stretch/>
        </p:blipFill>
        <p:spPr>
          <a:xfrm>
            <a:off x="609480" y="1566720"/>
            <a:ext cx="2000520" cy="15177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89" name="Picture 7" descr="07"/>
          <p:cNvPicPr/>
          <p:nvPr/>
        </p:nvPicPr>
        <p:blipFill>
          <a:blip r:embed="rId2"/>
          <a:stretch/>
        </p:blipFill>
        <p:spPr>
          <a:xfrm>
            <a:off x="2763720" y="1579680"/>
            <a:ext cx="1971720" cy="1517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0" name="Рисунок 8" descr=""/>
          <p:cNvPicPr/>
          <p:nvPr/>
        </p:nvPicPr>
        <p:blipFill>
          <a:blip r:embed="rId3"/>
          <a:stretch/>
        </p:blipFill>
        <p:spPr>
          <a:xfrm>
            <a:off x="4889520" y="1579680"/>
            <a:ext cx="2027160" cy="1539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1" name="Picture 4" descr="http://kvarremontnik.ru/wp-content/uploads/gruntovka-protsess.jpg"/>
          <p:cNvPicPr/>
          <p:nvPr/>
        </p:nvPicPr>
        <p:blipFill>
          <a:blip r:embed="rId4"/>
          <a:stretch/>
        </p:blipFill>
        <p:spPr>
          <a:xfrm>
            <a:off x="7070760" y="1581120"/>
            <a:ext cx="1969920" cy="1546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2" name="Рисунок 10" descr=""/>
          <p:cNvPicPr/>
          <p:nvPr/>
        </p:nvPicPr>
        <p:blipFill>
          <a:blip r:embed="rId5"/>
          <a:stretch/>
        </p:blipFill>
        <p:spPr>
          <a:xfrm>
            <a:off x="587520" y="3376440"/>
            <a:ext cx="2016000" cy="1570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3" name="Picture 6" descr="https://piorit.ru/uploads/45a-plitka-pol19.jpg"/>
          <p:cNvPicPr/>
          <p:nvPr/>
        </p:nvPicPr>
        <p:blipFill>
          <a:blip r:embed="rId6"/>
          <a:stretch/>
        </p:blipFill>
        <p:spPr>
          <a:xfrm>
            <a:off x="2763720" y="3368520"/>
            <a:ext cx="1971720" cy="1570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4" name="Рисунок 12" descr=""/>
          <p:cNvPicPr/>
          <p:nvPr/>
        </p:nvPicPr>
        <p:blipFill>
          <a:blip r:embed="rId7"/>
          <a:stretch/>
        </p:blipFill>
        <p:spPr>
          <a:xfrm>
            <a:off x="7077240" y="3343320"/>
            <a:ext cx="1969920" cy="15699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5" name="Picture 8" descr="http://www.stroy-podskazka.ru/images/article/orig/2018/01/zachem-nuzhny-krestiki-dlya-plitki-54.jpg"/>
          <p:cNvPicPr/>
          <p:nvPr/>
        </p:nvPicPr>
        <p:blipFill>
          <a:blip r:embed="rId8"/>
          <a:stretch/>
        </p:blipFill>
        <p:spPr>
          <a:xfrm>
            <a:off x="2763720" y="5140440"/>
            <a:ext cx="1981440" cy="15811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6" name="Рисунок 1" descr=""/>
          <p:cNvPicPr/>
          <p:nvPr/>
        </p:nvPicPr>
        <p:blipFill>
          <a:blip r:embed="rId9"/>
          <a:stretch/>
        </p:blipFill>
        <p:spPr>
          <a:xfrm>
            <a:off x="539640" y="5140440"/>
            <a:ext cx="2063880" cy="15811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7" name="Рисунок 17" descr=""/>
          <p:cNvPicPr/>
          <p:nvPr/>
        </p:nvPicPr>
        <p:blipFill>
          <a:blip r:embed="rId10"/>
          <a:stretch/>
        </p:blipFill>
        <p:spPr>
          <a:xfrm>
            <a:off x="4902120" y="3351240"/>
            <a:ext cx="2014560" cy="1566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98" name="Прямоугольник 21"/>
          <p:cNvSpPr/>
          <p:nvPr/>
        </p:nvSpPr>
        <p:spPr>
          <a:xfrm>
            <a:off x="539640" y="2052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овка  вертикальных поверх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3" descr=""/>
          <p:cNvPicPr/>
          <p:nvPr/>
        </p:nvPicPr>
        <p:blipFill>
          <a:blip r:embed="rId11"/>
          <a:srcRect l="66734" t="15349" r="1395" b="62791"/>
          <a:stretch/>
        </p:blipFill>
        <p:spPr>
          <a:xfrm>
            <a:off x="7070760" y="5141880"/>
            <a:ext cx="1969920" cy="909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0" name="Рисунок 24" descr=""/>
          <p:cNvPicPr/>
          <p:nvPr/>
        </p:nvPicPr>
        <p:blipFill>
          <a:blip r:embed="rId12"/>
          <a:srcRect l="63701" t="58232" r="4372" b="14003"/>
          <a:stretch/>
        </p:blipFill>
        <p:spPr>
          <a:xfrm>
            <a:off x="7070760" y="6075360"/>
            <a:ext cx="1969920" cy="6825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1" name="Рисунок 1" descr=""/>
          <p:cNvPicPr/>
          <p:nvPr/>
        </p:nvPicPr>
        <p:blipFill>
          <a:blip r:embed="rId13"/>
          <a:stretch/>
        </p:blipFill>
        <p:spPr>
          <a:xfrm>
            <a:off x="4902120" y="5141880"/>
            <a:ext cx="2011320" cy="1579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02" name="Прямоугольник 1"/>
          <p:cNvSpPr/>
          <p:nvPr/>
        </p:nvSpPr>
        <p:spPr>
          <a:xfrm>
            <a:off x="632880" y="1149480"/>
            <a:ext cx="79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овка  вертикальных поверхностей состоит из следующих опера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30:29Z</dcterms:created>
  <dc:creator>Наталья</dc:creator>
  <dc:description/>
  <dc:language>en-US</dc:language>
  <cp:lastModifiedBy>Учитель</cp:lastModifiedBy>
  <dcterms:modified xsi:type="dcterms:W3CDTF">2023-06-01T09:23:46Z</dcterms:modified>
  <cp:revision>109</cp:revision>
  <dc:subject/>
  <dc:title>Билет №6</dc:title>
</cp:coreProperties>
</file>