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7E7-9675-484B-9B1B-9F722D44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7C5-7269-4BCB-9894-7AF787AA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E93-B126-4F78-8701-0844B8B7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E6C-9965-437C-A720-7C02042C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0CF-52E4-4BE9-9367-E6A3C89E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2FF-639B-4E39-9800-A0669213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861-EC38-4DCD-8282-B938053D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E5D-D3C1-4128-9827-2D62214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2FF-0E6D-4865-A1F0-EAC4BBB0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668-9DE5-4869-923E-4B0244B0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3EA-9985-463E-92ED-C5A2808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C71-5367-4AEE-ACE8-15C5226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B1A7-E6F5-4AE0-AC58-4745F3EC7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шпатлевании поверхности ручными шпателями, об инструментах и материалах для шпатлевания. Расскажи о том, что должен знать и уметь маляр 2-го раз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№2.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краскопульте. Расскажи о правилах работы краскопультом. Расскажи о неисправностях краскопульта и о способах их ис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75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Шпатлевание поверхности ручными шп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571680"/>
          <a:ext cx="8532720" cy="6141960"/>
        </p:xfrm>
        <a:graphic>
          <a:graphicData uri="http://schemas.openxmlformats.org/drawingml/2006/table">
            <a:tbl>
              <a:tblPr/>
              <a:tblGrid>
                <a:gridCol w="2087640"/>
                <a:gridCol w="2233440"/>
                <a:gridCol w="4211640"/>
              </a:tblGrid>
              <a:tr h="76716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левание – эт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ачества шпаклевания зависи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я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шпаклевк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ка должна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шпатлевания                                          1 … . 2 … . 3 …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4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 шпатлевания      использую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состоя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бываю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работой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9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шпатлевания       использую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ка – это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 состоит из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етс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работой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ание выполняют та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58" descr="10"/>
          <p:cNvPicPr/>
          <p:nvPr/>
        </p:nvPicPr>
        <p:blipFill>
          <a:blip r:embed="rId1"/>
          <a:stretch/>
        </p:blipFill>
        <p:spPr>
          <a:xfrm>
            <a:off x="5086440" y="5267160"/>
            <a:ext cx="1838160" cy="126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Picture 63" descr="0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556320" y="595440"/>
            <a:ext cx="1244520" cy="115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" name="Picture 64" descr="09"/>
          <p:cNvPicPr/>
          <p:nvPr/>
        </p:nvPicPr>
        <p:blipFill>
          <a:blip r:embed="rId3"/>
          <a:srcRect l="0" t="0" r="0" b="-1393"/>
          <a:stretch/>
        </p:blipFill>
        <p:spPr>
          <a:xfrm>
            <a:off x="5172120" y="1913040"/>
            <a:ext cx="1239840" cy="110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" name="Picture 65" descr="09"/>
          <p:cNvPicPr/>
          <p:nvPr/>
        </p:nvPicPr>
        <p:blipFill>
          <a:blip r:embed="rId4"/>
          <a:stretch/>
        </p:blipFill>
        <p:spPr>
          <a:xfrm>
            <a:off x="7880400" y="614520"/>
            <a:ext cx="1258920" cy="117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9" name="Picture 66" descr="10"/>
          <p:cNvPicPr/>
          <p:nvPr/>
        </p:nvPicPr>
        <p:blipFill>
          <a:blip r:embed="rId5"/>
          <a:stretch/>
        </p:blipFill>
        <p:spPr>
          <a:xfrm>
            <a:off x="6507000" y="1893960"/>
            <a:ext cx="1270080" cy="11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67" descr="10"/>
          <p:cNvPicPr/>
          <p:nvPr/>
        </p:nvPicPr>
        <p:blipFill>
          <a:blip r:embed="rId6"/>
          <a:stretch/>
        </p:blipFill>
        <p:spPr>
          <a:xfrm>
            <a:off x="7872480" y="1908000"/>
            <a:ext cx="1241280" cy="11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" name="Picture 69" descr="680702BC"/>
          <p:cNvPicPr/>
          <p:nvPr/>
        </p:nvPicPr>
        <p:blipFill>
          <a:blip r:embed="rId7"/>
          <a:stretch/>
        </p:blipFill>
        <p:spPr>
          <a:xfrm>
            <a:off x="5067360" y="4002120"/>
            <a:ext cx="1930320" cy="1104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Picture 70" descr="8FC435C6"/>
          <p:cNvPicPr/>
          <p:nvPr/>
        </p:nvPicPr>
        <p:blipFill>
          <a:blip r:embed="rId8"/>
          <a:stretch/>
        </p:blipFill>
        <p:spPr>
          <a:xfrm>
            <a:off x="8118360" y="4002120"/>
            <a:ext cx="966960" cy="112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3" name="TextBox 15"/>
          <p:cNvSpPr/>
          <p:nvPr/>
        </p:nvSpPr>
        <p:spPr>
          <a:xfrm>
            <a:off x="6122880" y="533088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789440" y="531324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5502240" y="53244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9"/>
          <a:stretch/>
        </p:blipFill>
        <p:spPr>
          <a:xfrm>
            <a:off x="2843280" y="2259000"/>
            <a:ext cx="1977840" cy="1363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10"/>
          <a:stretch/>
        </p:blipFill>
        <p:spPr>
          <a:xfrm>
            <a:off x="2919240" y="3895560"/>
            <a:ext cx="1901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11"/>
          <a:stretch/>
        </p:blipFill>
        <p:spPr>
          <a:xfrm>
            <a:off x="8118360" y="5267160"/>
            <a:ext cx="966960" cy="126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57" descr="S8005326"/>
          <p:cNvPicPr/>
          <p:nvPr/>
        </p:nvPicPr>
        <p:blipFill>
          <a:blip r:embed="rId12"/>
          <a:stretch/>
        </p:blipFill>
        <p:spPr>
          <a:xfrm>
            <a:off x="7023240" y="5272200"/>
            <a:ext cx="1068120" cy="12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" name="Picture 70" descr="8FC435C6"/>
          <p:cNvPicPr/>
          <p:nvPr/>
        </p:nvPicPr>
        <p:blipFill>
          <a:blip r:embed="rId13"/>
          <a:stretch/>
        </p:blipFill>
        <p:spPr>
          <a:xfrm>
            <a:off x="7078680" y="4005360"/>
            <a:ext cx="992160" cy="109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3520" y="123480"/>
            <a:ext cx="792468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 2-го разряда должен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80172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40640" indent="-356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ие сведения о выполнении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ы подготовки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ы и назначение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авила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stroydvor2002.ru/components/com_jshopping/files/img_products/full_img31390_35039_big.jpg"/>
          <p:cNvPicPr/>
          <p:nvPr/>
        </p:nvPicPr>
        <p:blipFill>
          <a:blip r:embed="rId1"/>
          <a:srcRect l="11391" t="9653" r="11414" b="13146"/>
          <a:stretch/>
        </p:blipFill>
        <p:spPr>
          <a:xfrm>
            <a:off x="4827600" y="1384200"/>
            <a:ext cx="1179360" cy="1181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tretch/>
        </p:blipFill>
        <p:spPr>
          <a:xfrm>
            <a:off x="6172200" y="1324080"/>
            <a:ext cx="1214280" cy="1241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3"/>
          <a:srcRect l="26898" t="3588" r="27722" b="0"/>
          <a:stretch/>
        </p:blipFill>
        <p:spPr>
          <a:xfrm>
            <a:off x="7693200" y="1120680"/>
            <a:ext cx="1266480" cy="175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4"/>
          <a:srcRect l="15411" t="0" r="11198" b="0"/>
          <a:stretch/>
        </p:blipFill>
        <p:spPr>
          <a:xfrm>
            <a:off x="728640" y="1209600"/>
            <a:ext cx="1008000" cy="1374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5"/>
          <a:srcRect l="23627" t="686" r="0" b="0"/>
          <a:stretch/>
        </p:blipFill>
        <p:spPr>
          <a:xfrm>
            <a:off x="3114720" y="1312920"/>
            <a:ext cx="1560600" cy="1252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"/>
          <p:cNvPicPr/>
          <p:nvPr/>
        </p:nvPicPr>
        <p:blipFill>
          <a:blip r:embed="rId6"/>
          <a:srcRect l="0" t="0" r="7411" b="0"/>
          <a:stretch/>
        </p:blipFill>
        <p:spPr>
          <a:xfrm>
            <a:off x="1832040" y="1198440"/>
            <a:ext cx="1092240" cy="1379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7"/>
          <a:srcRect l="3056" t="15057" r="1683" b="5914"/>
          <a:stretch/>
        </p:blipFill>
        <p:spPr>
          <a:xfrm>
            <a:off x="3565440" y="4275000"/>
            <a:ext cx="2592360" cy="1513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8"/>
          <a:srcRect l="5896" t="10103" r="10633" b="14301"/>
          <a:stretch/>
        </p:blipFill>
        <p:spPr>
          <a:xfrm>
            <a:off x="6189840" y="3500280"/>
            <a:ext cx="18889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00000" y="1268280"/>
          <a:ext cx="8116920" cy="5113440"/>
        </p:xfrm>
        <a:graphic>
          <a:graphicData uri="http://schemas.openxmlformats.org/drawingml/2006/table">
            <a:tbl>
              <a:tblPr/>
              <a:tblGrid>
                <a:gridCol w="2232000"/>
                <a:gridCol w="2192400"/>
                <a:gridCol w="1873440"/>
                <a:gridCol w="1819080"/>
              </a:tblGrid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39" descr="Копия (2) IMG_0013"/>
          <p:cNvPicPr/>
          <p:nvPr/>
        </p:nvPicPr>
        <p:blipFill>
          <a:blip r:embed="rId1"/>
          <a:stretch/>
        </p:blipFill>
        <p:spPr>
          <a:xfrm>
            <a:off x="971640" y="1533600"/>
            <a:ext cx="2076480" cy="186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5" descr="09"/>
          <p:cNvPicPr/>
          <p:nvPr/>
        </p:nvPicPr>
        <p:blipFill>
          <a:blip r:embed="rId2"/>
          <a:stretch/>
        </p:blipFill>
        <p:spPr>
          <a:xfrm>
            <a:off x="5423040" y="1533600"/>
            <a:ext cx="1307880" cy="186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3"/>
          <a:stretch/>
        </p:blipFill>
        <p:spPr>
          <a:xfrm>
            <a:off x="6491160" y="1521000"/>
            <a:ext cx="1433520" cy="1863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" name="Picture 37" descr="Рисунок12"/>
          <p:cNvPicPr/>
          <p:nvPr/>
        </p:nvPicPr>
        <p:blipFill>
          <a:blip r:embed="rId4"/>
          <a:stretch/>
        </p:blipFill>
        <p:spPr>
          <a:xfrm>
            <a:off x="7773840" y="1521000"/>
            <a:ext cx="1217880" cy="186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09"/>
          <p:cNvPicPr/>
          <p:nvPr/>
        </p:nvPicPr>
        <p:blipFill>
          <a:blip r:embed="rId5"/>
          <a:stretch/>
        </p:blipFill>
        <p:spPr>
          <a:xfrm>
            <a:off x="960480" y="4172040"/>
            <a:ext cx="998640" cy="193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7" descr=""/>
          <p:cNvPicPr/>
          <p:nvPr/>
        </p:nvPicPr>
        <p:blipFill>
          <a:blip r:embed="rId6"/>
          <a:stretch/>
        </p:blipFill>
        <p:spPr>
          <a:xfrm>
            <a:off x="3174840" y="4172040"/>
            <a:ext cx="1152720" cy="193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4" descr=""/>
          <p:cNvPicPr/>
          <p:nvPr/>
        </p:nvPicPr>
        <p:blipFill>
          <a:blip r:embed="rId7"/>
          <a:stretch/>
        </p:blipFill>
        <p:spPr>
          <a:xfrm>
            <a:off x="5407200" y="4172040"/>
            <a:ext cx="1726920" cy="1968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"/>
          <p:cNvPicPr/>
          <p:nvPr/>
        </p:nvPicPr>
        <p:blipFill>
          <a:blip r:embed="rId8"/>
          <a:stretch/>
        </p:blipFill>
        <p:spPr>
          <a:xfrm>
            <a:off x="7251840" y="4194000"/>
            <a:ext cx="1674720" cy="196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2" descr=""/>
          <p:cNvPicPr/>
          <p:nvPr/>
        </p:nvPicPr>
        <p:blipFill>
          <a:blip r:embed="rId9"/>
          <a:stretch/>
        </p:blipFill>
        <p:spPr>
          <a:xfrm>
            <a:off x="1859040" y="4191120"/>
            <a:ext cx="1187280" cy="1935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5"/>
          <p:cNvSpPr/>
          <p:nvPr/>
        </p:nvSpPr>
        <p:spPr>
          <a:xfrm>
            <a:off x="2290680" y="42372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 2-го разряда должен уме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4" descr=""/>
          <p:cNvPicPr/>
          <p:nvPr/>
        </p:nvPicPr>
        <p:blipFill>
          <a:blip r:embed="rId10"/>
          <a:stretch/>
        </p:blipFill>
        <p:spPr>
          <a:xfrm>
            <a:off x="3182760" y="1546200"/>
            <a:ext cx="2016360" cy="186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9" descr="10"/>
          <p:cNvPicPr/>
          <p:nvPr/>
        </p:nvPicPr>
        <p:blipFill>
          <a:blip r:embed="rId11"/>
          <a:stretch/>
        </p:blipFill>
        <p:spPr>
          <a:xfrm>
            <a:off x="4211640" y="4172040"/>
            <a:ext cx="1038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8005284"/>
          <p:cNvPicPr/>
          <p:nvPr/>
        </p:nvPicPr>
        <p:blipFill>
          <a:blip r:embed="rId1"/>
          <a:stretch/>
        </p:blipFill>
        <p:spPr>
          <a:xfrm>
            <a:off x="755640" y="1341360"/>
            <a:ext cx="8388360" cy="551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755640" y="47628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опульт – это …   Преимущества работы – 1… , 2 … Окрашивают составами …    Составы нужно … .  Краскопульт состоит из …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925280" y="-4752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  Ручной краскоп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846160" y="64864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974160" y="45086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3419640" y="2205000"/>
            <a:ext cx="143964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520720" cy="15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74560" y="4676760"/>
            <a:ext cx="360072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4" descr="S8005332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373640" y="4165560"/>
            <a:ext cx="1803240" cy="198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Text Box 5"/>
          <p:cNvSpPr/>
          <p:nvPr/>
        </p:nvSpPr>
        <p:spPr>
          <a:xfrm>
            <a:off x="900000" y="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с краскопуль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6720" y="4014720"/>
            <a:ext cx="462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ложения форсунки относите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крашиваемой поверх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520680" y="549360"/>
            <a:ext cx="243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ередвижение уд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поверх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457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42880" y="50796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аботе допускаются … .  Маляры должны быть в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защищают … . Перед работой проверяют  … … . Принцип работы следующий …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377760" y="299736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ход за краскопуль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222800" y="6237360"/>
            <a:ext cx="26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даление поте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S8005729"/>
          <p:cNvPicPr/>
          <p:nvPr/>
        </p:nvPicPr>
        <p:blipFill>
          <a:blip r:embed="rId4"/>
          <a:stretch/>
        </p:blipFill>
        <p:spPr>
          <a:xfrm>
            <a:off x="6300720" y="3500280"/>
            <a:ext cx="2684520" cy="314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13" descr="S8005732"/>
          <p:cNvPicPr/>
          <p:nvPr/>
        </p:nvPicPr>
        <p:blipFill>
          <a:blip r:embed="rId5"/>
          <a:stretch/>
        </p:blipFill>
        <p:spPr>
          <a:xfrm>
            <a:off x="684360" y="1425600"/>
            <a:ext cx="525600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исправности краскопульта, причины появления и способы их уст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836640"/>
          <a:ext cx="8610480" cy="5481720"/>
        </p:xfrm>
        <a:graphic>
          <a:graphicData uri="http://schemas.openxmlformats.org/drawingml/2006/table">
            <a:tbl>
              <a:tblPr/>
              <a:tblGrid>
                <a:gridCol w="4190760"/>
                <a:gridCol w="2133720"/>
                <a:gridCol w="22860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испра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у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орился филь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орилась форсу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давления в насо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 герметизации 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анг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тянуты зажимные гай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очный соста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с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5:49:40Z</dcterms:created>
  <dc:creator>Наталья</dc:creator>
  <dc:description/>
  <dc:language>en-US</dc:language>
  <cp:lastModifiedBy>Учитель</cp:lastModifiedBy>
  <cp:lastPrinted>2021-04-20T06:27:44Z</cp:lastPrinted>
  <dcterms:modified xsi:type="dcterms:W3CDTF">2023-06-01T09:27:42Z</dcterms:modified>
  <cp:revision>84</cp:revision>
  <dc:subject/>
  <dc:title>Билет №7</dc:title>
</cp:coreProperties>
</file>