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D63-F68F-4C4C-AAEE-CA09B0AF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624-A248-451C-B05B-167AF385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97F-D5EC-428B-90FA-D3C8226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C33-DAC7-43CB-9DB4-F1AC9711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362-3D34-450F-8C78-2433BBB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4AD-7FA1-4183-AE67-FEBAB4CE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74E-AD60-4856-ABA3-FC7CFD0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A7E-C6A6-442A-97B1-7814EB6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4E4-C1EA-4CF5-A48B-F561EC8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72F-CC41-4F87-A86A-24F0ADB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BDF-37F7-48FE-94F0-B870F78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BCE-E257-488D-8271-937BAA6E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bb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8BB-F26E-4A2A-8538-4A4E71352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сскажи о видах строительных работ, об индустриализации и механизации строительного производства. Расскажи о правилах работы ма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подготовке поверхности под оклейку обоями, о последовательности оклеивания поверхности и о правилах безопасной работы маляра при обойны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1476360" y="765000"/>
            <a:ext cx="6264360" cy="649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о-монтаж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3960" y="2003400"/>
            <a:ext cx="26640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341520" y="1976400"/>
            <a:ext cx="26640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ем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156360" y="1989000"/>
            <a:ext cx="29527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оч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6280" y="2916360"/>
            <a:ext cx="2663640" cy="129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Б и Ж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М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Г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311640" y="2887560"/>
            <a:ext cx="2628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К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С-Т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156360" y="2924280"/>
            <a:ext cx="295272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, Ш р, О р, М р, О 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619280" y="4508640"/>
            <a:ext cx="3240000" cy="792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С-ТО… . ЭМр- … . МТО -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76280" y="5589720"/>
            <a:ext cx="84168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зочно-разгрузочные и транспорт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4"/>
          <p:cNvSpPr/>
          <p:nvPr/>
        </p:nvSpPr>
        <p:spPr>
          <a:xfrm flipH="1">
            <a:off x="2050560" y="1407960"/>
            <a:ext cx="2622600" cy="57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>
            <a:off x="4694400" y="14144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4643280" y="1398600"/>
            <a:ext cx="2953080" cy="59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7"/>
          <p:cNvSpPr/>
          <p:nvPr/>
        </p:nvSpPr>
        <p:spPr>
          <a:xfrm>
            <a:off x="1819440" y="2492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4694400" y="24796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2"/>
          <p:cNvSpPr/>
          <p:nvPr/>
        </p:nvSpPr>
        <p:spPr>
          <a:xfrm flipV="1">
            <a:off x="1476360" y="4221000"/>
            <a:ext cx="0" cy="13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4"/>
          <p:cNvSpPr/>
          <p:nvPr/>
        </p:nvSpPr>
        <p:spPr>
          <a:xfrm flipV="1">
            <a:off x="7740720" y="4255560"/>
            <a:ext cx="0" cy="133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7"/>
          <p:cNvSpPr/>
          <p:nvPr/>
        </p:nvSpPr>
        <p:spPr>
          <a:xfrm flipV="1">
            <a:off x="2340000" y="4220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3635280" y="4220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9"/>
          <p:cNvSpPr/>
          <p:nvPr/>
        </p:nvSpPr>
        <p:spPr>
          <a:xfrm flipV="1">
            <a:off x="5003640" y="4221000"/>
            <a:ext cx="0" cy="13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0"/>
          <p:cNvSpPr/>
          <p:nvPr/>
        </p:nvSpPr>
        <p:spPr>
          <a:xfrm flipV="1">
            <a:off x="3059280" y="530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1"/>
          <p:cNvSpPr/>
          <p:nvPr/>
        </p:nvSpPr>
        <p:spPr>
          <a:xfrm flipV="1">
            <a:off x="4498920" y="4255920"/>
            <a:ext cx="2590920" cy="84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231840" y="651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Виды строительных рабо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1014840" y="614052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7740720" y="25052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изация и механизация строите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84132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устриализация строительного производства – это …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устриализация строительного производства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     Механизация строи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изводства – это 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     Для механизации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оительного  производ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меня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8005302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994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826920" y="4484520"/>
            <a:ext cx="3457800" cy="176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1712880"/>
          <a:ext cx="8532720" cy="4930920"/>
        </p:xfrm>
        <a:graphic>
          <a:graphicData uri="http://schemas.openxmlformats.org/drawingml/2006/table">
            <a:tbl>
              <a:tblPr/>
              <a:tblGrid>
                <a:gridCol w="2224080"/>
                <a:gridCol w="2103480"/>
                <a:gridCol w="2101680"/>
                <a:gridCol w="2103480"/>
              </a:tblGrid>
              <a:tr h="252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45" descr="09"/>
          <p:cNvPicPr/>
          <p:nvPr/>
        </p:nvPicPr>
        <p:blipFill>
          <a:blip r:embed="rId1"/>
          <a:stretch/>
        </p:blipFill>
        <p:spPr>
          <a:xfrm>
            <a:off x="749160" y="1865160"/>
            <a:ext cx="1967040" cy="222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7" descr=""/>
          <p:cNvPicPr/>
          <p:nvPr/>
        </p:nvPicPr>
        <p:blipFill>
          <a:blip r:embed="rId2"/>
          <a:stretch/>
        </p:blipFill>
        <p:spPr>
          <a:xfrm>
            <a:off x="2982960" y="1868400"/>
            <a:ext cx="1895400" cy="223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8" descr=""/>
          <p:cNvPicPr/>
          <p:nvPr/>
        </p:nvPicPr>
        <p:blipFill>
          <a:blip r:embed="rId3"/>
          <a:stretch/>
        </p:blipFill>
        <p:spPr>
          <a:xfrm>
            <a:off x="5076720" y="1879560"/>
            <a:ext cx="188280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9" descr="10"/>
          <p:cNvPicPr/>
          <p:nvPr/>
        </p:nvPicPr>
        <p:blipFill>
          <a:blip r:embed="rId4"/>
          <a:stretch/>
        </p:blipFill>
        <p:spPr>
          <a:xfrm>
            <a:off x="7205760" y="1838160"/>
            <a:ext cx="1919160" cy="219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0" descr=""/>
          <p:cNvPicPr/>
          <p:nvPr/>
        </p:nvPicPr>
        <p:blipFill>
          <a:blip r:embed="rId5"/>
          <a:stretch/>
        </p:blipFill>
        <p:spPr>
          <a:xfrm>
            <a:off x="693720" y="4321080"/>
            <a:ext cx="19638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3" descr="10"/>
          <p:cNvPicPr/>
          <p:nvPr/>
        </p:nvPicPr>
        <p:blipFill>
          <a:blip r:embed="rId6"/>
          <a:stretch/>
        </p:blipFill>
        <p:spPr>
          <a:xfrm>
            <a:off x="5054760" y="4307040"/>
            <a:ext cx="1850760" cy="22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"/>
          <p:cNvPicPr/>
          <p:nvPr/>
        </p:nvPicPr>
        <p:blipFill>
          <a:blip r:embed="rId7"/>
          <a:stretch/>
        </p:blipFill>
        <p:spPr>
          <a:xfrm>
            <a:off x="7097760" y="4307040"/>
            <a:ext cx="19382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S8005326"/>
          <p:cNvPicPr/>
          <p:nvPr/>
        </p:nvPicPr>
        <p:blipFill>
          <a:blip r:embed="rId8"/>
          <a:stretch/>
        </p:blipFill>
        <p:spPr>
          <a:xfrm>
            <a:off x="2959200" y="4321080"/>
            <a:ext cx="1890720" cy="22273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590400" y="198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Расскажи о подготовке поверхности под оклейку обо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1490760" y="811080"/>
            <a:ext cx="753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Цели подготовки поверхности под оклейку обо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   2…     3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оклеивания вертикальных поверхностей обо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622240" y="351000"/>
            <a:ext cx="438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и оклейки поверхности обоями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….    2…..   3…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11280" y="14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9960" y="1065240"/>
          <a:ext cx="8353440" cy="5715000"/>
        </p:xfrm>
        <a:graphic>
          <a:graphicData uri="http://schemas.openxmlformats.org/drawingml/2006/table">
            <a:tbl>
              <a:tblPr/>
              <a:tblGrid>
                <a:gridCol w="2193840"/>
                <a:gridCol w="2036880"/>
                <a:gridCol w="2062080"/>
                <a:gridCol w="2060640"/>
              </a:tblGrid>
              <a:tr h="19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6" name="Рисунок 8" descr=""/>
          <p:cNvPicPr/>
          <p:nvPr/>
        </p:nvPicPr>
        <p:blipFill>
          <a:blip r:embed="rId1"/>
          <a:stretch/>
        </p:blipFill>
        <p:spPr>
          <a:xfrm>
            <a:off x="797040" y="1231920"/>
            <a:ext cx="194292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"/>
          <p:cNvPicPr/>
          <p:nvPr/>
        </p:nvPicPr>
        <p:blipFill>
          <a:blip r:embed="rId2"/>
          <a:stretch/>
        </p:blipFill>
        <p:spPr>
          <a:xfrm>
            <a:off x="2890800" y="1139760"/>
            <a:ext cx="1924200" cy="1662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3"/>
          <a:stretch/>
        </p:blipFill>
        <p:spPr>
          <a:xfrm>
            <a:off x="5078520" y="1162080"/>
            <a:ext cx="1557360" cy="1649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4">
            <a:lum contrast="40000"/>
          </a:blip>
          <a:srcRect l="0" t="0" r="54339" b="0"/>
          <a:stretch/>
        </p:blipFill>
        <p:spPr>
          <a:xfrm>
            <a:off x="6980400" y="4959360"/>
            <a:ext cx="1906560" cy="1665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"/>
          <p:cNvPicPr/>
          <p:nvPr/>
        </p:nvPicPr>
        <p:blipFill>
          <a:blip r:embed="rId5"/>
          <a:stretch/>
        </p:blipFill>
        <p:spPr>
          <a:xfrm>
            <a:off x="2913120" y="3040200"/>
            <a:ext cx="1915920" cy="1726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6"/>
          <a:stretch/>
        </p:blipFill>
        <p:spPr>
          <a:xfrm>
            <a:off x="797040" y="4948200"/>
            <a:ext cx="19429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7"/>
          <a:stretch/>
        </p:blipFill>
        <p:spPr>
          <a:xfrm>
            <a:off x="7015320" y="1141560"/>
            <a:ext cx="187164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8"/>
          <a:stretch/>
        </p:blipFill>
        <p:spPr>
          <a:xfrm>
            <a:off x="7015320" y="3025800"/>
            <a:ext cx="1935000" cy="1738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9"/>
          <a:stretch/>
        </p:blipFill>
        <p:spPr>
          <a:xfrm>
            <a:off x="2887560" y="4948200"/>
            <a:ext cx="1922400" cy="1725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10"/>
          <a:stretch/>
        </p:blipFill>
        <p:spPr>
          <a:xfrm>
            <a:off x="4915080" y="4962600"/>
            <a:ext cx="1958760" cy="17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11"/>
          <a:stretch/>
        </p:blipFill>
        <p:spPr>
          <a:xfrm>
            <a:off x="4992840" y="2997360"/>
            <a:ext cx="1804680" cy="1811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"/>
          <p:cNvPicPr/>
          <p:nvPr/>
        </p:nvPicPr>
        <p:blipFill>
          <a:blip r:embed="rId12"/>
          <a:stretch/>
        </p:blipFill>
        <p:spPr>
          <a:xfrm>
            <a:off x="790560" y="3040200"/>
            <a:ext cx="2001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5:47:19Z</dcterms:created>
  <dc:creator>Наталья</dc:creator>
  <dc:description/>
  <dc:language>en-US</dc:language>
  <cp:lastModifiedBy>Учитель</cp:lastModifiedBy>
  <cp:lastPrinted>2019-10-17T03:54:25Z</cp:lastPrinted>
  <dcterms:modified xsi:type="dcterms:W3CDTF">2023-06-01T09:33:11Z</dcterms:modified>
  <cp:revision>73</cp:revision>
  <dc:subject/>
  <dc:title>Билет №8</dc:title>
</cp:coreProperties>
</file>