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0E8-5CBE-4867-910B-D98A6B9F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52-233A-4574-B824-7F675D0B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55D-4012-41FC-8103-B47D957E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25C-BA9F-4D94-B336-0B68577F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307-16D3-4ACE-A7BF-A5E7875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B77-0C9E-42C6-9912-A895E9F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226-5460-4C72-81AB-A2A07D2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35F-5B4F-47E6-813C-9DCCA83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DD9-4AE8-46F5-BB8C-7843083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CAA-AAA3-4DFC-A793-71450A2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A20-EE22-4058-B5BF-1E39929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6F8-B571-4DE6-AD8D-1F31CEE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8CE-E138-4D28-B1FE-4C4C0601F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 о подготовке металлических поверхностей под окраску. Расскажи об инструментах для окра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материалы для штукатурных раб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б их применении. Расскажи об инстру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штукатурных работ, их устройстве и примен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9160" y="41400"/>
            <a:ext cx="878508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Подготовка металлической поверхности под окра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042920" y="781200"/>
            <a:ext cx="876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не одно здание или сооружение не может быть построено без металлических изделий. 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еталлические поверхности подверга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окраской поверхност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5760" y="2444760"/>
          <a:ext cx="8764560" cy="406548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1960"/>
                <a:gridCol w="1460520"/>
                <a:gridCol w="1460520"/>
                <a:gridCol w="1460520"/>
              </a:tblGrid>
              <a:tr h="20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и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рхностей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 1…  2...  3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35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97040" y="2536920"/>
            <a:ext cx="1368360" cy="168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09"/>
          <p:cNvPicPr/>
          <p:nvPr/>
        </p:nvPicPr>
        <p:blipFill>
          <a:blip r:embed="rId2"/>
          <a:stretch/>
        </p:blipFill>
        <p:spPr>
          <a:xfrm>
            <a:off x="3147840" y="2509920"/>
            <a:ext cx="1308240" cy="18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Рисунок12"/>
          <p:cNvPicPr/>
          <p:nvPr/>
        </p:nvPicPr>
        <p:blipFill>
          <a:blip r:embed="rId3"/>
          <a:stretch/>
        </p:blipFill>
        <p:spPr>
          <a:xfrm>
            <a:off x="4643280" y="2536920"/>
            <a:ext cx="128448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10"/>
          <p:cNvPicPr/>
          <p:nvPr/>
        </p:nvPicPr>
        <p:blipFill>
          <a:blip r:embed="rId4"/>
          <a:stretch/>
        </p:blipFill>
        <p:spPr>
          <a:xfrm>
            <a:off x="6111720" y="2529000"/>
            <a:ext cx="1359000" cy="183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"/>
          <p:cNvPicPr/>
          <p:nvPr/>
        </p:nvPicPr>
        <p:blipFill>
          <a:blip r:embed="rId5"/>
          <a:stretch/>
        </p:blipFill>
        <p:spPr>
          <a:xfrm>
            <a:off x="7470720" y="4616280"/>
            <a:ext cx="1349280" cy="172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09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7569360" y="2562120"/>
            <a:ext cx="1346040" cy="178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"/>
          <p:cNvPicPr/>
          <p:nvPr/>
        </p:nvPicPr>
        <p:blipFill>
          <a:blip r:embed="rId7"/>
          <a:stretch/>
        </p:blipFill>
        <p:spPr>
          <a:xfrm>
            <a:off x="223920" y="4621320"/>
            <a:ext cx="135396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0"/>
          <p:cNvPicPr/>
          <p:nvPr/>
        </p:nvPicPr>
        <p:blipFill>
          <a:blip r:embed="rId8"/>
          <a:stretch/>
        </p:blipFill>
        <p:spPr>
          <a:xfrm>
            <a:off x="1719360" y="4621320"/>
            <a:ext cx="134604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0" descr=""/>
          <p:cNvPicPr/>
          <p:nvPr/>
        </p:nvPicPr>
        <p:blipFill>
          <a:blip r:embed="rId9"/>
          <a:stretch/>
        </p:blipFill>
        <p:spPr>
          <a:xfrm>
            <a:off x="3147840" y="4624560"/>
            <a:ext cx="1366920" cy="178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8005326"/>
          <p:cNvPicPr/>
          <p:nvPr/>
        </p:nvPicPr>
        <p:blipFill>
          <a:blip r:embed="rId10"/>
          <a:stretch/>
        </p:blipFill>
        <p:spPr>
          <a:xfrm>
            <a:off x="4597560" y="4686480"/>
            <a:ext cx="139860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"/>
          <p:cNvPicPr/>
          <p:nvPr/>
        </p:nvPicPr>
        <p:blipFill>
          <a:blip r:embed="rId11">
            <a:lum contrast="24000"/>
          </a:blip>
          <a:stretch/>
        </p:blipFill>
        <p:spPr>
          <a:xfrm>
            <a:off x="6078600" y="4621320"/>
            <a:ext cx="13017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984320" y="81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ска металлической поверх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08000" y="5097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ашивание металлических поверхностей включает в себя две операции: 1.  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76200" y="812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краски металлических поверх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   2…   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266760" y="134928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окраски металлических поверх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968480"/>
          <a:ext cx="8856720" cy="153180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153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" name="Рисунок 15" descr=""/>
          <p:cNvPicPr/>
          <p:nvPr/>
        </p:nvPicPr>
        <p:blipFill>
          <a:blip r:embed="rId1"/>
          <a:stretch/>
        </p:blipFill>
        <p:spPr>
          <a:xfrm>
            <a:off x="235080" y="2282760"/>
            <a:ext cx="947520" cy="1082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4" descr=""/>
          <p:cNvPicPr/>
          <p:nvPr/>
        </p:nvPicPr>
        <p:blipFill>
          <a:blip r:embed="rId2"/>
          <a:stretch/>
        </p:blipFill>
        <p:spPr>
          <a:xfrm>
            <a:off x="1119240" y="2208240"/>
            <a:ext cx="1011240" cy="1035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"/>
          <p:cNvPicPr/>
          <p:nvPr/>
        </p:nvPicPr>
        <p:blipFill>
          <a:blip r:embed="rId3"/>
          <a:stretch/>
        </p:blipFill>
        <p:spPr>
          <a:xfrm rot="787200">
            <a:off x="1996560" y="2241720"/>
            <a:ext cx="1127160" cy="892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7" descr=""/>
          <p:cNvPicPr/>
          <p:nvPr/>
        </p:nvPicPr>
        <p:blipFill>
          <a:blip r:embed="rId4"/>
          <a:stretch/>
        </p:blipFill>
        <p:spPr>
          <a:xfrm>
            <a:off x="3141720" y="2152800"/>
            <a:ext cx="498240" cy="1108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8" descr=""/>
          <p:cNvPicPr/>
          <p:nvPr/>
        </p:nvPicPr>
        <p:blipFill>
          <a:blip r:embed="rId5"/>
          <a:stretch/>
        </p:blipFill>
        <p:spPr>
          <a:xfrm>
            <a:off x="3621240" y="2176560"/>
            <a:ext cx="88884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"/>
          <p:cNvPicPr/>
          <p:nvPr/>
        </p:nvPicPr>
        <p:blipFill>
          <a:blip r:embed="rId6"/>
          <a:stretch/>
        </p:blipFill>
        <p:spPr>
          <a:xfrm>
            <a:off x="4422600" y="2244600"/>
            <a:ext cx="828720" cy="804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7"/>
          <a:stretch/>
        </p:blipFill>
        <p:spPr>
          <a:xfrm>
            <a:off x="5362560" y="2117880"/>
            <a:ext cx="366840" cy="1153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1" descr=""/>
          <p:cNvPicPr/>
          <p:nvPr/>
        </p:nvPicPr>
        <p:blipFill>
          <a:blip r:embed="rId8"/>
          <a:stretch/>
        </p:blipFill>
        <p:spPr>
          <a:xfrm>
            <a:off x="7719840" y="2050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3" descr=""/>
          <p:cNvPicPr/>
          <p:nvPr/>
        </p:nvPicPr>
        <p:blipFill>
          <a:blip r:embed="rId9"/>
          <a:stretch/>
        </p:blipFill>
        <p:spPr>
          <a:xfrm rot="19569000">
            <a:off x="5783040" y="2300040"/>
            <a:ext cx="934920" cy="868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8"/>
          <p:cNvSpPr/>
          <p:nvPr/>
        </p:nvSpPr>
        <p:spPr>
          <a:xfrm>
            <a:off x="235080" y="3656160"/>
            <a:ext cx="85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раске поверхностей масляными составами при помощи кистей нужно пользоваться следующими прие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9"/>
          <p:cNvSpPr/>
          <p:nvPr/>
        </p:nvSpPr>
        <p:spPr>
          <a:xfrm>
            <a:off x="285840" y="4618080"/>
            <a:ext cx="144144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0"/>
          <p:cNvSpPr/>
          <p:nvPr/>
        </p:nvSpPr>
        <p:spPr>
          <a:xfrm>
            <a:off x="2035080" y="4618080"/>
            <a:ext cx="144000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10"/>
          <a:stretch/>
        </p:blipFill>
        <p:spPr>
          <a:xfrm>
            <a:off x="6581880" y="2190600"/>
            <a:ext cx="1137960" cy="1016280"/>
          </a:xfrm>
          <a:prstGeom prst="rect">
            <a:avLst/>
          </a:prstGeom>
          <a:ln w="0">
            <a:noFill/>
          </a:ln>
        </p:spPr>
      </p:pic>
      <p:sp>
        <p:nvSpPr>
          <p:cNvPr id="75" name="Овал 34"/>
          <p:cNvSpPr/>
          <p:nvPr/>
        </p:nvSpPr>
        <p:spPr>
          <a:xfrm>
            <a:off x="2590920" y="475452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5"/>
          <p:cNvSpPr/>
          <p:nvPr/>
        </p:nvSpPr>
        <p:spPr>
          <a:xfrm>
            <a:off x="2590920" y="537228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6"/>
          <p:cNvSpPr/>
          <p:nvPr/>
        </p:nvSpPr>
        <p:spPr>
          <a:xfrm>
            <a:off x="2590920" y="602136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44"/>
          <p:cNvCxnSpPr/>
          <p:nvPr/>
        </p:nvCxnSpPr>
        <p:spPr>
          <a:xfrm>
            <a:off x="7596000" y="4754160"/>
            <a:ext cx="1080" cy="1524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79" name="Рисунок 43" descr=""/>
          <p:cNvPicPr/>
          <p:nvPr/>
        </p:nvPicPr>
        <p:blipFill>
          <a:blip r:embed="rId11"/>
          <a:srcRect l="10100" t="30368" r="54208" b="17322"/>
          <a:stretch/>
        </p:blipFill>
        <p:spPr>
          <a:xfrm>
            <a:off x="3840120" y="4629240"/>
            <a:ext cx="1411200" cy="192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Овал 40"/>
          <p:cNvSpPr/>
          <p:nvPr/>
        </p:nvSpPr>
        <p:spPr>
          <a:xfrm>
            <a:off x="4460760" y="4721400"/>
            <a:ext cx="328680" cy="33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1"/>
          <p:cNvSpPr/>
          <p:nvPr/>
        </p:nvSpPr>
        <p:spPr>
          <a:xfrm>
            <a:off x="4460760" y="5372280"/>
            <a:ext cx="328680" cy="33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2"/>
          <p:cNvSpPr/>
          <p:nvPr/>
        </p:nvSpPr>
        <p:spPr>
          <a:xfrm>
            <a:off x="4460760" y="6108840"/>
            <a:ext cx="328680" cy="33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1" descr=""/>
          <p:cNvPicPr/>
          <p:nvPr/>
        </p:nvPicPr>
        <p:blipFill>
          <a:blip r:embed="rId12"/>
          <a:srcRect l="52105" t="13870" r="12198" b="34103"/>
          <a:stretch/>
        </p:blipFill>
        <p:spPr>
          <a:xfrm>
            <a:off x="5541840" y="4629240"/>
            <a:ext cx="143064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Рисунок 50" descr=""/>
          <p:cNvPicPr/>
          <p:nvPr/>
        </p:nvPicPr>
        <p:blipFill>
          <a:blip r:embed="rId13"/>
          <a:srcRect l="13873" t="55251" r="34102" b="10105"/>
          <a:stretch/>
        </p:blipFill>
        <p:spPr>
          <a:xfrm>
            <a:off x="7338960" y="4618080"/>
            <a:ext cx="140508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85" name="Прямая со стрелкой 2"/>
          <p:cNvCxnSpPr/>
          <p:nvPr/>
        </p:nvCxnSpPr>
        <p:spPr>
          <a:xfrm>
            <a:off x="7719480" y="4629240"/>
            <a:ext cx="1080" cy="192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Прямая со стрелкой 32"/>
          <p:cNvCxnSpPr>
            <a:stCxn id="84" idx="2"/>
          </p:cNvCxnSpPr>
          <p:nvPr/>
        </p:nvCxnSpPr>
        <p:spPr>
          <a:xfrm flipV="1">
            <a:off x="8042040" y="4601520"/>
            <a:ext cx="1080" cy="195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Прямая со стрелкой 37"/>
          <p:cNvCxnSpPr/>
          <p:nvPr/>
        </p:nvCxnSpPr>
        <p:spPr>
          <a:xfrm>
            <a:off x="8362440" y="4646520"/>
            <a:ext cx="1080" cy="19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39640" y="720720"/>
          <a:ext cx="8604360" cy="5776920"/>
        </p:xfrm>
        <a:graphic>
          <a:graphicData uri="http://schemas.openxmlformats.org/drawingml/2006/table">
            <a:tbl>
              <a:tblPr/>
              <a:tblGrid>
                <a:gridCol w="1871640"/>
                <a:gridCol w="2089440"/>
                <a:gridCol w="2087280"/>
                <a:gridCol w="255600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Для приготовления  штукатурных растворов требуются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яжущие   </a:t>
                      </a: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полни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Рогожа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Мешковина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Войлок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Гвозди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штукатурные-…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Проволока-… 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Дрань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2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авл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…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…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заполнителям относятся 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 заполнителем для растворов является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ют песок…р.г.о.м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затвердеваю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весть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лина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пс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Цемент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2"/>
          <p:cNvSpPr/>
          <p:nvPr/>
        </p:nvSpPr>
        <p:spPr>
          <a:xfrm>
            <a:off x="539640" y="-6480"/>
            <a:ext cx="89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Назовите материалы для штукатурных работ, расскаж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х примен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520" y="646200"/>
          <a:ext cx="8782200" cy="6130800"/>
        </p:xfrm>
        <a:graphic>
          <a:graphicData uri="http://schemas.openxmlformats.org/drawingml/2006/table">
            <a:tbl>
              <a:tblPr/>
              <a:tblGrid>
                <a:gridCol w="2228760"/>
                <a:gridCol w="3168720"/>
                <a:gridCol w="3384720"/>
              </a:tblGrid>
              <a:tr h="3967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Для приготовления штукатурных растворов требуются… 1. 2. 3…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яжущие –это…             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полнители – это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яжущие делятся на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1….2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 заполнителям относятся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ичают песок…р.г.о.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   1   2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затвердеваю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3240">
                <a:tc gridSpan="2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Прямоугольник 4"/>
          <p:cNvSpPr/>
          <p:nvPr/>
        </p:nvSpPr>
        <p:spPr>
          <a:xfrm>
            <a:off x="179280" y="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Назовите материалы для штукатурных работ, расскаж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х примен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"/>
          <p:cNvPicPr/>
          <p:nvPr/>
        </p:nvPicPr>
        <p:blipFill>
          <a:blip r:embed="rId1"/>
          <a:stretch/>
        </p:blipFill>
        <p:spPr>
          <a:xfrm>
            <a:off x="268200" y="3182760"/>
            <a:ext cx="1571760" cy="1636920"/>
          </a:xfrm>
          <a:prstGeom prst="rect">
            <a:avLst/>
          </a:prstGeom>
          <a:ln w="0">
            <a:noFill/>
          </a:ln>
        </p:spPr>
      </p:pic>
      <p:pic>
        <p:nvPicPr>
          <p:cNvPr id="93" name="Таблица 5" descr=""/>
          <p:cNvPicPr/>
          <p:nvPr/>
        </p:nvPicPr>
        <p:blipFill>
          <a:blip r:embed="rId2"/>
          <a:stretch/>
        </p:blipFill>
        <p:spPr>
          <a:xfrm>
            <a:off x="3822840" y="3184560"/>
            <a:ext cx="160488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3"/>
          <a:stretch/>
        </p:blipFill>
        <p:spPr>
          <a:xfrm>
            <a:off x="4075200" y="5010120"/>
            <a:ext cx="141912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"/>
          <p:cNvPicPr/>
          <p:nvPr/>
        </p:nvPicPr>
        <p:blipFill>
          <a:blip r:embed="rId4"/>
          <a:stretch/>
        </p:blipFill>
        <p:spPr>
          <a:xfrm>
            <a:off x="2028960" y="3182760"/>
            <a:ext cx="1635120" cy="1622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5"/>
          <a:stretch/>
        </p:blipFill>
        <p:spPr>
          <a:xfrm>
            <a:off x="5651640" y="3251160"/>
            <a:ext cx="3201840" cy="2033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6"/>
          <p:cNvSpPr/>
          <p:nvPr/>
        </p:nvSpPr>
        <p:spPr>
          <a:xfrm>
            <a:off x="5651640" y="5416560"/>
            <a:ext cx="35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екоративных  штукатурках использу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843440" y="4419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9920" y="5529240"/>
            <a:ext cx="2283840" cy="1008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т из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т ка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дл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4"/>
          <p:cNvCxnSpPr/>
          <p:nvPr/>
        </p:nvCxnSpPr>
        <p:spPr>
          <a:xfrm flipV="1">
            <a:off x="2100240" y="4839840"/>
            <a:ext cx="2300760" cy="6724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1" name="Прямая со стрелкой 16"/>
          <p:cNvCxnSpPr/>
          <p:nvPr/>
        </p:nvCxnSpPr>
        <p:spPr>
          <a:xfrm flipH="1" flipV="1">
            <a:off x="1058400" y="4833360"/>
            <a:ext cx="984960" cy="687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V="1">
            <a:off x="2028600" y="4869720"/>
            <a:ext cx="579960" cy="6548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>
            <a:off x="3209760" y="6036840"/>
            <a:ext cx="8452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8000" y="836640"/>
          <a:ext cx="8928000" cy="5905440"/>
        </p:xfrm>
        <a:graphic>
          <a:graphicData uri="http://schemas.openxmlformats.org/drawingml/2006/table">
            <a:tbl>
              <a:tblPr/>
              <a:tblGrid>
                <a:gridCol w="2290680"/>
                <a:gridCol w="663732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ки применяются дл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ю добавки могут бы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…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… 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 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 применяются дл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4657680" y="1854360"/>
            <a:ext cx="1971720" cy="2004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2536920" y="1878120"/>
            <a:ext cx="1925640" cy="19573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0" y="0"/>
            <a:ext cx="9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атериалы для штукатурных работ, расскажите об их примен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3"/>
          <a:stretch/>
        </p:blipFill>
        <p:spPr>
          <a:xfrm>
            <a:off x="6807240" y="1908000"/>
            <a:ext cx="2050920" cy="1751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4"/>
          <a:stretch/>
        </p:blipFill>
        <p:spPr>
          <a:xfrm>
            <a:off x="4592520" y="4307040"/>
            <a:ext cx="1971720" cy="1963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5"/>
          <a:stretch/>
        </p:blipFill>
        <p:spPr>
          <a:xfrm>
            <a:off x="2484360" y="4259160"/>
            <a:ext cx="1951200" cy="2059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6"/>
          <a:stretch/>
        </p:blipFill>
        <p:spPr>
          <a:xfrm>
            <a:off x="6845400" y="4317840"/>
            <a:ext cx="20336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547440" y="3787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901920" y="3780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231000" y="62326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6814800" y="63244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8:05Z</dcterms:created>
  <dc:creator>Наталья</dc:creator>
  <dc:description/>
  <dc:language>en-US</dc:language>
  <cp:lastModifiedBy>Учитель</cp:lastModifiedBy>
  <cp:lastPrinted>2021-05-20T04:58:50Z</cp:lastPrinted>
  <dcterms:modified xsi:type="dcterms:W3CDTF">2023-06-01T09:40:10Z</dcterms:modified>
  <cp:revision>80</cp:revision>
  <dc:subject/>
  <dc:title>Билет №9</dc:title>
</cp:coreProperties>
</file>