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8.wmf" ContentType="image/x-wmf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405-A2C2-4830-84F2-0E88BBFE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C3F-7100-426A-B336-B2B96AAE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1D6-BF0D-4622-8335-BB9247F1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996-6768-4C17-8186-0D2AD741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B9C1-4715-4042-85CE-4F0BBF5C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12FF-AF1C-4BF3-9D67-89EE86F4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BC06-6324-478D-A2D7-366263E2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8140-0623-4753-B946-C1672248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6EAA-5FCF-4F78-8182-EC908EB6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A53F-B298-4E50-BA7A-110A5DB2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00B9-7837-4A2D-A86D-DDD9273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401-44F4-4BA3-BBEF-768DC5E7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28F5-7B9B-4217-96F6-7287B6FE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CDFC-9CF0-4A7D-81C6-CBE0AEEC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09BF-B985-4CD9-9974-98E08FA7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D81D-A9DE-4C7A-A3B3-F797CD07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5CF9-D9B1-42A2-9F0C-00039259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0C4-F310-4FC6-9EF0-9F313ED9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E7E-DCC3-4622-8AD6-E7563A68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3D6-4768-4545-AF31-502CE67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F14-E10C-4744-BAF8-4BB26E0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C00-6618-4ADF-8FE7-A18F882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74B-91EC-4019-A8CB-357D313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DB9-13BD-423F-B4BF-9B89D3B3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B611-8B45-478D-AC4A-4189393AA4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0B21-6B8F-4D1F-8742-DF074B1155A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stu.ru/upload/medialibrary/846/istoriya-edy.pdf" TargetMode="External"/><Relationship Id="rId2" Type="http://schemas.openxmlformats.org/officeDocument/2006/relationships/hyperlink" Target="https://kidpassage.com/publications/natsionalnaya-kuhnya-germanii" TargetMode="External"/><Relationship Id="rId3" Type="http://schemas.openxmlformats.org/officeDocument/2006/relationships/hyperlink" Target="https://rg.ru/2017/05/31/kakoj-russkij-ne-liubit-nemeckoj-kuhni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ема проекта: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Гастрономическое лицо Германии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90920" y="396252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Гармалыга Дарь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ся в 7«А» класса                                                                              Наставник проекта: Егорова Галина Петр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емецк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447920" y="228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209680" y="1371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3271680" y="63244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Южноуральск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Times New Roman"/>
              </a:rPr>
              <a:t>Oktoberf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6" descr="350px-Oktoberfest1"/>
          <p:cNvPicPr/>
          <p:nvPr/>
        </p:nvPicPr>
        <p:blipFill>
          <a:blip r:embed="rId1"/>
          <a:stretch/>
        </p:blipFill>
        <p:spPr>
          <a:xfrm>
            <a:off x="685800" y="1143000"/>
            <a:ext cx="3276720" cy="246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Oktoberfest-ekskursii-munchen-08-1024x711"/>
          <p:cNvPicPr/>
          <p:nvPr/>
        </p:nvPicPr>
        <p:blipFill>
          <a:blip r:embed="rId2"/>
          <a:stretch/>
        </p:blipFill>
        <p:spPr>
          <a:xfrm>
            <a:off x="4800600" y="3429000"/>
            <a:ext cx="3809880" cy="264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mages"/>
          <p:cNvPicPr/>
          <p:nvPr/>
        </p:nvPicPr>
        <p:blipFill>
          <a:blip r:embed="rId3"/>
          <a:stretch/>
        </p:blipFill>
        <p:spPr>
          <a:xfrm>
            <a:off x="3343320" y="2500200"/>
            <a:ext cx="24573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Times New Roman"/>
              </a:rPr>
              <a:t>Праздник клуб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Picture 6" descr="Клубника2"/>
          <p:cNvPicPr/>
          <p:nvPr/>
        </p:nvPicPr>
        <p:blipFill>
          <a:blip r:embed="rId1"/>
          <a:stretch/>
        </p:blipFill>
        <p:spPr>
          <a:xfrm>
            <a:off x="609480" y="1066680"/>
            <a:ext cx="3505320" cy="233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430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2992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italy"/>
          <p:cNvPicPr/>
          <p:nvPr/>
        </p:nvPicPr>
        <p:blipFill>
          <a:blip r:embed="rId3"/>
          <a:stretch/>
        </p:blipFill>
        <p:spPr>
          <a:xfrm>
            <a:off x="609480" y="3581280"/>
            <a:ext cx="35816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006633"/>
                </a:solidFill>
                <a:latin typeface="Times New Roman"/>
              </a:rPr>
              <a:t>Weihnach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Picture 5" descr="unnamed (2)"/>
          <p:cNvPicPr/>
          <p:nvPr/>
        </p:nvPicPr>
        <p:blipFill>
          <a:blip r:embed="rId1"/>
          <a:stretch/>
        </p:blipFill>
        <p:spPr>
          <a:xfrm>
            <a:off x="685800" y="1066680"/>
            <a:ext cx="4276800" cy="2851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9a2a0b2a37bd033b7949389482f07cb1"/>
          <p:cNvPicPr/>
          <p:nvPr/>
        </p:nvPicPr>
        <p:blipFill>
          <a:blip r:embed="rId2"/>
          <a:stretch/>
        </p:blipFill>
        <p:spPr>
          <a:xfrm>
            <a:off x="4419720" y="31240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5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писок информационных источник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stu.ru/upload/medialibrary/846/istoriya-edy.pd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s://kidpassage.com/publications/natsionalnaya-kuhnya-germani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s://rg.ru/2017/05/31/kakoj-russkij-ne-liubit-nemeckoj-kuhni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azowo.ru/raschet-secheniya-provoda/tradicionnaya-nemeckaya-narody-germanii-kultura-i-tradicii/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://miredu.edu22.info/source/Schteigerwa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www.dw.com/ru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ru.wikipedia.org/wiki/%D0%9E%D0%BA%D1%82%D0%BE%D0%B1%D0%B5%D1%80%D1%84%D0%B5%D1%81%D1%8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ruspekh.ru/holidays/prazdnik-klubniki-v-germanii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public.wikireading.ru/19395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www.timeout.ru/msk/feature/46542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одержани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2640"/>
            <a:ext cx="84582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Теоретическая часть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1. Из истории создания немецкой кух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2. Почему популярна немецкая кухн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3.Особенности немецкой кух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4. Повседневная еда немц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5. Традиционные блюда федеральных земель Герм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6. Праздничные блюда в Герм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1. Создание буклета «Гастрономическое лицо Герман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нформационн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его проект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пределить гастрономические составляющие традиционной немецкой кух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мецкая кухня – разнообразна и  пользуется популярность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литературу по теме проекта и подобрать необходимую   информаци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ся с историей развития кулинарии в Герма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особенности немецкой кух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предпочтения немцев в повседневной и праздничной е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причину спроса немецкой кух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5520"/>
            <a:ext cx="914400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Король Германии Кайзер Вильгельм II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8" descr="WilhelmII"/>
          <p:cNvPicPr/>
          <p:nvPr/>
        </p:nvPicPr>
        <p:blipFill>
          <a:blip r:embed="rId1"/>
          <a:stretch/>
        </p:blipFill>
        <p:spPr>
          <a:xfrm>
            <a:off x="2743200" y="1447920"/>
            <a:ext cx="3746520" cy="4682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95240" y="457200"/>
            <a:ext cx="76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 истории создания немецкой кух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амый популярный продукт в немецкой кухн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8" descr="691242034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490573127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item_1653"/>
          <p:cNvPicPr/>
          <p:nvPr/>
        </p:nvPicPr>
        <p:blipFill>
          <a:blip r:embed="rId3"/>
          <a:stretch/>
        </p:blipFill>
        <p:spPr>
          <a:xfrm>
            <a:off x="685800" y="3962520"/>
            <a:ext cx="3276720" cy="2146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elye-monhenskie-kolbaski"/>
          <p:cNvPicPr/>
          <p:nvPr/>
        </p:nvPicPr>
        <p:blipFill>
          <a:blip r:embed="rId4"/>
          <a:stretch/>
        </p:blipFill>
        <p:spPr>
          <a:xfrm>
            <a:off x="762120" y="1646280"/>
            <a:ext cx="3124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акие блюда ассоциируются с Германией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320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056-dsc_5816_0_copy"/>
          <p:cNvPicPr/>
          <p:nvPr/>
        </p:nvPicPr>
        <p:blipFill>
          <a:blip r:embed="rId2"/>
          <a:stretch/>
        </p:blipFill>
        <p:spPr>
          <a:xfrm>
            <a:off x="5022720" y="160020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сосисички"/>
          <p:cNvPicPr/>
          <p:nvPr/>
        </p:nvPicPr>
        <p:blipFill>
          <a:blip r:embed="rId3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вощные предпочт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9" descr="nacionalnaya-kuhnya-germanii-foto-3"/>
          <p:cNvPicPr/>
          <p:nvPr/>
        </p:nvPicPr>
        <p:blipFill>
          <a:blip r:embed="rId1"/>
          <a:stretch/>
        </p:blipFill>
        <p:spPr>
          <a:xfrm>
            <a:off x="609480" y="1600200"/>
            <a:ext cx="3770280" cy="218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nemeckaja-kuhnja6"/>
          <p:cNvPicPr/>
          <p:nvPr/>
        </p:nvPicPr>
        <p:blipFill>
          <a:blip r:embed="rId2"/>
          <a:stretch/>
        </p:blipFill>
        <p:spPr>
          <a:xfrm>
            <a:off x="4876920" y="1523880"/>
            <a:ext cx="3557520" cy="2237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0_fcdb0_2b8f9247_orig"/>
          <p:cNvPicPr/>
          <p:nvPr/>
        </p:nvPicPr>
        <p:blipFill>
          <a:blip r:embed="rId3"/>
          <a:stretch/>
        </p:blipFill>
        <p:spPr>
          <a:xfrm>
            <a:off x="609480" y="3962520"/>
            <a:ext cx="3733920" cy="249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bobovye_kultury_i_ikh_poleznye_svojstva"/>
          <p:cNvPicPr/>
          <p:nvPr/>
        </p:nvPicPr>
        <p:blipFill>
          <a:blip r:embed="rId4"/>
          <a:stretch/>
        </p:blipFill>
        <p:spPr>
          <a:xfrm>
            <a:off x="4952880" y="3886200"/>
            <a:ext cx="34290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нообразие выпеч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6" descr="crop"/>
          <p:cNvPicPr/>
          <p:nvPr/>
        </p:nvPicPr>
        <p:blipFill>
          <a:blip r:embed="rId1"/>
          <a:stretch/>
        </p:blipFill>
        <p:spPr>
          <a:xfrm>
            <a:off x="990720" y="1600200"/>
            <a:ext cx="3276360" cy="2085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unnamed (1)"/>
          <p:cNvPicPr/>
          <p:nvPr/>
        </p:nvPicPr>
        <p:blipFill>
          <a:blip r:embed="rId2"/>
          <a:stretch/>
        </p:blipFill>
        <p:spPr>
          <a:xfrm>
            <a:off x="5486400" y="1523880"/>
            <a:ext cx="2895480" cy="216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SC00595-1024x774-731x553"/>
          <p:cNvPicPr/>
          <p:nvPr/>
        </p:nvPicPr>
        <p:blipFill>
          <a:blip r:embed="rId3"/>
          <a:stretch/>
        </p:blipFill>
        <p:spPr>
          <a:xfrm>
            <a:off x="1143000" y="3809880"/>
            <a:ext cx="3048120" cy="230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брецель"/>
          <p:cNvPicPr/>
          <p:nvPr/>
        </p:nvPicPr>
        <p:blipFill>
          <a:blip r:embed="rId4"/>
          <a:stretch/>
        </p:blipFill>
        <p:spPr>
          <a:xfrm>
            <a:off x="5295960" y="4043520"/>
            <a:ext cx="327672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ерриториальные особ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6" descr="unnamed"/>
          <p:cNvPicPr/>
          <p:nvPr/>
        </p:nvPicPr>
        <p:blipFill>
          <a:blip r:embed="rId1"/>
          <a:stretch/>
        </p:blipFill>
        <p:spPr>
          <a:xfrm>
            <a:off x="2162160" y="1295280"/>
            <a:ext cx="4533840" cy="483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e552fe7782036863ca23d73e97bd5504_1024_768"/>
          <p:cNvPicPr/>
          <p:nvPr/>
        </p:nvPicPr>
        <p:blipFill>
          <a:blip r:embed="rId2"/>
          <a:stretch/>
        </p:blipFill>
        <p:spPr>
          <a:xfrm>
            <a:off x="6095880" y="47242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a248984ad2fefa"/>
          <p:cNvPicPr/>
          <p:nvPr/>
        </p:nvPicPr>
        <p:blipFill>
          <a:blip r:embed="rId3"/>
          <a:stretch/>
        </p:blipFill>
        <p:spPr>
          <a:xfrm>
            <a:off x="380880" y="1371600"/>
            <a:ext cx="25146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6T15:34:28Z</dcterms:created>
  <dc:creator>Дарья Гармалыга</dc:creator>
  <dc:description/>
  <dc:language>en-US</dc:language>
  <cp:lastModifiedBy>Каб. 306</cp:lastModifiedBy>
  <dcterms:modified xsi:type="dcterms:W3CDTF">2023-06-01T05:47:0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