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wmf" ContentType="image/x-wmf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B7F-532F-4579-BE90-21AB0B22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61B-BC16-48CB-BD6A-9898AB9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3BA-595A-4FFE-B850-0829DCF6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663-F7C1-4904-A7BF-CD190E52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8EF-7132-4F64-A0D7-3882665C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8ADC-F9CB-47B1-9201-33433FF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DDAD-6654-4D2D-B5A0-086615E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CBDA-C2FF-42CF-BEF1-1446D23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8E1-8185-42A2-83D4-AD35D41E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661-1906-4A63-953B-A6821DE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5E39-1B2D-4BF6-9A1D-AB35C3F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B92-D183-4F55-94CE-984FF96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7FA-61B2-45E2-B9B2-5EEE1B68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ABDC-ECE5-4167-82D5-753E12E0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C9D-3A99-4443-83F1-FAA0D69D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D419-F990-492C-AE5D-24C32F8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8D4-5B17-4645-A4AD-3DBAC129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149-316C-4270-8833-A4795D6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88F-4DE5-4F74-AF3B-01A3EF5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961-B721-4916-8139-F7882B1F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A22-2991-47AA-AA03-EA50FD1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26F-4A59-4F71-8B2F-28C7303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23B-92B0-4D9A-9FC1-D4E90E7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6DA-54F2-4876-AA38-1DC5D48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6FC-EEAC-4717-B11B-19592CE14F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6C9-7798-4A6C-ABBF-E7C8806DDB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stu.ru/upload/medialibrary/846/istoriya-edy.pdf" TargetMode="External"/><Relationship Id="rId2" Type="http://schemas.openxmlformats.org/officeDocument/2006/relationships/hyperlink" Target="https://kidpassage.com/publications/natsionalnaya-kuhnya-germanii" TargetMode="External"/><Relationship Id="rId3" Type="http://schemas.openxmlformats.org/officeDocument/2006/relationships/hyperlink" Target="https://rg.ru/2017/05/31/kakoj-russkij-ne-liubit-nemeckoj-kuhni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ема проекта: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Гастрономическое лицо Германии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Гармалыга Дар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ся в 7«А» класса                                                                              Наставник проекта: Егорова Галина Пет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емец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447920" y="228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20968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сследова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3271680" y="63244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уральск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</a:rPr>
              <a:t>Oktoberf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350px-Oktoberfest1"/>
          <p:cNvPicPr/>
          <p:nvPr/>
        </p:nvPicPr>
        <p:blipFill>
          <a:blip r:embed="rId1"/>
          <a:stretch/>
        </p:blipFill>
        <p:spPr>
          <a:xfrm>
            <a:off x="685800" y="1143000"/>
            <a:ext cx="3276720" cy="246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Oktoberfest-ekskursii-munchen-08-1024x711"/>
          <p:cNvPicPr/>
          <p:nvPr/>
        </p:nvPicPr>
        <p:blipFill>
          <a:blip r:embed="rId2"/>
          <a:stretch/>
        </p:blipFill>
        <p:spPr>
          <a:xfrm>
            <a:off x="4800600" y="3429000"/>
            <a:ext cx="3809880" cy="264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ages"/>
          <p:cNvPicPr/>
          <p:nvPr/>
        </p:nvPicPr>
        <p:blipFill>
          <a:blip r:embed="rId3"/>
          <a:stretch/>
        </p:blipFill>
        <p:spPr>
          <a:xfrm>
            <a:off x="3343320" y="2500200"/>
            <a:ext cx="2457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</a:rPr>
              <a:t>Праздник клуб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Picture 6" descr="Клубника2"/>
          <p:cNvPicPr/>
          <p:nvPr/>
        </p:nvPicPr>
        <p:blipFill>
          <a:blip r:embed="rId1"/>
          <a:stretch/>
        </p:blipFill>
        <p:spPr>
          <a:xfrm>
            <a:off x="609480" y="1066680"/>
            <a:ext cx="3505320" cy="233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430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2992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taly"/>
          <p:cNvPicPr/>
          <p:nvPr/>
        </p:nvPicPr>
        <p:blipFill>
          <a:blip r:embed="rId3"/>
          <a:stretch/>
        </p:blipFill>
        <p:spPr>
          <a:xfrm>
            <a:off x="609480" y="3581280"/>
            <a:ext cx="358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006633"/>
                </a:solidFill>
                <a:latin typeface="Times New Roman"/>
              </a:rPr>
              <a:t>Weihnach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5" descr="unnamed (2)"/>
          <p:cNvPicPr/>
          <p:nvPr/>
        </p:nvPicPr>
        <p:blipFill>
          <a:blip r:embed="rId1"/>
          <a:stretch/>
        </p:blipFill>
        <p:spPr>
          <a:xfrm>
            <a:off x="685800" y="1066680"/>
            <a:ext cx="4276800" cy="285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9a2a0b2a37bd033b7949389482f07cb1"/>
          <p:cNvPicPr/>
          <p:nvPr/>
        </p:nvPicPr>
        <p:blipFill>
          <a:blip r:embed="rId2"/>
          <a:stretch/>
        </p:blipFill>
        <p:spPr>
          <a:xfrm>
            <a:off x="4419720" y="3124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5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писок информационных источник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stu.ru/upload/medialibrary/846/istoriya-edy.pd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s://kidpassage.com/publications/natsionalnaya-kuhnya-germani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s://rg.ru/2017/05/31/kakoj-russkij-ne-liubit-nemeckoj-kuhni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azowo.ru/raschet-secheniya-provoda/tradicionnaya-nemeckaya-narody-germanii-kultura-i-tradicii/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://miredu.edu22.info/source/Schteigerwa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www.dw.com/ru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ru.wikipedia.org/wiki/%D0%9E%D0%BA%D1%82%D0%BE%D0%B1%D0%B5%D1%80%D1%84%D0%B5%D1%81%D1%8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ruspekh.ru/holidays/prazdnik-klubniki-v-germani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public.wikireading.ru/19395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https://www.timeout.ru/msk/feature/46542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одержа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2640"/>
            <a:ext cx="84582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Теоретическая часть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1. Из истории создания немецкой кух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2. Почему популярна немецкая кух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3.Особенности немецкой кух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4. Повседневная еда нем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5. Традиционные блюда федеральных земель Герм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6. Праздничные блюда в Герм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1. Создание буклета «Гастрономическое лицо Герм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нформацио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го проект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ределить гастрономические составляющие традиционной немецкой кух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цкая кухня – разнообразна и  пользуется популярность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литературу по теме проекта и подобрать необходимую   информаци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ся с историей развития кулинарии в Герм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собенности немецкой кух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предпочтения немцев в повседневной и праздничной е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причину спроса немецкой кух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5520"/>
            <a:ext cx="91440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Король Германии Кайзер Вильгельм II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8" descr="WilhelmII"/>
          <p:cNvPicPr/>
          <p:nvPr/>
        </p:nvPicPr>
        <p:blipFill>
          <a:blip r:embed="rId1"/>
          <a:stretch/>
        </p:blipFill>
        <p:spPr>
          <a:xfrm>
            <a:off x="2743200" y="1447920"/>
            <a:ext cx="3746520" cy="4682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95240" y="457200"/>
            <a:ext cx="76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 истории создания немецкой кух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амый популярный продукт в немецкой кухн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8" descr="691242034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490573127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tem_1653"/>
          <p:cNvPicPr/>
          <p:nvPr/>
        </p:nvPicPr>
        <p:blipFill>
          <a:blip r:embed="rId3"/>
          <a:stretch/>
        </p:blipFill>
        <p:spPr>
          <a:xfrm>
            <a:off x="685800" y="3962520"/>
            <a:ext cx="3276720" cy="214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elye-monhenskie-kolbaski"/>
          <p:cNvPicPr/>
          <p:nvPr/>
        </p:nvPicPr>
        <p:blipFill>
          <a:blip r:embed="rId4"/>
          <a:stretch/>
        </p:blipFill>
        <p:spPr>
          <a:xfrm>
            <a:off x="762120" y="1646280"/>
            <a:ext cx="3124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акие блюда ассоциируются с Германией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32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056-dsc_5816_0_copy"/>
          <p:cNvPicPr/>
          <p:nvPr/>
        </p:nvPicPr>
        <p:blipFill>
          <a:blip r:embed="rId2"/>
          <a:stretch/>
        </p:blipFill>
        <p:spPr>
          <a:xfrm>
            <a:off x="5022720" y="160020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сосисички"/>
          <p:cNvPicPr/>
          <p:nvPr/>
        </p:nvPicPr>
        <p:blipFill>
          <a:blip r:embed="rId3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вощные предпочт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9" descr="nacionalnaya-kuhnya-germanii-foto-3"/>
          <p:cNvPicPr/>
          <p:nvPr/>
        </p:nvPicPr>
        <p:blipFill>
          <a:blip r:embed="rId1"/>
          <a:stretch/>
        </p:blipFill>
        <p:spPr>
          <a:xfrm>
            <a:off x="609480" y="1600200"/>
            <a:ext cx="377028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nemeckaja-kuhnja6"/>
          <p:cNvPicPr/>
          <p:nvPr/>
        </p:nvPicPr>
        <p:blipFill>
          <a:blip r:embed="rId2"/>
          <a:stretch/>
        </p:blipFill>
        <p:spPr>
          <a:xfrm>
            <a:off x="4876920" y="1523880"/>
            <a:ext cx="3557520" cy="223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0_fcdb0_2b8f9247_orig"/>
          <p:cNvPicPr/>
          <p:nvPr/>
        </p:nvPicPr>
        <p:blipFill>
          <a:blip r:embed="rId3"/>
          <a:stretch/>
        </p:blipFill>
        <p:spPr>
          <a:xfrm>
            <a:off x="609480" y="396252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bobovye_kultury_i_ikh_poleznye_svojstva"/>
          <p:cNvPicPr/>
          <p:nvPr/>
        </p:nvPicPr>
        <p:blipFill>
          <a:blip r:embed="rId4"/>
          <a:stretch/>
        </p:blipFill>
        <p:spPr>
          <a:xfrm>
            <a:off x="4952880" y="3886200"/>
            <a:ext cx="3429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нообразие выпеч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6" descr="crop"/>
          <p:cNvPicPr/>
          <p:nvPr/>
        </p:nvPicPr>
        <p:blipFill>
          <a:blip r:embed="rId1"/>
          <a:stretch/>
        </p:blipFill>
        <p:spPr>
          <a:xfrm>
            <a:off x="990720" y="1600200"/>
            <a:ext cx="3276360" cy="208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unnamed (1)"/>
          <p:cNvPicPr/>
          <p:nvPr/>
        </p:nvPicPr>
        <p:blipFill>
          <a:blip r:embed="rId2"/>
          <a:stretch/>
        </p:blipFill>
        <p:spPr>
          <a:xfrm>
            <a:off x="5486400" y="1523880"/>
            <a:ext cx="2895480" cy="21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SC00595-1024x774-731x553"/>
          <p:cNvPicPr/>
          <p:nvPr/>
        </p:nvPicPr>
        <p:blipFill>
          <a:blip r:embed="rId3"/>
          <a:stretch/>
        </p:blipFill>
        <p:spPr>
          <a:xfrm>
            <a:off x="1143000" y="3809880"/>
            <a:ext cx="3048120" cy="230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брецель"/>
          <p:cNvPicPr/>
          <p:nvPr/>
        </p:nvPicPr>
        <p:blipFill>
          <a:blip r:embed="rId4"/>
          <a:stretch/>
        </p:blipFill>
        <p:spPr>
          <a:xfrm>
            <a:off x="5295960" y="4043520"/>
            <a:ext cx="327672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ерриториальные особ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6" descr="unnamed"/>
          <p:cNvPicPr/>
          <p:nvPr/>
        </p:nvPicPr>
        <p:blipFill>
          <a:blip r:embed="rId1"/>
          <a:stretch/>
        </p:blipFill>
        <p:spPr>
          <a:xfrm>
            <a:off x="2162160" y="1295280"/>
            <a:ext cx="4533840" cy="483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e552fe7782036863ca23d73e97bd5504_1024_768"/>
          <p:cNvPicPr/>
          <p:nvPr/>
        </p:nvPicPr>
        <p:blipFill>
          <a:blip r:embed="rId2"/>
          <a:stretch/>
        </p:blipFill>
        <p:spPr>
          <a:xfrm>
            <a:off x="6095880" y="4724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a248984ad2fefa"/>
          <p:cNvPicPr/>
          <p:nvPr/>
        </p:nvPicPr>
        <p:blipFill>
          <a:blip r:embed="rId3"/>
          <a:stretch/>
        </p:blipFill>
        <p:spPr>
          <a:xfrm>
            <a:off x="380880" y="1371600"/>
            <a:ext cx="25146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15:34:28Z</dcterms:created>
  <dc:creator>Дарья Гармалыга</dc:creator>
  <dc:description/>
  <dc:language>en-US</dc:language>
  <cp:lastModifiedBy>Каб. 306</cp:lastModifiedBy>
  <dcterms:modified xsi:type="dcterms:W3CDTF">2023-06-01T05:47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