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6B60-C04B-47EF-A508-89ECA18748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A5F2-8C53-482D-A8B8-F40D6C24439E}" type="slidenum">
              <a:rPr b="0" lang="ru-RU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7DB-1FBB-4189-ABEC-C94A81AB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23D-DEDF-46C8-B3E5-7B8EEA8C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815-7740-4290-B747-650589DE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2AA-ADAE-4595-8EFA-EF85A78F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754F7-B813-48BE-B969-2DE8492FEC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33D3F-AA74-4A69-86B0-1F0BEBFB21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8746B-CF96-481B-8B49-6539AFA41D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7D947-90C8-4055-9CE6-4F3D219E96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10DCE-E36D-4F14-81CB-5924E23DBF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CB8B8-AE07-41D4-B2AA-3B928948A6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BEC66-AEED-49CC-9014-B3767EAB9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50C-B740-4280-85BC-2DEB4EE3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BEC85-3DE2-4B31-8F1F-CC480A6767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726D9-AFA0-4432-AA68-A5F8B75A2F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5CF91-0F64-4CF2-BA46-3F0CBA9712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2E581-C8DD-47F0-B769-D0A2A4406B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CF7ED-1BF4-4E96-8398-60CEF2875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72D-0924-4BE3-8340-B8A3D742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214-E4BD-4423-88E1-1F7D112A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6FA-AE2C-48DD-B783-E0C5325B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B34-F381-4D1E-85F4-4EDE203B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03E-2D1E-4000-85BF-4D5B60B5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C96-08EB-4C6F-A5B2-ED9F93F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761-061B-463A-A60B-2BE772F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0C63-B87E-4B89-9B11-10A8F6939E20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FB00-8ABD-4100-978A-02114FECAA50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143080"/>
            <a:ext cx="8026200" cy="30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Потребности 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человека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260280"/>
            <a:ext cx="864216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делать вывод к каждой паре суждений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Ни один ребенок не обладает терпением. Ни один нетерпеливый человек не может сидеть спокойн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Ни один ребенок не может сидеть спокойн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2. 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Все свиньи жирные. Все скелеты тощие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Все свиньи — не скелеты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3. 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Ни одна из моих кузин несправедлива. Все судьи справедливы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Ни одна из моих кузин не судья.</a:t>
            </a: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4. 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Сахар сладкий. Соль несладкая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Сахар — не соль. Соль — не сахар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6093000"/>
            <a:ext cx="8748720" cy="642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то имеет четыре ноги утром, две — днем, три — вечером и бывает самым слабым, когда имеет больше всего ног?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539640" y="476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. Мир чувств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484280"/>
            <a:ext cx="388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9770a"/>
                </a:solidFill>
                <a:latin typeface="Comic Sans MS"/>
              </a:rPr>
              <a:t>    </a:t>
            </a:r>
            <a:r>
              <a:rPr b="0" i="1" lang="ru-RU" sz="2000" spc="-1" strike="noStrike">
                <a:solidFill>
                  <a:srgbClr val="e9770a"/>
                </a:solidFill>
                <a:latin typeface="Comic Sans MS"/>
              </a:rPr>
              <a:t>Чувства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– отношение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еловека к чему-либо,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кому-либо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родств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дружбы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долг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прекрасного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любви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веры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чувство призвания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8" name="Picture 6" descr="RES-4"/>
          <p:cNvPicPr/>
          <p:nvPr/>
        </p:nvPicPr>
        <p:blipFill>
          <a:blip r:embed="rId1"/>
          <a:stretch/>
        </p:blipFill>
        <p:spPr>
          <a:xfrm>
            <a:off x="4284720" y="1197000"/>
            <a:ext cx="4595760" cy="4940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9" name="Line 11"/>
          <p:cNvSpPr/>
          <p:nvPr/>
        </p:nvSpPr>
        <p:spPr>
          <a:xfrm flipV="1">
            <a:off x="4282920" y="6813720"/>
            <a:ext cx="4897440" cy="7128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572000" y="6308640"/>
            <a:ext cx="4176720" cy="36828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П. Решетников «Опять двойка»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79280" y="4724280"/>
            <a:ext cx="38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9770a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e9770a"/>
                </a:solidFill>
                <a:latin typeface="Comic Sans MS"/>
              </a:rPr>
              <a:t>Эмоции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– переживания человека, его настроение в тот или иной момент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2" name="chimes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619280" y="1989000"/>
            <a:ext cx="60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Чувство порождает мысль, мысль будоражит чувства, они оказывают влияние на поступки человека. У духовно богатого человека развито чувство долга, справедливости. Он не оставит незамеченным бесчестный поступок. Любовь к истине, стремление узнать новое заставляют человека упорно трудиться, преодолевать трудн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ffff"/>
                </a:solidFill>
                <a:uFillTx/>
                <a:latin typeface="Comic Sans MS"/>
              </a:rPr>
              <a:t>Домашнее задание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§ 9, вопросы из рубрики «проверь себя»,</a:t>
            </a:r>
            <a:br>
              <a:rPr sz="3600"/>
            </a:br>
            <a:r>
              <a:rPr b="1" lang="ru-RU" sz="3600" spc="-1" strike="noStrike" u="sng">
                <a:solidFill>
                  <a:srgbClr val="0000ff"/>
                </a:solidFill>
                <a:uFillTx/>
                <a:latin typeface="Monotype Corsiva"/>
              </a:rPr>
              <a:t>на «4» и «5»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вопрос №5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из рубрики «в классе и дома»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3"/>
          <p:cNvSpPr txBox="1"/>
          <p:nvPr/>
        </p:nvSpPr>
        <p:spPr>
          <a:xfrm>
            <a:off x="1619280" y="2565360"/>
            <a:ext cx="606888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25560">
                <a:solidFill>
                  <a:srgbClr val="3366ff"/>
                </a:solidFill>
                <a:prstDash val="sysDot"/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лан урока.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84360" y="1989000"/>
            <a:ext cx="770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977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Какие бывают потребности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977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Духовный мир человека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977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Мир мыслей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977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Мир чувств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0" name="Picture 5" descr="guest-1"/>
          <p:cNvPicPr/>
          <p:nvPr/>
        </p:nvPicPr>
        <p:blipFill>
          <a:blip r:embed="rId1"/>
          <a:stretch/>
        </p:blipFill>
        <p:spPr>
          <a:xfrm>
            <a:off x="539640" y="26028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68360" y="263700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e9770a"/>
                </a:solidFill>
                <a:latin typeface="Comic Sans MS"/>
              </a:rPr>
              <a:t>Живет на свете человек. Всё у него есть. Всё его устраивает, он ни о чём не мечтает, ни к чему не стремится. Он просто живет и ничего не делает.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49760" y="43128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судим вместе:</a:t>
            </a:r>
            <a:endParaRPr b="0" lang="en-US" sz="4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1. Какие бывают потребности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341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9770a"/>
                </a:solidFill>
                <a:uFillTx/>
                <a:latin typeface="Arial"/>
              </a:rPr>
              <a:t>Потребности</a:t>
            </a: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 – это осознаваемая человеком нужда в том, что необходимо для поддержания организма и развития личн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116000" y="2637000"/>
            <a:ext cx="684072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отребности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 flipH="1">
            <a:off x="2340000" y="3284640"/>
            <a:ext cx="1511280" cy="57600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4572000" y="3284640"/>
            <a:ext cx="0" cy="79200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435640" y="3213000"/>
            <a:ext cx="1152360" cy="72072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250920" y="4221000"/>
            <a:ext cx="273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Биологические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(воздух, вода, еда, сон, отдых)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276720" y="4221000"/>
            <a:ext cx="252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оциальные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(в общении, в труде)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6118200" y="4149720"/>
            <a:ext cx="302580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Духовные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Comic Sans MS"/>
              </a:rPr>
              <a:t>(в познании окружающего мира, получении знаний, умений, достижении гармонии и красот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50920" y="62164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Общество порождает определённые потребности человека, которые в свою очередь оказывают влияние на развитие самого общества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Безымянный"/>
          <p:cNvPicPr/>
          <p:nvPr/>
        </p:nvPicPr>
        <p:blipFill>
          <a:blip r:embed="rId1"/>
          <a:srcRect l="984" t="1575" r="984" b="787"/>
          <a:stretch/>
        </p:blipFill>
        <p:spPr>
          <a:xfrm>
            <a:off x="360360" y="1484280"/>
            <a:ext cx="3584520" cy="4464000"/>
          </a:xfrm>
          <a:prstGeom prst="rect">
            <a:avLst/>
          </a:prstGeom>
          <a:ln w="57240">
            <a:solidFill>
              <a:srgbClr val="e9770a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250920" y="40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ан Франсуа Шампольон (1790-1832гг)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5" name="Picture 15" descr="0013"/>
          <p:cNvPicPr/>
          <p:nvPr/>
        </p:nvPicPr>
        <p:blipFill>
          <a:blip r:embed="rId2"/>
          <a:stretch/>
        </p:blipFill>
        <p:spPr>
          <a:xfrm>
            <a:off x="4071960" y="2214720"/>
            <a:ext cx="2149560" cy="251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16_4"/>
          <p:cNvPicPr/>
          <p:nvPr/>
        </p:nvPicPr>
        <p:blipFill>
          <a:blip r:embed="rId3"/>
          <a:stretch/>
        </p:blipFill>
        <p:spPr>
          <a:xfrm>
            <a:off x="6237360" y="1571760"/>
            <a:ext cx="2906640" cy="199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305_19415"/>
          <p:cNvPicPr/>
          <p:nvPr/>
        </p:nvPicPr>
        <p:blipFill>
          <a:blip r:embed="rId4"/>
          <a:stretch/>
        </p:blipFill>
        <p:spPr>
          <a:xfrm>
            <a:off x="6357960" y="4071960"/>
            <a:ext cx="2575080" cy="1887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8"/>
          <p:cNvSpPr/>
          <p:nvPr/>
        </p:nvSpPr>
        <p:spPr>
          <a:xfrm>
            <a:off x="324000" y="6165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 всех ли людей потребности одинаковые?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5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324000" y="1557360"/>
            <a:ext cx="8640720" cy="1511280"/>
          </a:xfrm>
          <a:prstGeom prst="rect">
            <a:avLst/>
          </a:prstGeom>
          <a:solidFill>
            <a:srgbClr val="ffff99"/>
          </a:solidFill>
          <a:ln w="38160">
            <a:solidFill>
              <a:srgbClr val="e9770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476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2. Духовный мир человека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95280" y="1628640"/>
            <a:ext cx="849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«Я ем, чтобы жить. А некоторые люди живут, чтобы есть»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Сокра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4000" y="3500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9770a"/>
                </a:solidFill>
                <a:uFillTx/>
                <a:latin typeface="Comic Sans MS"/>
              </a:rPr>
              <a:t>Духовный мир</a:t>
            </a: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 – внутренний мир человека, мир его мыслей и чувств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Он формируется в </a:t>
            </a:r>
            <a:r>
              <a:rPr b="0" i="1" lang="ru-RU" sz="2400" spc="-1" strike="noStrike">
                <a:solidFill>
                  <a:srgbClr val="e9770a"/>
                </a:solidFill>
                <a:latin typeface="Comic Sans MS"/>
              </a:rPr>
              <a:t>процессе познания </a:t>
            </a:r>
            <a:r>
              <a:rPr b="0" lang="ru-RU" sz="2400" spc="-1" strike="noStrike">
                <a:solidFill>
                  <a:srgbClr val="e9770a"/>
                </a:solidFill>
                <a:latin typeface="Comic Sans MS"/>
              </a:rPr>
              <a:t>(приобретения знаний). Духовный мир каждого человека уникален. Духовно богатый человек стремится к новым знаниям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mbria"/>
              </a:rPr>
              <a:t>Проверь себя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4240" y="1714680"/>
            <a:ext cx="564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9770a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770a"/>
                </a:solidFill>
                <a:latin typeface="Cambria"/>
              </a:rPr>
              <a:t>Что такое потребности?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57120" y="2143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требности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222268"/>
                </a:solidFill>
                <a:latin typeface="Arial"/>
              </a:rPr>
              <a:t>это осознаваемая человеком нужда в том, что необходимо для поддержания организма и развития личн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0040" y="3357720"/>
            <a:ext cx="7286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770a"/>
                </a:solidFill>
                <a:latin typeface="Cambria"/>
              </a:rPr>
              <a:t>2</a:t>
            </a:r>
            <a:r>
              <a:rPr b="1" lang="ru-RU" sz="4000" spc="-1" strike="noStrike">
                <a:solidFill>
                  <a:srgbClr val="e9770a"/>
                </a:solidFill>
                <a:latin typeface="Cambria"/>
              </a:rPr>
              <a:t>.</a:t>
            </a:r>
            <a:r>
              <a:rPr b="1" lang="ru-RU" sz="2800" spc="-1" strike="noStrike">
                <a:solidFill>
                  <a:srgbClr val="e9770a"/>
                </a:solidFill>
                <a:latin typeface="Cambria"/>
              </a:rPr>
              <a:t> Какие потребности есть у человека?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85880" y="41432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Биологические, социальные, духовные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42960" y="46432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770a"/>
                </a:solidFill>
                <a:latin typeface="Cambria"/>
              </a:rPr>
              <a:t>3. Что составляет духовный мир человека?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714240" y="52149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нутренний мир человека, его мысли и чувства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264312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§ 4 стр. 33-36 , Р\т задание № 3 стр.19; выучить слова в словарике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9640" y="476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3. Мир мыслей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24000" y="1484280"/>
            <a:ext cx="842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Мысли</a:t>
            </a:r>
            <a:r>
              <a:rPr b="1" lang="ru-RU" sz="24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— это важная составляющая духовного мира человека; способность мыслить — отличительная черта человека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Когда у человека возникает какая-нибудь мысль, он выражает ее суждением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ждение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— высказывание, содержащее определенную мысль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«Корень ученья горек, да плод его сладок»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«Семь раз отмерь — один раз отрежь»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Если из нескольких логически связанных суждений можно вывести новое знание, то это — </a:t>
            </a: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умозаключение.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Comic Sans MS"/>
              </a:rPr>
              <a:t>«Азбука—к мудрости ступенька. Но не всякий, кто читает, в чтении силу знает. Чтобы стать мудрым, нужно вдумчиво читать, размышлять над прочитанным»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strips dir="ru"/>
    <p:sndAc>
      <p:stSnd>
        <p:snd r:embed="rId1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3:56:28Z</dcterms:created>
  <dc:creator>Vicont</dc:creator>
  <dc:description/>
  <dc:language>en-US</dc:language>
  <cp:lastModifiedBy>Limax</cp:lastModifiedBy>
  <dcterms:modified xsi:type="dcterms:W3CDTF">2014-10-16T09:27:52Z</dcterms:modified>
  <cp:revision>28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