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670675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4643-DDCD-4DB5-AE97-D10D178F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0D3B-39CC-45F0-B60E-B3F86B93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7E71-5AEB-4FB3-B5BF-22D3B73A8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E112-6B89-44DC-B27C-2AE32F71A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FC67-146D-4096-B87C-BAD28318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D346-A3D4-4899-B48C-069E84CB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C086-405E-4089-ACEA-C8BE1E45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C865-D391-4032-9A61-3C00DD0B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E40B-A1D3-4CC5-B849-5C8FB239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3480-5BEA-4CA1-99FD-9B18AE79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A24C-EFAE-4C87-96DC-A5E6D2C0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C958-3C4F-4B1D-AAFF-B614AD97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afd6"/>
            </a:gs>
            <a:gs pos="100000">
              <a:srgbClr val="f0ea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57FC-6A2C-468A-9914-6802F7CE9B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20840" y="762120"/>
            <a:ext cx="8229600" cy="3456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84000" y="4508640"/>
            <a:ext cx="8064360" cy="19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вожилова Наталья Сергеевна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тодист (координатор Сетевого сообщества) ГБУ ДО ДД(Ю)Т Московского района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611280" y="3333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У ДО  ДД(Ю)Т Московского района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3584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82760" y="443700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П формируются с учетом части 9 статьи 2 Федерального Закона от 29.12.2012 № 273-ФЗ «Об образовании в Российской Федер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люс 3"/>
          <p:cNvSpPr/>
          <p:nvPr/>
        </p:nvSpPr>
        <p:spPr>
          <a:xfrm>
            <a:off x="1116000" y="324000"/>
            <a:ext cx="693720" cy="676080"/>
          </a:xfrm>
          <a:custGeom>
            <a:avLst/>
            <a:gdLst/>
            <a:ahLst/>
            <a:rect l="l" t="t" r="r" b="b"/>
            <a:pathLst>
              <a:path w="693737" h="676275">
                <a:moveTo>
                  <a:pt x="91955" y="258608"/>
                </a:moveTo>
                <a:lnTo>
                  <a:pt x="267339" y="258608"/>
                </a:lnTo>
                <a:lnTo>
                  <a:pt x="267339" y="89640"/>
                </a:lnTo>
                <a:lnTo>
                  <a:pt x="426398" y="89640"/>
                </a:lnTo>
                <a:lnTo>
                  <a:pt x="426398" y="258608"/>
                </a:lnTo>
                <a:lnTo>
                  <a:pt x="601782" y="258608"/>
                </a:lnTo>
                <a:lnTo>
                  <a:pt x="601782" y="417667"/>
                </a:lnTo>
                <a:lnTo>
                  <a:pt x="426398" y="417667"/>
                </a:lnTo>
                <a:lnTo>
                  <a:pt x="426398" y="586635"/>
                </a:lnTo>
                <a:lnTo>
                  <a:pt x="267339" y="586635"/>
                </a:lnTo>
                <a:lnTo>
                  <a:pt x="267339" y="417667"/>
                </a:lnTo>
                <a:lnTo>
                  <a:pt x="91955" y="417667"/>
                </a:lnTo>
                <a:lnTo>
                  <a:pt x="91955" y="258608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ffffff"/>
            </a:solidFill>
            <a:round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Минус 4"/>
          <p:cNvSpPr/>
          <p:nvPr/>
        </p:nvSpPr>
        <p:spPr>
          <a:xfrm>
            <a:off x="826920" y="1916280"/>
            <a:ext cx="865440" cy="820440"/>
          </a:xfrm>
          <a:custGeom>
            <a:avLst/>
            <a:gdLst/>
            <a:ahLst/>
            <a:rect l="l" t="t" r="r" b="b"/>
            <a:pathLst>
              <a:path w="865187" h="820737">
                <a:moveTo>
                  <a:pt x="114681" y="313850"/>
                </a:moveTo>
                <a:lnTo>
                  <a:pt x="750506" y="313850"/>
                </a:lnTo>
                <a:lnTo>
                  <a:pt x="750506" y="506887"/>
                </a:lnTo>
                <a:lnTo>
                  <a:pt x="114681" y="506887"/>
                </a:lnTo>
                <a:lnTo>
                  <a:pt x="114681" y="31385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ffffff"/>
            </a:solidFill>
            <a:round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Объект 3" descr=""/>
          <p:cNvPicPr/>
          <p:nvPr/>
        </p:nvPicPr>
        <p:blipFill>
          <a:blip r:embed="rId1"/>
          <a:srcRect l="28349" t="16982" r="24401" b="43358"/>
          <a:stretch/>
        </p:blipFill>
        <p:spPr>
          <a:xfrm>
            <a:off x="971640" y="981000"/>
            <a:ext cx="7386480" cy="4961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8229600" cy="15858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3" descr=""/>
          <p:cNvPicPr/>
          <p:nvPr/>
        </p:nvPicPr>
        <p:blipFill>
          <a:blip r:embed="rId2"/>
          <a:srcRect l="31250" t="38891" r="15626" b="18520"/>
          <a:stretch/>
        </p:blipFill>
        <p:spPr>
          <a:xfrm>
            <a:off x="826920" y="2060640"/>
            <a:ext cx="7664760" cy="345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10:44:44Z</dcterms:created>
  <dc:creator>Metod</dc:creator>
  <dc:description/>
  <dc:language>en-US</dc:language>
  <cp:lastModifiedBy>metod</cp:lastModifiedBy>
  <cp:lastPrinted>2023-04-28T12:29:28Z</cp:lastPrinted>
  <dcterms:modified xsi:type="dcterms:W3CDTF">2023-06-02T13:09:56Z</dcterms:modified>
  <cp:revision>201</cp:revision>
  <dc:subject/>
  <dc:title>Семинар  «Виды методической продукции»</dc:title>
</cp:coreProperties>
</file>