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402-7E97-433E-8664-522F2F31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653-E25A-4A45-B0D4-B09BEA2A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9BF-B3BC-4751-954E-D517BBE2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90C-2AC9-4637-BC32-2B6457B5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D719-8048-4900-B6D9-5E39522B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F50D-443F-404E-92B9-2511498E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B463-18EC-4A8A-B8A3-35A3401B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9E5C-825B-4865-A973-571CD217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E381-4850-47DD-AB2A-9BA7D014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AEB-8E7A-43A9-A3AB-05C0A196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B986-E5C9-46EF-A966-3686EE3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AB4-E4EE-42B1-BB67-7082AF12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15BF-605D-41D5-BE7D-7CACDF2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68AF-AFE2-41E5-9252-2669D2E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7E1D-585B-4968-9658-D9567FFC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F8AE-541E-40DD-966B-5C661907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C059-94F2-4234-AE85-0B206B6C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31C-31C3-41FD-BD30-101BF236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1AC-EC30-48C2-8D04-5CE7DE4E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0F7-EB3E-40AE-B7B3-FBB0681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B21-5D27-490B-A764-71CB6799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2E7-9E05-4AC5-ABE9-D060A510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757-7658-4A74-B643-B6583B6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16D-7671-49D4-B0B9-8CE5143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42F6-0238-4FE7-94E7-56D61382E21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9FC-C84D-4EBA-895C-AEE48AE91D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Физ.минутка для глаз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Стрелка вправо 19"/>
          <p:cNvSpPr/>
          <p:nvPr/>
        </p:nvSpPr>
        <p:spPr>
          <a:xfrm rot="16200000">
            <a:off x="232560" y="16246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4-конечная звезда 16"/>
          <p:cNvSpPr/>
          <p:nvPr/>
        </p:nvSpPr>
        <p:spPr>
          <a:xfrm rot="20359200">
            <a:off x="366840" y="958680"/>
            <a:ext cx="2214360" cy="214344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440"/>
              <a:gd name="textAreaBottom" fmla="*/ 1260360 h 214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4-конечная звезда 17"/>
          <p:cNvSpPr/>
          <p:nvPr/>
        </p:nvSpPr>
        <p:spPr>
          <a:xfrm rot="1902600">
            <a:off x="6256080" y="1065240"/>
            <a:ext cx="2214360" cy="214308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4-конечная звезда 18"/>
          <p:cNvSpPr/>
          <p:nvPr/>
        </p:nvSpPr>
        <p:spPr>
          <a:xfrm rot="1770600">
            <a:off x="6241680" y="430848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4-конечная звезда 19"/>
          <p:cNvSpPr/>
          <p:nvPr/>
        </p:nvSpPr>
        <p:spPr>
          <a:xfrm rot="19874400">
            <a:off x="236520" y="431460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4-конечная звезда 20"/>
          <p:cNvSpPr/>
          <p:nvPr/>
        </p:nvSpPr>
        <p:spPr>
          <a:xfrm>
            <a:off x="3214800" y="2786040"/>
            <a:ext cx="2214360" cy="2143080"/>
          </a:xfrm>
          <a:custGeom>
            <a:avLst/>
            <a:gdLst>
              <a:gd name="textAreaLeft" fmla="*/ 952200 w 2214360"/>
              <a:gd name="textAreaRight" fmla="*/ 1262160 w 2214360"/>
              <a:gd name="textAreaTop" fmla="*/ 921240 h 2143080"/>
              <a:gd name="textAreaBottom" fmla="*/ 12218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87" y="9287"/>
                </a:lnTo>
                <a:lnTo>
                  <a:pt x="10800" y="0"/>
                </a:lnTo>
                <a:lnTo>
                  <a:pt x="12313" y="9287"/>
                </a:lnTo>
                <a:lnTo>
                  <a:pt x="21600" y="10800"/>
                </a:lnTo>
                <a:lnTo>
                  <a:pt x="12313" y="12313"/>
                </a:lnTo>
                <a:lnTo>
                  <a:pt x="10800" y="21600"/>
                </a:lnTo>
                <a:lnTo>
                  <a:pt x="9287" y="12313"/>
                </a:lnTo>
                <a:lnTo>
                  <a:pt x="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39593E-006 C 0.00643 -0.00277 0.01008 -0.00925 0.01633 -0.01179 C 0.02258 -0.02451 0.03212 -0.037 0.04324 -0.04163 C 0.04914 -0.04671 0.05278 -0.05273 0.05973 -0.0555 C 0.06667 -0.06545 0.07744 -0.06753 0.08647 -0.07354 C 0.09324 -0.07794 0.08924 -0.07701 0.09549 -0.08349 C 0.10192 -0.09019 0.11025 -0.09597 0.11789 -0.09921 C 0.12431 -0.10823 0.13594 -0.1191 0.1448 -0.12326 C 0.15331 -0.1346 0.14897 -0.13182 0.1566 -0.13506 C 0.16268 -0.14269 0.16893 -0.1487 0.17605 -0.15495 C 0.18525 -0.16281 0.1849 -0.16952 0.19688 -0.17299 C 0.2014 -0.17692 0.21094 -0.18293 0.21494 -0.18871 C 0.21598 -0.1901 0.21667 -0.19195 0.21789 -0.19287 C 0.22049 -0.19496 0.22379 -0.19542 0.22674 -0.19681 C 0.23126 -0.20236 0.23438 -0.20236 0.24028 -0.20467 C 0.24844 -0.20791 0.25938 -0.21138 0.26719 -0.2167 C 0.26876 -0.21785 0.27015 -0.21924 0.27153 -0.22063 C 0.2731 -0.22248 0.27414 -0.22525 0.27605 -0.22664 C 0.27969 -0.22942 0.28681 -0.2308 0.29098 -0.23242 C 0.30001 -0.24075 0.31199 -0.24422 0.3224 -0.24838 C 0.32379 -0.24977 0.32674 -0.25231 0.32674 -0.25231 E">
                                      <p:cBhvr>
                                        <p:cTn id="6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716E-006 C -0.06632 -0.02729 -0.00295000000000001 -0.00185 -0.19861 0.00208 C -0.34392 0.00509 -0.48906 0.00208 -0.63438 0.00208 E">
                                      <p:cBhvr>
                                        <p:cTn id="6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2858E-006 C 0.00556 0.00278 0.00608 0.00763 0.01181 0.00995 C 0.01702 0.02012 0.02431 0.02937 0.03282 0.034 C 0.03959 0.04579 0.03942 0.04001 0.04775 0.04787 C 0.05504 0.05481 0.05973 0.06591 0.06858 0.06961 C 0.07119 0.07193 0.07327 0.0754 0.07605 0.07771 C 0.07744 0.07886 0.07917 0.07863 0.08056 0.07956 C 0.08473 0.08256 0.08855 0.08603 0.09254 0.0895 C 0.09914 0.09505 0.10469 0.1013 0.11181 0.10546 C 0.11702 0.10847 0.12292 0.11101 0.1283 0.11332 C 0.13126 0.11471 0.13733 0.11749 0.13733 0.11749 C 0.14306 0.12304 0.14723 0.12442 0.15365 0.12743 C 0.15903 0.13252 0.16372 0.13668 0.17015 0.13923 C 0.17987 0.14778 0.19167 0.15079 0.2014 0.15911 C 0.20903 0.16559 0.21824 0.17183 0.22535 0.179 C 0.2323 0.18571 0.23803 0.19334 0.24619 0.19681 C 0.25122 0.20398 0.25695 0.20699 0.26268 0.21277 C 0.26528 0.21531 0.26737 0.21855 0.27015 0.22086 C 0.2724 0.22271 0.27518 0.22318 0.27761 0.22479 C 0.28021 0.22641 0.28265 0.22873 0.28508 0.23081 C 0.28837 0.23358 0.29063 0.23798 0.29393 0.24075 C 0.29532 0.24191 0.29705 0.24191 0.29844 0.2426 C 0.30053 0.24376 0.30244 0.24491 0.30435 0.24653 C 0.30955 0.25116 0.31303 0.25763 0.31928 0.26064 C 0.32692 0.27012 0.31754 0.25948 0.32674 0.26642 C 0.33403 0.27197 0.33855 0.27614 0.34619 0.28053 C 0.35105 0.2833 0.36112 0.28839 0.36112 0.28839 C 0.36876 0.29811 0.37761 0.30088 0.38646 0.30828 C 0.40313 0.32239 0.39028 0.31476 0.40435 0.32216 C 0.41216 0.33187 0.42205 0.33742 0.43126 0.34413 C 0.4481 0.35639 0.46355 0.37211 0.48212 0.37974 C 0.48872 0.38899 0.48091 0.37951 0.48942 0.38576 C 0.49324 0.38876 0.50035 0.3957 0.50435 0.39963 C 0.50695 0.40218 0.51337 0.40379 0.51337 0.40379 C 0.52258 0.41258 0.52344 0.41328 0.53282 0.41767 C 0.53803 0.42461 0.54046 0.42715 0.54775 0.42947 C 0.55209 0.43571 0.55973 0.43941 0.56563 0.44334 C 0.57171 0.4519 0.5816 0.45398 0.58942 0.4593 C 0.59462 0.46277 0.59879 0.46693 0.60435 0.46924 C 0.60591 0.47063 0.60712 0.47225 0.60886 0.47318 C 0.61077 0.47433 0.61303 0.4741 0.61494 0.47526 C 0.63126 0.48636 0.61268 0.4778 0.62535 0.48312 C 0.63056 0.49029 0.62969 0.49029 0.64028 0.49515 C 0.64185 0.49584 0.6448 0.49723 0.6448 0.49723 E">
                                      <p:cBhvr>
                                        <p:cTn id="6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83071E-006 C -0.12136 -0.05597 -0.38507 -0.0081 -0.38507 -0.0081 C -0.47674 -0.01827 -0.56198 -0.01596 -0.65677 -0.01596 E">
                                      <p:cBhvr>
                                        <p:cTn id="7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63645E-006 C 0.00313 -0.00047 0.01424 -0.0007 0.01928 -0.00393 C 0.03351 -0.01318 0.04445 -0.02891 0.05973 -0.03585 C 0.06615 -0.04834 0.07709 -0.05389 0.08646 -0.06152 C 0.09115 -0.06522 0.09879 -0.07493 0.10435 -0.07748 C 0.11077 -0.08048 0.11633 -0.08557 0.1224 -0.0895 C 0.1382 -0.09991 0.15886 -0.11032 0.17605 -0.11726 C 0.18195 -0.12234 0.18872 -0.12697 0.19549 -0.12928 C 0.20556 -0.1383 0.21841 -0.14778 0.22987 -0.1531 C 0.24185 -0.16536 0.25764 -0.16883 0.27153 -0.17692 C 0.28264 -0.1834 0.29289 -0.19126 0.30435 -0.19681 C 0.31146 -0.2056 0.32258 -0.20282 0.33126 -0.20884 E">
                                      <p:cBhvr>
                                        <p:cTn id="7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-конечная звезда 10"/>
          <p:cNvSpPr/>
          <p:nvPr/>
        </p:nvSpPr>
        <p:spPr>
          <a:xfrm>
            <a:off x="1428840" y="35712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4-конечная звезда 12"/>
          <p:cNvSpPr/>
          <p:nvPr/>
        </p:nvSpPr>
        <p:spPr>
          <a:xfrm rot="19151400">
            <a:off x="1374480" y="45828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Рисунок 5" descr="анкруг2.gif"/>
          <p:cNvPicPr/>
          <p:nvPr/>
        </p:nvPicPr>
        <p:blipFill>
          <a:blip r:embed="rId1"/>
          <a:stretch/>
        </p:blipFill>
        <p:spPr>
          <a:xfrm>
            <a:off x="3929040" y="257184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04:57:35Z</dcterms:created>
  <dc:creator>Admin</dc:creator>
  <dc:description/>
  <dc:language>en-US</dc:language>
  <cp:lastModifiedBy>Admin</cp:lastModifiedBy>
  <dcterms:modified xsi:type="dcterms:W3CDTF">2013-06-21T05:01:01Z</dcterms:modified>
  <cp:revision>1</cp:revision>
  <dc:subject/>
  <dc:title>Физ.минутка для глаз</dc:title>
</cp:coreProperties>
</file>