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5484-2BF8-421B-A4E4-F576C7D3F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9310-E89A-4958-AE4B-C81D4DFCD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47FB-71FC-4F48-AF83-8FDF4F2B4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A08F-18D8-4D11-831C-41F14E91E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FAB3A-47AE-46D5-9E16-955C6D31C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4036B-FDCE-4B18-8371-D7F4175C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17496-91CF-4411-BDBA-894B7702C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223C9-1D3D-4FBD-8915-B020F9202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FECAB-0A7E-4B6A-9E33-0BE7A0179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865D7-324C-44C2-9F2B-815C5F214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BC055-6AAA-491C-8E27-2C72BE0C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5B2A-7096-458A-AEA1-21B3801E1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42A52-7D87-44B2-BE03-0432DCF8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B6259-C3CF-4612-BB1B-3E791FC0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537CF-E82F-46CE-9CF3-286E55805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5B753-A55D-4188-90C7-44429D0C7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287DC-E586-43CA-9305-D7647CFEF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F638-ADDA-453F-995F-82734A550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3BA1-1512-4483-A1B4-DF4FD29E5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359E-1412-4F33-B809-535C1ED7A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CCAC-726C-4DA3-8EBD-8130C05B2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1A17-5E66-40F5-8C9F-30C789DE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6F69-00AC-4418-9E9B-149085A8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EA34-D2E5-40BD-AFA4-BF10E897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7EE25-099B-45B8-A7F9-8DF16FAC06DB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1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24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5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9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4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5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9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4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513AB-C905-4543-91FE-36DFB18AC67B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>
            <a:alpha val="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Рисунок 2" descr=""/>
          <p:cNvPicPr/>
          <p:nvPr/>
        </p:nvPicPr>
        <p:blipFill>
          <a:blip r:embed="rId1"/>
          <a:stretch/>
        </p:blipFill>
        <p:spPr>
          <a:xfrm>
            <a:off x="1620720" y="762120"/>
            <a:ext cx="620100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539640" y="32400"/>
            <a:ext cx="6491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Сидят рыбаки, стерегут поплавки.</a:t>
            </a:r>
            <a:br>
              <a:rPr sz="2400"/>
            </a:b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Рыбак Корней поймал 13 окуней,</a:t>
            </a:r>
            <a:br>
              <a:rPr sz="2400"/>
            </a:b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Рыбак Евсей – 4 карасей,</a:t>
            </a:r>
            <a:br>
              <a:rPr sz="2400"/>
            </a:b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А рыбак Михаил двух сомов изловил.</a:t>
            </a:r>
            <a:br>
              <a:rPr sz="2400"/>
            </a:b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Сколько рыб рыбаки натаскали из реки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755640" y="2212920"/>
            <a:ext cx="43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Что за цифра акробат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Если на голову встанет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Ровно на 3 меньше стане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179280" y="379692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Он давно знакомый мой, каждый угол в нём прямой,</a:t>
            </a:r>
            <a:br>
              <a:rPr sz="2400"/>
            </a:b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Все 4 стороны одинаковой длины.</a:t>
            </a:r>
            <a:br>
              <a:rPr sz="2400"/>
            </a:b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Вам его представить рад. Как зовут ег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4" dur="1" fill="hold"/>
                                  <p:tgtEl>
                                    <p:spTgt spid="2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WordArt 4"/>
          <p:cNvSpPr txBox="1"/>
          <p:nvPr/>
        </p:nvSpPr>
        <p:spPr>
          <a:xfrm>
            <a:off x="324000" y="2133720"/>
            <a:ext cx="8135640" cy="17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cap="rnd" w="936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  <a:solidFill>
                  <a:srgbClr val="7030a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апитаны</a:t>
            </a:r>
            <a:endParaRPr b="1" lang="en-US" sz="1800" spc="1" strike="noStrike"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  <a:solidFill>
                <a:srgbClr val="7030a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4" descr="img3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1692360" y="620640"/>
            <a:ext cx="5184720" cy="13683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img4"/>
          <p:cNvPicPr/>
          <p:nvPr/>
        </p:nvPicPr>
        <p:blipFill>
          <a:blip r:embed="rId2">
            <a:lum contrast="-12000"/>
          </a:blip>
          <a:stretch/>
        </p:blipFill>
        <p:spPr>
          <a:xfrm>
            <a:off x="1476360" y="2421000"/>
            <a:ext cx="5975280" cy="1368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img5"/>
          <p:cNvPicPr/>
          <p:nvPr/>
        </p:nvPicPr>
        <p:blipFill>
          <a:blip r:embed="rId3">
            <a:lum contrast="-12000"/>
          </a:blip>
          <a:stretch/>
        </p:blipFill>
        <p:spPr>
          <a:xfrm>
            <a:off x="2195640" y="4437000"/>
            <a:ext cx="5256000" cy="17287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WordArt 4"/>
          <p:cNvSpPr txBox="1"/>
          <p:nvPr/>
        </p:nvSpPr>
        <p:spPr>
          <a:xfrm>
            <a:off x="179280" y="2565360"/>
            <a:ext cx="835344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ff00"/>
                  </a:solidFill>
                  <a:miter/>
                </a:ln>
                <a:solidFill>
                  <a:srgbClr val="7030a0"/>
                </a:solidFill>
                <a:latin typeface="Times New Roman"/>
              </a:rPr>
              <a:t>Художники</a:t>
            </a:r>
            <a:endParaRPr b="1" lang="en-US" sz="1800" spc="1" strike="noStrike">
              <a:ln w="25560">
                <a:solidFill>
                  <a:srgbClr val="00ff00"/>
                </a:solidFill>
                <a:miter/>
              </a:ln>
              <a:solidFill>
                <a:srgbClr val="7030a0"/>
              </a:solidFill>
              <a:latin typeface="Times New Roman"/>
              <a:ea typeface="Times New Roman"/>
            </a:endParaRPr>
          </a:p>
        </p:txBody>
      </p:sp>
    </p:spTree>
  </p:cSld>
  <p:transition spd="slow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WordArt 4"/>
          <p:cNvSpPr txBox="1"/>
          <p:nvPr/>
        </p:nvSpPr>
        <p:spPr>
          <a:xfrm>
            <a:off x="2916360" y="2349360"/>
            <a:ext cx="575928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ff66"/>
                    </a:gs>
                    <a:gs pos="100000">
                      <a:srgbClr val="ffffff"/>
                    </a:gs>
                  </a:gsLst>
                  <a:lin ang="27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Monotype Corsiva"/>
              </a:rPr>
              <a:t>                 </a:t>
            </a:r>
            <a:endParaRPr b="0" lang="en-US" sz="54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50000">
                    <a:srgbClr val="ffff66"/>
                  </a:gs>
                  <a:gs pos="100000">
                    <a:srgbClr val="ffffff"/>
                  </a:gs>
                </a:gsLst>
                <a:lin ang="27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 spd="slow">
    <p:strips dir="r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13"/>
          <p:cNvGrpSpPr/>
          <p:nvPr/>
        </p:nvGrpSpPr>
        <p:grpSpPr>
          <a:xfrm>
            <a:off x="395280" y="549360"/>
            <a:ext cx="8137080" cy="5832000"/>
            <a:chOff x="395280" y="549360"/>
            <a:chExt cx="8137080" cy="5832000"/>
          </a:xfrm>
        </p:grpSpPr>
        <p:grpSp>
          <p:nvGrpSpPr>
            <p:cNvPr id="218" name="Group 10"/>
            <p:cNvGrpSpPr/>
            <p:nvPr/>
          </p:nvGrpSpPr>
          <p:grpSpPr>
            <a:xfrm>
              <a:off x="395280" y="549360"/>
              <a:ext cx="2231640" cy="1942560"/>
              <a:chOff x="395280" y="549360"/>
              <a:chExt cx="2231640" cy="1942560"/>
            </a:xfrm>
          </p:grpSpPr>
          <p:sp>
            <p:nvSpPr>
              <p:cNvPr id="219" name="Rectangle 4"/>
              <p:cNvSpPr/>
              <p:nvPr/>
            </p:nvSpPr>
            <p:spPr>
              <a:xfrm>
                <a:off x="395280" y="549360"/>
                <a:ext cx="2231640" cy="19425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Text Box 7"/>
              <p:cNvSpPr/>
              <p:nvPr/>
            </p:nvSpPr>
            <p:spPr>
              <a:xfrm>
                <a:off x="900720" y="937080"/>
                <a:ext cx="142164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1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6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Group 11"/>
            <p:cNvGrpSpPr/>
            <p:nvPr/>
          </p:nvGrpSpPr>
          <p:grpSpPr>
            <a:xfrm>
              <a:off x="5796000" y="4437000"/>
              <a:ext cx="2736360" cy="1944360"/>
              <a:chOff x="5796000" y="4437000"/>
              <a:chExt cx="2736360" cy="1944360"/>
            </a:xfrm>
          </p:grpSpPr>
          <p:sp>
            <p:nvSpPr>
              <p:cNvPr id="222" name="AutoShape 5"/>
              <p:cNvSpPr/>
              <p:nvPr/>
            </p:nvSpPr>
            <p:spPr>
              <a:xfrm>
                <a:off x="5796000" y="4437000"/>
                <a:ext cx="2736360" cy="1944360"/>
              </a:xfrm>
              <a:prstGeom prst="triangle">
                <a:avLst>
                  <a:gd name="adj" fmla="val 50000"/>
                </a:avLst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Text Box 8"/>
              <p:cNvSpPr/>
              <p:nvPr/>
            </p:nvSpPr>
            <p:spPr>
              <a:xfrm>
                <a:off x="6767280" y="5234400"/>
                <a:ext cx="97092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1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4" name="Group 12"/>
            <p:cNvGrpSpPr/>
            <p:nvPr/>
          </p:nvGrpSpPr>
          <p:grpSpPr>
            <a:xfrm>
              <a:off x="2771640" y="2349360"/>
              <a:ext cx="2736720" cy="2158920"/>
              <a:chOff x="2771640" y="2349360"/>
              <a:chExt cx="2736720" cy="2158920"/>
            </a:xfrm>
          </p:grpSpPr>
          <p:sp>
            <p:nvSpPr>
              <p:cNvPr id="225" name="Oval 6"/>
              <p:cNvSpPr/>
              <p:nvPr/>
            </p:nvSpPr>
            <p:spPr>
              <a:xfrm>
                <a:off x="2771640" y="2349360"/>
                <a:ext cx="2736720" cy="215892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Text Box 9"/>
              <p:cNvSpPr/>
              <p:nvPr/>
            </p:nvSpPr>
            <p:spPr>
              <a:xfrm>
                <a:off x="3282480" y="2805120"/>
                <a:ext cx="184608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1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WordArt 4"/>
          <p:cNvSpPr txBox="1"/>
          <p:nvPr/>
        </p:nvSpPr>
        <p:spPr>
          <a:xfrm>
            <a:off x="0" y="2146320"/>
            <a:ext cx="8604360" cy="301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7030a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Импровизация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7030a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zoom dir="in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468720" y="196560"/>
            <a:ext cx="530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Зайцы пилят брев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Они сделали 10 распил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Сколько получилось чурбачков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538920" y="1445760"/>
            <a:ext cx="600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Мальчик лёг спать в 8 часов вечер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поставив будильник та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чтобы он прозвенел в 9 часов ут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Сколько времени проспит мальчик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295200" y="3027600"/>
            <a:ext cx="8524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Когда Коля и Толя были маленьки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они часто пугалис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и от страха у них по спинам бегали мураш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У Коли по спине бегало 27 мураше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а у Толи на 3 мурашки больш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Сколько всего мурашек бегало по спинам у мальчиков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9" dur="1" fill="hold"/>
                                  <p:tgtEl>
                                    <p:spTgt spid="2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4"/>
          <p:cNvSpPr/>
          <p:nvPr/>
        </p:nvSpPr>
        <p:spPr>
          <a:xfrm>
            <a:off x="610920" y="223200"/>
            <a:ext cx="587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0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Первое – цифра – она в середине,</a:t>
            </a:r>
            <a:br>
              <a:rPr sz="2400"/>
            </a:b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Буква сначала и буква с конца.</a:t>
            </a:r>
            <a:br>
              <a:rPr sz="2400"/>
            </a:b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В целом – леса, города и равнины,</a:t>
            </a:r>
            <a:br>
              <a:rPr sz="2400"/>
            </a:b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К целому – полны любовью сердц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753120" y="1879200"/>
            <a:ext cx="557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1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Я приношу с собою бол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в лице – большое искажень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А “Ф” на “П” заменишь кол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то превращусь я в знак сложень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967320" y="3606120"/>
            <a:ext cx="552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2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Со звуком “С” я невкус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но в пищу каждому нуж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С “М” берегись мен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не то – я съем и платье, и пальто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484360" y="234900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Визитка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WordArt 4"/>
          <p:cNvSpPr txBox="1"/>
          <p:nvPr/>
        </p:nvSpPr>
        <p:spPr>
          <a:xfrm>
            <a:off x="1258920" y="2349360"/>
            <a:ext cx="72723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0">
                  <a:noFill/>
                </a:ln>
                <a:solidFill>
                  <a:srgbClr val="7030a0"/>
                </a:solidFill>
                <a:effectLst>
                  <a:outerShdw dist="18837" dir="2700000" blurRad="0" rotWithShape="0">
                    <a:srgbClr val="000000">
                      <a:alpha val="40000"/>
                    </a:srgbClr>
                  </a:outerShdw>
                </a:effectLst>
                <a:latin typeface="Times New Roman"/>
              </a:rPr>
              <a:t>Разминка</a:t>
            </a:r>
            <a:endParaRPr b="1" lang="en-US" sz="6600" spc="1" strike="noStrike">
              <a:ln w="0">
                <a:noFill/>
              </a:ln>
              <a:solidFill>
                <a:srgbClr val="7030a0"/>
              </a:solidFill>
              <a:effectLst>
                <a:outerShdw dist="18837" dir="2700000" blurRad="0" rotWithShape="0">
                  <a:srgbClr val="000000">
                    <a:alpha val="4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4"/>
          <p:cNvSpPr/>
          <p:nvPr/>
        </p:nvSpPr>
        <p:spPr>
          <a:xfrm>
            <a:off x="395280" y="0"/>
            <a:ext cx="8748720" cy="62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62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99"/>
                </a:solidFill>
                <a:latin typeface="Times New Roman"/>
              </a:rPr>
              <a:t>Какой ключ не отмыкает замок?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62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99"/>
                </a:solidFill>
                <a:latin typeface="Times New Roman"/>
              </a:rPr>
              <a:t>Какую траву и слепой узнает?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62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99"/>
                </a:solidFill>
                <a:latin typeface="Times New Roman"/>
              </a:rPr>
              <a:t>Из какой посуды не едят?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62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99"/>
                </a:solidFill>
                <a:latin typeface="Times New Roman"/>
              </a:rPr>
              <a:t>Сколько яиц можно съесть натощак?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62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99"/>
                </a:solidFill>
                <a:latin typeface="Times New Roman"/>
              </a:rPr>
              <a:t>Петух, стоя на одной ноге весит 5кг. Сколько он будет весить, стоя на двух ногах?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62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99"/>
                </a:solidFill>
                <a:latin typeface="Times New Roman"/>
              </a:rPr>
              <a:t>На руках 10 пальцев. Сколько пальцев на 10 руках?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62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99"/>
                </a:solidFill>
                <a:latin typeface="Times New Roman"/>
              </a:rPr>
              <a:t>У родителей 6 сыновей. Каждый имеет сестру. Сколько всего детей в семье?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62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99"/>
                </a:solidFill>
                <a:latin typeface="Times New Roman"/>
              </a:rPr>
              <a:t>Тройка лошадей пробежала путь 30км. Сколько пробежала каждая лошадь?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99"/>
                </a:solidFill>
                <a:latin typeface="Times New Roman"/>
              </a:rPr>
              <a:t>9. Какое число приказывает?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3"/>
          <p:cNvSpPr/>
          <p:nvPr/>
        </p:nvSpPr>
        <p:spPr>
          <a:xfrm>
            <a:off x="250920" y="260280"/>
            <a:ext cx="7921440" cy="62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900" spc="-1" strike="noStrike">
                <a:solidFill>
                  <a:srgbClr val="000099"/>
                </a:solidFill>
                <a:latin typeface="Times New Roman"/>
              </a:rPr>
              <a:t>Сколько единиц в дюжине?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900" spc="-1" strike="noStrike">
                <a:solidFill>
                  <a:srgbClr val="000099"/>
                </a:solidFill>
                <a:latin typeface="Times New Roman"/>
              </a:rPr>
              <a:t>Сколько разных букв в названии нашей страны?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900" spc="-1" strike="noStrike">
                <a:solidFill>
                  <a:srgbClr val="000099"/>
                </a:solidFill>
                <a:latin typeface="Times New Roman"/>
              </a:rPr>
              <a:t>Когда сутки короче: зимой или летом?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900" spc="-1" strike="noStrike">
                <a:solidFill>
                  <a:srgbClr val="000099"/>
                </a:solidFill>
                <a:latin typeface="Times New Roman"/>
              </a:rPr>
              <a:t>Катались 2 сына на трёхколёсных велосипедах, и их отец – на двухколёсном велосипеде. Сколько всего было колёс?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900" spc="-1" strike="noStrike">
                <a:solidFill>
                  <a:srgbClr val="000099"/>
                </a:solidFill>
                <a:latin typeface="Times New Roman"/>
              </a:rPr>
              <a:t>Дед, бабка, внучка, Жучка, кошка, мышка тянули-тянули и вытянули репку. Сколько глаз смотрело на репку?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99"/>
              </a:buClr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900" spc="-1" strike="noStrike">
                <a:solidFill>
                  <a:srgbClr val="000099"/>
                </a:solidFill>
                <a:latin typeface="Times New Roman"/>
              </a:rPr>
              <a:t>Какие два числа, если их перемножить, дают такой же результат, что и при их сложении?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4"/>
          <p:cNvSpPr/>
          <p:nvPr/>
        </p:nvSpPr>
        <p:spPr>
          <a:xfrm>
            <a:off x="250920" y="461880"/>
            <a:ext cx="7848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Из-под забора видно 6 пар лошадиных ног. Сколько этих животных во дворе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К однозначному числу приписали такую же цифру. Во сколько раз увеличилось число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Чтобы дойти Ивану Васильевичу до работы требуется 1,5 часа. С работы, торопясь домой, он возвращается по той же дороге за 90 минут. Чем вы объясните такую разницу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Сколько лет двадцатилетнему человеку было 4 года назад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Каким по счёту является “Ь” в названии последнего месяца осен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Сколько рогов у трех коров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Сколько музыкантов в квартет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23. Наименьшее двузначное числ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24. Чему равен пуд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WordArt 5"/>
          <p:cNvSpPr txBox="1"/>
          <p:nvPr/>
        </p:nvSpPr>
        <p:spPr>
          <a:xfrm>
            <a:off x="2987640" y="1484280"/>
            <a:ext cx="545004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ff8200"/>
                    </a:gs>
                  </a:gsLst>
                  <a:lin ang="18900000"/>
                </a:gradFill>
                <a:latin typeface="Impact"/>
              </a:rPr>
              <a:t>Решаем вмест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ff8200"/>
                  </a:gs>
                </a:gsLst>
                <a:lin ang="18900000"/>
              </a:gradFill>
              <a:latin typeface="Impact"/>
              <a:ea typeface="Impact"/>
            </a:endParaRPr>
          </a:p>
        </p:txBody>
      </p:sp>
    </p:spTree>
  </p:cSld>
  <p:transition spd="slow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4"/>
          <p:cNvSpPr/>
          <p:nvPr/>
        </p:nvSpPr>
        <p:spPr>
          <a:xfrm>
            <a:off x="0" y="1888920"/>
            <a:ext cx="877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1218 : 3 + 3785 x 68) x (371 + 23 x 78 – 216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4"/>
          <p:cNvSpPr/>
          <p:nvPr/>
        </p:nvSpPr>
        <p:spPr>
          <a:xfrm>
            <a:off x="324000" y="268200"/>
            <a:ext cx="74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К серой цапле на урок прилетело 7 сорок.</a:t>
            </a:r>
            <a:br>
              <a:rPr sz="2400"/>
            </a:b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А из них лишь 3 сороки приготовили уроки.</a:t>
            </a:r>
            <a:br>
              <a:rPr sz="2400"/>
            </a:b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Сколько лодырей сорок прилетело на урок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21120" y="1563480"/>
            <a:ext cx="814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 Я, Серёжа, Коля, Ванда – волейбольная коман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Женя с Игорем пока – запасных два игр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А когда подучатся, сколько нас получитс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319680" y="2994840"/>
            <a:ext cx="804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. Мы – большущая семья, самый младший – это 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Сразу нас не сосчитать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Юра, Шура, Клаша, Саша и Наташа тоже наш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Мы по улице идём, говорят, что детский д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Сосчитайте поскорей, сколько нас в семье детей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0" dur="1" fill="hold"/>
                                  <p:tgtEl>
                                    <p:spTgt spid="2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5:44:10Z</dcterms:created>
  <dc:creator>user</dc:creator>
  <dc:description/>
  <dc:language>en-US</dc:language>
  <cp:lastModifiedBy>Елена Ванденко</cp:lastModifiedBy>
  <dcterms:modified xsi:type="dcterms:W3CDTF">2023-06-02T09:11:19Z</dcterms:modified>
  <cp:revision>14</cp:revision>
  <dc:subject/>
  <dc:title>Слайд 1</dc:title>
</cp:coreProperties>
</file>