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5C3-7A68-465C-83A1-85EA06A0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E53-8C6D-485B-8140-193DDDDE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786-2B2B-44B9-A8AB-2604B385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DFC-0E32-4ADF-A1A9-3072D9D9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822-3037-4CA9-90A7-525BF415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D5DB-7418-4984-8A83-9AD9115A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15CA-33D8-4616-9FE3-0374FBA2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A6D4-9011-4058-B299-91911ED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12C9-7C77-4D18-917A-B49D9A1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E67-4440-40AE-9B23-CDCEEB3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C5D6-89F0-410B-B880-1C8802C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B7C-C96D-45A6-BCB1-E63F479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545C-FFC1-4AE8-B9EB-4188321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92E-F2D7-45A5-A80C-3DB9945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26A-F58B-455C-9061-3E4A7EB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D627-9F23-4779-B680-33837720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A83-E8B0-4F91-9081-C9908852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940-D4F6-49AE-ADB2-DF385C3E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561-A7A9-4579-841C-9A20095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4EB-8DE9-4935-A0F5-3C56E8DD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C95-C54F-4F9C-9558-2D26788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D15-A70A-4573-ADF0-4F4CC77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B06-F89B-43AD-8DFF-01B5396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F9F-0530-4BC4-9CEC-40DB0AB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C932-6ABB-48BC-9B69-5D0B0ADDE82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B27E-050A-4E0A-B1E7-A97369D3C6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1620720" y="762120"/>
            <a:ext cx="6201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9640" y="32400"/>
            <a:ext cx="64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идят рыбаки, стерегут поплавки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ыбак Корней поймал 13 окуне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ыбак Евсей – 4 карасе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рыбак Михаил двух сомов изловил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рыб рыбаки натаскали из ре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755640" y="22129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Что за цифра акроба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Если на голову встан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овно на 3 меньше ста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79280" y="3796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н давно знакомый мой, каждый угол в нём прямо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се 4 стороны одинаковой длины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ам его представить рад. Как зовут е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324000" y="2133720"/>
            <a:ext cx="81356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питаны</a:t>
            </a:r>
            <a:endParaRPr b="1" lang="en-US" sz="18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mg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692360" y="620640"/>
            <a:ext cx="5184720" cy="136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img4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476360" y="2421000"/>
            <a:ext cx="5975280" cy="13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img5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2195640" y="4437000"/>
            <a:ext cx="5256000" cy="172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179280" y="2565360"/>
            <a:ext cx="8353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7030a0"/>
                </a:solidFill>
                <a:latin typeface="Times New Roman"/>
              </a:rPr>
              <a:t>Художники</a:t>
            </a:r>
            <a:endParaRPr b="1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2916360" y="2349360"/>
            <a:ext cx="5759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66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                 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ffff66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3"/>
          <p:cNvGrpSpPr/>
          <p:nvPr/>
        </p:nvGrpSpPr>
        <p:grpSpPr>
          <a:xfrm>
            <a:off x="395280" y="549360"/>
            <a:ext cx="8137080" cy="5832000"/>
            <a:chOff x="395280" y="549360"/>
            <a:chExt cx="8137080" cy="5832000"/>
          </a:xfrm>
        </p:grpSpPr>
        <p:grpSp>
          <p:nvGrpSpPr>
            <p:cNvPr id="218" name="Group 10"/>
            <p:cNvGrpSpPr/>
            <p:nvPr/>
          </p:nvGrpSpPr>
          <p:grpSpPr>
            <a:xfrm>
              <a:off x="395280" y="549360"/>
              <a:ext cx="2231640" cy="1942560"/>
              <a:chOff x="395280" y="549360"/>
              <a:chExt cx="2231640" cy="194256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395280" y="549360"/>
                <a:ext cx="2231640" cy="1942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7"/>
              <p:cNvSpPr/>
              <p:nvPr/>
            </p:nvSpPr>
            <p:spPr>
              <a:xfrm>
                <a:off x="900720" y="937080"/>
                <a:ext cx="1421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5796000" y="4437000"/>
              <a:ext cx="2736360" cy="1944360"/>
              <a:chOff x="5796000" y="4437000"/>
              <a:chExt cx="2736360" cy="1944360"/>
            </a:xfrm>
          </p:grpSpPr>
          <p:sp>
            <p:nvSpPr>
              <p:cNvPr id="222" name="AutoShape 5"/>
              <p:cNvSpPr/>
              <p:nvPr/>
            </p:nvSpPr>
            <p:spPr>
              <a:xfrm>
                <a:off x="5796000" y="4437000"/>
                <a:ext cx="2736360" cy="1944360"/>
              </a:xfrm>
              <a:prstGeom prst="triangle">
                <a:avLst>
                  <a:gd name="adj" fmla="val 50000"/>
                </a:avLst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767280" y="5234400"/>
                <a:ext cx="9709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2"/>
            <p:cNvGrpSpPr/>
            <p:nvPr/>
          </p:nvGrpSpPr>
          <p:grpSpPr>
            <a:xfrm>
              <a:off x="2771640" y="2349360"/>
              <a:ext cx="2736720" cy="2158920"/>
              <a:chOff x="2771640" y="2349360"/>
              <a:chExt cx="2736720" cy="2158920"/>
            </a:xfrm>
          </p:grpSpPr>
          <p:sp>
            <p:nvSpPr>
              <p:cNvPr id="225" name="Oval 6"/>
              <p:cNvSpPr/>
              <p:nvPr/>
            </p:nvSpPr>
            <p:spPr>
              <a:xfrm>
                <a:off x="2771640" y="2349360"/>
                <a:ext cx="2736720" cy="21589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9"/>
              <p:cNvSpPr/>
              <p:nvPr/>
            </p:nvSpPr>
            <p:spPr>
              <a:xfrm>
                <a:off x="3282480" y="2805120"/>
                <a:ext cx="18460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0" y="2146320"/>
            <a:ext cx="8604360" cy="30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7030a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Импровизац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7030a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68720" y="196560"/>
            <a:ext cx="530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йцы пилят бре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ни сделали 10 распи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получилось чурбачк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38920" y="1445760"/>
            <a:ext cx="60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альчик лёг спать в 8 часов веч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ставив будильник та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чтобы он прозвенел в 9 часов у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времени проспит мальч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95200" y="3027600"/>
            <a:ext cx="85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огда Коля и Толя были маленьки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ни часто пуга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от страха у них по спинам бегали мура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 Коли по спине бегало 27 мур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у Толи на 3 мурашки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всего мурашек бегало по спинам у мальчик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610920" y="223200"/>
            <a:ext cx="587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ервое – цифра – она в середине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Буква сначала и буква с конца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целом – леса, города и равнины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 целому – полны любовью серд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53120" y="1879200"/>
            <a:ext cx="557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Я приношу с собою бо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лице – большое искажен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“Ф” на “П” заменишь ко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о превращусь я в знак сложен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967320" y="3606120"/>
            <a:ext cx="552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о звуком “С” я невку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о в пищу каждому нуж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 “М” берегись ме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то – я съем и платье, и пальто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8436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изит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1258920" y="234936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8837" dir="27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6600" spc="1" strike="noStrike">
              <a:ln w="0">
                <a:noFill/>
              </a:ln>
              <a:solidFill>
                <a:srgbClr val="7030a0"/>
              </a:solidFill>
              <a:effectLst>
                <a:outerShdw dist="18837" dir="27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395280" y="0"/>
            <a:ext cx="87487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Какой ключ не отмыкает замок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Какую траву и слепой узнает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Из какой посуды не едят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Сколько яиц можно съесть натощак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Петух, стоя на одной ноге весит 5кг. Сколько он будет весить, стоя на двух ногах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На руках 10 пальцев. Сколько пальцев на 10 руках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У родителей 6 сыновей. Каждый имеет сестру. Сколько всего детей в семье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Тройка лошадей пробежала путь 30км. Сколько пробежала каждая лошадь?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</a:rPr>
              <a:t>9. Какое число приказывает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50920" y="260280"/>
            <a:ext cx="792144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Сколько единиц в дюжине?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Сколько разных букв в названии нашей страны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Когда сутки короче: зимой или летом?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Катались 2 сына на трёхколёсных велосипедах, и их отец – на двухколёсном велосипеде. Сколько всего было колёс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Дед, бабка, внучка, Жучка, кошка, мышка тянули-тянули и вытянули репку. Сколько глаз смотрело на репку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</a:rPr>
              <a:t>Какие два числа, если их перемножить, дают такой же результат, что и при их сложении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50920" y="461880"/>
            <a:ext cx="784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з-под забора видно 6 пар лошадиных ног. Сколько этих животных во двор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 однозначному числу приписали такую же цифру. Во сколько раз увеличилось числ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бы дойти Ивану Васильевичу до работы требуется 1,5 часа. С работы, торопясь домой, он возвращается по той же дороге за 90 минут. Чем вы объясните такую разницу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лет двадцатилетнему человеку было 4 года назад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м по счёту является “Ь” в названии последнего месяца осе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рогов у трех ко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музыкантов в кварт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3. Наименьшее двузначное числ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4. Чему равен пу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987640" y="1484280"/>
            <a:ext cx="54500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18900000"/>
                </a:gradFill>
                <a:latin typeface="Impact"/>
              </a:rPr>
              <a:t>Решаем вмес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1888920"/>
            <a:ext cx="877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218 : 3 + 3785 x 68) x (371 + 23 x 78 – 21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324000" y="2682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 серой цапле на урок прилетело 7 сорок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из них лишь 3 сороки приготовили уроки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олько лодырей сорок прилетело на ур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21120" y="1563480"/>
            <a:ext cx="81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Я, Серёжа, Коля, Ванда – волейбольная коман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еня с Игорем пока – запасных два иг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когда подучатся, сколько нас получи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19680" y="299484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. Мы – большущая семья, самый младший – это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разу нас не сосчит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Юра, Шура, Клаша, Саша и Наташа тоже н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ы по улице идём, говорят, что детский 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осчитайте поскорей, сколько нас в семье де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44:10Z</dcterms:created>
  <dc:creator>user</dc:creator>
  <dc:description/>
  <dc:language>en-US</dc:language>
  <cp:lastModifiedBy>Елена Ванденко</cp:lastModifiedBy>
  <dcterms:modified xsi:type="dcterms:W3CDTF">2023-06-02T09:11:19Z</dcterms:modified>
  <cp:revision>14</cp:revision>
  <dc:subject/>
  <dc:title>Слайд 1</dc:title>
</cp:coreProperties>
</file>