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5.png" ContentType="image/png"/>
  <Override PartName="/ppt/media/image5.jpeg" ContentType="image/jpeg"/>
  <Override PartName="/ppt/media/image1.jpeg" ContentType="image/jpeg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media/image9.gif" ContentType="image/gif"/>
  <Override PartName="/ppt/media/image4.jpeg" ContentType="image/jpe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крытое мероприят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2B3FF9-F078-419C-8BDF-15054F26B18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0212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A155A8-65B1-4F9A-8695-401C622D26F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0212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FD1674-3525-47F8-A620-00D533FBCFC1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F56-D20C-429C-A3DE-98039A0D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C76-A92B-42B5-9E6F-2773177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EAD-E6F0-4BCC-B1B0-D25DD9A1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7CF-D459-4BD5-A788-2FFE960F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C1E35-92B8-497F-9D2C-7F534FAA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0ED24-CB73-423E-BB98-2A192F72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BE71A-6AB6-49F6-A411-561E0354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8E4B8-C321-422A-93BD-8F123B29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54A21-E060-490C-8992-3F100DAB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A6900-43C3-4C9C-AE1D-E121462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1A50-2C3D-4C40-926B-49B7C262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044-8265-413B-9188-508F0266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2B8B4-FAEC-4514-A477-A368203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AD1D8-73B9-4905-88C4-7F1FED83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C43FE-B20D-45F9-8111-BC478A23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D6580-D701-4BE0-803A-46878641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73A6F-2C56-44F9-B45A-C141077B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E48-5FF3-4269-896C-1F5539F3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6D2-3AE2-4998-BED3-79E5EA2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54F-20E5-473E-8C9A-78A1B88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3BD-07BF-43D3-981E-AE525D0A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391-5968-44E3-9CFB-207A6E76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BAE-3C49-4C6A-A78D-34216C65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D47-B627-4245-A712-700B01BE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ое мероприят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3B3C-EA0C-45B6-A240-88F66EF52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5844-DB67-4E71-97C0-48516F5FA5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5280" y="1413000"/>
            <a:ext cx="6253200" cy="2333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258920" y="260280"/>
            <a:ext cx="7020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4d4d4d">
                      <a:alpha val="50000"/>
                    </a:srgbClr>
                  </a:outerShdw>
                </a:effectLst>
                <a:latin typeface="Georgia"/>
              </a:rPr>
              <a:t>"АЗБУКА    </a:t>
            </a:r>
            <a:endParaRPr b="1" lang="en-US" sz="66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07932" dir="18900000" blurRad="0" rotWithShape="0">
                  <a:srgbClr val="4d4d4d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4d4d4d">
                      <a:alpha val="50000"/>
                    </a:srgbClr>
                  </a:outerShdw>
                </a:effectLst>
                <a:latin typeface="Georgia"/>
              </a:rPr>
              <a:t>ПРАВА"</a:t>
            </a:r>
            <a:endParaRPr b="1" lang="en-US" sz="66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07932" dir="18900000" blurRad="0" rotWithShape="0">
                  <a:srgbClr val="4d4d4d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3" name="Picture 6" descr="BOYPRAYI"/>
          <p:cNvPicPr/>
          <p:nvPr/>
        </p:nvPicPr>
        <p:blipFill>
          <a:blip r:embed="rId1"/>
          <a:stretch/>
        </p:blipFill>
        <p:spPr>
          <a:xfrm>
            <a:off x="1979640" y="3068640"/>
            <a:ext cx="5040360" cy="3097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900000" y="333360"/>
            <a:ext cx="712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ahoma"/>
              </a:rPr>
              <a:t>ЖИЛИЩНЫЕ ПРАВ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60" name="Picture 5" descr="101"/>
          <p:cNvPicPr/>
          <p:nvPr/>
        </p:nvPicPr>
        <p:blipFill>
          <a:blip r:embed="rId1"/>
          <a:stretch/>
        </p:blipFill>
        <p:spPr>
          <a:xfrm>
            <a:off x="3059280" y="1773360"/>
            <a:ext cx="31683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AutoShape 7"/>
          <p:cNvSpPr/>
          <p:nvPr/>
        </p:nvSpPr>
        <p:spPr>
          <a:xfrm>
            <a:off x="179280" y="1916280"/>
            <a:ext cx="2592360" cy="180000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ХРАНЯЮ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ЛЬЁ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ТЕЛЕ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6156360" y="2276640"/>
            <a:ext cx="2987640" cy="374472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 15 ЛЕ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МЕЮ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ВАТЬ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ГЛАС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ОБРЕТ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ЛЬ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ТЕЛЯМИ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0" y="4221000"/>
            <a:ext cx="2987640" cy="216072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ЛАГОПРИЯТН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ЛИЩНЫЕ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ЛОВ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684360" y="-316080"/>
            <a:ext cx="770400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ranklin Gothic Medium"/>
              </a:rPr>
              <a:t>ПРАВА  В СФЕРЕ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ranklin Gothic Medium"/>
              </a:rPr>
              <a:t> </a:t>
            </a: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ranklin Gothic Medium"/>
              </a:rPr>
              <a:t>ТРУДОВЫХ ОТНОШЕНИЙ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167" name="Picture 9" descr="BSNSMN2"/>
          <p:cNvPicPr/>
          <p:nvPr/>
        </p:nvPicPr>
        <p:blipFill>
          <a:blip r:embed="rId1"/>
          <a:stretch/>
        </p:blipFill>
        <p:spPr>
          <a:xfrm>
            <a:off x="3419640" y="1773360"/>
            <a:ext cx="2160360" cy="2736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4"/>
          <p:cNvSpPr/>
          <p:nvPr/>
        </p:nvSpPr>
        <p:spPr>
          <a:xfrm>
            <a:off x="179280" y="1700280"/>
            <a:ext cx="295272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ДОПУСКАЕТСЯ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ЁМ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РАБО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Ц МОЛОЖЕ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 ЛЕ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250920" y="4005360"/>
            <a:ext cx="295272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ЦАМ МОЛОЖ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8 ЛЕ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ПРЕЩЕН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БОТАТ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НОЧНУЮ СМЕНУ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5724360" y="1413000"/>
            <a:ext cx="309744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РАБО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СВОБОДНОЕ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 УЧЁБЫ ВРЕМ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5508720" y="3933720"/>
            <a:ext cx="295272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ДОПУСКАЕТСЯ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ЯЖЁЛЫЙ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НИЖАЮЩИЙ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У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3564000" y="4653000"/>
            <a:ext cx="1439640" cy="18730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ДЫХ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9" descr="940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"/>
          <p:cNvSpPr/>
          <p:nvPr/>
        </p:nvSpPr>
        <p:spPr>
          <a:xfrm>
            <a:off x="611280" y="1052640"/>
            <a:ext cx="828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ТОВАРИЩИ ВЗРОСЛЫЕ И ДЕТИ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ЗА СВОЁ БУДУЩЕЕ МЫ ВСЕ В ОТВЕТЕ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АВА И ОБЯЗАННОСТИ СВОИ ЗНАЙТЕ,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ХОРОШИМИ ЛЮДЬМИ ВЫРАСТАЙТЕ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5" descr="raduga_b"/>
          <p:cNvPicPr/>
          <p:nvPr/>
        </p:nvPicPr>
        <p:blipFill>
          <a:blip r:embed="rId1"/>
          <a:stretch/>
        </p:blipFill>
        <p:spPr>
          <a:xfrm>
            <a:off x="468360" y="1052640"/>
            <a:ext cx="825012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63280" y="0"/>
            <a:ext cx="8280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Детский ответ на взрослы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тинки взята из Интерн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10 ДЕКАБРЯ 1948Г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«Всеобщая декларация прав челове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BOYPRAYI"/>
          <p:cNvPicPr/>
          <p:nvPr/>
        </p:nvPicPr>
        <p:blipFill>
          <a:blip r:embed="rId1"/>
          <a:stretch/>
        </p:blipFill>
        <p:spPr>
          <a:xfrm>
            <a:off x="1428840" y="2928960"/>
            <a:ext cx="600084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5929200" y="4071960"/>
            <a:ext cx="2306880" cy="201600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ВЕНЦИ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ПРАВА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К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89г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3276720" y="189000"/>
            <a:ext cx="4176720" cy="1800000"/>
          </a:xfrm>
          <a:prstGeom prst="cloudCallout">
            <a:avLst>
              <a:gd name="adj1" fmla="val -71245"/>
              <a:gd name="adj2" fmla="val -335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МОЖЕШЬ УЗНАТЬ 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ОИХ ПРАВ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928960" y="3500280"/>
            <a:ext cx="2449440" cy="194328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К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59г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1763640" y="1844640"/>
            <a:ext cx="2087640" cy="144000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1835280" y="2492280"/>
            <a:ext cx="72720" cy="16574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1643040" y="1428840"/>
            <a:ext cx="4398840" cy="10094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1835280" y="1628640"/>
            <a:ext cx="4608360" cy="230508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5" descr="FIREMAN2"/>
          <p:cNvPicPr/>
          <p:nvPr/>
        </p:nvPicPr>
        <p:blipFill>
          <a:blip r:embed="rId1"/>
          <a:stretch/>
        </p:blipFill>
        <p:spPr>
          <a:xfrm>
            <a:off x="250920" y="0"/>
            <a:ext cx="2089080" cy="2349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2"/>
          <p:cNvSpPr/>
          <p:nvPr/>
        </p:nvSpPr>
        <p:spPr>
          <a:xfrm>
            <a:off x="6264360" y="1928880"/>
            <a:ext cx="2879640" cy="172872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ОСНОВНЫ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АРАНТИЯ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КА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28760" y="4429080"/>
            <a:ext cx="2519280" cy="194472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ОБЩ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48г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Проблемы детства в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105"/>
          <p:cNvPicPr/>
          <p:nvPr/>
        </p:nvPicPr>
        <p:blipFill>
          <a:blip r:embed="rId1"/>
          <a:stretch/>
        </p:blipFill>
        <p:spPr>
          <a:xfrm>
            <a:off x="2484360" y="2205000"/>
            <a:ext cx="4319640" cy="31672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13" name="Rectangle 9"/>
          <p:cNvSpPr/>
          <p:nvPr/>
        </p:nvSpPr>
        <p:spPr>
          <a:xfrm>
            <a:off x="179280" y="2421000"/>
            <a:ext cx="201636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Кажды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год из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ом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убегаю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50 тысяч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ет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771640" y="907920"/>
            <a:ext cx="3745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 учёте в КДН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о всей России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остои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348 тысяч дете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124000" y="5589720"/>
            <a:ext cx="568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 нашей стране от 2 миллионо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о 4 миллионов беспризорник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093080" y="1989000"/>
            <a:ext cx="180000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1, 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иллион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ете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еграмот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– </a:t>
            </a: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это лицо до достижения 18 лет</a:t>
            </a: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WordArt 18"/>
          <p:cNvSpPr txBox="1"/>
          <p:nvPr/>
        </p:nvSpPr>
        <p:spPr>
          <a:xfrm>
            <a:off x="2771640" y="189000"/>
            <a:ext cx="43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ЁНОК</a:t>
            </a:r>
            <a:endParaRPr b="1" lang="en-US" sz="4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19" descr="136"/>
          <p:cNvPicPr/>
          <p:nvPr/>
        </p:nvPicPr>
        <p:blipFill>
          <a:blip r:embed="rId1"/>
          <a:stretch/>
        </p:blipFill>
        <p:spPr>
          <a:xfrm>
            <a:off x="1763640" y="1989000"/>
            <a:ext cx="5688000" cy="4464360"/>
          </a:xfrm>
          <a:prstGeom prst="rect">
            <a:avLst/>
          </a:prstGeom>
          <a:ln w="9360">
            <a:solidFill>
              <a:srgbClr val="000080"/>
            </a:solidFill>
            <a:prstDash val="lgDashDotDot"/>
            <a:miter/>
          </a:ln>
        </p:spPr>
      </p:pic>
    </p:spTree>
  </p:cSld>
  <p:transition spd="slow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TORKFLY"/>
          <p:cNvPicPr/>
          <p:nvPr/>
        </p:nvPicPr>
        <p:blipFill>
          <a:blip r:embed="rId2"/>
          <a:stretch/>
        </p:blipFill>
        <p:spPr>
          <a:xfrm>
            <a:off x="755640" y="1484280"/>
            <a:ext cx="5545080" cy="38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3"/>
          <a:stretch/>
        </p:blipFill>
        <p:spPr>
          <a:xfrm>
            <a:off x="82692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553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ГРАЖДАНСКИЕ 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395280" y="1700280"/>
            <a:ext cx="2521080" cy="194472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ИМЯ,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АМИЛИЮ,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РАЖДАНСТ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6300720" y="3860640"/>
            <a:ext cx="2521080" cy="230508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ВАЖЕНИ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ЧНОГ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СТОИН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611280" y="3860640"/>
            <a:ext cx="2520720" cy="194472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ЗАЩИ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ВОХ ПРА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6" descr="anim036"/>
          <p:cNvPicPr/>
          <p:nvPr/>
        </p:nvPicPr>
        <p:blipFill>
          <a:blip r:embed="rId1"/>
          <a:stretch/>
        </p:blipFill>
        <p:spPr>
          <a:xfrm>
            <a:off x="3564000" y="3213000"/>
            <a:ext cx="1944720" cy="12956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8"/>
          <p:cNvSpPr/>
          <p:nvPr/>
        </p:nvSpPr>
        <p:spPr>
          <a:xfrm>
            <a:off x="3348000" y="1197000"/>
            <a:ext cx="2521080" cy="201600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ЗАЩИ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 ЖЕСТОКОГ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РАЩ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3492360" y="4365720"/>
            <a:ext cx="2521080" cy="208764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СВОБОД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ЖЕНИЯ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6372360" y="1773360"/>
            <a:ext cx="2520720" cy="230328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ЗАЩИТУ О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ЯЖЁЛ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ПОСИЛЬНОЙ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БОТ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971640" y="0"/>
            <a:ext cx="71294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А В ОБЛАСТИ СЕМЕЙНЫХ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НОШ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2843280" y="1989000"/>
          <a:ext cx="3313080" cy="259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89000"/>
                    <a:ext cx="3313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9"/>
          <p:cNvSpPr/>
          <p:nvPr/>
        </p:nvSpPr>
        <p:spPr>
          <a:xfrm>
            <a:off x="395280" y="1989000"/>
            <a:ext cx="2232000" cy="15843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ИТЬ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СПИТЫВАТЬС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СЕМЬ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250920" y="3860640"/>
            <a:ext cx="2449440" cy="17290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ОБЩЕНИЕ С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СЕМ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ДСТВЕННИКАМ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3276720" y="4653000"/>
            <a:ext cx="2520720" cy="15843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СОДЕРЖА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СТОРОНЫ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ИХ РОДИТЕЛ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6443640" y="1700280"/>
            <a:ext cx="2232000" cy="20160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ЩИТУ ОТ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ЕСТОКОГ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ЩЕНИЯ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ДИТЕЛ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6443640" y="4221000"/>
            <a:ext cx="2232000" cy="20163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ЗАБОТУ,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СПИТА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СТОРОНЫ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И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ДИТЕЛ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971640" y="189000"/>
            <a:ext cx="7272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Gothic"/>
              </a:rPr>
              <a:t>ПРАВА В ОБЛАСТИ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Gothic"/>
              </a:rPr>
              <a:t>ОБРАЗОВАНИЯ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179280" y="1844640"/>
            <a:ext cx="2305080" cy="165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ВАЖЕ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ЕГ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СТОИНСТВ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79280" y="4076640"/>
            <a:ext cx="2521080" cy="2232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ЧЕ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СПЛАТ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3419640" y="1700280"/>
            <a:ext cx="2304720" cy="165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ИТЬС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РОДНО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ЗЫК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443640" y="2492280"/>
            <a:ext cx="2448000" cy="29527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РАЖЕ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Е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НЕНИ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9" descr="SCHOOLG"/>
          <p:cNvPicPr/>
          <p:nvPr/>
        </p:nvPicPr>
        <p:blipFill>
          <a:blip r:embed="rId1"/>
          <a:stretch/>
        </p:blipFill>
        <p:spPr>
          <a:xfrm>
            <a:off x="2987640" y="3573360"/>
            <a:ext cx="331308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7:43:22Z</dcterms:created>
  <dc:creator>User</dc:creator>
  <dc:description/>
  <dc:language>en-US</dc:language>
  <cp:lastModifiedBy>Admin</cp:lastModifiedBy>
  <dcterms:modified xsi:type="dcterms:W3CDTF">2010-10-25T14:09:31Z</dcterms:modified>
  <cp:revision>34</cp:revision>
  <dc:subject/>
  <dc:title>Слайд 1</dc:title>
</cp:coreProperties>
</file>