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5.png" ContentType="image/png"/>
  <Override PartName="/ppt/media/image5.jpeg" ContentType="image/jpeg"/>
  <Override PartName="/ppt/media/image1.jpeg" ContentType="image/jpeg"/>
  <Override PartName="/ppt/media/image2.wmf" ContentType="image/x-wmf"/>
  <Override PartName="/ppt/media/image3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14.jpeg" ContentType="image/jpeg"/>
  <Override PartName="/ppt/media/image9.gif" ContentType="image/gif"/>
  <Override PartName="/ppt/media/image4.jpeg" ContentType="image/jpe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ткрытое мероприятие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12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9D71D5-D94D-4555-A678-D244630EECC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0212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CA7810-10EA-4749-84F3-0CE1D96B7EF9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0212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01E220-F86C-44A2-9AE4-CB13065563F2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346-F84A-4352-825B-55D525C6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9F26-BBCD-4DC6-AB2A-27346F82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F9D3-8B23-4034-8CEF-06283D9A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7E5-C038-4C38-8DCC-01C5A780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99B8A-009E-4E70-9E1C-11F80D00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4ADDD-B3BF-49C3-882F-1BAE336B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6D734-9C34-406E-B015-EBC23BE5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7D98E-6C9D-4A42-AC0A-8349710B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9D674-8AD3-482B-8FB2-77501070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67E55-DF71-4628-AFC4-D6532A0F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79659-0170-444B-970B-01475676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E15-0845-4F32-A9FD-1F6DC5B9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3356C-A783-476C-91E0-3DB8CC11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F5527-ACF9-48A2-9078-9995D5CA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DB584-20BF-4F0E-80E2-6B02CD94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5B165-A1BE-4E2A-9DC2-FDC43A93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CF1E4-BB95-47C1-8EA6-FC5D71DE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0CEB-86FE-4EFF-984B-D6FA4269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1C56-BB7C-4274-B576-D8108175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B708-B2D0-4951-B698-505CE5D1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39BD-E38F-45E8-8292-7963875E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860-29A8-4782-B687-9BD9C77E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688A-1C9F-41C5-9BD5-5D7DE0E2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396-0432-4B96-BE97-394EF723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ое мероприят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7427-5E42-452A-9FCD-CB6C5AAFA1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FBCA-E247-46AA-B0D2-ABA79CB4CF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5280" y="1413000"/>
            <a:ext cx="6253200" cy="2333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1258920" y="260280"/>
            <a:ext cx="7020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107932" dir="18900000" blurRad="0" rotWithShape="0">
                    <a:srgbClr val="4d4d4d">
                      <a:alpha val="50000"/>
                    </a:srgbClr>
                  </a:outerShdw>
                </a:effectLst>
                <a:latin typeface="Georgia"/>
              </a:rPr>
              <a:t>"АЗБУКА    </a:t>
            </a:r>
            <a:endParaRPr b="1" lang="en-US" sz="6600" spc="1" strike="noStrike">
              <a:ln w="936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107932" dir="18900000" blurRad="0" rotWithShape="0">
                  <a:srgbClr val="4d4d4d">
                    <a:alpha val="5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107932" dir="18900000" blurRad="0" rotWithShape="0">
                    <a:srgbClr val="4d4d4d">
                      <a:alpha val="50000"/>
                    </a:srgbClr>
                  </a:outerShdw>
                </a:effectLst>
                <a:latin typeface="Georgia"/>
              </a:rPr>
              <a:t>ПРАВА"</a:t>
            </a:r>
            <a:endParaRPr b="1" lang="en-US" sz="6600" spc="1" strike="noStrike">
              <a:ln w="936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107932" dir="18900000" blurRad="0" rotWithShape="0">
                  <a:srgbClr val="4d4d4d">
                    <a:alpha val="5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93" name="Picture 6" descr="BOYPRAYI"/>
          <p:cNvPicPr/>
          <p:nvPr/>
        </p:nvPicPr>
        <p:blipFill>
          <a:blip r:embed="rId1"/>
          <a:stretch/>
        </p:blipFill>
        <p:spPr>
          <a:xfrm>
            <a:off x="1979640" y="3068640"/>
            <a:ext cx="5040360" cy="30970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900000" y="333360"/>
            <a:ext cx="712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ahoma"/>
              </a:rPr>
              <a:t>ЖИЛИЩНЫЕ ПРАВ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60" name="Picture 5" descr="101"/>
          <p:cNvPicPr/>
          <p:nvPr/>
        </p:nvPicPr>
        <p:blipFill>
          <a:blip r:embed="rId1"/>
          <a:stretch/>
        </p:blipFill>
        <p:spPr>
          <a:xfrm>
            <a:off x="3059280" y="1773360"/>
            <a:ext cx="316836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AutoShape 7"/>
          <p:cNvSpPr/>
          <p:nvPr/>
        </p:nvSpPr>
        <p:spPr>
          <a:xfrm>
            <a:off x="179280" y="1916280"/>
            <a:ext cx="2592360" cy="1800000"/>
          </a:xfrm>
          <a:prstGeom prst="vertic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ХРАНЯЮТ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О НА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ЖИЛЬЁ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ОДИТЕЛЕ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6156360" y="2276640"/>
            <a:ext cx="2987640" cy="3744720"/>
          </a:xfrm>
          <a:prstGeom prst="vertic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 15 ЛЕТ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МЕЮТ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АВАТЬ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ГЛАС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ОБРЕТ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ЖИЛЬ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ОДИТЕЛЯМИ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0" y="4221000"/>
            <a:ext cx="2987640" cy="2160720"/>
          </a:xfrm>
          <a:prstGeom prst="vertic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О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ЛАГОПРИЯТНЫ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ЖИЛИЩНЫЕ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СЛОВИЯ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WordArt 4"/>
          <p:cNvSpPr txBox="1"/>
          <p:nvPr/>
        </p:nvSpPr>
        <p:spPr>
          <a:xfrm>
            <a:off x="684360" y="-316080"/>
            <a:ext cx="770400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ranklin Gothic Medium"/>
              </a:rPr>
              <a:t>ПРАВА  В СФЕРЕ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ranklin Gothic Medium"/>
              </a:rPr>
              <a:t> </a:t>
            </a: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ranklin Gothic Medium"/>
              </a:rPr>
              <a:t>ТРУДОВЫХ ОТНОШЕНИЙ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pic>
        <p:nvPicPr>
          <p:cNvPr id="167" name="Picture 9" descr="BSNSMN2"/>
          <p:cNvPicPr/>
          <p:nvPr/>
        </p:nvPicPr>
        <p:blipFill>
          <a:blip r:embed="rId1"/>
          <a:stretch/>
        </p:blipFill>
        <p:spPr>
          <a:xfrm>
            <a:off x="3419640" y="1773360"/>
            <a:ext cx="2160360" cy="27367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14"/>
          <p:cNvSpPr/>
          <p:nvPr/>
        </p:nvSpPr>
        <p:spPr>
          <a:xfrm>
            <a:off x="179280" y="1700280"/>
            <a:ext cx="2952720" cy="2592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ДОПУСКАЕТСЯ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ЁМ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РАБОТУ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ИЦ МОЛОЖЕ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6 ЛЕТ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250920" y="4005360"/>
            <a:ext cx="2952720" cy="2592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ИЦАМ МОЛОЖ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8 ЛЕТ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ПРЕЩЕНО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БОТАТЬ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НОЧНУЮ СМЕНУ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5724360" y="1413000"/>
            <a:ext cx="3097440" cy="2592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О НА РАБОТУ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СВОБОДНОЕ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Т УЧЁБЫ ВРЕМЯ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5508720" y="3933720"/>
            <a:ext cx="2952720" cy="2592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ДОПУСКАЕТСЯ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ЯЖЁЛЫЙ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НИЖАЮЩИЙ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РУД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3564000" y="4653000"/>
            <a:ext cx="1439640" cy="187308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О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ТДЫХ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9" descr="940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0"/>
          <p:cNvSpPr/>
          <p:nvPr/>
        </p:nvSpPr>
        <p:spPr>
          <a:xfrm>
            <a:off x="611280" y="1052640"/>
            <a:ext cx="8281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ТОВАРИЩИ ВЗРОСЛЫЕ И ДЕТИ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ЗА СВОЁ БУДУЩЕЕ МЫ ВСЕ В ОТВЕТЕ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ПРАВА И ОБЯЗАННОСТИ СВОИ ЗНАЙТЕ,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ХОРОШИМИ ЛЮДЬМИ ВЫРАСТАЙТЕ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5" descr="raduga_b"/>
          <p:cNvPicPr/>
          <p:nvPr/>
        </p:nvPicPr>
        <p:blipFill>
          <a:blip r:embed="rId1"/>
          <a:stretch/>
        </p:blipFill>
        <p:spPr>
          <a:xfrm>
            <a:off x="468360" y="1052640"/>
            <a:ext cx="8250120" cy="54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63280" y="0"/>
            <a:ext cx="8280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0199"/>
                </a:solidFill>
                <a:latin typeface="Tahoma"/>
              </a:rPr>
              <a:t>Детский ответ на взрослые пробле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ртинки взята из Интерн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213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10 ДЕКАБРЯ 1948Г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«Всеобщая декларация прав человек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6" descr="BOYPRAYI"/>
          <p:cNvPicPr/>
          <p:nvPr/>
        </p:nvPicPr>
        <p:blipFill>
          <a:blip r:embed="rId1"/>
          <a:stretch/>
        </p:blipFill>
        <p:spPr>
          <a:xfrm>
            <a:off x="1428840" y="2928960"/>
            <a:ext cx="6000840" cy="3786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5929200" y="4071960"/>
            <a:ext cx="2306880" cy="2016000"/>
          </a:xfrm>
          <a:prstGeom prst="vertic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ВЕНЦИИ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 ПРАВАХ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БЁНК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989г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3276720" y="189000"/>
            <a:ext cx="4176720" cy="1800000"/>
          </a:xfrm>
          <a:prstGeom prst="cloudCallout">
            <a:avLst>
              <a:gd name="adj1" fmla="val -71245"/>
              <a:gd name="adj2" fmla="val -335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Ы МОЖЕШЬ УЗНАТЬ 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ВОИХ ПРАВА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2928960" y="3500280"/>
            <a:ext cx="2449440" cy="1943280"/>
          </a:xfrm>
          <a:prstGeom prst="vertic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КЛАРАЦИИ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БЁНК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959г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1763640" y="1844640"/>
            <a:ext cx="2087640" cy="144000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18"/>
          <p:cNvSpPr/>
          <p:nvPr/>
        </p:nvSpPr>
        <p:spPr>
          <a:xfrm>
            <a:off x="1835280" y="2492280"/>
            <a:ext cx="72720" cy="165744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19"/>
          <p:cNvSpPr/>
          <p:nvPr/>
        </p:nvSpPr>
        <p:spPr>
          <a:xfrm>
            <a:off x="1643040" y="1428840"/>
            <a:ext cx="4398840" cy="100944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21"/>
          <p:cNvSpPr/>
          <p:nvPr/>
        </p:nvSpPr>
        <p:spPr>
          <a:xfrm>
            <a:off x="1835280" y="1628640"/>
            <a:ext cx="4608360" cy="230508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25" descr="FIREMAN2"/>
          <p:cNvPicPr/>
          <p:nvPr/>
        </p:nvPicPr>
        <p:blipFill>
          <a:blip r:embed="rId1"/>
          <a:stretch/>
        </p:blipFill>
        <p:spPr>
          <a:xfrm>
            <a:off x="250920" y="0"/>
            <a:ext cx="2089080" cy="2349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2"/>
          <p:cNvSpPr/>
          <p:nvPr/>
        </p:nvSpPr>
        <p:spPr>
          <a:xfrm>
            <a:off x="6264360" y="1928880"/>
            <a:ext cx="2879640" cy="1728720"/>
          </a:xfrm>
          <a:prstGeom prst="vertic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КОН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ОБ ОСНОВНЫХ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АРАНТИЯХ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БЁНКА»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428760" y="4429080"/>
            <a:ext cx="2519280" cy="1944720"/>
          </a:xfrm>
          <a:prstGeom prst="vertic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ЕОБЩЕ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КЛАРАЦИИ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ЛОВЕК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948г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Проблемы детства в Росс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105"/>
          <p:cNvPicPr/>
          <p:nvPr/>
        </p:nvPicPr>
        <p:blipFill>
          <a:blip r:embed="rId1"/>
          <a:stretch/>
        </p:blipFill>
        <p:spPr>
          <a:xfrm>
            <a:off x="2484360" y="2205000"/>
            <a:ext cx="4319640" cy="316728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113" name="Rectangle 9"/>
          <p:cNvSpPr/>
          <p:nvPr/>
        </p:nvSpPr>
        <p:spPr>
          <a:xfrm>
            <a:off x="179280" y="2421000"/>
            <a:ext cx="201636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Кажды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год из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дома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убегают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50 тысяч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дет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2771640" y="907920"/>
            <a:ext cx="374508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 учёте в КДН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по всей России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состоит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348 тысяч дете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2124000" y="5589720"/>
            <a:ext cx="568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 нашей стране от 2 миллионов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до 4 миллионов беспризорников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7093080" y="1989000"/>
            <a:ext cx="180000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1, 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миллиона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дете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еграмотны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000066"/>
                </a:solidFill>
                <a:latin typeface="Tahoma"/>
              </a:rPr>
              <a:t>– </a:t>
            </a:r>
            <a:r>
              <a:rPr b="1" lang="ru-RU" sz="3600" spc="-1" strike="noStrike">
                <a:solidFill>
                  <a:srgbClr val="000066"/>
                </a:solidFill>
                <a:latin typeface="Tahoma"/>
              </a:rPr>
              <a:t>это лицо до достижения 18 лет</a:t>
            </a: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WordArt 18"/>
          <p:cNvSpPr txBox="1"/>
          <p:nvPr/>
        </p:nvSpPr>
        <p:spPr>
          <a:xfrm>
            <a:off x="2771640" y="189000"/>
            <a:ext cx="432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БЁНОК</a:t>
            </a:r>
            <a:endParaRPr b="1" lang="en-US" sz="4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0" name="Picture 19" descr="136"/>
          <p:cNvPicPr/>
          <p:nvPr/>
        </p:nvPicPr>
        <p:blipFill>
          <a:blip r:embed="rId1"/>
          <a:stretch/>
        </p:blipFill>
        <p:spPr>
          <a:xfrm>
            <a:off x="1763640" y="1989000"/>
            <a:ext cx="5688000" cy="4464360"/>
          </a:xfrm>
          <a:prstGeom prst="rect">
            <a:avLst/>
          </a:prstGeom>
          <a:ln w="9360">
            <a:solidFill>
              <a:srgbClr val="000080"/>
            </a:solidFill>
            <a:prstDash val="lgDashDotDot"/>
            <a:miter/>
          </a:ln>
        </p:spPr>
      </p:pic>
    </p:spTree>
  </p:cSld>
  <p:transition spd="slow">
    <p:circl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025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STORKFLY"/>
          <p:cNvPicPr/>
          <p:nvPr/>
        </p:nvPicPr>
        <p:blipFill>
          <a:blip r:embed="rId2"/>
          <a:stretch/>
        </p:blipFill>
        <p:spPr>
          <a:xfrm>
            <a:off x="755640" y="1484280"/>
            <a:ext cx="5545080" cy="3889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"/>
          <p:cNvPicPr/>
          <p:nvPr/>
        </p:nvPicPr>
        <p:blipFill>
          <a:blip r:embed="rId3"/>
          <a:stretch/>
        </p:blipFill>
        <p:spPr>
          <a:xfrm>
            <a:off x="826920" y="83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5534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250920" y="189000"/>
            <a:ext cx="87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ahoma"/>
              </a:rPr>
              <a:t>ГРАЖДАНСКИЕ ПРА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ahoma"/>
              <a:ea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395280" y="1700280"/>
            <a:ext cx="2521080" cy="1944720"/>
          </a:xfrm>
          <a:prstGeom prst="flowChartPunched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О НА ИМЯ,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ФАМИЛИЮ,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РАЖДАНСТВО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AutoShape 14"/>
          <p:cNvSpPr/>
          <p:nvPr/>
        </p:nvSpPr>
        <p:spPr>
          <a:xfrm>
            <a:off x="6300720" y="3860640"/>
            <a:ext cx="2521080" cy="2305080"/>
          </a:xfrm>
          <a:prstGeom prst="flowChartPunched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О НА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ВАЖЕНИ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ИЧНОГО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ОСТОИНСТВА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611280" y="3860640"/>
            <a:ext cx="2520720" cy="1944720"/>
          </a:xfrm>
          <a:prstGeom prst="flowChartPunched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О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ЗАЩИТУ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ВОХ ПРАВ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16" descr="anim036"/>
          <p:cNvPicPr/>
          <p:nvPr/>
        </p:nvPicPr>
        <p:blipFill>
          <a:blip r:embed="rId1"/>
          <a:stretch/>
        </p:blipFill>
        <p:spPr>
          <a:xfrm>
            <a:off x="3564000" y="3213000"/>
            <a:ext cx="1944720" cy="129564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8"/>
          <p:cNvSpPr/>
          <p:nvPr/>
        </p:nvSpPr>
        <p:spPr>
          <a:xfrm>
            <a:off x="3348000" y="1197000"/>
            <a:ext cx="2521080" cy="2016000"/>
          </a:xfrm>
          <a:prstGeom prst="flowChartPunched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О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ЗАЩИТУ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Т ЖЕСТОКОГО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РАЩЕНИЯ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3492360" y="4365720"/>
            <a:ext cx="2521080" cy="2087640"/>
          </a:xfrm>
          <a:prstGeom prst="flowChartPunched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О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СВОБОДУ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ЫРАЖЕНИЯ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НЕНИЯ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21"/>
          <p:cNvSpPr/>
          <p:nvPr/>
        </p:nvSpPr>
        <p:spPr>
          <a:xfrm>
            <a:off x="6372360" y="1773360"/>
            <a:ext cx="2520720" cy="2303280"/>
          </a:xfrm>
          <a:prstGeom prst="flowChartPunched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О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ЗАЩИТУ ОТ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ЯЖЁЛО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ПОСИЛЬНОЙ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БОТЫ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6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6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971640" y="0"/>
            <a:ext cx="712944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А В ОБЛАСТИ СЕМЕЙНЫХ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НОШ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40" name="Object 5"/>
          <p:cNvGraphicFramePr/>
          <p:nvPr/>
        </p:nvGraphicFramePr>
        <p:xfrm>
          <a:off x="2843280" y="1989000"/>
          <a:ext cx="3313080" cy="259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989000"/>
                    <a:ext cx="331308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AutoShape 9"/>
          <p:cNvSpPr/>
          <p:nvPr/>
        </p:nvSpPr>
        <p:spPr>
          <a:xfrm>
            <a:off x="395280" y="1989000"/>
            <a:ext cx="2232000" cy="158436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АВО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ЖИТЬ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ОСПИТЫВАТЬСЯ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СЕМЬЕ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250920" y="3860640"/>
            <a:ext cx="2449440" cy="172908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АВО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 ОБЩЕНИЕ СО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СЕМИ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ОДСТВЕННИКАМИ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3276720" y="4653000"/>
            <a:ext cx="2520720" cy="158436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АВО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 СОДЕРЖАНИЕ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 СТОРОНЫ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ВОИХ РОДИТЕЛЕ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6443640" y="1700280"/>
            <a:ext cx="2232000" cy="201600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АВО НА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АЩИТУ ОТ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ЖЕСТОКОГО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РАЩЕНИЯ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ОДИТЕЛЕ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6443640" y="4221000"/>
            <a:ext cx="2232000" cy="201636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 ЗАБОТУ,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ОСПИТАНИЕ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 СТОРОНЫ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ВОИХ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ОДИТЕЛЕ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ое мероприятие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971640" y="189000"/>
            <a:ext cx="7272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entury Gothic"/>
              </a:rPr>
              <a:t>ПРАВА В ОБЛАСТИ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entury Gothic"/>
              </a:rPr>
              <a:t>ОБРАЗОВАНИЯ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179280" y="1844640"/>
            <a:ext cx="2305080" cy="165564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АВО Н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ВАЖЕНИЕ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ВОЕГО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ОСТОИНСТВ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179280" y="4076640"/>
            <a:ext cx="2521080" cy="223200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АВО НА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ЛУЧЕНИЕ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ЕСПЛАТНОГО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РАЗОВАНИЯ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3419640" y="1700280"/>
            <a:ext cx="2304720" cy="165564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АВО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ИТЬСЯ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 РОДНОМ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ЗЫКЕ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6443640" y="2492280"/>
            <a:ext cx="2448000" cy="29527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АВО НА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ЫРАЖЕНИЕ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ВОЕГО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НЕНИЯ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19" descr="SCHOOLG"/>
          <p:cNvPicPr/>
          <p:nvPr/>
        </p:nvPicPr>
        <p:blipFill>
          <a:blip r:embed="rId1"/>
          <a:stretch/>
        </p:blipFill>
        <p:spPr>
          <a:xfrm>
            <a:off x="2987640" y="3573360"/>
            <a:ext cx="3313080" cy="288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7:43:22Z</dcterms:created>
  <dc:creator>User</dc:creator>
  <dc:description/>
  <dc:language>en-US</dc:language>
  <cp:lastModifiedBy>Admin</cp:lastModifiedBy>
  <dcterms:modified xsi:type="dcterms:W3CDTF">2010-10-25T14:09:31Z</dcterms:modified>
  <cp:revision>34</cp:revision>
  <dc:subject/>
  <dc:title>Слайд 1</dc:title>
</cp:coreProperties>
</file>