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20.gif" ContentType="image/gif"/>
  <Override PartName="/ppt/media/image18.jpeg" ContentType="image/jpeg"/>
  <Override PartName="/ppt/media/image19.png" ContentType="image/png"/>
  <Override PartName="/ppt/media/image16.jpeg" ContentType="image/jpeg"/>
  <Override PartName="/ppt/media/image15.png" ContentType="image/pn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2A34-9B4E-4B88-AAFC-F89C27CF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1DE4-DF7C-4D07-8D50-BB721345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3007-CF81-4340-BC8F-45D50DFF1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D9EF-314A-4F4B-8BC2-927FC18B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8F7E-2BC1-4211-A216-F0450C8B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38BC-ECDD-415E-8192-B62771FC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7A10-2A1D-4B9A-A4F0-A83F20FC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0C24-0BA0-40EA-8A89-F1BD7A6F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E60E-3043-4639-AE67-E0FBF9D5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26DD-65A8-4292-8306-CA3720E7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6793-2641-4927-A5B3-B5A3445F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0565-0ABD-4833-BEFC-9EBC6420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DF23-EA09-4DC5-BD54-976E6EBA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CB24-6A54-456B-993C-AD496139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4AB8-E15E-4BB7-9D98-21565E5B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5039-8A7D-4959-AB24-C76DC32F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1D90-44A0-4C39-83D1-DEABDC47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EA67-5C73-4C02-A93D-5ADF29AA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E767-D77B-4091-9AD9-81EEA2BD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6C82-DDE1-4964-8B59-915840B5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1021-3290-48EC-B37A-B2F2A687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29FA-EEE9-44A3-9053-C3775ACE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8761-3F2F-4C12-B96D-754B5A62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BBCF-1F04-4272-AEF2-89721944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C356-8B6F-4A5A-8975-3E896EC3E89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9227-3304-4E1D-8FC1-E28092ED1CCA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Волшебные слова с просьбой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одготовила и провела: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Воспитатель 1 а доп. класса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        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ерещенко С.С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Волшебные слова – «Будьте любезны»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2" name="Picture 4" descr="slide-13-728"/>
          <p:cNvPicPr/>
          <p:nvPr/>
        </p:nvPicPr>
        <p:blipFill>
          <a:blip r:embed="rId1"/>
          <a:srcRect l="27001" t="11076" r="24400" b="29074"/>
          <a:stretch/>
        </p:blipFill>
        <p:spPr>
          <a:xfrm>
            <a:off x="250920" y="1197000"/>
            <a:ext cx="5113080" cy="4103640"/>
          </a:xfrm>
          <a:prstGeom prst="rect">
            <a:avLst/>
          </a:prstGeom>
          <a:ln w="25560">
            <a:solidFill>
              <a:srgbClr val="00ccff"/>
            </a:solidFill>
            <a:miter/>
          </a:ln>
        </p:spPr>
      </p:pic>
      <p:sp>
        <p:nvSpPr>
          <p:cNvPr id="223" name="Rectangle 5"/>
          <p:cNvSpPr/>
          <p:nvPr/>
        </p:nvSpPr>
        <p:spPr>
          <a:xfrm flipV="1" rot="10800000">
            <a:off x="2769840" y="5372640"/>
            <a:ext cx="48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9af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9af7d"/>
                </a:solidFill>
                <a:latin typeface="Arial"/>
              </a:rPr>
              <a:t>БУДЬТЕ ЛЮБЕЗНЫ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, вы нам помогите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Цену за слоника нам подскажите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- Я с удовольствием вас обслужу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Игрушку для вас я подам, покажу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Волшебные слова – «Будьте добры»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5" name="Picture 4" descr="бабушка"/>
          <p:cNvPicPr/>
          <p:nvPr/>
        </p:nvPicPr>
        <p:blipFill>
          <a:blip r:embed="rId1">
            <a:lum contrast="6000"/>
          </a:blip>
          <a:srcRect l="0" t="9964" r="0" b="0"/>
          <a:stretch/>
        </p:blipFill>
        <p:spPr>
          <a:xfrm>
            <a:off x="395280" y="1341360"/>
            <a:ext cx="5832360" cy="38880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5"/>
          <p:cNvSpPr/>
          <p:nvPr/>
        </p:nvSpPr>
        <p:spPr>
          <a:xfrm>
            <a:off x="2771640" y="4869000"/>
            <a:ext cx="466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- Очень вас просим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                                    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79af7d"/>
                </a:solidFill>
                <a:latin typeface="Arial"/>
              </a:rPr>
              <a:t>БУДЬТЕ ДОБРЫ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Домик покрасьте, друзья-маляры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-Мы с удовольствием выкрасим дом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Только вот кисти и краски найдём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Picture 6" descr="BD10307_"/>
          <p:cNvPicPr/>
          <p:nvPr/>
        </p:nvPicPr>
        <p:blipFill>
          <a:blip r:embed="rId2"/>
          <a:stretch/>
        </p:blipFill>
        <p:spPr>
          <a:xfrm>
            <a:off x="0" y="1125360"/>
            <a:ext cx="360360" cy="5732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BD10307_"/>
          <p:cNvPicPr/>
          <p:nvPr/>
        </p:nvPicPr>
        <p:blipFill>
          <a:blip r:embed="rId3"/>
          <a:stretch/>
        </p:blipFill>
        <p:spPr>
          <a:xfrm>
            <a:off x="250920" y="1052640"/>
            <a:ext cx="7561080" cy="360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BD10307_"/>
          <p:cNvPicPr/>
          <p:nvPr/>
        </p:nvPicPr>
        <p:blipFill>
          <a:blip r:embed="rId4"/>
          <a:stretch/>
        </p:blipFill>
        <p:spPr>
          <a:xfrm>
            <a:off x="7524720" y="1143000"/>
            <a:ext cx="360360" cy="5715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BD10307_"/>
          <p:cNvPicPr/>
          <p:nvPr/>
        </p:nvPicPr>
        <p:blipFill>
          <a:blip r:embed="rId5"/>
          <a:stretch/>
        </p:blipFill>
        <p:spPr>
          <a:xfrm>
            <a:off x="179280" y="6497640"/>
            <a:ext cx="76327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3" name="Picture 5" descr="25594654_Otkruytka__Horoshee_nastroenie"/>
          <p:cNvPicPr/>
          <p:nvPr/>
        </p:nvPicPr>
        <p:blipFill>
          <a:blip r:embed="rId1"/>
          <a:stretch/>
        </p:blipFill>
        <p:spPr>
          <a:xfrm>
            <a:off x="179280" y="185760"/>
            <a:ext cx="7561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гра «Доскажи словечко»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Picture 4" descr="viewer?url=http%3A%2F%2Fnsportal"/>
          <p:cNvPicPr/>
          <p:nvPr/>
        </p:nvPicPr>
        <p:blipFill>
          <a:blip r:embed="rId1"/>
          <a:stretch/>
        </p:blipFill>
        <p:spPr>
          <a:xfrm>
            <a:off x="395280" y="1278000"/>
            <a:ext cx="6913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гра «Доскажи словечко»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7" name="Picture 4" descr="viewer?url=http%3A%2F%2Fnsportal"/>
          <p:cNvPicPr/>
          <p:nvPr/>
        </p:nvPicPr>
        <p:blipFill>
          <a:blip r:embed="rId1"/>
          <a:stretch/>
        </p:blipFill>
        <p:spPr>
          <a:xfrm>
            <a:off x="395280" y="1279440"/>
            <a:ext cx="6985080" cy="52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гра «Доскажи словечко»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9" name="Picture 4" descr="viewer?url=http%3A%2F%2Fnsportal"/>
          <p:cNvPicPr/>
          <p:nvPr/>
        </p:nvPicPr>
        <p:blipFill>
          <a:blip r:embed="rId1"/>
          <a:stretch/>
        </p:blipFill>
        <p:spPr>
          <a:xfrm>
            <a:off x="324000" y="1279440"/>
            <a:ext cx="705636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гра «Доскажи словечко»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1" name="Picture 4" descr="viewer?url=http%3A%2F%2Fnsportal"/>
          <p:cNvPicPr/>
          <p:nvPr/>
        </p:nvPicPr>
        <p:blipFill>
          <a:blip r:embed="rId1"/>
          <a:stretch/>
        </p:blipFill>
        <p:spPr>
          <a:xfrm>
            <a:off x="324000" y="1227240"/>
            <a:ext cx="712764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гра «Доскажи словечко»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Picture 4" descr="viewer?url=http%3A%2F%2Fnsportal"/>
          <p:cNvPicPr/>
          <p:nvPr/>
        </p:nvPicPr>
        <p:blipFill>
          <a:blip r:embed="rId1"/>
          <a:stretch/>
        </p:blipFill>
        <p:spPr>
          <a:xfrm>
            <a:off x="250920" y="1224000"/>
            <a:ext cx="7129440" cy="53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Волшебное слово – «Пожалуйста»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Picture 4" descr="зая"/>
          <p:cNvPicPr/>
          <p:nvPr/>
        </p:nvPicPr>
        <p:blipFill>
          <a:blip r:embed="rId1"/>
          <a:srcRect l="6031" t="0" r="0" b="1986"/>
          <a:stretch/>
        </p:blipFill>
        <p:spPr>
          <a:xfrm>
            <a:off x="250920" y="1700280"/>
            <a:ext cx="4473360" cy="33843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3564000" y="3860640"/>
            <a:ext cx="39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</a:rPr>
              <a:t>-Дайте капусты кочанчик-другой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</a:rPr>
              <a:t>-Разве так просят? Подумай, косо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</a:rPr>
              <a:t>-Дайте,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ОЖАЛУЙСТА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</a:rPr>
              <a:t> ,- вспомнил Зайчишка.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</a:rPr>
              <a:t>И, если можно, с большой кочерыжкой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</a:rPr>
              <a:t>-Вот молодец! - ему лапу пожал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</a:rPr>
              <a:t>И самых вкусных кочанчиков дал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6" descr="BD10307_"/>
          <p:cNvPicPr/>
          <p:nvPr/>
        </p:nvPicPr>
        <p:blipFill>
          <a:blip r:embed="rId2"/>
          <a:stretch/>
        </p:blipFill>
        <p:spPr>
          <a:xfrm>
            <a:off x="0" y="1484280"/>
            <a:ext cx="360360" cy="5138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BD10307_"/>
          <p:cNvPicPr/>
          <p:nvPr/>
        </p:nvPicPr>
        <p:blipFill>
          <a:blip r:embed="rId3"/>
          <a:stretch/>
        </p:blipFill>
        <p:spPr>
          <a:xfrm>
            <a:off x="0" y="1125360"/>
            <a:ext cx="7667640" cy="576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BD10307_"/>
          <p:cNvPicPr/>
          <p:nvPr/>
        </p:nvPicPr>
        <p:blipFill>
          <a:blip r:embed="rId4"/>
          <a:srcRect l="0" t="-12075" r="0" b="0"/>
          <a:stretch/>
        </p:blipFill>
        <p:spPr>
          <a:xfrm>
            <a:off x="0" y="6453360"/>
            <a:ext cx="7740720" cy="404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BD10307_"/>
          <p:cNvPicPr/>
          <p:nvPr/>
        </p:nvPicPr>
        <p:blipFill>
          <a:blip r:embed="rId5"/>
          <a:stretch/>
        </p:blipFill>
        <p:spPr>
          <a:xfrm>
            <a:off x="7524720" y="1341360"/>
            <a:ext cx="3603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Волшебное слово – «Пожалуйста»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ростите, пожалуйста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4" descr="a49c9bee6088c7de1d683828a0a36ae4"/>
          <p:cNvPicPr/>
          <p:nvPr/>
        </p:nvPicPr>
        <p:blipFill>
          <a:blip r:embed="rId1"/>
          <a:stretch/>
        </p:blipFill>
        <p:spPr>
          <a:xfrm>
            <a:off x="3924360" y="1341360"/>
            <a:ext cx="3744720" cy="475164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214" name="Rectangle 5"/>
          <p:cNvSpPr/>
          <p:nvPr/>
        </p:nvSpPr>
        <p:spPr>
          <a:xfrm flipH="1" flipV="1" rot="10800000">
            <a:off x="3491280" y="623088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адитесь, пожалуйста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Picture 6" descr="viewer?url=http%3A%2F%2Fnsportal"/>
          <p:cNvPicPr/>
          <p:nvPr/>
        </p:nvPicPr>
        <p:blipFill>
          <a:blip r:embed="rId2"/>
          <a:srcRect l="24570" t="12534" r="24570" b="38575"/>
          <a:stretch/>
        </p:blipFill>
        <p:spPr>
          <a:xfrm>
            <a:off x="179280" y="2205000"/>
            <a:ext cx="3600720" cy="431964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Волшебное слово – «Пожалуйста»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ай, пожалуйста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 flipH="1" flipV="1" rot="10800000">
            <a:off x="3491280" y="623088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Извини, пожалуйста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Picture 7" descr="slide-11-728"/>
          <p:cNvPicPr/>
          <p:nvPr/>
        </p:nvPicPr>
        <p:blipFill>
          <a:blip r:embed="rId1"/>
          <a:srcRect l="26477" t="9691" r="25958" b="28382"/>
          <a:stretch/>
        </p:blipFill>
        <p:spPr>
          <a:xfrm>
            <a:off x="179280" y="2205000"/>
            <a:ext cx="3529080" cy="439272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220" name="Picture 8" descr="slide-12-728"/>
          <p:cNvPicPr/>
          <p:nvPr/>
        </p:nvPicPr>
        <p:blipFill>
          <a:blip r:embed="rId2"/>
          <a:srcRect l="28554" t="12460" r="31674" b="31843"/>
          <a:stretch/>
        </p:blipFill>
        <p:spPr>
          <a:xfrm>
            <a:off x="3924360" y="1341360"/>
            <a:ext cx="3672000" cy="482436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6:47:29Z</dcterms:created>
  <dc:creator>User</dc:creator>
  <dc:description/>
  <dc:language>en-US</dc:language>
  <cp:lastModifiedBy>1</cp:lastModifiedBy>
  <dcterms:modified xsi:type="dcterms:W3CDTF">2023-05-04T17:17:35Z</dcterms:modified>
  <cp:revision>22</cp:revision>
  <dc:subject/>
  <dc:title>Волшебные слова с просьбой.</dc:title>
</cp:coreProperties>
</file>