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C8F-C639-44F9-A7E3-EFF23E82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07C-C938-4DC7-9166-BC5D1318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891-5953-4AE0-BD87-A39AFB7A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EC5-7DE5-49BA-B7DE-85BA70E4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4008-8EFD-4714-AA15-63031D29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0B62-91A6-4D44-8CD4-6D74E95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9BE2-714D-49F1-AD04-CBF2D8E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6C36-5643-40C2-A277-A1A8FE72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26A-7B0E-4C16-9272-3615FA8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11EC-9D83-43DE-AAE8-07ACCC53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3E98-A14C-49BE-B196-F98426C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CE4-9CC8-4614-9DE7-18271630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2731-184C-4359-8B76-EED4A06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BD23-D129-4D5B-95DF-AB027815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B46-887E-4447-914C-95813292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17B-EFCC-4CCF-8240-4683AD49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7DD9-7152-49A3-954C-156B7A50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188-7C2F-400F-936B-682E552E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1B8-98BF-4654-9D90-4A570DB0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DA1-68DA-4374-A2E5-3E3E33D3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DA2-43AC-4381-B093-6FD078D9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B7D-A3ED-4413-9CB4-44853E70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997-8239-4EC6-B48F-9A5E7FC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A55-6FB0-4824-8A95-907A4B66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788B-6328-49B8-AE09-BC03857F2F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086D-DEAC-4F2D-B487-F96B3B6D8F2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лшебные слова с просьбо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дготовила и провела: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спитатель 1 а доп. класс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рещенко С.С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лшебные слова – «Будьте любезны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4" descr="slide-13-728"/>
          <p:cNvPicPr/>
          <p:nvPr/>
        </p:nvPicPr>
        <p:blipFill>
          <a:blip r:embed="rId1"/>
          <a:srcRect l="27001" t="11076" r="24400" b="29074"/>
          <a:stretch/>
        </p:blipFill>
        <p:spPr>
          <a:xfrm>
            <a:off x="250920" y="1197000"/>
            <a:ext cx="5113080" cy="410364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sp>
        <p:nvSpPr>
          <p:cNvPr id="223" name="Rectangle 5"/>
          <p:cNvSpPr/>
          <p:nvPr/>
        </p:nvSpPr>
        <p:spPr>
          <a:xfrm flipV="1" rot="10800000">
            <a:off x="2769840" y="53726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af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БУДЬТЕ ЛЮБЕЗНЫ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вы нам помогите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Цену за слоника нам подскажит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- Я с удовольствием вас обслужу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грушку для вас я подам, покажу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лшебные слова – «Будьте добры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4" descr="бабушка"/>
          <p:cNvPicPr/>
          <p:nvPr/>
        </p:nvPicPr>
        <p:blipFill>
          <a:blip r:embed="rId1">
            <a:lum contrast="6000"/>
          </a:blip>
          <a:srcRect l="0" t="9964" r="0" b="0"/>
          <a:stretch/>
        </p:blipFill>
        <p:spPr>
          <a:xfrm>
            <a:off x="395280" y="1341360"/>
            <a:ext cx="5832360" cy="388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2771640" y="4869000"/>
            <a:ext cx="46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- Очень вас проси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БУДЬТЕ ДОБРЫ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Домик покрасьте, друзья-маляры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-Мы с удовольствием выкрасим дом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лько вот кисти и краски найдём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6" descr="BD10307_"/>
          <p:cNvPicPr/>
          <p:nvPr/>
        </p:nvPicPr>
        <p:blipFill>
          <a:blip r:embed="rId2"/>
          <a:stretch/>
        </p:blipFill>
        <p:spPr>
          <a:xfrm>
            <a:off x="0" y="1125360"/>
            <a:ext cx="360360" cy="5732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BD10307_"/>
          <p:cNvPicPr/>
          <p:nvPr/>
        </p:nvPicPr>
        <p:blipFill>
          <a:blip r:embed="rId3"/>
          <a:stretch/>
        </p:blipFill>
        <p:spPr>
          <a:xfrm>
            <a:off x="250920" y="1052640"/>
            <a:ext cx="756108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BD10307_"/>
          <p:cNvPicPr/>
          <p:nvPr/>
        </p:nvPicPr>
        <p:blipFill>
          <a:blip r:embed="rId4"/>
          <a:stretch/>
        </p:blipFill>
        <p:spPr>
          <a:xfrm>
            <a:off x="7524720" y="1143000"/>
            <a:ext cx="360360" cy="5715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BD10307_"/>
          <p:cNvPicPr/>
          <p:nvPr/>
        </p:nvPicPr>
        <p:blipFill>
          <a:blip r:embed="rId5"/>
          <a:stretch/>
        </p:blipFill>
        <p:spPr>
          <a:xfrm>
            <a:off x="179280" y="6497640"/>
            <a:ext cx="7632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5" descr="25594654_Otkruytka__Horoshee_nastroenie"/>
          <p:cNvPicPr/>
          <p:nvPr/>
        </p:nvPicPr>
        <p:blipFill>
          <a:blip r:embed="rId1"/>
          <a:stretch/>
        </p:blipFill>
        <p:spPr>
          <a:xfrm>
            <a:off x="179280" y="185760"/>
            <a:ext cx="756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95280" y="1278000"/>
            <a:ext cx="69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95280" y="1279440"/>
            <a:ext cx="69850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24000" y="1279440"/>
            <a:ext cx="7056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324000" y="1227240"/>
            <a:ext cx="712764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гра «Доскажи словечко»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4" descr="viewer?url=http%3A%2F%2Fnsportal"/>
          <p:cNvPicPr/>
          <p:nvPr/>
        </p:nvPicPr>
        <p:blipFill>
          <a:blip r:embed="rId1"/>
          <a:stretch/>
        </p:blipFill>
        <p:spPr>
          <a:xfrm>
            <a:off x="250920" y="1224000"/>
            <a:ext cx="712944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лшебное слово – «Пожалуйст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4" descr="зая"/>
          <p:cNvPicPr/>
          <p:nvPr/>
        </p:nvPicPr>
        <p:blipFill>
          <a:blip r:embed="rId1"/>
          <a:srcRect l="6031" t="0" r="0" b="1986"/>
          <a:stretch/>
        </p:blipFill>
        <p:spPr>
          <a:xfrm>
            <a:off x="250920" y="1700280"/>
            <a:ext cx="4473360" cy="338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3564000" y="386064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Дайте капусты кочанчик-друг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Разве так просят? Подумай, кос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Дайте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ЖАЛУЙСТА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 ,- вспомнил Зайчишка.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И, если можно, с большой кочерыжк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-Вот молодец! - ему лапу пожал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И самых вкусных кочанчиков дал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BD10307_"/>
          <p:cNvPicPr/>
          <p:nvPr/>
        </p:nvPicPr>
        <p:blipFill>
          <a:blip r:embed="rId2"/>
          <a:stretch/>
        </p:blipFill>
        <p:spPr>
          <a:xfrm>
            <a:off x="0" y="1484280"/>
            <a:ext cx="360360" cy="5138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BD10307_"/>
          <p:cNvPicPr/>
          <p:nvPr/>
        </p:nvPicPr>
        <p:blipFill>
          <a:blip r:embed="rId3"/>
          <a:stretch/>
        </p:blipFill>
        <p:spPr>
          <a:xfrm>
            <a:off x="0" y="1125360"/>
            <a:ext cx="766764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BD10307_"/>
          <p:cNvPicPr/>
          <p:nvPr/>
        </p:nvPicPr>
        <p:blipFill>
          <a:blip r:embed="rId4"/>
          <a:srcRect l="0" t="-12075" r="0" b="0"/>
          <a:stretch/>
        </p:blipFill>
        <p:spPr>
          <a:xfrm>
            <a:off x="0" y="6453360"/>
            <a:ext cx="7740720" cy="40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BD10307_"/>
          <p:cNvPicPr/>
          <p:nvPr/>
        </p:nvPicPr>
        <p:blipFill>
          <a:blip r:embed="rId5"/>
          <a:stretch/>
        </p:blipFill>
        <p:spPr>
          <a:xfrm>
            <a:off x="7524720" y="1341360"/>
            <a:ext cx="360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лшебное слово – «Пожалуйст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остите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a49c9bee6088c7de1d683828a0a36ae4"/>
          <p:cNvPicPr/>
          <p:nvPr/>
        </p:nvPicPr>
        <p:blipFill>
          <a:blip r:embed="rId1"/>
          <a:stretch/>
        </p:blipFill>
        <p:spPr>
          <a:xfrm>
            <a:off x="3924360" y="1341360"/>
            <a:ext cx="3744720" cy="4751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214" name="Rectangle 5"/>
          <p:cNvSpPr/>
          <p:nvPr/>
        </p:nvSpPr>
        <p:spPr>
          <a:xfrm flipH="1" flipV="1" rot="10800000">
            <a:off x="3491280" y="6230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дитесь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viewer?url=http%3A%2F%2Fnsportal"/>
          <p:cNvPicPr/>
          <p:nvPr/>
        </p:nvPicPr>
        <p:blipFill>
          <a:blip r:embed="rId2"/>
          <a:srcRect l="24570" t="12534" r="24570" b="38575"/>
          <a:stretch/>
        </p:blipFill>
        <p:spPr>
          <a:xfrm>
            <a:off x="179280" y="2205000"/>
            <a:ext cx="3600720" cy="4319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лшебное слово – «Пожалуйст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ай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 flipH="1" flipV="1" rot="10800000">
            <a:off x="3491280" y="6230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звини, пожалуйст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7" descr="slide-11-728"/>
          <p:cNvPicPr/>
          <p:nvPr/>
        </p:nvPicPr>
        <p:blipFill>
          <a:blip r:embed="rId1"/>
          <a:srcRect l="26477" t="9691" r="25958" b="28382"/>
          <a:stretch/>
        </p:blipFill>
        <p:spPr>
          <a:xfrm>
            <a:off x="179280" y="2205000"/>
            <a:ext cx="3529080" cy="43927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20" name="Picture 8" descr="slide-12-728"/>
          <p:cNvPicPr/>
          <p:nvPr/>
        </p:nvPicPr>
        <p:blipFill>
          <a:blip r:embed="rId2"/>
          <a:srcRect l="28554" t="12460" r="31674" b="31843"/>
          <a:stretch/>
        </p:blipFill>
        <p:spPr>
          <a:xfrm>
            <a:off x="3924360" y="1341360"/>
            <a:ext cx="3672000" cy="4824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47:29Z</dcterms:created>
  <dc:creator>User</dc:creator>
  <dc:description/>
  <dc:language>en-US</dc:language>
  <cp:lastModifiedBy>1</cp:lastModifiedBy>
  <dcterms:modified xsi:type="dcterms:W3CDTF">2023-05-04T17:17:35Z</dcterms:modified>
  <cp:revision>22</cp:revision>
  <dc:subject/>
  <dc:title>Волшебные слова с просьбой.</dc:title>
</cp:coreProperties>
</file>