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E01-22F4-497B-96BE-8E8588EA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8E1-A999-430E-86E2-24F616C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04C-7BBB-4DA7-BEAB-AB7898A8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58B-0955-435C-9C07-CAA19919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A970-2C69-4321-B7C5-86DBC4A5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F467-8502-43A5-9F9F-C2B59A30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4D4-F427-4082-BA5A-FEBC21E7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8A4-91AD-40F1-BD7A-EC5C42FA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0FC-3D8B-4B94-812F-66982E0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628-ABCD-472E-BBD8-B42A91D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DB4D-43D8-40B3-9407-046A7AA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F77-0777-4F0E-BB91-23C38140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D058-D383-4491-81CA-3775907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D500-3AF3-4282-9F23-28A4C11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1EF-C2B2-4A0A-9496-4006104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7999-F62D-453D-A02E-A1B15892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837-7F2A-4208-9157-D41D19B3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807-D1FE-413C-91D6-3CFA08A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9E5-BC3D-45F0-921F-D9EC17F1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F4B-5F81-4A65-9265-717E50C0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B1B-28A0-4551-9F45-4B9E9566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13F-EA84-4CAE-814F-7D05B0F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7A4-BE79-46F0-8F1E-6DB7FF4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F55-EA58-451C-BE50-F6C1C16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1890-5A31-415B-B9FA-CEE8558C98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7D0-9CD3-4BD9-A90C-149D88F59A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whoosh.wav" TargetMode="External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Times New Roman"/>
              </a:rPr>
              <a:t>Слова – пожелания 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Times New Roman"/>
              </a:rPr>
              <a:t>в общении с людьми.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ила и прове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спитатель 1 а доп. клас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рещенко С.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Times New Roman"/>
              </a:rPr>
              <a:t>Что неправильно на картинке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4" descr="добр утро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978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32" name="AutoShape 5"/>
          <p:cNvSpPr/>
          <p:nvPr/>
        </p:nvSpPr>
        <p:spPr>
          <a:xfrm>
            <a:off x="7236000" y="1413000"/>
            <a:ext cx="1728720" cy="1224000"/>
          </a:xfrm>
          <a:prstGeom prst="wedgeEllipseCallout">
            <a:avLst>
              <a:gd name="adj1" fmla="val -70018"/>
              <a:gd name="adj2" fmla="val 212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е утр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Times New Roman"/>
              </a:rPr>
              <a:t>Что неправильно на картинке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доб ночи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3290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35" name="AutoShape 5"/>
          <p:cNvSpPr/>
          <p:nvPr/>
        </p:nvSpPr>
        <p:spPr>
          <a:xfrm>
            <a:off x="7236000" y="981000"/>
            <a:ext cx="1728720" cy="1295640"/>
          </a:xfrm>
          <a:prstGeom prst="wedgeEllipseCallout">
            <a:avLst>
              <a:gd name="adj1" fmla="val -73231"/>
              <a:gd name="adj2" fmla="val 3333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окойной ноч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Arial"/>
              </a:rPr>
              <a:t>ПРАВИЛЬНО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700360" y="404640"/>
            <a:ext cx="647640" cy="57636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360"/>
              <a:gd name="textAreaBottom" fmla="*/ 330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4211640" y="227664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4716360" y="450864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451640" y="1557360"/>
            <a:ext cx="647640" cy="57636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360"/>
              <a:gd name="textAreaBottom" fmla="*/ 330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468360" y="191628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7812000" y="4941720"/>
            <a:ext cx="647640" cy="57636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360"/>
              <a:gd name="textAreaBottom" fmla="*/ 330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116000" y="522936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ежливые пожелания утр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4" descr="slide-4-728"/>
          <p:cNvPicPr/>
          <p:nvPr/>
        </p:nvPicPr>
        <p:blipFill>
          <a:blip r:embed="rId1"/>
          <a:srcRect l="23362" t="0" r="23362" b="10383"/>
          <a:stretch/>
        </p:blipFill>
        <p:spPr>
          <a:xfrm>
            <a:off x="250920" y="1557360"/>
            <a:ext cx="424980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2" name="Picture 6" descr="viewer?url=http%3A%2F%2Fnsportal"/>
          <p:cNvPicPr/>
          <p:nvPr/>
        </p:nvPicPr>
        <p:blipFill>
          <a:blip r:embed="rId2"/>
          <a:srcRect l="26738" t="0" r="23125" b="0"/>
          <a:stretch/>
        </p:blipFill>
        <p:spPr>
          <a:xfrm>
            <a:off x="4788000" y="1557360"/>
            <a:ext cx="410508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ежливые пожелания днё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6" descr="slide-5-728"/>
          <p:cNvPicPr/>
          <p:nvPr/>
        </p:nvPicPr>
        <p:blipFill>
          <a:blip r:embed="rId1"/>
          <a:srcRect l="22324" t="0" r="23362" b="10383"/>
          <a:stretch/>
        </p:blipFill>
        <p:spPr>
          <a:xfrm>
            <a:off x="324000" y="1484280"/>
            <a:ext cx="407016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5" name="Picture 7" descr="viewer?url=http%3A%2F%2Fnsportal"/>
          <p:cNvPicPr/>
          <p:nvPr/>
        </p:nvPicPr>
        <p:blipFill>
          <a:blip r:embed="rId2"/>
          <a:srcRect l="21679" t="9641" r="23125" b="4821"/>
          <a:stretch/>
        </p:blipFill>
        <p:spPr>
          <a:xfrm>
            <a:off x="4751280" y="1484280"/>
            <a:ext cx="415620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ежливые пожелания вечер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viewer?url=http%3A%2F%2Fnsportal"/>
          <p:cNvPicPr/>
          <p:nvPr/>
        </p:nvPicPr>
        <p:blipFill>
          <a:blip r:embed="rId1"/>
          <a:srcRect l="18066" t="4821" r="21679" b="0"/>
          <a:stretch/>
        </p:blipFill>
        <p:spPr>
          <a:xfrm>
            <a:off x="4788000" y="1557360"/>
            <a:ext cx="4109760" cy="4967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8" name="Picture 6" descr="slide-6-728"/>
          <p:cNvPicPr/>
          <p:nvPr/>
        </p:nvPicPr>
        <p:blipFill>
          <a:blip r:embed="rId2"/>
          <a:srcRect l="15575" t="0" r="12979" b="6922"/>
          <a:stretch/>
        </p:blipFill>
        <p:spPr>
          <a:xfrm>
            <a:off x="250920" y="1557360"/>
            <a:ext cx="4105080" cy="4967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олшебные слова при встреч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4" descr="slide-16-728"/>
          <p:cNvPicPr/>
          <p:nvPr/>
        </p:nvPicPr>
        <p:blipFill>
          <a:blip r:embed="rId1"/>
          <a:srcRect l="19728" t="0" r="18690" b="6922"/>
          <a:stretch/>
        </p:blipFill>
        <p:spPr>
          <a:xfrm>
            <a:off x="250920" y="1484280"/>
            <a:ext cx="43225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1" name="Picture 5" descr="&amp;Scy;&amp;tcy;&amp;icy;&amp;khcy;&amp;icy; &amp;ocy; &amp;vcy;&amp;iecy;&amp;zhcy;&amp;lcy;&amp;icy;&amp;vcy;&amp;ycy;&amp;khcy; &amp;scy;&amp;lcy;&amp;ocy;&amp;vcy;&amp;acy;&amp;khcy;. "/>
          <p:cNvPicPr/>
          <p:nvPr/>
        </p:nvPicPr>
        <p:blipFill>
          <a:blip r:embed="rId2"/>
          <a:stretch/>
        </p:blipFill>
        <p:spPr>
          <a:xfrm>
            <a:off x="4859280" y="1484280"/>
            <a:ext cx="4049640" cy="460872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4859280" y="6093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ри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ву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Волшебные слова при прощани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slide-17-728"/>
          <p:cNvPicPr/>
          <p:nvPr/>
        </p:nvPicPr>
        <p:blipFill>
          <a:blip r:embed="rId1"/>
          <a:srcRect l="28034" t="6922" r="22843" b="4153"/>
          <a:stretch/>
        </p:blipFill>
        <p:spPr>
          <a:xfrm>
            <a:off x="250920" y="1484280"/>
            <a:ext cx="2665440" cy="5113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5" name="Picture 5" descr="slide-21-728"/>
          <p:cNvPicPr/>
          <p:nvPr/>
        </p:nvPicPr>
        <p:blipFill>
          <a:blip r:embed="rId2"/>
          <a:srcRect l="23362" t="2077" r="18170" b="6922"/>
          <a:stretch/>
        </p:blipFill>
        <p:spPr>
          <a:xfrm>
            <a:off x="3203640" y="1484280"/>
            <a:ext cx="2736720" cy="5113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6" name="Picture 6" descr="slide-20-728"/>
          <p:cNvPicPr/>
          <p:nvPr/>
        </p:nvPicPr>
        <p:blipFill>
          <a:blip r:embed="rId3"/>
          <a:srcRect l="20766" t="0" r="20766" b="6922"/>
          <a:stretch/>
        </p:blipFill>
        <p:spPr>
          <a:xfrm>
            <a:off x="6227640" y="1484280"/>
            <a:ext cx="2632320" cy="5113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желания перед сн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slide-7-728"/>
          <p:cNvPicPr/>
          <p:nvPr/>
        </p:nvPicPr>
        <p:blipFill>
          <a:blip r:embed="rId1"/>
          <a:srcRect l="22324" t="3461" r="18170" b="6922"/>
          <a:stretch/>
        </p:blipFill>
        <p:spPr>
          <a:xfrm>
            <a:off x="250920" y="1484280"/>
            <a:ext cx="42685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9" name="Picture 5" descr="slide-8-728"/>
          <p:cNvPicPr/>
          <p:nvPr/>
        </p:nvPicPr>
        <p:blipFill>
          <a:blip r:embed="rId2"/>
          <a:srcRect l="25958" t="6922" r="20766" b="10383"/>
          <a:stretch/>
        </p:blipFill>
        <p:spPr>
          <a:xfrm>
            <a:off x="4834080" y="1484280"/>
            <a:ext cx="407988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Волшебные пожелания для друзе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slide-15-728"/>
          <p:cNvPicPr/>
          <p:nvPr/>
        </p:nvPicPr>
        <p:blipFill>
          <a:blip r:embed="rId1"/>
          <a:srcRect l="28554" t="0" r="25958" b="8307"/>
          <a:stretch/>
        </p:blipFill>
        <p:spPr>
          <a:xfrm>
            <a:off x="250920" y="1484280"/>
            <a:ext cx="27367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22" name="Picture 5" descr="slide-14-728"/>
          <p:cNvPicPr/>
          <p:nvPr/>
        </p:nvPicPr>
        <p:blipFill>
          <a:blip r:embed="rId2"/>
          <a:srcRect l="12979" t="0" r="15575" b="3461"/>
          <a:stretch/>
        </p:blipFill>
        <p:spPr>
          <a:xfrm>
            <a:off x="6300720" y="1484280"/>
            <a:ext cx="25909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23" name="Picture 6" descr="slide-19-728"/>
          <p:cNvPicPr/>
          <p:nvPr/>
        </p:nvPicPr>
        <p:blipFill>
          <a:blip r:embed="rId3"/>
          <a:srcRect l="20247" t="6922" r="12979" b="8307"/>
          <a:stretch/>
        </p:blipFill>
        <p:spPr>
          <a:xfrm>
            <a:off x="3276720" y="1484280"/>
            <a:ext cx="273528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ыберите правильный отве</a:t>
            </a: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т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ты пожелаешь человеку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торый садится обед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>
            <a:hlinkClick r:id="rId1"/>
          </p:cNvPr>
          <p:cNvSpPr/>
          <p:nvPr/>
        </p:nvSpPr>
        <p:spPr>
          <a:xfrm>
            <a:off x="611280" y="3573360"/>
            <a:ext cx="3097080" cy="3988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АСТЛИВОГО ПУТ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>
            <a:hlinkClick r:id="rId2"/>
          </p:cNvPr>
          <p:cNvSpPr/>
          <p:nvPr/>
        </p:nvSpPr>
        <p:spPr>
          <a:xfrm>
            <a:off x="5076720" y="3645000"/>
            <a:ext cx="3421080" cy="3988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ЯТНОГО АППЕТИТ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>
            <a:hlinkClick r:id="rId3"/>
          </p:cNvPr>
          <p:cNvSpPr/>
          <p:nvPr/>
        </p:nvSpPr>
        <p:spPr>
          <a:xfrm>
            <a:off x="684360" y="5157720"/>
            <a:ext cx="309564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КОЙНОЙ НОЧ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>
            <a:hlinkClick r:id="rId4"/>
          </p:cNvPr>
          <p:cNvSpPr/>
          <p:nvPr/>
        </p:nvSpPr>
        <p:spPr>
          <a:xfrm>
            <a:off x="5076720" y="5084640"/>
            <a:ext cx="345780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БУДЬ ЗДОРОВ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1:47:22Z</dcterms:created>
  <dc:creator>User</dc:creator>
  <dc:description/>
  <dc:language>en-US</dc:language>
  <cp:lastModifiedBy>user</cp:lastModifiedBy>
  <dcterms:modified xsi:type="dcterms:W3CDTF">2023-05-04T10:37:02Z</dcterms:modified>
  <cp:revision>31</cp:revision>
  <dc:subject/>
  <dc:title>Слова –пожелания  в общении с людьми. </dc:title>
</cp:coreProperties>
</file>