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FA2C4-6446-4D78-92C3-8082A2E9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16FEA-1A75-410C-BCCF-D2814225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1A40F-FFB2-4FBE-9E95-C3D5052B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F32B8-05E0-46AC-8F83-36E7083D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03B9-2190-4041-B3F5-3D7A31AF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203A-DEE6-4236-BABF-FB82E348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F8C7-AD3A-40DA-B05C-B3E0497A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94FD-BFC9-43FF-A719-D3729E03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2BFC-5CDE-4625-9017-DC7CFDA4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7B72-B2D0-4C90-BC7A-CCFEEDEC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B18C-795B-45AD-937D-CDC2C095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86BB0-A29B-4AF6-BF2D-B0CDFA37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99A5-6AC4-4B0F-A589-3C4DB4B2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7F79-2090-4952-BC81-48F79714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0588-0E78-44D4-B4EB-2252C013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FADC-222D-4058-A5DF-59440C95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B7DB-115E-41B7-B631-7F1C450B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5886-9487-45FE-8638-7CE1AB93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53B65-715B-4CB1-9FC2-357BB488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F51A6-9FFE-4FD7-9AC7-BED4FBAA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EC9A4-88B6-4C89-9541-7B3532A2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97424-452B-4D72-AE19-704ABD85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9B131-4322-41F6-BA0E-AACEE1E4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DE36C-407C-4805-B61E-AA8B06F5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41AB-12F2-4A15-81A9-51EA6FD0DDA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B1AE-E7F7-490A-91A3-045551A2CB3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ffcc"/>
                </a:solidFill>
                <a:latin typeface="Times New Roman"/>
              </a:rPr>
              <a:t>Наши помощники – волшебные слова.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дготовила и провела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оспитатель 1 а доп. клас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ерещенко С.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Игра «Подбери словечко»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3" name="Picture 4" descr="viewer?url=http%3A%2F%2Fnsportal"/>
          <p:cNvPicPr/>
          <p:nvPr/>
        </p:nvPicPr>
        <p:blipFill>
          <a:blip r:embed="rId1"/>
          <a:srcRect l="9394" t="9641" r="9394" b="9641"/>
          <a:stretch/>
        </p:blipFill>
        <p:spPr>
          <a:xfrm>
            <a:off x="2050920" y="1413000"/>
            <a:ext cx="5329440" cy="504036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  <p:pic>
        <p:nvPicPr>
          <p:cNvPr id="154" name="Picture 5" descr="x_de7364c4"/>
          <p:cNvPicPr/>
          <p:nvPr/>
        </p:nvPicPr>
        <p:blipFill>
          <a:blip r:embed="rId2"/>
          <a:stretch/>
        </p:blipFill>
        <p:spPr>
          <a:xfrm>
            <a:off x="250920" y="2781360"/>
            <a:ext cx="1377720" cy="158436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Игра «Подбери словечко»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Picture 4" descr="viewer?url=http%3A%2F%2Fnsportal"/>
          <p:cNvPicPr/>
          <p:nvPr/>
        </p:nvPicPr>
        <p:blipFill>
          <a:blip r:embed="rId1"/>
          <a:srcRect l="14453" t="0" r="10840" b="0"/>
          <a:stretch/>
        </p:blipFill>
        <p:spPr>
          <a:xfrm>
            <a:off x="2050920" y="1484280"/>
            <a:ext cx="5329440" cy="489276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  <p:pic>
        <p:nvPicPr>
          <p:cNvPr id="157" name="Picture 5" descr="x_de7364c4"/>
          <p:cNvPicPr/>
          <p:nvPr/>
        </p:nvPicPr>
        <p:blipFill>
          <a:blip r:embed="rId2"/>
          <a:stretch/>
        </p:blipFill>
        <p:spPr>
          <a:xfrm>
            <a:off x="250920" y="2781360"/>
            <a:ext cx="1377720" cy="158436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Игра «Подбери словечко»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9" name="Picture 4" descr="собака"/>
          <p:cNvPicPr/>
          <p:nvPr/>
        </p:nvPicPr>
        <p:blipFill>
          <a:blip r:embed="rId1"/>
          <a:stretch/>
        </p:blipFill>
        <p:spPr>
          <a:xfrm>
            <a:off x="1763640" y="1341360"/>
            <a:ext cx="5472360" cy="367200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  <p:sp>
        <p:nvSpPr>
          <p:cNvPr id="160" name="Rectangle 5"/>
          <p:cNvSpPr/>
          <p:nvPr/>
        </p:nvSpPr>
        <p:spPr>
          <a:xfrm>
            <a:off x="1692360" y="5084640"/>
            <a:ext cx="5616360" cy="1313640"/>
          </a:xfrm>
          <a:prstGeom prst="rect">
            <a:avLst/>
          </a:prstGeom>
          <a:solidFill>
            <a:srgbClr val="ffffff"/>
          </a:solidFill>
          <a:ln w="63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Так набегался Щенок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рямо валится он с ног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Засыпает и бормочет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-Всем, всем, всем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ПОКОЙНОЙ НОЧИ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6" descr="x_de7364c4"/>
          <p:cNvPicPr/>
          <p:nvPr/>
        </p:nvPicPr>
        <p:blipFill>
          <a:blip r:embed="rId2"/>
          <a:stretch/>
        </p:blipFill>
        <p:spPr>
          <a:xfrm>
            <a:off x="179280" y="2708280"/>
            <a:ext cx="1378080" cy="158436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Сценка «Соседи по парте»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Picture 21" descr="585485620889812736"/>
          <p:cNvPicPr/>
          <p:nvPr/>
        </p:nvPicPr>
        <p:blipFill>
          <a:blip r:embed="rId1"/>
          <a:stretch/>
        </p:blipFill>
        <p:spPr>
          <a:xfrm>
            <a:off x="1692360" y="1341360"/>
            <a:ext cx="5832360" cy="510084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Сценка «Случай на уроке»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5" name="Picture 4" descr="teacher-500x463  &amp;Rcy;&amp;iecy;&amp;pcy;&amp;iecy;&amp;tcy;&amp;icy;&amp;tcy;&amp;ocy;&amp;rcy; &amp;dcy;&amp;lcy;&amp;yacy; &amp;acy;&amp;scy;&amp;tcy;&amp;rcy;&amp;ocy;&amp;fcy;&amp;icy;&amp;zcy;&amp;icy;&amp;kcy;&amp;acy; &amp;icy;&amp;lcy;&amp;icy; &amp;Gcy;&amp;dcy;&amp;iecy; &amp;ocy;&amp;ncy;&amp;icy;, &amp;lcy;&amp;ucy;&amp;chcy;&amp;shcy;&amp;icy;&amp;iecy; &amp;ucy;&amp;chcy;&amp;icy;&amp;tcy;&amp;iecy;&amp;lcy;&amp;yacy;"/>
          <p:cNvPicPr/>
          <p:nvPr/>
        </p:nvPicPr>
        <p:blipFill>
          <a:blip r:embed="rId1"/>
          <a:stretch/>
        </p:blipFill>
        <p:spPr>
          <a:xfrm>
            <a:off x="1692360" y="1341360"/>
            <a:ext cx="6119640" cy="520056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Сценка «В автобусе»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7" name="Picture 4" descr="Chit_avtobus2"/>
          <p:cNvPicPr/>
          <p:nvPr/>
        </p:nvPicPr>
        <p:blipFill>
          <a:blip r:embed="rId1"/>
          <a:stretch/>
        </p:blipFill>
        <p:spPr>
          <a:xfrm>
            <a:off x="1187280" y="1268280"/>
            <a:ext cx="6624720" cy="525636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Пожелания Мудрой Сов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</a:t>
            </a: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Чтобы добрыми вы был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</a:t>
            </a: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Слов волшебных не забыл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</a:t>
            </a: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Чтобы добрыми слов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</a:t>
            </a: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Говорили вы с друзь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</a:t>
            </a: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Расстаемся мы сейчас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</a:t>
            </a: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Добрый путь вам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</a:t>
            </a: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В добрый час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4" descr="70672422a1c4"/>
          <p:cNvPicPr/>
          <p:nvPr/>
        </p:nvPicPr>
        <p:blipFill>
          <a:blip r:embed="rId1"/>
          <a:stretch/>
        </p:blipFill>
        <p:spPr>
          <a:xfrm>
            <a:off x="324000" y="1413000"/>
            <a:ext cx="3763800" cy="511164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Мудрая Сов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 стране волшеб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        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слов случилась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ЕДА!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се слова разделили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ПОЛАМ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Ребята,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МОГИ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собрать вежлив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        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сл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610x610_angliyskiyispanskiy_299783_0"/>
          <p:cNvPicPr/>
          <p:nvPr/>
        </p:nvPicPr>
        <p:blipFill>
          <a:blip r:embed="rId1"/>
          <a:stretch/>
        </p:blipFill>
        <p:spPr>
          <a:xfrm>
            <a:off x="324000" y="1413000"/>
            <a:ext cx="4514760" cy="511164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Задание «Собери слова»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Здравст     прос       спас         изв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ните         ибо         тите      вуйт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ru-RU" sz="3600" spc="-1" strike="noStrike">
                <a:solidFill>
                  <a:srgbClr val="66ffff"/>
                </a:solidFill>
                <a:latin typeface="Times New Roman"/>
              </a:rPr>
              <a:t>пожал      будь       любе        доб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66ffff"/>
                </a:solidFill>
                <a:latin typeface="Times New Roman"/>
              </a:rPr>
              <a:t>ры             зны         уйста       т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спокой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но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 добро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п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го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ной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чи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610x610_angliyskiyispanskiy_299783_0"/>
          <p:cNvPicPr/>
          <p:nvPr/>
        </p:nvPicPr>
        <p:blipFill>
          <a:blip r:embed="rId1"/>
          <a:stretch/>
        </p:blipFill>
        <p:spPr>
          <a:xfrm>
            <a:off x="115920" y="189000"/>
            <a:ext cx="1273320" cy="143964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Мудрая Сов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А вы умеете примен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      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олшебные слова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      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разговоре с други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      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людьм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    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- Давайте проверим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      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поиграем в игр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«Подбери словечко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x_de7364c4"/>
          <p:cNvPicPr/>
          <p:nvPr/>
        </p:nvPicPr>
        <p:blipFill>
          <a:blip r:embed="rId1"/>
          <a:stretch/>
        </p:blipFill>
        <p:spPr>
          <a:xfrm>
            <a:off x="250920" y="1484280"/>
            <a:ext cx="4321080" cy="496908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Игра «Подбери словечко»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Picture 4" descr="viewer?url=http%3A%2F%2Fnsportal"/>
          <p:cNvPicPr/>
          <p:nvPr/>
        </p:nvPicPr>
        <p:blipFill>
          <a:blip r:embed="rId1"/>
          <a:srcRect l="18066" t="0" r="14453" b="0"/>
          <a:stretch/>
        </p:blipFill>
        <p:spPr>
          <a:xfrm>
            <a:off x="1908000" y="1413000"/>
            <a:ext cx="5256360" cy="4938480"/>
          </a:xfrm>
          <a:prstGeom prst="rect">
            <a:avLst/>
          </a:prstGeom>
          <a:ln w="63360">
            <a:solidFill>
              <a:srgbClr val="00ccff"/>
            </a:solidFill>
            <a:miter/>
          </a:ln>
        </p:spPr>
      </p:pic>
      <p:pic>
        <p:nvPicPr>
          <p:cNvPr id="139" name="Picture 7" descr="x_de7364c4"/>
          <p:cNvPicPr/>
          <p:nvPr/>
        </p:nvPicPr>
        <p:blipFill>
          <a:blip r:embed="rId2"/>
          <a:stretch/>
        </p:blipFill>
        <p:spPr>
          <a:xfrm>
            <a:off x="250920" y="2781360"/>
            <a:ext cx="1377720" cy="158436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Игра «Подбери словечко»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Picture 4" descr="viewer?url=http%3A%2F%2Fnsportal"/>
          <p:cNvPicPr/>
          <p:nvPr/>
        </p:nvPicPr>
        <p:blipFill>
          <a:blip r:embed="rId1"/>
          <a:srcRect l="7226" t="0" r="7226" b="0"/>
          <a:stretch/>
        </p:blipFill>
        <p:spPr>
          <a:xfrm>
            <a:off x="1908000" y="1413000"/>
            <a:ext cx="5328000" cy="4921200"/>
          </a:xfrm>
          <a:prstGeom prst="rect">
            <a:avLst/>
          </a:prstGeom>
          <a:ln w="63360">
            <a:solidFill>
              <a:srgbClr val="00ccff"/>
            </a:solidFill>
            <a:miter/>
          </a:ln>
        </p:spPr>
      </p:pic>
      <p:pic>
        <p:nvPicPr>
          <p:cNvPr id="142" name="Picture 5" descr="x_de7364c4"/>
          <p:cNvPicPr/>
          <p:nvPr/>
        </p:nvPicPr>
        <p:blipFill>
          <a:blip r:embed="rId2"/>
          <a:stretch/>
        </p:blipFill>
        <p:spPr>
          <a:xfrm>
            <a:off x="250920" y="2781360"/>
            <a:ext cx="1377720" cy="158436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Игра «Подбери словечко»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Picture 4" descr="viewer?url=http%3A%2F%2Fnsportal"/>
          <p:cNvPicPr/>
          <p:nvPr/>
        </p:nvPicPr>
        <p:blipFill>
          <a:blip r:embed="rId1"/>
          <a:srcRect l="10840" t="0" r="10840" b="0"/>
          <a:stretch/>
        </p:blipFill>
        <p:spPr>
          <a:xfrm>
            <a:off x="2050920" y="1557360"/>
            <a:ext cx="5257800" cy="468000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  <p:pic>
        <p:nvPicPr>
          <p:cNvPr id="145" name="Picture 5" descr="x_de7364c4"/>
          <p:cNvPicPr/>
          <p:nvPr/>
        </p:nvPicPr>
        <p:blipFill>
          <a:blip r:embed="rId2"/>
          <a:stretch/>
        </p:blipFill>
        <p:spPr>
          <a:xfrm>
            <a:off x="250920" y="2781360"/>
            <a:ext cx="1377720" cy="158436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Игра «Подбери словечко»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4" descr="viewer?url=http%3A%2F%2Fnsportal"/>
          <p:cNvPicPr/>
          <p:nvPr/>
        </p:nvPicPr>
        <p:blipFill>
          <a:blip r:embed="rId1"/>
          <a:srcRect l="14453" t="0" r="14453" b="0"/>
          <a:stretch/>
        </p:blipFill>
        <p:spPr>
          <a:xfrm>
            <a:off x="2124000" y="1413000"/>
            <a:ext cx="5256360" cy="496224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  <p:pic>
        <p:nvPicPr>
          <p:cNvPr id="148" name="Picture 5" descr="x_de7364c4"/>
          <p:cNvPicPr/>
          <p:nvPr/>
        </p:nvPicPr>
        <p:blipFill>
          <a:blip r:embed="rId2"/>
          <a:stretch/>
        </p:blipFill>
        <p:spPr>
          <a:xfrm>
            <a:off x="250920" y="2781360"/>
            <a:ext cx="1377720" cy="158436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Игра «Подбери словечко»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Picture 4" descr="viewer?url=http%3A%2F%2Fnsportal"/>
          <p:cNvPicPr/>
          <p:nvPr/>
        </p:nvPicPr>
        <p:blipFill>
          <a:blip r:embed="rId1"/>
          <a:srcRect l="14453" t="0" r="14453" b="0"/>
          <a:stretch/>
        </p:blipFill>
        <p:spPr>
          <a:xfrm>
            <a:off x="2195640" y="1413000"/>
            <a:ext cx="5256000" cy="504036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  <p:pic>
        <p:nvPicPr>
          <p:cNvPr id="151" name="Picture 5" descr="x_de7364c4"/>
          <p:cNvPicPr/>
          <p:nvPr/>
        </p:nvPicPr>
        <p:blipFill>
          <a:blip r:embed="rId2"/>
          <a:stretch/>
        </p:blipFill>
        <p:spPr>
          <a:xfrm>
            <a:off x="250920" y="2781360"/>
            <a:ext cx="1377720" cy="158436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0T07:41:57Z</dcterms:created>
  <dc:creator>User</dc:creator>
  <dc:description/>
  <dc:language>en-US</dc:language>
  <cp:lastModifiedBy>user</cp:lastModifiedBy>
  <dcterms:modified xsi:type="dcterms:W3CDTF">2023-05-04T10:55:53Z</dcterms:modified>
  <cp:revision>38</cp:revision>
  <dc:subject/>
  <dc:title>Наши помощники – волшебные слова.</dc:title>
</cp:coreProperties>
</file>