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248-4EBF-463A-8905-03430101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97F-5893-4909-9988-D4182CD9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E3F-BF75-451E-BFFC-105E2B82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8E8-75FF-43FC-8217-40386931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CB8A-F586-43D4-9A45-21E5A316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6D8A-CBBD-4B11-9FD5-35A99A3E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906C-D983-4409-B915-FC2A7D4D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3C0E-0C2F-406E-9E01-C5FF0A20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8593-BA50-407B-BE64-5E3C086B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6FBB-37D5-4AA7-AEB7-E2C5ED9E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3EF2-BB89-46D8-936D-ED88C5A1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5B3-03F6-489D-8973-AAD33D50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D22B-CE0F-4903-92F7-7774DFF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ECB0-80E8-4CFF-83DC-9F03A17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0236-CE16-416B-A468-91DE68C6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5AD4-5682-4503-9E1A-1531D6BB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09B7-BD31-4944-8516-386CF4F7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AFF0-2B53-4E4A-912A-D8E3DC3E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D484-B040-4917-B157-8B01ABAC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BBD7-9D08-4A28-A92E-AD31DB02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8ACE-F818-412B-90FE-01D295F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51AB-B6F9-4A94-80AA-EEF4C136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D9F-0046-4D08-8EF9-049DEC34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D88A-AB99-4F45-8114-C7C17A1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5E46-8FDF-44C9-A9F9-4B17ECF5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56FE-0AA6-41E2-AC3A-46C08D2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C93E-DDE7-4E6A-B461-5EB5488D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C8359-7BC7-4DF5-8491-DC859483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62C3-7B8C-44D4-AAE7-4A5D3E97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473B-8D7B-4D76-A8AE-2465EBEB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CA723-9DA0-431C-BDE0-8ED1CAC5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1239-EE68-4190-879A-A633D1E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D751-88B0-4C17-9254-84FD8EE2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BB3-F575-415A-B556-A5AEC3E6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8C56-3C56-49BA-B0FE-16A4C09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4D49-C532-4D84-9C91-3F2A24DB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E28A-A7A2-4024-8C35-F0FB9F0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6204-9588-4CDC-AEC8-2739945E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ECE0-ED08-46E3-9C18-E739651A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2752F-7AD3-4D25-9BAA-22116D4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A0E1-89E8-4E36-8F8A-D0710EF7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5E4C-1B2F-4234-811B-5CE7BE13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36758-5F76-47A3-8CF0-EF3C3198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232A-8FD5-45F9-B306-0EB2A0D2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2B3-7381-4B22-8AAB-A693AAA0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F7211-A0CA-428E-967C-823DD5E1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6FA43-092E-4B3B-95EA-ED10495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46FB2-A9E6-4D86-B45E-BDAD6804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F7A3-ED07-4D9D-920B-B1FDB5C3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2227C-3487-4F64-8F3D-20DD6C8F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05EF4-D8F9-4AF0-9BD1-FF32C342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FC7A3-3249-4FE2-895F-A484886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893A-6609-47A3-B86D-806907E7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3B34A-7405-47EA-AA94-5FABA4C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FA9E3-84B5-4EC7-BACE-0723BBFB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C25-9CB8-4D46-965E-FBB30391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53B9-5E84-4F1B-B0E9-25A2302C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191-26EE-4ECC-8896-D57C2F0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386-FD96-467B-B9F6-D36A5B4A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A14-FCE8-4FCB-8A60-7261AEC1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093C-F4A2-458F-AA88-DB537138388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2F50-890C-465F-9A2C-E102BC1D62D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2327-0A16-4794-8B1C-B2EE60C0A9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8AED-CE17-4127-8ADE-E16CE7469A0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04C-FA7C-4D7E-A764-DA480680B5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3920" y="1676520"/>
            <a:ext cx="6558120" cy="268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i="1" lang="ru-RU" sz="4100" spc="-1" strike="noStrike">
                <a:solidFill>
                  <a:srgbClr val="674d26"/>
                </a:solidFill>
                <a:latin typeface="Times New Roman"/>
                <a:ea typeface="Times New Roman"/>
              </a:rPr>
              <a:t>Эмоциональное благополучие дошкольников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9" descr="https://welcome.mosreg.ru/cache/thumbs/thumb_1920__2554448497.jpg"/>
          <p:cNvPicPr/>
          <p:nvPr/>
        </p:nvPicPr>
        <p:blipFill>
          <a:blip r:embed="rId1"/>
          <a:stretch/>
        </p:blipFill>
        <p:spPr>
          <a:xfrm>
            <a:off x="468360" y="476280"/>
            <a:ext cx="4078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-10080"/>
            <a:ext cx="7629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713880"/>
            <a:ext cx="8415360" cy="53578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Verdana"/>
              </a:rPr>
              <a:t>Эмоции</a:t>
            </a: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 играют важную роль в жизни детей, помогая воспринимать действительность и реагирование на нее. </a:t>
            </a:r>
            <a:r>
              <a:rPr b="1" i="1" lang="ru-RU" sz="2600" spc="-1" strike="noStrike">
                <a:solidFill>
                  <a:srgbClr val="002060"/>
                </a:solidFill>
                <a:latin typeface="Verdana"/>
              </a:rPr>
              <a:t>Чувства</a:t>
            </a: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 господствуют над всеми сторонами жизни дошкольни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Verdana"/>
              </a:rPr>
              <a:t>В дошкольном возрасте эмоциональное благополучие обеспечивает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1.Высокую самооценк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2.Сформированный самоконтроль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3.Ориентацию на успех в достижении целей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4d26"/>
                </a:solidFill>
                <a:latin typeface="Verdana"/>
              </a:rPr>
              <a:t>4.Эмоциональный комфорт в семье и вне семь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3132000" y="4869000"/>
            <a:ext cx="23767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272440" cy="1357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0243c"/>
                </a:solidFill>
                <a:latin typeface="Verdana"/>
              </a:rPr>
              <a:t>Составляющие эмоционального благополучия ребенка в семь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642680"/>
            <a:ext cx="827244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sp>
        <p:nvSpPr>
          <p:cNvPr id="227" name="Овал 3"/>
          <p:cNvSpPr/>
          <p:nvPr/>
        </p:nvSpPr>
        <p:spPr>
          <a:xfrm>
            <a:off x="539640" y="1773360"/>
            <a:ext cx="2532240" cy="1726920"/>
          </a:xfrm>
          <a:prstGeom prst="ellips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лагоприятная эмоциональная атмо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4"/>
          <p:cNvSpPr/>
          <p:nvPr/>
        </p:nvSpPr>
        <p:spPr>
          <a:xfrm>
            <a:off x="6072120" y="4643280"/>
            <a:ext cx="2603520" cy="1738440"/>
          </a:xfrm>
          <a:prstGeom prst="ellipse">
            <a:avLst/>
          </a:prstGeom>
          <a:solidFill>
            <a:srgbClr val="ffc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ие требований к возможностям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5"/>
          <p:cNvSpPr/>
          <p:nvPr/>
        </p:nvSpPr>
        <p:spPr>
          <a:xfrm>
            <a:off x="6215040" y="1700280"/>
            <a:ext cx="2460600" cy="180000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родителей и близ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6"/>
          <p:cNvSpPr/>
          <p:nvPr/>
        </p:nvSpPr>
        <p:spPr>
          <a:xfrm>
            <a:off x="3214800" y="3071880"/>
            <a:ext cx="2857320" cy="207180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8"/>
          <p:cNvSpPr/>
          <p:nvPr/>
        </p:nvSpPr>
        <p:spPr>
          <a:xfrm>
            <a:off x="684360" y="4714920"/>
            <a:ext cx="2530440" cy="18097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личностные взаимоотношения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право 9"/>
          <p:cNvSpPr/>
          <p:nvPr/>
        </p:nvSpPr>
        <p:spPr>
          <a:xfrm rot="19329000">
            <a:off x="5695920" y="2697120"/>
            <a:ext cx="80028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лево 10"/>
          <p:cNvSpPr/>
          <p:nvPr/>
        </p:nvSpPr>
        <p:spPr>
          <a:xfrm rot="1847400">
            <a:off x="2727000" y="2642760"/>
            <a:ext cx="833400" cy="1143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3145200">
            <a:off x="2855880" y="4721040"/>
            <a:ext cx="857160" cy="743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трелка вниз 12"/>
          <p:cNvSpPr/>
          <p:nvPr/>
        </p:nvSpPr>
        <p:spPr>
          <a:xfrm rot="17785800">
            <a:off x="5475240" y="4745880"/>
            <a:ext cx="1000440" cy="723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cb["/>
          <p:cNvPicPr/>
          <p:nvPr/>
        </p:nvPicPr>
        <p:blipFill>
          <a:blip r:embed="rId1"/>
          <a:stretch/>
        </p:blipFill>
        <p:spPr>
          <a:xfrm>
            <a:off x="928800" y="1214280"/>
            <a:ext cx="7215120" cy="51912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785880" y="21420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mbria"/>
              </a:rPr>
              <a:t>Составляющие эмоционального благополучия дошкольников в ДО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428760"/>
            <a:ext cx="8701200" cy="12859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ения эмоционального перенапряжения: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356840"/>
            <a:ext cx="8629560" cy="500076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Капризы, истер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Частое изменение настроения: то они плаксивы, то агрессив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Быстрое утом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Плохо засыпают, беспокойный со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Часто ребенок бесцельно ходит по групповой комнате, не находит себе занят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Грызут ногти, крутят волосы, подергивают плечам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Ночное и дневное недержание мочи, которое ранее не наблюдалос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Игра с половыми органами и многие другие нарушения невротического характе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5920" y="14292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нарушения эмоционального благополуч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4920" y="1143000"/>
            <a:ext cx="8177400" cy="451800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1.Нарушение режима дн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2.Несогласованность требований к ребенк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3.Желание родителей научить своего ребенка знаниям, которые не соответствуют его возраст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4.Изобилие информаци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5.Неблагополучная эмоциональная обстановка в семь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6.Желание родителей быть с ребенком в местах массового скопления люде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7. Чрезмерная строгость родителей или взрослых, наказание, боязнь ребенка сделать что-то не так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Verdana"/>
              </a:rPr>
              <a:t>8.  Нехватка любви и ласки от своих родителей, особенно от матер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http://flomaster.club/uploads/posts/2022-08/1660751650_4-flomaster-club-p-kartinki-s-emotsiyami-dlya-detei-krasivo-6.jpg"/>
          <p:cNvPicPr/>
          <p:nvPr/>
        </p:nvPicPr>
        <p:blipFill>
          <a:blip r:embed="rId1"/>
          <a:stretch/>
        </p:blipFill>
        <p:spPr>
          <a:xfrm>
            <a:off x="3924360" y="5243400"/>
            <a:ext cx="266364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058240" cy="500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оции для ребенка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714240"/>
            <a:ext cx="8129520" cy="614376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1. Для маленького ребенка очень важно чувствовать безопасность окружающего его быта. Ощущение безопасности связывается с повторяемыми событиями, ежедневное чередование которых несет стабильность, уверенность. Именно поэтому для детей так важны режимные момен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2. Ребенок с раннего возраста как «губка» впитывает в себя эмоционально-нравственный опыт семьи: убеждения и идеалы, оценки и ценностные ориентации, отношение к окружающим людям и к деятельности, которые, впоследствии, переносит на отношения с окружающими его детьми и взрослы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3. В дошкольном возрасте сохраняется эмоциональная зависимость детей от взрослых. Поведение взрослого постоянно обусловливает активность поведения и деятельности ребенка. Ребенок развивается в процессе общения со взрослы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4. Начиная с 4-х летнего возраста, сверстник становиться более предпочитаемым и привлекательным партнером по общению. Общение со сверстниками способствует развитию таких личностных качеств, как инициатива, независимость, позволяет ребенку увидеть свои возможности, помогает дальнейшему становлению самосознания, развитию эмоц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Verdana"/>
              </a:rPr>
              <a:t>5. Психическое и физическое здоровье включает в себя благополучие в эмоциональной и познавательной сфере, развитии характера и формировании личности, а также нервно-психическом состоянии дет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6" descr="https://sad12.virtualtaganrog.ru/files/1_TAGANROG/12/1-Glavnaya/news/2022/04/04/1/image00001.jpg"/>
          <p:cNvPicPr/>
          <p:nvPr/>
        </p:nvPicPr>
        <p:blipFill>
          <a:blip r:embed="rId1"/>
          <a:stretch/>
        </p:blipFill>
        <p:spPr>
          <a:xfrm>
            <a:off x="7778880" y="0"/>
            <a:ext cx="13651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44:23Z</dcterms:created>
  <dc:creator>Пользователь</dc:creator>
  <dc:description/>
  <dc:language>en-US</dc:language>
  <cp:lastModifiedBy>Константин Муханов</cp:lastModifiedBy>
  <dcterms:modified xsi:type="dcterms:W3CDTF">2023-06-04T21:31:21Z</dcterms:modified>
  <cp:revision>50</cp:revision>
  <dc:subject/>
  <dc:title>Эмоциональное благополучие дошкольников</dc:title>
</cp:coreProperties>
</file>