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080-ADDC-4EA8-8F3E-1C73816D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70B-9D8D-40FC-8C6E-784D456B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A347-41AF-40CA-A982-7A148F3D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C72-0CD0-4160-9984-0BE245C8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BC8C-2580-46E8-AE35-480943A5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5C7F-7319-43C6-AE73-E0AC548B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7AF5-E9A3-46CE-B226-07CD6450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F90C-1814-47E2-8553-1CD13CEA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0D74-5338-43E7-A581-16F1B7B9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F923-0A06-4D24-A256-EFEDDC11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F646-2A7F-4C6B-8327-8B8CDA8C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649-1E12-4740-B226-47E0E096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947C-25E0-4011-A687-97A22862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AE80-14B4-402A-A8D9-38EB3C79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2084-1C0B-4C1B-A078-4EA16DCF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3F2D-1C7C-4C21-8E44-E5B6628E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9B89-7A9C-4DE6-B044-142DC7E3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2852E-C9AB-40FE-8521-7C03AC8B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EE60-238E-482E-B65F-4B47079F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913C-66EB-464C-B06A-5139BD35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A7DB-6B85-4E24-A754-C5D605C2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C3A4F-430C-4470-A33A-629E53CA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529-9D74-4082-9530-8A67AA7F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C5A3-35CB-4420-A747-56DAC1A9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49E0E-97D0-4F48-A6A2-9B164E37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01999-A3CD-4252-BBCE-2A3E0339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FE720-642D-4F97-A2F7-EDBA3E93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2892F-F680-40FE-A60E-9593E997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35D4-678B-4A4C-998A-F7B0A1E3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9FD29-3047-4312-BB44-D86703CB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E78A-8737-49C3-AD85-187FA61A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FD2D3-E979-479C-B3AA-9106CFA2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7C200-E3C4-4D31-84F0-0088A628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A9D-E772-4113-B8F3-6C653545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C9BFF-FCCB-48BF-AD55-6E77A8AE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CC6D-6580-4391-AC87-9FF35A9B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AABB0-7F57-4D2A-A4B6-CC72068A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8EF73-E377-4B9F-98BD-A2267F9A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5E63A-6500-453D-A32A-9897E690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39316-0E6C-4B08-AE5B-8583235D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ABB8A-AC56-4FED-880E-936C2E0E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A009-A958-41A4-9C97-E6F19030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33E63-91D2-42E3-A4BC-9248D178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42612-A2A2-4833-9385-DB8E09DA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18E-F00E-412D-A122-8EB63FE8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68824-0293-408D-AE86-81EEC820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7976D-33D6-4423-BA13-49068692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57BB6-6A41-4D83-AAC1-B98F4270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C52B3-9A6B-4A30-8184-25C0B583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00D1C-0766-4793-BFE5-5BCDE69E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EB9CD-E5DF-404C-880D-DA28ED98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187AA-81F8-40D4-B12F-137C38B2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7F514-FD96-411A-80A5-95509363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23E3B-2C88-45E3-B30D-275AAF4F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3E669-8F13-4D96-AC48-A75E69D6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2EC-C880-45E5-839A-2899F98F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6FDF1-D28A-40ED-95F7-4266D4D9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360-3FDD-4124-BCE4-2A0412B6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314-9B38-4707-A88B-F096D994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133-519D-47C8-93C1-B103150F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332C-1C8F-45AA-A800-E2B6658F989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9546-C821-468B-BA7B-145AB6DAD23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BD10-ED77-4F07-9206-0478D60D260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AED2-A5C6-450C-BA24-07B128CA5EE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2954-B863-4D92-ABAE-15B9A1C356E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3920" y="1676520"/>
            <a:ext cx="6558120" cy="268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i="1" lang="ru-RU" sz="41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Эмоциональное благополучие дошкольников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9" descr="https://welcome.mosreg.ru/cache/thumbs/thumb_1920__2554448497.jpg"/>
          <p:cNvPicPr/>
          <p:nvPr/>
        </p:nvPicPr>
        <p:blipFill>
          <a:blip r:embed="rId1"/>
          <a:stretch/>
        </p:blipFill>
        <p:spPr>
          <a:xfrm>
            <a:off x="468360" y="476280"/>
            <a:ext cx="40780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240" y="-10080"/>
            <a:ext cx="7629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713880"/>
            <a:ext cx="8415360" cy="53578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Verdana"/>
              </a:rPr>
              <a:t>Эмоции</a:t>
            </a:r>
            <a:r>
              <a:rPr b="0" lang="ru-RU" sz="2600" spc="-1" strike="noStrike">
                <a:solidFill>
                  <a:srgbClr val="674d26"/>
                </a:solidFill>
                <a:latin typeface="Verdana"/>
              </a:rPr>
              <a:t> играют важную роль в жизни детей, помогая воспринимать действительность и реагирование на нее. </a:t>
            </a:r>
            <a:r>
              <a:rPr b="1" i="1" lang="ru-RU" sz="2600" spc="-1" strike="noStrike">
                <a:solidFill>
                  <a:srgbClr val="002060"/>
                </a:solidFill>
                <a:latin typeface="Verdana"/>
              </a:rPr>
              <a:t>Чувства</a:t>
            </a:r>
            <a:r>
              <a:rPr b="0" lang="ru-RU" sz="2600" spc="-1" strike="noStrike">
                <a:solidFill>
                  <a:srgbClr val="674d26"/>
                </a:solidFill>
                <a:latin typeface="Verdana"/>
              </a:rPr>
              <a:t> господствуют над всеми сторонами жизни дошкольни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Verdana"/>
              </a:rPr>
              <a:t>В дошкольном возрасте эмоциональное благополучие обеспечивает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4d26"/>
                </a:solidFill>
                <a:latin typeface="Verdana"/>
              </a:rPr>
              <a:t>1.Высокую самооценк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4d26"/>
                </a:solidFill>
                <a:latin typeface="Verdana"/>
              </a:rPr>
              <a:t>2.Сформированный самоконтроль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4d26"/>
                </a:solidFill>
                <a:latin typeface="Verdana"/>
              </a:rPr>
              <a:t>3.Ориентацию на успех в достижении целей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4d26"/>
                </a:solidFill>
                <a:latin typeface="Verdana"/>
              </a:rPr>
              <a:t>4.Эмоциональный комфорт в семье и вне семь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3132000" y="4869000"/>
            <a:ext cx="23767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272440" cy="1357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0243c"/>
                </a:solidFill>
                <a:latin typeface="Verdana"/>
              </a:rPr>
              <a:t>Составляющие эмоционального благополучия ребенка в семь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642680"/>
            <a:ext cx="827244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sp>
        <p:nvSpPr>
          <p:cNvPr id="227" name="Овал 3"/>
          <p:cNvSpPr/>
          <p:nvPr/>
        </p:nvSpPr>
        <p:spPr>
          <a:xfrm>
            <a:off x="539640" y="1773360"/>
            <a:ext cx="2532240" cy="1726920"/>
          </a:xfrm>
          <a:prstGeom prst="ellipse">
            <a:avLst/>
          </a:pr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лагоприятная эмоциональная атмо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4"/>
          <p:cNvSpPr/>
          <p:nvPr/>
        </p:nvSpPr>
        <p:spPr>
          <a:xfrm>
            <a:off x="6072120" y="4643280"/>
            <a:ext cx="2603520" cy="1738440"/>
          </a:xfrm>
          <a:prstGeom prst="ellipse">
            <a:avLst/>
          </a:prstGeom>
          <a:solidFill>
            <a:srgbClr val="ffc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тветствие требований к возможностям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5"/>
          <p:cNvSpPr/>
          <p:nvPr/>
        </p:nvSpPr>
        <p:spPr>
          <a:xfrm>
            <a:off x="6215040" y="1700280"/>
            <a:ext cx="2460600" cy="180000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вь родителей и близ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6"/>
          <p:cNvSpPr/>
          <p:nvPr/>
        </p:nvSpPr>
        <p:spPr>
          <a:xfrm>
            <a:off x="3214800" y="3071880"/>
            <a:ext cx="2857320" cy="207180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е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8"/>
          <p:cNvSpPr/>
          <p:nvPr/>
        </p:nvSpPr>
        <p:spPr>
          <a:xfrm>
            <a:off x="684360" y="4714920"/>
            <a:ext cx="2530440" cy="18097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личностные взаимоотношения в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право 9"/>
          <p:cNvSpPr/>
          <p:nvPr/>
        </p:nvSpPr>
        <p:spPr>
          <a:xfrm rot="19329000">
            <a:off x="5695920" y="2697120"/>
            <a:ext cx="80028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лево 10"/>
          <p:cNvSpPr/>
          <p:nvPr/>
        </p:nvSpPr>
        <p:spPr>
          <a:xfrm rot="1847400">
            <a:off x="2727000" y="2642760"/>
            <a:ext cx="833400" cy="1143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3145200">
            <a:off x="2855880" y="4721040"/>
            <a:ext cx="857160" cy="743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трелка вниз 12"/>
          <p:cNvSpPr/>
          <p:nvPr/>
        </p:nvSpPr>
        <p:spPr>
          <a:xfrm rot="17785800">
            <a:off x="5475240" y="4745880"/>
            <a:ext cx="1000440" cy="723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cb["/>
          <p:cNvPicPr/>
          <p:nvPr/>
        </p:nvPicPr>
        <p:blipFill>
          <a:blip r:embed="rId1"/>
          <a:stretch/>
        </p:blipFill>
        <p:spPr>
          <a:xfrm>
            <a:off x="928800" y="1214280"/>
            <a:ext cx="7215120" cy="519120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"/>
          <p:cNvSpPr/>
          <p:nvPr/>
        </p:nvSpPr>
        <p:spPr>
          <a:xfrm>
            <a:off x="785880" y="214200"/>
            <a:ext cx="75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mbria"/>
              </a:rPr>
              <a:t>Составляющие эмоционального благополучия дошкольников в ДО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428760"/>
            <a:ext cx="8701200" cy="12859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явления эмоционального перенапряжения: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356840"/>
            <a:ext cx="8629560" cy="500076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Капризы, истери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Частое изменение настроения: то они плаксивы, то агрессивн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Быстрое утомл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Плохо засыпают, беспокойный со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Часто ребенок бесцельно ходит по групповой комнате, не находит себе заняти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Грызут ногти, крутят волосы, подергивают плечам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Ночное и дневное недержание мочи, которое ранее не наблюдалос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Игра с половыми органами и многие другие нарушения невротического характе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85920" y="14292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нарушения эмоционального благополуч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4920" y="1143000"/>
            <a:ext cx="8177400" cy="451800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1.Нарушение режима дн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2.Несогласованность требований к ребенк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3.Желание родителей научить своего ребенка знаниям, которые не соответствуют его возраст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4.Изобилие информаци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5.Неблагополучная эмоциональная обстановка в семье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6.Желание родителей быть с ребенком в местах массового скопления люде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7. Чрезмерная строгость родителей или взрослых, наказание, боязнь ребенка сделать что-то не так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8.  Нехватка любви и ласки от своих родителей, особенно от матер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6" descr="http://flomaster.club/uploads/posts/2022-08/1660751650_4-flomaster-club-p-kartinki-s-emotsiyami-dlya-detei-krasivo-6.jpg"/>
          <p:cNvPicPr/>
          <p:nvPr/>
        </p:nvPicPr>
        <p:blipFill>
          <a:blip r:embed="rId1"/>
          <a:stretch/>
        </p:blipFill>
        <p:spPr>
          <a:xfrm>
            <a:off x="3924360" y="5243400"/>
            <a:ext cx="266364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058240" cy="500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моции для ребенка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714240"/>
            <a:ext cx="8129520" cy="614376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Verdana"/>
              </a:rPr>
              <a:t>1. Для маленького ребенка очень важно чувствовать безопасность окружающего его быта. Ощущение безопасности связывается с повторяемыми событиями, ежедневное чередование которых несет стабильность, уверенность. Именно поэтому для детей так важны режимные момент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Verdana"/>
              </a:rPr>
              <a:t>2. Ребенок с раннего возраста как «губка» впитывает в себя эмоционально-нравственный опыт семьи: убеждения и идеалы, оценки и ценностные ориентации, отношение к окружающим людям и к деятельности, которые, впоследствии, переносит на отношения с окружающими его детьми и взрослы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Verdana"/>
              </a:rPr>
              <a:t>3. В дошкольном возрасте сохраняется эмоциональная зависимость детей от взрослых. Поведение взрослого постоянно обусловливает активность поведения и деятельности ребенка. Ребенок развивается в процессе общения со взрослы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Verdana"/>
              </a:rPr>
              <a:t>4. Начиная с 4-х летнего возраста, сверстник становиться более предпочитаемым и привлекательным партнером по общению. Общение со сверстниками способствует развитию таких личностных качеств, как инициатива, независимость, позволяет ребенку увидеть свои возможности, помогает дальнейшему становлению самосознания, развитию эмоц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Verdana"/>
              </a:rPr>
              <a:t>5. Психическое и физическое здоровье включает в себя благополучие в эмоциональной и познавательной сфере, развитии характера и формировании личности, а также нервно-психическом состоянии дет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6" descr="https://sad12.virtualtaganrog.ru/files/1_TAGANROG/12/1-Glavnaya/news/2022/04/04/1/image00001.jpg"/>
          <p:cNvPicPr/>
          <p:nvPr/>
        </p:nvPicPr>
        <p:blipFill>
          <a:blip r:embed="rId1"/>
          <a:stretch/>
        </p:blipFill>
        <p:spPr>
          <a:xfrm>
            <a:off x="7778880" y="0"/>
            <a:ext cx="13651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4:44:23Z</dcterms:created>
  <dc:creator>Пользователь</dc:creator>
  <dc:description/>
  <dc:language>en-US</dc:language>
  <cp:lastModifiedBy>Константин Муханов</cp:lastModifiedBy>
  <dcterms:modified xsi:type="dcterms:W3CDTF">2023-06-04T21:31:21Z</dcterms:modified>
  <cp:revision>50</cp:revision>
  <dc:subject/>
  <dc:title>Эмоциональное благополучие дошкольников</dc:title>
</cp:coreProperties>
</file>