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688C-4C13-44B6-ABC0-F96CB68F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D3A-9422-4A65-9588-1904F571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A04D-C6C9-4A67-B78C-BA40ACF4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050C-2088-4F50-B966-768E68B3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7CA1-90D8-47BA-8062-A8F811A6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A321-B04F-4792-9CB8-CF3175BB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AF9-16D0-436F-B1A2-18F9C6E3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22B-B122-4380-9F43-905464E4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96C7-0B74-40C5-BF62-A5C1D6CC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9B0-84A2-477D-AFAF-86EE3D27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B065-47C1-4A44-891F-6C670707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200-0878-4CA5-9759-2E5AEA7F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67439-CD5F-480D-BEFA-93491F18BD9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2.png"/><Relationship Id="rId6" Type="http://schemas.openxmlformats.org/officeDocument/2006/relationships/image" Target="../media/image11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3.jpeg"/><Relationship Id="rId8" Type="http://schemas.openxmlformats.org/officeDocument/2006/relationships/image" Target="../media/image15.png"/><Relationship Id="rId9" Type="http://schemas.openxmlformats.org/officeDocument/2006/relationships/image" Target="../media/image14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pn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5.pn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4.jpeg"/><Relationship Id="rId24" Type="http://schemas.openxmlformats.org/officeDocument/2006/relationships/image" Target="../media/image14.jpeg"/><Relationship Id="rId25" Type="http://schemas.openxmlformats.org/officeDocument/2006/relationships/image" Target="../media/image15.png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08720" y="1368360"/>
            <a:ext cx="3062160" cy="4175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боратория «Танцевальный калейдоскоп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5904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Кадри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боратория «Танцевальный калейдоскоп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44288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03640" y="2952720"/>
            <a:ext cx="647640" cy="576360"/>
          </a:xfrm>
          <a:prstGeom prst="roundRect">
            <a:avLst>
              <a:gd name="adj" fmla="val 273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76720" y="5400720"/>
            <a:ext cx="647640" cy="576360"/>
          </a:xfrm>
          <a:prstGeom prst="roundRect">
            <a:avLst>
              <a:gd name="adj" fmla="val 273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92480" y="1339920"/>
            <a:ext cx="6346800" cy="49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боратория «Танцевальный калейдоскоп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0920" y="1768320"/>
            <a:ext cx="1000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дри́ль (фр. quadrille от исп. Cuadr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квально «группа из четырё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к») — народный и б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ный танец французского происхо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480000" y="1500120"/>
            <a:ext cx="3462480" cy="2819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3954600"/>
            <a:ext cx="4967280" cy="36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боратория «Танцевальный калейдоскоп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368360"/>
            <a:ext cx="5688000" cy="5727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дриль — танец, распространенный у многих европейских народов и получивший свое название благодаря тому, что группы танцующих образовывали маленькие «четырехугольники», из двух пар каждый (каре). Родина танца — Франция, где он был популярен особенно в эпоху Наполе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о время французская кадриль , качество исполнения которой было серьезным испытанием для самолюбия исполнителей, состояла из 5 фигур и была центром внимания и основой каждого б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199280" y="1511280"/>
            <a:ext cx="2524320" cy="1768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199280" y="3349800"/>
            <a:ext cx="2631960" cy="1977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975360" y="5400720"/>
            <a:ext cx="285768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боратория «Танцевальный калейдоскоп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522080"/>
            <a:ext cx="907092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дриль — наиболее молодой вид русского танца, основой которому послужила классическая французская кадри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йдя в народный быт, кадриль сильно видоизменилась, многие движения создавались заново. Мелодия и манера исполнения приобрели национальный колорит. Появилось множество вариантов танца: четвёра, шестёра, семёра, восьмёра, кадрель, ланце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912000" y="4319640"/>
            <a:ext cx="2663640" cy="1844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400720" y="5688000"/>
            <a:ext cx="2016000" cy="1473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7280" y="4824360"/>
            <a:ext cx="56865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431640" indent="-31896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огромного множества кадрилей по форме композиционного построения можно выделить три группы: квадратные (угловые), линейные (двухрядные) и круг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боратория «Танцевальный калейдоскоп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гуры в русской кадрили могут иметь названия, связанные с характером исполняемого движения или рисунком танца: проходочка, знакомство, крутея, звездочка, воротца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 фигурами существуют паузы. Фигуры объявляются ведущим или дается знак для их исполнения – платком, хлопком или  притоп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4032360"/>
            <a:ext cx="3924360" cy="266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7640" y="3921120"/>
            <a:ext cx="40384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боратория «Танцевальный калейдоскоп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442520"/>
            <a:ext cx="9069480" cy="28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осковская кадриль (в пар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роходоч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—  1-3 идем в круг, 4 разворачиваемся, меняем руку, 5-7  идем из круга, 8 разворачиваемся, меняем руку — 2 р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71640" y="4680000"/>
            <a:ext cx="863640" cy="1511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36720" y="4680000"/>
            <a:ext cx="863640" cy="1511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 rot="16080000">
            <a:off x="4099680" y="4153320"/>
            <a:ext cx="608040" cy="542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 rot="5280000">
            <a:off x="3304080" y="4164480"/>
            <a:ext cx="607680" cy="542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40000" y="3672000"/>
            <a:ext cx="576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43280" y="3686040"/>
            <a:ext cx="576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 rot="10800000">
            <a:off x="6479640" y="4829040"/>
            <a:ext cx="863640" cy="1511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 rot="10800000">
            <a:off x="5544720" y="4829040"/>
            <a:ext cx="863640" cy="1511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264360" y="3743280"/>
            <a:ext cx="576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496360" y="3759120"/>
            <a:ext cx="576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 rot="16080000">
            <a:off x="8634960" y="6191640"/>
            <a:ext cx="608040" cy="542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 rot="5280000">
            <a:off x="8041320" y="6252120"/>
            <a:ext cx="60804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боратория «Танцевальный калейдоскоп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3190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осковская кадриль (в пар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Дозад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— 1-7 обходим партнера с правой стороны (спина к спине), 8 подаем друг другу правую ру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16080000">
            <a:off x="1291320" y="3888000"/>
            <a:ext cx="608040" cy="542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5220000">
            <a:off x="770760" y="3701880"/>
            <a:ext cx="352440" cy="57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5580000">
            <a:off x="767880" y="4008240"/>
            <a:ext cx="352440" cy="574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24360" y="3038400"/>
            <a:ext cx="287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 rot="16080000">
            <a:off x="3075480" y="3864240"/>
            <a:ext cx="608040" cy="542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 rot="5220000">
            <a:off x="2555640" y="3722400"/>
            <a:ext cx="352440" cy="574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 rot="5580000">
            <a:off x="3185640" y="3411360"/>
            <a:ext cx="352440" cy="574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72000" y="3038400"/>
            <a:ext cx="287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 rot="16080000">
            <a:off x="5164920" y="3884760"/>
            <a:ext cx="608040" cy="543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 rot="5580000">
            <a:off x="5231880" y="3362040"/>
            <a:ext cx="352440" cy="574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 rot="5220000">
            <a:off x="6082560" y="3362040"/>
            <a:ext cx="352440" cy="574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991640" y="3095640"/>
            <a:ext cx="287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 rot="16080000">
            <a:off x="7771320" y="3792960"/>
            <a:ext cx="608040" cy="542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1"/>
          <a:stretch/>
        </p:blipFill>
        <p:spPr>
          <a:xfrm rot="5220000">
            <a:off x="8475480" y="3341520"/>
            <a:ext cx="352440" cy="574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2"/>
          <a:stretch/>
        </p:blipFill>
        <p:spPr>
          <a:xfrm rot="5580000">
            <a:off x="8471880" y="4271760"/>
            <a:ext cx="352440" cy="574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08000" y="5184720"/>
            <a:ext cx="287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68720" y="5126040"/>
            <a:ext cx="287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27640" y="5126040"/>
            <a:ext cx="287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920000" y="5111640"/>
            <a:ext cx="287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3"/>
          <a:stretch/>
        </p:blipFill>
        <p:spPr>
          <a:xfrm rot="16080000">
            <a:off x="772200" y="5953320"/>
            <a:ext cx="608040" cy="542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4"/>
          <a:stretch/>
        </p:blipFill>
        <p:spPr>
          <a:xfrm rot="16080000">
            <a:off x="7771320" y="3792960"/>
            <a:ext cx="608040" cy="542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5"/>
          <a:stretch/>
        </p:blipFill>
        <p:spPr>
          <a:xfrm rot="16080000">
            <a:off x="3148920" y="5904720"/>
            <a:ext cx="607680" cy="542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6"/>
          <a:stretch/>
        </p:blipFill>
        <p:spPr>
          <a:xfrm rot="16080000">
            <a:off x="5380560" y="5880240"/>
            <a:ext cx="608040" cy="542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7"/>
          <a:stretch/>
        </p:blipFill>
        <p:spPr>
          <a:xfrm rot="16080000">
            <a:off x="7842960" y="5832720"/>
            <a:ext cx="608040" cy="542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8"/>
          <a:stretch/>
        </p:blipFill>
        <p:spPr>
          <a:xfrm rot="5580000">
            <a:off x="1399680" y="6507000"/>
            <a:ext cx="352440" cy="57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9"/>
          <a:stretch/>
        </p:blipFill>
        <p:spPr>
          <a:xfrm rot="5220000">
            <a:off x="539640" y="6435720"/>
            <a:ext cx="352440" cy="574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0"/>
          <a:stretch/>
        </p:blipFill>
        <p:spPr>
          <a:xfrm rot="5220000">
            <a:off x="2916000" y="6365880"/>
            <a:ext cx="352440" cy="574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1"/>
          <a:stretch/>
        </p:blipFill>
        <p:spPr>
          <a:xfrm rot="5580000">
            <a:off x="2480760" y="6651360"/>
            <a:ext cx="352440" cy="57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2"/>
          <a:stretch/>
        </p:blipFill>
        <p:spPr>
          <a:xfrm rot="5580000">
            <a:off x="4784040" y="6457320"/>
            <a:ext cx="352440" cy="574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3"/>
          <a:stretch/>
        </p:blipFill>
        <p:spPr>
          <a:xfrm rot="5220000">
            <a:off x="4787640" y="5810040"/>
            <a:ext cx="352440" cy="57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4"/>
          <a:stretch/>
        </p:blipFill>
        <p:spPr>
          <a:xfrm rot="5220000">
            <a:off x="7306560" y="5738760"/>
            <a:ext cx="352440" cy="57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5"/>
          <a:stretch/>
        </p:blipFill>
        <p:spPr>
          <a:xfrm rot="5580000">
            <a:off x="7319880" y="6078240"/>
            <a:ext cx="352080" cy="574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2735280" y="3740040"/>
            <a:ext cx="503280" cy="657360"/>
          </a:xfrm>
          <a:prstGeom prst="line">
            <a:avLst/>
          </a:prstGeom>
          <a:ln w="36000">
            <a:solidFill>
              <a:srgbClr val="ff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64360" y="3672000"/>
            <a:ext cx="648000" cy="792000"/>
          </a:xfrm>
          <a:prstGeom prst="line">
            <a:avLst/>
          </a:prstGeom>
          <a:ln w="36000">
            <a:solidFill>
              <a:srgbClr val="ff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03680" y="6912000"/>
            <a:ext cx="930240" cy="1440"/>
          </a:xfrm>
          <a:prstGeom prst="line">
            <a:avLst/>
          </a:prstGeom>
          <a:ln w="36000">
            <a:solidFill>
              <a:srgbClr val="ff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415280" y="6403680"/>
            <a:ext cx="1440" cy="461880"/>
          </a:xfrm>
          <a:prstGeom prst="line">
            <a:avLst/>
          </a:prstGeom>
          <a:ln w="36000">
            <a:solidFill>
              <a:srgbClr val="ff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896000" y="3738240"/>
            <a:ext cx="1063440" cy="369720"/>
          </a:xfrm>
          <a:prstGeom prst="line">
            <a:avLst/>
          </a:prstGeom>
          <a:ln w="3600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929880" y="5975280"/>
            <a:ext cx="746280" cy="720720"/>
          </a:xfrm>
          <a:prstGeom prst="line">
            <a:avLst/>
          </a:prstGeom>
          <a:ln w="3600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4962600" y="6186240"/>
            <a:ext cx="241200" cy="369720"/>
          </a:xfrm>
          <a:prstGeom prst="line">
            <a:avLst/>
          </a:prstGeom>
          <a:ln w="3600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боратория «Танцевальный калейдоскоп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442880"/>
            <a:ext cx="5184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осковская кадриль (в пар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Свеч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окошечко) — 1-2 делаем шаг вперед, не разнимая рук, поднимаем правую руку вверх, 3-4 шаг наза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480000" y="1584360"/>
            <a:ext cx="2953080" cy="424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119640" y="4680000"/>
            <a:ext cx="648000" cy="576360"/>
          </a:xfrm>
          <a:prstGeom prst="roundRect">
            <a:avLst>
              <a:gd name="adj" fmla="val 273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9640" y="2448000"/>
            <a:ext cx="648000" cy="576360"/>
          </a:xfrm>
          <a:prstGeom prst="roundRect">
            <a:avLst>
              <a:gd name="adj" fmla="val 273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боратория «Танцевальный калейдоскоп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44288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осковская кадриль (в пар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Смена партнер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319640" y="2087640"/>
            <a:ext cx="2952720" cy="424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103640" y="2952720"/>
            <a:ext cx="647640" cy="576360"/>
          </a:xfrm>
          <a:prstGeom prst="roundRect">
            <a:avLst>
              <a:gd name="adj" fmla="val 273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76720" y="5400720"/>
            <a:ext cx="647640" cy="576360"/>
          </a:xfrm>
          <a:prstGeom prst="roundRect">
            <a:avLst>
              <a:gd name="adj" fmla="val 273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08360" y="5326920"/>
            <a:ext cx="1295640" cy="863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27640" y="5543640"/>
            <a:ext cx="720720" cy="215640"/>
          </a:xfrm>
          <a:prstGeom prst="triangle">
            <a:avLst>
              <a:gd name="adj" fmla="val 47023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 rot="14760000">
            <a:off x="5730480" y="5781240"/>
            <a:ext cx="1295640" cy="459000"/>
          </a:xfrm>
          <a:custGeom>
            <a:avLst/>
            <a:gdLst>
              <a:gd name="textAreaLeft" fmla="*/ 161640 w 1295640"/>
              <a:gd name="textAreaRight" fmla="*/ 1133640 w 1295640"/>
              <a:gd name="textAreaTop" fmla="*/ 114480 h 459000"/>
              <a:gd name="textAreaBottom" fmla="*/ 344160 h 459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3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01T09:56:37Z</dcterms:created>
  <dc:creator/>
  <dc:description/>
  <dc:language>en-US</dc:language>
  <cp:lastModifiedBy/>
  <cp:revision>1</cp:revision>
  <dc:subject/>
  <dc:title/>
</cp:coreProperties>
</file>