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AE3-010D-4BA0-B5EB-99BDE4FB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00B-74BC-420C-B277-CC7A9F7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3EA-4386-4B45-AE8C-D746F44C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AC5-DFA1-4901-90CC-4840D5BD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9B6-592A-4F16-A56F-F6DBA581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C04-FFF9-42FE-B228-5BB89B5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32-71DA-4134-8A7D-C1ECC7C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ABB-CBA1-4C07-A2E4-FA67E3B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4AD-D7B2-4A09-9633-B8833C34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210-F945-45A4-95F5-94F0950C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DC4-4E99-48A3-9166-98B67D70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105-B8AB-4E77-90F2-DAA832A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C1A2E-6613-458A-855B-9C93C87D477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3.jpeg"/><Relationship Id="rId8" Type="http://schemas.openxmlformats.org/officeDocument/2006/relationships/image" Target="../media/image15.pn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5.pn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5.png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08720" y="1368360"/>
            <a:ext cx="3062160" cy="417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5904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адри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28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03640" y="2952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76720" y="5400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92480" y="1339920"/>
            <a:ext cx="6346800" cy="49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920" y="1768320"/>
            <a:ext cx="1000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́ль (фр. quadrille от исп. Cuad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квально «группа из четырё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») — народный и б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ный танец французск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80000" y="1500120"/>
            <a:ext cx="34624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954600"/>
            <a:ext cx="496728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368360"/>
            <a:ext cx="568800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ль — танец, распространенный у многих европейских народов и получивший свое название благодаря тому, что группы танцующих образовывали маленькие «четырехугольники», из двух пар каждый (каре). Родина танца — Франция, где он был популярен особенно в эпоху Наполе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 время французская кадриль , качество исполнения которой было серьезным испытанием для самолюбия исполнителей, состояла из 5 фигур и была центром внимания и основой каждого б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99280" y="1511280"/>
            <a:ext cx="2524320" cy="1768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99280" y="3349800"/>
            <a:ext cx="2631960" cy="197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75360" y="5400720"/>
            <a:ext cx="28576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522080"/>
            <a:ext cx="90709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дриль — наиболее молодой вид русского танца, основой которому послужила классическая французская кадр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дя в народный быт, кадриль сильно видоизменилась, многие движения создавались заново. Мелодия и манера исполнения приобрели национальный колорит. Появилось множество вариантов танца: четвёра, шестёра, семёра, восьмёра, кадрель, ланце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12000" y="4319640"/>
            <a:ext cx="2663640" cy="184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00720" y="5688000"/>
            <a:ext cx="2016000" cy="147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7280" y="4824360"/>
            <a:ext cx="5686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1896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огромного множества кадрилей по форме композиционного построения можно выделить три группы: квадратные (угловые), линейные (двухрядные) и кру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гуры в русской кадрили могут иметь названия, связанные с характером исполняемого движения или рисунком танца: проходочка, знакомство, крутея, звездочка, воротц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фигурами существуют паузы. Фигуры объявляются ведущим или дается знак для их исполнения – платком, хлопком или  прит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032360"/>
            <a:ext cx="392436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7640" y="3921120"/>
            <a:ext cx="40384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2520"/>
            <a:ext cx="9069480" cy="28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оходоч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 1-3 идем в круг, 4 разворачиваемся, меняем руку, 5-7  идем из круга, 8 разворачиваемся, меняем руку — 2 р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71640" y="468000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6720" y="468000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16080000">
            <a:off x="4099680" y="41533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5280000">
            <a:off x="3304080" y="4164480"/>
            <a:ext cx="607680" cy="54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0000" y="3672000"/>
            <a:ext cx="57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43280" y="3686040"/>
            <a:ext cx="57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 rot="10800000">
            <a:off x="6479640" y="4829040"/>
            <a:ext cx="86364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 rot="10800000">
            <a:off x="5544720" y="4829040"/>
            <a:ext cx="863640" cy="151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64360" y="3743280"/>
            <a:ext cx="57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759120"/>
            <a:ext cx="576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 rot="16080000">
            <a:off x="8634960" y="61916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 rot="5280000">
            <a:off x="8041320" y="6252120"/>
            <a:ext cx="60804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3190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озад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1-7 обходим партнера с правой стороны (спина к спине), 8 подаем друг другу правую ру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16080000">
            <a:off x="1291320" y="388800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5220000">
            <a:off x="770760" y="370188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5580000">
            <a:off x="767880" y="400824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24360" y="303840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 rot="16080000">
            <a:off x="3075480" y="38642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 rot="5220000">
            <a:off x="2555640" y="372240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5580000">
            <a:off x="3185640" y="341136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72000" y="303840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 rot="16080000">
            <a:off x="5164920" y="3884760"/>
            <a:ext cx="608040" cy="5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 rot="5580000">
            <a:off x="5231880" y="336204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 rot="5220000">
            <a:off x="6082560" y="3362040"/>
            <a:ext cx="352440" cy="57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91640" y="30956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 rot="16080000">
            <a:off x="7771320" y="379296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 rot="5220000">
            <a:off x="8475480" y="334152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 rot="5580000">
            <a:off x="8471880" y="4271760"/>
            <a:ext cx="352440" cy="57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08000" y="518472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68720" y="51260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27640" y="51260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20000" y="5111640"/>
            <a:ext cx="287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 rot="16080000">
            <a:off x="772200" y="59533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 rot="16080000">
            <a:off x="7771320" y="379296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 rot="16080000">
            <a:off x="3148920" y="5904720"/>
            <a:ext cx="607680" cy="54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 rot="16080000">
            <a:off x="5380560" y="588024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 rot="16080000">
            <a:off x="7842960" y="5832720"/>
            <a:ext cx="60804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 rot="5580000">
            <a:off x="1399680" y="650700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 rot="5220000">
            <a:off x="539640" y="643572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 rot="5220000">
            <a:off x="2916000" y="636588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1"/>
          <a:stretch/>
        </p:blipFill>
        <p:spPr>
          <a:xfrm rot="5580000">
            <a:off x="2480760" y="665136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2"/>
          <a:stretch/>
        </p:blipFill>
        <p:spPr>
          <a:xfrm rot="5580000">
            <a:off x="4784040" y="645732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3"/>
          <a:stretch/>
        </p:blipFill>
        <p:spPr>
          <a:xfrm rot="5220000">
            <a:off x="4787640" y="5810040"/>
            <a:ext cx="352440" cy="57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4"/>
          <a:stretch/>
        </p:blipFill>
        <p:spPr>
          <a:xfrm rot="5220000">
            <a:off x="7306560" y="5738760"/>
            <a:ext cx="352440" cy="5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 rot="5580000">
            <a:off x="7319880" y="6078240"/>
            <a:ext cx="352080" cy="574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735280" y="3740040"/>
            <a:ext cx="503280" cy="65736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3672000"/>
            <a:ext cx="648000" cy="79200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03680" y="6912000"/>
            <a:ext cx="930240" cy="144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15280" y="6403680"/>
            <a:ext cx="1440" cy="461880"/>
          </a:xfrm>
          <a:prstGeom prst="line">
            <a:avLst/>
          </a:prstGeom>
          <a:ln w="36000">
            <a:solidFill>
              <a:srgbClr val="ff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96000" y="3738240"/>
            <a:ext cx="1063440" cy="369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29880" y="5975280"/>
            <a:ext cx="746280" cy="720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962600" y="6186240"/>
            <a:ext cx="241200" cy="369720"/>
          </a:xfrm>
          <a:prstGeom prst="line">
            <a:avLst/>
          </a:prstGeom>
          <a:ln w="3600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442880"/>
            <a:ext cx="5184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веч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кошечко) — 1-2 делаем шаг вперед, не разнимая рук, поднимаем правую руку вверх, 3-4 шаг наз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80000" y="1584360"/>
            <a:ext cx="295308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9640" y="4680000"/>
            <a:ext cx="64800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9640" y="2448000"/>
            <a:ext cx="64800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боратория «Танцевальный калейдоско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4428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сковская кадриль (в п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ена партнер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19640" y="2087640"/>
            <a:ext cx="2952720" cy="424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03640" y="2952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5400720"/>
            <a:ext cx="647640" cy="576360"/>
          </a:xfrm>
          <a:prstGeom prst="roundRect">
            <a:avLst>
              <a:gd name="adj" fmla="val 273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08360" y="5326920"/>
            <a:ext cx="1295640" cy="863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7640" y="5543640"/>
            <a:ext cx="720720" cy="215640"/>
          </a:xfrm>
          <a:prstGeom prst="triangle">
            <a:avLst>
              <a:gd name="adj" fmla="val 47023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 rot="14760000">
            <a:off x="5730480" y="5781240"/>
            <a:ext cx="1295640" cy="459000"/>
          </a:xfrm>
          <a:custGeom>
            <a:avLst/>
            <a:gdLst>
              <a:gd name="textAreaLeft" fmla="*/ 161640 w 1295640"/>
              <a:gd name="textAreaRight" fmla="*/ 1133640 w 1295640"/>
              <a:gd name="textAreaTop" fmla="*/ 114480 h 459000"/>
              <a:gd name="textAreaBottom" fmla="*/ 3441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1T09:56:37Z</dcterms:created>
  <dc:creator/>
  <dc:description/>
  <dc:language>en-US</dc:language>
  <cp:lastModifiedBy/>
  <cp:revision>1</cp:revision>
  <dc:subject/>
  <dc:title/>
</cp:coreProperties>
</file>