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B66DA-B1AC-42DD-9D76-FA6C81A9A2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3411B-5C4F-4ACE-9D3A-325B187AF86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E9C3-AB55-426D-BCB6-CE2C514F4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C7EC-8899-4FE9-A480-649E2037B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2B9839-E0BC-4CC6-9A0E-45A3C4CB7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0C1CD2-E760-4568-BE06-678542BBE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017C6F-F4C6-42F8-A3C5-5E39A12B7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9C7BD9-8C2F-4716-B90B-6F94BC2E4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D9C1C8-AF54-4EC0-A29E-FAA7C464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5E4EA2-D266-42BD-8493-949FB49B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61E727-F497-45C9-BE95-8E97FDCBF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72D0BA-AC26-43D7-A371-7C0FD8A34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6D5B6D-4593-4609-A63C-0CB0B8C44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B60F05-FDAC-4C87-A39A-6ADCF6DAB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A742-9B82-4C0A-BA22-8F1E928C2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C1851F-F163-44B3-BF8E-8226C7225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AF719C-ADB8-4384-B002-73C51CFAF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025EBD-8323-4E5F-828D-AEE189639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878FFE-F191-4E8F-B0F2-A58C9ADB5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7CBC5F-5103-4974-9C22-5F4481E7F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C28A60-6AE3-41E9-819F-A3F2149C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5E0E17-C788-4B68-B1DA-F0FF24C8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B0E40A-9178-4716-9B1C-064E3FE2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93542D-C468-44C1-8BB4-AD4C88B06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730836-ABBB-4BBA-90C0-6CC6CD7A7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D8E7-B9D3-44FC-863D-DCE6F46AB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1344B6-C315-44E7-81B0-3638DFB62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EBD85F-9D46-4FD9-984B-C37E3E550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F0E6B1-7A95-410A-8E6B-BFFA1051A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F7E199-CC0B-4176-ADEC-29864C071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67E4A2-7783-41B0-B2B0-8D3411873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60C426-39B9-4FF5-9433-E1D55840A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8F5EDF-06C7-480B-8038-0EDEB9F53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5FC8B0-19A6-43E8-94BB-6D6E3FD3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FC703F-090C-41C3-9F70-1FD14DE2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E733DD-AC81-48D6-9A17-3C50176E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A654A-CA6E-46A7-A3E7-824AB974D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93DC25-C60E-4525-A54E-8C5DFA8F5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E95E4D-FC75-4952-A1AD-7D819A52A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C6F080-254D-4D3E-BD83-090B142DE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3C7694-83B3-4477-AE9E-39D99031D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97AA91-511C-4266-AE4D-1B5106CF2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D0E44F-3A0B-430E-9400-7AED86013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9F9A21-B7A6-4CDB-A14D-2342C94B8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4B0405-E25D-4934-A81F-EAC3805D8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775600-E0F8-48F0-8AB7-67FAC3EBE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54B582-C3A1-4EB7-93DD-6AEFB208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17A38-5D10-4B51-8F07-F76FA7214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B416F0-E0CC-4C09-898F-E145B886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792829-389E-4637-B972-806B4D2B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6F568F-6D48-408F-AA56-FE27E0001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6EB1A4-1D69-4744-9A43-3191F43D3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290762-3C86-41CE-AB58-D3334C24A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EB082-C7C4-4155-97B8-582FCA174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A7CA3-3D94-42D4-A85A-50B7224CF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3A086-374E-4CA4-AE57-C11829CA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FFAB9-656B-4025-A733-D688BFB3D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D7703-407B-4300-8613-288E9C5C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9883-DE37-4D3C-9756-3DB2BAFB5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74C28-1997-4BC5-A738-DBBA9443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85798-5F27-481E-815C-9A94ABDC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B6957-7A90-4C05-8449-5714E3F23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53BA9-53D9-4566-A249-B9C635CF8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60469-BBAC-4C47-90D6-0BBF91214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3D0EB-6AF0-4C04-9965-5CE79921B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507C3-DA1B-4AE9-B6D4-129383D12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357C6-6278-4948-9577-07A3A35A6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A74E0-EC43-4BF8-A887-2D793DCF1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40510-8345-4B7D-B606-29657C9F5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4FB5-9174-4FA2-BF42-B23F33D08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EDDC2-22D1-4E77-BAAA-E48FABF69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F1B27-B128-4E2D-ABB8-F779CAFA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9D41F-079B-4A0C-AF8C-FC98FED2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BEA68-98EB-4EFB-BE71-2B70CCD4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5F101-D3E1-4F28-BA4F-24E89BBF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9122B-01FD-4FDA-B001-B6055DD7C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13C0A-97EA-4A02-85BC-B9D078F50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04188-73B1-46D1-8EFD-6D4C9E6C3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21FDE-338A-40CD-B53E-8681787B3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5F57D-3958-4DA1-ADCF-F9B4BFF34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2ECA-14D7-4DB6-9784-5BF00F155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AA005-E20C-4D04-AE1F-558925837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1CB39-AF7A-4482-B86D-A9251FC5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1CD35-D2E7-4D91-B48B-0AFD57C06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5F102-2DC2-49C9-8CB5-76F117A2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F8C3A-B5B0-41CB-9C2F-05D92AD3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39BB2-CB8A-46AC-A776-C152AC53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3D5C3-1BA4-49EA-9C59-4962CAF0D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AB9CF-9FEA-4FD0-BE10-A32BE342E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A9EFB-50CD-40B9-B982-833F9A6E3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32E89-7616-4973-A75D-790FD4341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121E-7AF8-41B4-9759-48981EDB6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39D87-CEE3-450C-A42F-25FC763D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6EC8D-0C20-4E2F-B31F-7556ECB44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5F2F7-992D-48E8-B804-A3072F132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F66E0-7E38-4B74-B710-74D3F6DAE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E9BF3-C0B1-47E3-BF24-D6AF851DB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853EC-0162-499E-A68D-0CC555B5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623F2-BEFE-4032-AC2A-1FA8204A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D15ED-A5AF-4E49-AD90-16ADD0B5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19138-CF33-4C1B-AA26-350306A9C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7EE38-4194-45B0-9092-898CF06F4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C154-99F8-41B0-B640-F14A0011B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4CAA5-F8F8-4D18-B3DB-7283468D9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E9B52-A77D-4212-BFC5-97D87DD7B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DD10E-45F6-46B7-AA27-8DFC98DF6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EF078-36EC-4C81-AF0E-7CD10A961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43C872-4641-46A3-9624-D6CDF3B74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A7154-5C9E-4B19-8BED-39989E1B8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9A16D-4643-4F2E-A394-911E05C00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04998-8E29-423D-B5EF-99B69579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C7A97-A018-4241-AFD5-B6AD83C9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D002A-5A3B-4B42-AE31-5E92F86E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9301-659E-479E-BC85-BD1CB7E6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24B1D4-D226-41F3-82DC-4B3BD9778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D507C-7D83-4C9C-A2B6-89572F5D4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D5086-1258-4CF5-BB5B-D5F333A44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91A88-18A7-472D-AA01-501EC7864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3B9C0-E670-47DF-8CF7-BD41C24BB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1C4F7-FC7F-4F9B-A5FB-B1ADCC57D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2B707E-035D-4CC7-A4FA-2E2BA820E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0C01E2-35EE-422A-98DA-C430304CE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8D5609-C9B2-41D8-90A8-87566685C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22CBD-5AE0-46BE-B059-49183ABC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2238-0509-4FB5-81FE-F9E3E82D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1CF6D-78B2-40E6-8EE7-0775C3EB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275096-D629-44BB-9FC8-BEECCB5D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82158-6141-4F28-936B-0565B6B61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704BD4-FA34-4AA3-B345-1FBCC4755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327530-762C-4498-A15C-1CD6245E4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A91C96-A45A-4167-920D-22AA350B9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D8DA41-2EA3-4771-9258-23FDE9AFE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F08DFB-EFA1-46D3-BC9A-9CAA9946E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FB5DC7-55D7-499A-8587-FE895849A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B36AE-09EE-4AFA-8F58-FC83332E4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2D16-88DF-4197-8A64-A800FFF1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6D7961-5209-4933-BC41-554A7BAC0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42298F-F076-4035-8F6F-93678553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746D35-4D5A-4FA2-AF8B-D325FCCD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FE21D-0D81-4944-8364-4E234720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91DA6C-7D68-44C8-B8CA-BCC64DB09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F3D0E-27D2-49C9-9396-19355F9FD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F80CC8-0D0F-4506-942F-6F1B2CCCC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D7840E-175E-4715-853B-812407485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3D2133-93F6-48EC-9010-C907CFEDE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59ADCE-2664-42B5-91EC-3A753ABF5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F2A29-28CB-4CD7-B676-3452FFEB8B47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МБОУ СОШ № 40                       Вазагова З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58552-726A-466E-84FE-3A6D47EDC3CB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F7D4B-DC0E-4FBD-8C32-6237B60E8F77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38B98-C8EB-4DD1-9654-388492B07BD2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МБОУ СОШ № 40                       Вазагова З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97763-4EEF-4938-84AD-A9B79972ADE3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МБОУ СОШ № 40                       Вазагова З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6A04B-5703-4E5A-A8DE-7842717C6914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0054B-7EB2-4FF1-A884-51EA03E12ED2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9F836-C7D5-46A6-8011-377646191C40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МБОУ СОШ № 40                       Вазагова З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5FF9F-6DA8-46E0-9AA0-A0ED21F72EA7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МБОУ СОШ № 40                       Вазагова З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D24D4-3AF5-4699-B1C4-C29F5D9E3D6D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3B1F1-6EEE-4F76-B6D5-6DC2886CB8A3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МБОУ СОШ № 40                       Вазагова З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1E007-6162-443D-B5F2-FBD6633B77FA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МБОУ СОШ № 40                       Вазагова З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CEDC1-CAF8-43F4-BFFB-CB07D8D301C4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65F33-0A75-4F8C-94CB-4FF177FFF4C3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F29CF-D97C-4BFA-B256-6C3EE0751BFD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МБОУ СОШ № 40                       Вазагова З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BC8EE-9F4C-48BE-8083-10FF63E4E28A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12A61-08EB-489B-B651-DBA41D0C6D9F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МБОУ СОШ № 40                       Вазагова З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69F79-3495-4BB9-8227-85DC0F9EE8C5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54907-BC5C-479B-A76E-C1AB4836CA27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МБОУ СОШ № 40                       Вазагова З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435BF-2E11-407C-AC8E-308F1814C611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B267B-54B5-40B1-97D1-28725D4C6B04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МБОУ СОШ № 40                       Вазагова З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8BEB7-0349-47FA-AB12-4EB1790A0BCB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00B82-6A30-4C7F-A032-94C7F0443D9B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E2AA9-0AF2-45C1-9D64-E578C1C45B0A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МБОУ СОШ № 40                       Вазагова З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Georgia"/>
              </a:rPr>
              <a:t>Произведение Многочленов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4" name="Picture 3" descr="Рисунок1"/>
          <p:cNvPicPr/>
          <p:nvPr/>
        </p:nvPicPr>
        <p:blipFill>
          <a:blip r:embed="rId1"/>
          <a:stretch/>
        </p:blipFill>
        <p:spPr>
          <a:xfrm>
            <a:off x="142920" y="2786040"/>
            <a:ext cx="2019240" cy="3895920"/>
          </a:xfrm>
          <a:prstGeom prst="rect">
            <a:avLst/>
          </a:prstGeom>
          <a:ln w="0">
            <a:noFill/>
          </a:ln>
        </p:spPr>
      </p:pic>
      <p:sp>
        <p:nvSpPr>
          <p:cNvPr id="615" name="Прямоугольник 4"/>
          <p:cNvSpPr/>
          <p:nvPr/>
        </p:nvSpPr>
        <p:spPr>
          <a:xfrm>
            <a:off x="2286000" y="1982880"/>
            <a:ext cx="457200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лан работы на уро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онный момен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туализация опорных знаний и ум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учение новой т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ичное закрепл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з.минут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 самостоятель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машнее зад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тог уро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Нижний колонтитул 1"/>
          <p:cNvSpPr/>
          <p:nvPr/>
        </p:nvSpPr>
        <p:spPr>
          <a:xfrm>
            <a:off x="304920" y="6410160"/>
            <a:ext cx="743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МБОУ СОШ № 40                       Вазагова З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713880" y="2785680"/>
            <a:ext cx="75726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Century Schoolbook"/>
              </a:rPr>
              <a:t>А. (а+1)(а+1)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Century Schoolbook"/>
              </a:rPr>
              <a:t>В.(2+у)(у+3)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Century Schoolbook"/>
              </a:rPr>
              <a:t>Д.(1+х)(1-х)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Century Schoolbook"/>
              </a:rPr>
              <a:t>Ж.(х-у)(х+у)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Century Schoolbook"/>
              </a:rPr>
              <a:t>И.(2а+в)(а+2в)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121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16349"/>
                </a:solidFill>
                <a:latin typeface="Georgia"/>
              </a:rPr>
              <a:t>Работаем по учебнику  </a:t>
            </a:r>
            <a:br>
              <a:rPr sz="4000"/>
            </a:br>
            <a:r>
              <a:rPr b="0" lang="ru-RU" sz="4000" spc="-1" strike="noStrike">
                <a:solidFill>
                  <a:srgbClr val="d16349"/>
                </a:solidFill>
                <a:latin typeface="Georgia"/>
              </a:rPr>
              <a:t> № 294(1ст.)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9" name="Нижний колонтитул 2"/>
          <p:cNvSpPr/>
          <p:nvPr/>
        </p:nvSpPr>
        <p:spPr>
          <a:xfrm>
            <a:off x="304920" y="6410160"/>
            <a:ext cx="707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МБОУ СОШ № 40                       Вазагова З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896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d16349"/>
                </a:solidFill>
                <a:latin typeface="Georgia"/>
              </a:rPr>
              <a:t>Верны ли равенства (найдите ошибку, если она есть, исправьте ее):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(5x-1)(3x+7)=5x(3x+7)+1(3x+7)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(3+2a)(5a-4)=3∙5a+3∙ (-4)+2a∙5a+2a∙(-4)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(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0,1)(0,5-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0,5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0,5+0,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 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Нижний колонтитул 1"/>
          <p:cNvSpPr/>
          <p:nvPr/>
        </p:nvSpPr>
        <p:spPr>
          <a:xfrm>
            <a:off x="179280" y="6381720"/>
            <a:ext cx="547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МБОУ СОШ № 40                       Вазагова З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ubTitle"/>
          </p:nvPr>
        </p:nvSpPr>
        <p:spPr>
          <a:xfrm>
            <a:off x="142560" y="2819520"/>
            <a:ext cx="9001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Times New Roman"/>
              </a:rPr>
              <a:t>1. </a:t>
            </a:r>
            <a:r>
              <a:rPr b="1" lang="ru-RU" sz="2000" spc="-1" strike="noStrike">
                <a:solidFill>
                  <a:srgbClr val="646b86"/>
                </a:solidFill>
                <a:latin typeface="Times New Roman"/>
              </a:rPr>
              <a:t>СКОЛЬКО ЧЛЕНОВ БУДЕТ ИМЕТЬ ПРОИЗВЕДЕНИЕ ДО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46b86"/>
                </a:solidFill>
                <a:latin typeface="Times New Roman"/>
              </a:rPr>
              <a:t>ПРИВЕДЕНИЯ ПОДОБНЫХ ЧЛЕНОВ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16349"/>
                </a:solidFill>
                <a:latin typeface="Times New Roman"/>
              </a:rPr>
              <a:t>Проверь себя!</a:t>
            </a:r>
            <a:br>
              <a:rPr sz="4400"/>
            </a:br>
            <a:r>
              <a:rPr b="1" i="1" lang="ru-RU" sz="4400" spc="-1" strike="noStrike">
                <a:solidFill>
                  <a:srgbClr val="d16349"/>
                </a:solidFill>
                <a:latin typeface="Times New Roman"/>
              </a:rPr>
              <a:t>(работаем устно)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5" name="Object 8"/>
              <p:cNvSpPr txBox="1"/>
              <p:nvPr/>
            </p:nvSpPr>
            <p:spPr>
              <a:xfrm>
                <a:off x="357120" y="3432240"/>
                <a:ext cx="305424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Object 9"/>
              <p:cNvSpPr txBox="1"/>
              <p:nvPr/>
            </p:nvSpPr>
            <p:spPr>
              <a:xfrm>
                <a:off x="357120" y="4214880"/>
                <a:ext cx="438012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Object 10"/>
              <p:cNvSpPr txBox="1"/>
              <p:nvPr/>
            </p:nvSpPr>
            <p:spPr>
              <a:xfrm>
                <a:off x="417600" y="5186520"/>
                <a:ext cx="456408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b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8" name="Line 24"/>
          <p:cNvSpPr/>
          <p:nvPr/>
        </p:nvSpPr>
        <p:spPr>
          <a:xfrm>
            <a:off x="3571920" y="3786120"/>
            <a:ext cx="2952720" cy="0"/>
          </a:xfrm>
          <a:prstGeom prst="line">
            <a:avLst/>
          </a:prstGeom>
          <a:ln w="572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28"/>
          <p:cNvSpPr/>
          <p:nvPr/>
        </p:nvSpPr>
        <p:spPr>
          <a:xfrm>
            <a:off x="4857840" y="4714920"/>
            <a:ext cx="1584360" cy="0"/>
          </a:xfrm>
          <a:prstGeom prst="line">
            <a:avLst/>
          </a:prstGeom>
          <a:ln w="572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28"/>
          <p:cNvSpPr/>
          <p:nvPr/>
        </p:nvSpPr>
        <p:spPr>
          <a:xfrm>
            <a:off x="5000760" y="5786280"/>
            <a:ext cx="1584360" cy="0"/>
          </a:xfrm>
          <a:prstGeom prst="line">
            <a:avLst/>
          </a:prstGeom>
          <a:ln w="572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Прямоугольник 11"/>
          <p:cNvSpPr/>
          <p:nvPr/>
        </p:nvSpPr>
        <p:spPr>
          <a:xfrm>
            <a:off x="6576120" y="307188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Box 12"/>
          <p:cNvSpPr/>
          <p:nvPr/>
        </p:nvSpPr>
        <p:spPr>
          <a:xfrm>
            <a:off x="6580440" y="4143240"/>
            <a:ext cx="69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Georgia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13"/>
          <p:cNvSpPr/>
          <p:nvPr/>
        </p:nvSpPr>
        <p:spPr>
          <a:xfrm>
            <a:off x="6723360" y="5072040"/>
            <a:ext cx="69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Georgia"/>
              </a:rPr>
              <a:t>9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Нижний колонтитул 2"/>
          <p:cNvSpPr/>
          <p:nvPr/>
        </p:nvSpPr>
        <p:spPr>
          <a:xfrm>
            <a:off x="304920" y="6410160"/>
            <a:ext cx="534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МБОУ СОШ № 40                       Вазагова З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WordArt 4"/>
          <p:cNvSpPr txBox="1"/>
          <p:nvPr/>
        </p:nvSpPr>
        <p:spPr>
          <a:xfrm>
            <a:off x="324000" y="907920"/>
            <a:ext cx="8496000" cy="47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ряд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л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лаз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6" name="Нижний колонтитул 1"/>
          <p:cNvSpPr/>
          <p:nvPr/>
        </p:nvSpPr>
        <p:spPr>
          <a:xfrm>
            <a:off x="304920" y="6410160"/>
            <a:ext cx="59227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МБОУ СОШ № 40                       Вазагова З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Oval 2"/>
          <p:cNvSpPr/>
          <p:nvPr/>
        </p:nvSpPr>
        <p:spPr>
          <a:xfrm>
            <a:off x="1116000" y="189000"/>
            <a:ext cx="6769080" cy="6480000"/>
          </a:xfrm>
          <a:prstGeom prst="ellipse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Oval 3"/>
          <p:cNvSpPr/>
          <p:nvPr/>
        </p:nvSpPr>
        <p:spPr>
          <a:xfrm>
            <a:off x="900000" y="3213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Oval 4"/>
          <p:cNvSpPr/>
          <p:nvPr/>
        </p:nvSpPr>
        <p:spPr>
          <a:xfrm rot="17668200">
            <a:off x="7740720" y="314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Нижний колонтитул 1"/>
          <p:cNvSpPr/>
          <p:nvPr/>
        </p:nvSpPr>
        <p:spPr>
          <a:xfrm>
            <a:off x="304920" y="6410160"/>
            <a:ext cx="57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МБОУ СОШ № 40                       Вазагова З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7 -0.03376 C 0.00869 -0.07237 -0.00347 -0.12717 0.01893 -0.15861 C 0.0231 -0.17364 0.029 -0.18451 0.03646 -0.19653 C 0.04011 -0.20231 0.04132 -0.20948 0.04445 -0.21572 C 0.04775 -0.23353 0.0533 -0.23977 0.06025 -0.25364 C 0.06389 -0.26867 0.07448 -0.27676 0.08247 -0.2874 C 0.08612 -0.30266 0.08438 -0.3015 0.09514 -0.30867 C 0.09723 -0.31723 0.10139 -0.32486 0.10782 -0.32763 C 0.11389 -0.33526 0.11025 -0.33017 0.11737 -0.34451 C 0.11823 -0.34636 0.12066 -0.3459 0.12223 -0.34659 C 0.12813 -0.34936 0.12622 -0.34821 0.13178 -0.35306 C 0.13542 -0.36046 0.1382 -0.36301 0.14445 -0.36578 C 0.14844 -0.37387 0.15139 -0.38474 0.15712 -0.39098 C 0.1625 -0.39676 0.17292 -0.39676 0.17935 -0.39954 C 0.1823 -0.40231 0.18525 -0.40647 0.18889 -0.40809 C 0.19046 -0.40879 0.19219 -0.40902 0.19358 -0.41017 C 0.2 -0.4148 0.20435 -0.4222 0.21112 -0.42497 C 0.22205 -0.43445 0.21685 -0.43168 0.22518 -0.43538 C 0.23334 -0.44301 0.22674 -0.43815 0.23959 -0.44185 C 0.25174 -0.44532 0.26198 -0.45041 0.27448 -0.45249 C 0.28542 -0.45711 0.29462 -0.45919 0.30625 -0.46081 C 0.31632 -0.46405 0.31007 -0.46173 0.32223 -0.46728 C 0.32535 -0.46867 0.33178 -0.47145 0.33178 -0.47121 C 0.35869 -0.47075 0.3856 -0.47121 0.41268 -0.46936 C 0.42275 -0.46867 0.42744 -0.46081 0.43629 -0.45873 C 0.4566 -0.45387 0.47639 -0.45133 0.49671 -0.44809 C 0.50504 -0.44439 0.51077 -0.43931 0.51875 -0.43538 C 0.52553 -0.42705 0.53299 -0.42474 0.54115 -0.42058 C 0.54549 -0.41503 0.5507 -0.41318 0.55539 -0.40809 C 0.56164 -0.40139 0.56685 -0.39769 0.57448 -0.3933 C 0.57935 -0.39029 0.58872 -0.38266 0.58872 -0.38243 C 0.59341 -0.3741 0.59584 -0.3711 0.60313 -0.36786 C 0.6066 -0.3533 0.60139 -0.37017 0.61424 -0.35306 C 0.62362 -0.34058 0.62014 -0.34659 0.62535 -0.33619 C 0.62587 -0.33341 0.62518 -0.32948 0.62691 -0.32763 C 0.62952 -0.32462 0.63646 -0.32347 0.63646 -0.32324 C 0.64115 -0.31699 0.64428 -0.31353 0.6507 -0.31075 C 0.66007 -0.29827 0.6566 -0.30428 0.66181 -0.29387 C 0.66389 -0.28208 0.66823 -0.28 0.67292 -0.27052 C 0.67431 -0.26798 0.67483 -0.26474 0.67622 -0.2622 C 0.67848 -0.25827 0.68403 -0.25156 0.68403 -0.25133 C 0.68577 -0.24462 0.69202 -0.2326 0.69202 -0.23237 C 0.6941 -0.22428 0.69514 -0.21318 0.7 -0.20717 C 0.70209 -0.19908 0.70417 -0.19699 0.70955 -0.19237 C 0.71441 -0.18358 0.7165 -0.17526 0.71893 -0.16486 C 0.725 -0.13965 0.73021 -0.11399 0.73646 -0.08879 C 0.73091 -0.06636 0.73907 -0.03861 0.74445 -0.01688 C 0.74671 0.01896 0.74757 0.02173 0.74445 0.06775 C 0.74393 0.07653 0.74011 0.08462 0.73803 0.09295 C 0.73507 0.10497 0.73316 0.11699 0.73004 0.12902 C 0.72674 0.14196 0.72483 0.15792 0.71893 0.16902 C 0.71719 0.17618 0.71494 0.18058 0.71112 0.18613 C 0.7099 0.19399 0.70747 0.20139 0.70625 0.20925 C 0.70573 0.21272 0.70591 0.21665 0.70469 0.21988 C 0.70365 0.22243 0.70157 0.22405 0.7 0.22613 C 0.69775 0.23584 0.69132 0.24647 0.6856 0.25364 C 0.68195 0.26913 0.67639 0.28046 0.66823 0.29179 C 0.66511 0.30451 0.66146 0.30543 0.65226 0.30867 C 0.64914 0.30983 0.64289 0.31283 0.64289 0.31306 C 0.63785 0.31931 0.63803 0.33087 0.63178 0.33618 C 0.62344 0.34335 0.6191 0.35306 0.60955 0.35722 C 0.60139 0.3674 0.59688 0.37988 0.5856 0.38474 C 0.58282 0.38728 0.58073 0.39098 0.57778 0.39329 C 0.57414 0.39607 0.56997 0.39699 0.56667 0.39954 C 0.56476 0.40069 0.5632 0.40208 0.56164 0.4037 C 0.5606 0.40486 0.5599 0.40694 0.55851 0.40809 C 0.55469 0.41133 0.54896 0.41433 0.54445 0.41642 C 0.53178 0.43329 0.50191 0.44277 0.48386 0.44601 C 0.47553 0.45179 0.4665 0.45988 0.45712 0.46289 C 0.42691 0.47283 0.39289 0.46728 0.36181 0.46936 C 0.35174 0.46867 0.34185 0.46844 0.33178 0.46728 C 0.32952 0.46705 0.31632 0.46104 0.3158 0.46081 C 0.31129 0.45873 0.30625 0.45942 0.30157 0.45873 C 0.2974 0.45734 0.29254 0.4578 0.28889 0.45457 C 0.28733 0.45318 0.28577 0.45133 0.28403 0.45017 C 0.27014 0.44208 0.25296 0.43815 0.23803 0.43329 C 0.22917 0.42728 0.22049 0.42266 0.21112 0.4185 C 0.20487 0.41064 0.19549 0.40879 0.18733 0.40578 C 0.18073 0.4 0.17483 0.39584 0.16823 0.39098 C 0.16129 0.38566 0.15643 0.37965 0.14914 0.37618 C 0.14566 0.37156 0.1415 0.36832 0.13803 0.3637 C 0.13073 0.35399 0.13959 0.35931 0.13004 0.35514 C 0.12813 0.35144 0.12553 0.34844 0.12379 0.34451 C 0.12084 0.3378 0.12431 0.3385 0.11893 0.3341 C 0.11754 0.33295 0.1158 0.33272 0.11424 0.33179 C 0.1125 0.33064 0.11112 0.32902 0.10955 0.32763 C 0.10678 0.31769 0.10226 0.31121 0.09514 0.30659 C 0.09132 0.2985 0.0875 0.29688 0.08091 0.29387 C 0.07483 0.28116 0.07761 0.26775 0.06511 0.2622 C 0.05973 0.25734 0.05695 0.25133 0.05226 0.24532 C 0.04983 0.23237 0.04827 0.22289 0.04115 0.21341 C 0.03959 0.20509 0.03664 0.18381 0.03334 0.17757 C 0.03021 0.17179 0.02674 0.1667 0.02379 0.16069 C 0.02153 0.15121 0.01997 0.1415 0.0158 0.13318 C 0.0125 0.11538 0.0125 0.09803 0.00469 0.08254 C 0.00244 0.06983 0.00382 0.07653 -4.72222E-006 0.06127 C -0.00052 0.05919 -0.00156 0.05503 -0.00156 0.05526 C -4.72221999999996E-006 0.00277 -4.72222E-006 0.02104 -4.72222E-006 4.62428E-007 E">
                                      <p:cBhvr>
                                        <p:cTn id="169" dur="3000" fill="hold"/>
                                        <p:tgtEl>
                                          <p:spTgt spid="6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100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5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46821E-006 C -0.00659 -0.03768 0.00591 -0.09364 -0.01684 -0.1237 C -0.02048 -0.13896 -0.02673 -0.14936 -0.03507 -0.16208 C -0.03837 -0.16716 -0.03923 -0.1741 -0.04218 -0.18081 C -0.04531 -0.19815 -0.05087 -0.20485 -0.05833 -0.21849 C -0.06198 -0.2326 -0.07239 -0.24162 -0.08021 -0.25248 C -0.08437 -0.26751 -0.08316 -0.2652 -0.09305 -0.27329 C -0.09583 -0.28115 -0.09948 -0.28855 -0.10677 -0.29202 C -0.1125 -0.29919 -0.10885 -0.29479 -0.11597 -0.30844 C -0.11666 -0.31075 -0.11944 -0.30867 -0.12083 -0.31052 C -0.12656 -0.31352 -0.12517 -0.3126 -0.12986 -0.31722 C -0.13403 -0.3237 -0.13663 -0.32786 -0.14305 -0.33017 C -0.14739 -0.3378 -0.15069 -0.3482 -0.15555 -0.35491 C -0.16111 -0.36046 -0.17239 -0.36092 -0.17864 -0.363 C -0.18142 -0.36508 -0.18385 -0.36925 -0.18767 -0.37225 C -0.18975 -0.37179 -0.19097 -0.37318 -0.19271 -0.3741 C -0.1993 -0.3778 -0.20364 -0.38589 -0.21059 -0.38844 C -0.22153 -0.39792 -0.21666 -0.39468 -0.22465 -0.39907 C -0.23316 -0.40555 -0.22621 -0.40138 -0.23923 -0.40416 C -0.25121 -0.40809 -0.26198 -0.41318 -0.27465 -0.41503 C -0.28489 -0.42034 -0.29444 -0.42266 -0.30607 -0.42358 C -0.31632 -0.42659 -0.31007 -0.42427 -0.32257 -0.43052 C -0.32534 -0.43144 -0.33229 -0.43422 -0.33177 -0.43422 C -0.35937 -0.43375 -0.38646 -0.43375 -0.41319 -0.43237 C -0.42343 -0.43144 -0.4283 -0.42381 -0.4368 -0.42173 C -0.45764 -0.41664 -0.4776 -0.41387 -0.49774 -0.41109 C -0.50642 -0.40809 -0.51215 -0.40231 -0.52066 -0.39884 C -0.52708 -0.39029 -0.53455 -0.38797 -0.54271 -0.38358 C -0.54722 -0.37896 -0.55243 -0.37688 -0.55659 -0.37225 C -0.56371 -0.36462 -0.56857 -0.36162 -0.57604 -0.35699 C -0.58055 -0.35422 -0.59028 -0.34635 -0.59062 -0.34589 C -0.59566 -0.3378 -0.59739 -0.33572 -0.60573 -0.33156 C -0.60885 -0.31722 -0.60295 -0.33318 -0.61684 -0.31722 C -0.62587 -0.30427 -0.62205 -0.31029 -0.6276 -0.30034 C -0.62847 -0.29711 -0.62743 -0.29341 -0.62899 -0.29202 C -0.63177 -0.28855 -0.63889 -0.28716 -0.63923 -0.2874 C -0.64323 -0.28069 -0.6467 -0.27768 -0.65312 -0.27491 C -0.66267 -0.26289 -0.65937 -0.2689 -0.66389 -0.25803 C -0.66632 -0.2467 -0.67014 -0.24508 -0.67587 -0.23491 C -0.67691 -0.2326 -0.6776 -0.22913 -0.67882 -0.22682 C -0.6809 -0.22219 -0.68646 -0.21664 -0.68593 -0.21618 C -0.68819 -0.20925 -0.69427 -0.19768 -0.69514 -0.19768 C -0.69705 -0.19005 -0.69757 -0.17849 -0.70278 -0.17179 C -0.70451 -0.16393 -0.70712 -0.16208 -0.71198 -0.15768 C -0.71771 -0.1489 -0.71909 -0.13988 -0.72153 -0.1304 C -0.72795 -0.10566 -0.73316 -0.08046 -0.73906 -0.05526 C -0.73472 -0.03237 -0.74166 -0.00416 -0.74739 0.01688 C -0.75 0.05318 -0.75104 0.05573 -0.74739 0.10058 C -0.74687 0.10821 -0.74288 0.11746 -0.74132 0.12532 C -0.73871 0.13827 -0.73593 0.1496 -0.73298 0.16162 C -0.72916 0.1748 -0.72795 0.19099 -0.72205 0.20093 C -0.72014 0.20948 -0.71788 0.21226 -0.71389 0.21873 C -0.7125 0.22682 -0.71024 0.23445 -0.70903 0.24162 C -0.70833 0.24578 -0.70903 0.24902 -0.70764 0.25226 C -0.70659 0.25457 -0.70364 0.25596 -0.70312 0.25758 C -0.70069 0.26798 -0.6934 0.27769 -0.68767 0.28648 C -0.68489 0.30151 -0.67812 0.31122 -0.671 0.32417 C -0.66701 0.33688 -0.66406 0.33734 -0.65434 0.34104 C -0.65208 0.34128 -0.64548 0.34312 -0.64531 0.34405 C -0.64028 0.35099 -0.63993 0.36208 -0.63437 0.36763 C -0.62552 0.37295 -0.62153 0.38474 -0.61163 0.38821 C -0.60382 0.39931 -0.59913 0.4118 -0.58698 0.41457 C -0.58437 0.41804 -0.58212 0.42081 -0.57951 0.42451 C -0.57604 0.42659 -0.57187 0.42659 -0.56805 0.43122 C -0.56649 0.43122 -0.56528 0.43168 -0.56302 0.43492 C -0.5625 0.43561 -0.56163 0.43723 -0.56041 0.43746 C -0.55642 0.4407 -0.55 0.44486 -0.54635 0.44671 C -0.53333 0.46336 -0.50295 0.47284 -0.48489 0.477 C -0.47691 0.48185 -0.46736 0.49156 -0.4585 0.4918 C -0.42778 0.50312 -0.39375 0.49781 -0.36215 0.49873 C -0.35208 0.49804 -0.34201 0.49919 -0.33212 0.4985 C -0.32968 0.49642 -0.31632 0.4918 -0.31528 0.49203 C -0.31128 0.48856 -0.30659 0.4911 -0.30156 0.48925 C -0.29739 0.48786 -0.29236 0.48925 -0.28854 0.48486 C -0.28715 0.4837 -0.28541 0.48116 -0.28455 0.47977 C -0.26996 0.47284 -0.25225 0.46867 -0.23732 0.46405 C -0.22864 0.45734 -0.22048 0.45411 -0.21093 0.44995 C -0.20382 0.44116 -0.19444 0.43931 -0.18646 0.43561 C -0.17986 0.43052 -0.17396 0.42567 -0.16701 0.42081 C -0.16024 0.41711 -0.15468 0.41018 -0.14809 0.40648 C -0.14392 0.40301 -0.1401 0.39977 -0.13732 0.39469 C -0.12934 0.38405 -0.13802 0.39052 -0.12899 0.38613 C -0.12691 0.38289 -0.12396 0.37827 -0.12326 0.37642 C -0.11996 0.36833 -0.12326 0.37018 -0.11753 0.36602 C -0.11597 0.36417 -0.1151 0.36393 -0.11302 0.36393 C -0.11076 0.36162 -0.10972 0.35977 -0.10764 0.35862 C -0.10555 0.34867 -0.10069 0.34266 -0.09427 0.33758 C -0.0901 0.33018 -0.08611 0.32833 -0.07864 0.3244 C -0.07309 0.31307 -0.07604 0.30035 -0.06337 0.29365 C -0.05729 0.28925 -0.05538 0.28301 -0.05034 0.27746 C -0.04843 0.26405 -0.04687 0.25341 -0.03923 0.24602 C -0.03732 0.23607 -0.03489 0.21503 -0.03159 0.21041 C -0.02795 0.20463 -0.02465 0.19885 -0.02239 0.19307 C -0.02031 0.18359 -0.01753 0.17411 -0.01337 0.16532 C -0.00989 0.14867 -0.01007 0.13133 -0.0026 0.11607 C 0.00035 0.10336 -0.00156 0.11006 0.00209 0.09388 C 0.00261 0.09295 0.004 0.08717 0.00365 0.0881 C 0.00261 0.03677 0.00209 0.05549 0.00209 0.03376 E">
                                      <p:cBhvr>
                                        <p:cTn id="186" dur="3000" fill="hold"/>
                                        <p:tgtEl>
                                          <p:spTgt spid="6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Oval 2"/>
          <p:cNvSpPr/>
          <p:nvPr/>
        </p:nvSpPr>
        <p:spPr>
          <a:xfrm>
            <a:off x="179280" y="3141720"/>
            <a:ext cx="43200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Нижний колонтитул 1"/>
          <p:cNvSpPr/>
          <p:nvPr/>
        </p:nvSpPr>
        <p:spPr>
          <a:xfrm>
            <a:off x="304920" y="6410160"/>
            <a:ext cx="599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МБОУ СОШ № 40                       Вазагова З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96532E-006 C 8.33333E-007 0.17249 0.09896 0.31468 0.21944 0.31468 C 0.36146 0.31468 0.41285 0.157 0.43455 0.06243 L 0.45677 -0.06289 C 0.47882 -0.15769 0.53351 -0.31468 0.69392 -0.31468 C 0.7967 -0.31468 0.91354 -0.17318 0.91354 -1.96532E-006 C 0.91354 0.17249 0.7967 0.31468 0.69392 0.31468 C 0.53351 0.31468 0.47882 0.157 0.45677 0.06243 L 0.43455 -0.06289 C 0.41285 -0.15769 0.36146 -0.31468 0.21944 -0.31468 C 0.09896 -0.31468 8.33333E-007 -0.17318 8.33333E-007 -1.96532E-006 Z">
                                      <p:cBhvr>
                                        <p:cTn id="199" dur="3000" fill="hold"/>
                                        <p:tgtEl>
                                          <p:spTgt spid="6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Oval 2"/>
          <p:cNvSpPr/>
          <p:nvPr/>
        </p:nvSpPr>
        <p:spPr>
          <a:xfrm>
            <a:off x="8388360" y="3645000"/>
            <a:ext cx="431640" cy="43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Нижний колонтитул 1"/>
          <p:cNvSpPr/>
          <p:nvPr/>
        </p:nvSpPr>
        <p:spPr>
          <a:xfrm>
            <a:off x="304920" y="6410160"/>
            <a:ext cx="642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МБОУ СОШ № 40                       Вазагова З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3.4104E-006 C 0.01493 -0.26543 -0.16528 -0.49479 -0.40625 -0.51075 C -0.63646 -0.53017 -0.85104 -0.35237 -0.86511 -0.09479 C -0.88281 0.14243 -0.73264 0.36463 -0.51684 0.38012 C -0.31997 0.3926 -0.13281 0.24532 -0.1184 0.02405 C -0.10434 -0.17803 -0.23021 -0.36832 -0.41285 -0.38381 C -0.58195 -0.39583 -0.73993 -0.27283 -0.75052 -0.0874 C -0.76111 0.07908 -0.66094 0.24162 -0.5099 0.24995 C -0.37327 0.26128 -0.24479 0.16648 -0.23299 0.01619 C -0.22604 -0.11861 -0.30156 -0.24948 -0.42014 -0.25711 C -0.52413 -0.26543 -0.62813 -0.19375 -0.63646 -0.07907 C -0.64288 0.02012 -0.58959 0.11492 -0.50261 0.12324 C -0.43073 0.13064 -0.35556 0.0874 -0.35191 0.00833 C -0.34497 -0.05572 -0.37327 -0.123 -0.42709 -0.13063 C -0.47066 -0.13063 -0.51354 -0.11468 -0.52049 -0.07144 C -0.52413 -0.04323 -0.51684 -0.01572 -0.49584 -0.00393 C -0.48507 -3.41039999999983E-006 -0.47761 -3.41039999999983E-006 -0.46684 -0.00393 E">
                                      <p:cBhvr>
                                        <p:cTn id="212" dur="5000" fill="hold"/>
                                        <p:tgtEl>
                                          <p:spTgt spid="6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Oval 2"/>
          <p:cNvSpPr/>
          <p:nvPr/>
        </p:nvSpPr>
        <p:spPr>
          <a:xfrm>
            <a:off x="826920" y="3716280"/>
            <a:ext cx="432000" cy="43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Нижний колонтитул 1"/>
          <p:cNvSpPr/>
          <p:nvPr/>
        </p:nvSpPr>
        <p:spPr>
          <a:xfrm>
            <a:off x="304920" y="6410160"/>
            <a:ext cx="657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МБОУ СОШ № 40                       Вазагова З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path" presetID="4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2.19653E-006 C -0.01232 -0.27191 0.14653 -0.50659 0.35955 -0.52277 C 0.56337 -0.54243 0.75417 -0.36115 0.76684 -0.09734 C 0.78316 0.1452 0.64914 0.37249 0.45799 0.3889 C 0.28368 0.40139 0.11771 0.25064 0.10487 0.02451 C 0.09237 -0.18266 0.20382 -0.37711 0.36563 -0.39376 C 0.51528 -0.40532 0.65556 -0.2793 0.66528 -0.08971 C 0.67448 0.08093 0.58525 0.24624 0.45157 0.25526 C 0.33073 0.26705 0.21667 0.16971 0.2066 0.01596 C 0.20052 -0.12208 0.26737 -0.25549 0.3724 -0.26358 C 0.46476 -0.27191 0.55643 -0.19884 0.56337 -0.08092 C 0.56962 0.02058 0.52171 0.11723 0.44514 0.12555 C 0.3816 0.13341 0.31476 0.08902 0.31146 0.00809 C 0.30556 -0.05688 0.33073 -0.12647 0.3783 -0.13364 C 0.41684 -0.13364 0.45504 -0.11815 0.46129 -0.07329 C 0.46476 -0.04462 0.45799 -0.01618 0.43941 -0.00416 C 0.42952 -2.19652999999993E-006 0.42309 -2.19652999999993E-006 0.41389 -0.00416 E">
                                      <p:cBhvr>
                                        <p:cTn id="225" dur="5000" fill="hold"/>
                                        <p:tgtEl>
                                          <p:spTgt spid="6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Oval 2"/>
          <p:cNvSpPr/>
          <p:nvPr/>
        </p:nvSpPr>
        <p:spPr>
          <a:xfrm>
            <a:off x="5076720" y="3284640"/>
            <a:ext cx="43200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Нижний колонтитул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МБОУ СОШ № 40                       Вазагова З.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path" presetID="2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15607E-006 C 0.0224 -0.03792 0.04566 -0.08 0.06788 -0.1341 C 0.12952 -0.2867 0.14583 -0.43561 0.10087 -0.45826 C 0.05521 -0.48509 -0.03281 -0.3778 -0.0941 -0.22543 C -0.12656 -0.14474 -0.14583 -0.06844 -0.1526 -0.01063 C -0.16215 0.03491 -0.16528 0.08046 -0.16528 0.13434 C -0.16528 0.30613 -0.12326 0.44832 -0.07396 0.44832 C -0.02569 0.44832 0.01632 0.30613 0.01632 0.13434 C 0.01632 0.05411 0.00695 -0.02266 -0.00937 -0.07561 C -0.01632 -0.12185 -0.03281 -0.17156 -0.05173 -0.2215 C -0.11649 -0.3778 -0.20434 -0.48509 -0.25035 -0.45826 C -0.29514 -0.43191 -0.27864 -0.2867 -0.21389 -0.12994 C -0.18802 -0.05665 -0.1526 0.00416 -0.11649 0.04601 C -0.09045 0.08486 -0.06128 0.11931 -0.02257 0.15306 C 0.0941 0.26382 0.21059 0.31376 0.2434 0.26798 C 0.27274 0.2222 0.20799 0.09595 0.0908 -0.01063 C 0.04236 -0.05665 -0.00937 -0.09133 -0.05173 -0.11422 C -0.09045 -0.13711 -0.13976 -0.15653 -0.19132 -0.16763 C -0.33385 -0.20624 -0.45729 -0.19468 -0.46684 -0.1341 C -0.47951 -0.07561 -0.37292 -1.15607000000101E-006 -0.23038 0.03885 C -0.16528 0.05411 -0.10364 0.06127 -0.05503 0.05757 C -0.01302 0.05757 0.03247 0.05041 0.08125 0.03885 C 0.22379 -1.15607000000101E-006 0.3316 -0.08 0.31771 -0.13711 C 0.30816 -0.19468 0.18472 -0.20971 0.04236 -0.17156 C -0.02569 -0.15214 -0.08785 -0.12578 -0.12951 -0.09549 C -0.16528 -0.07214 -0.20087 -0.04578 -0.23993 -0.01063 C -0.35347 0.10012 -0.42187 0.2222 -0.38906 0.26798 C -0.35972 0.31376 -0.23993 0.26382 -0.12656 0.15676 C -0.07153 0.10358 -0.02569 0.05041 -1.38889E-006 -1.15607E-006 Z">
                                      <p:cBhvr>
                                        <p:cTn id="238" dur="5000" fill="hold"/>
                                        <p:tgtEl>
                                          <p:spTgt spid="6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ubTitle"/>
          </p:nvPr>
        </p:nvSpPr>
        <p:spPr>
          <a:xfrm>
            <a:off x="713880" y="2785680"/>
            <a:ext cx="75726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646b86"/>
                </a:solidFill>
                <a:latin typeface="Times New Roman"/>
                <a:ea typeface="Times New Roman"/>
              </a:rPr>
              <a:t>НАЧИНАЯ С 20 ВЕКА МНОГОЧЛЕНЫ СТАЛИ ИСПОЛЬЗОВАТЬСЯ ДЛЯ НОВЫХ ЦЕЛЕЙ. НУЖНО БЫЛО БЫСТРО И ЭФФЕКТИВНО ПЕРЕДАВАТЬ ИНФОРМАЦИЮ. МНОГОЧЛЕНЫ СОДЕРЖАТ В СЕБЕ СИМВОЛЬНЫЕ ИСЧИСЛЕНИЯ, КОТОРЫЕ СТАЛИ ИСПОЛЬЗОВАТЬ КАК СПОСОБ ПЕРЕДАЧИ ДАННЫХ. СООБЩЕНИЕ ДОЛЖНО БЫЛО СОДЕРЖАТЬ В СЕБЕ ПОСЛЕДОВАТЕЛЬНОСТЬ СИМВОЛОВ, КОТОРОЕ ПОТОМ ПЕРЕДАЛИ ПО КАНАЛУ СВЯЗИ. ОДНАКО ПРИ ПЕРЕДАЧЕ ИНФОРМАЦИИ МОГЛИ ВОЗНИКНУТЬ ОШИБКИ. ПОЭТОМУ БЫЛА ПРЕДЛОЖЕНА ИДЕЯ КОДИРОВАНИЯ СООБЩЕНИЯ, КОТОРУЮ УСПЕШНО ИСПОЛЬЗУЮТ И В НАСТОЯЩЕЕ ВРЕМЯ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121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16349"/>
                </a:solidFill>
                <a:latin typeface="Georgia"/>
              </a:rPr>
              <a:t>А где многочлен используется?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Нижний колонтитул 2"/>
          <p:cNvSpPr/>
          <p:nvPr/>
        </p:nvSpPr>
        <p:spPr>
          <a:xfrm>
            <a:off x="304920" y="6410160"/>
            <a:ext cx="649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МБОУ СОШ № 40                       Вазагова З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285840" y="2819160"/>
            <a:ext cx="8572320" cy="32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646b86"/>
                </a:solidFill>
                <a:latin typeface="Georgia"/>
              </a:rPr>
              <a:t>НАУЧИТЬСЯ УМНОЖАТЬ МНОГОЧЛЕН НА МНОГОЧЛЕН И ПРИМЕНЯТЬ ЭТО ПРИ РЕШЕНИИ РАЗЛИЧНЫХ ЗАДАЧ.</a:t>
            </a:r>
            <a:endParaRPr b="0" lang="en-US" sz="37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title"/>
          </p:nvPr>
        </p:nvSpPr>
        <p:spPr>
          <a:xfrm>
            <a:off x="785880" y="35676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Georgia"/>
              </a:rPr>
              <a:t>Цель урока: </a:t>
            </a:r>
            <a:endParaRPr b="0" lang="en-US" sz="6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Нижний колонтитул 2"/>
          <p:cNvSpPr/>
          <p:nvPr/>
        </p:nvSpPr>
        <p:spPr>
          <a:xfrm>
            <a:off x="304920" y="6410160"/>
            <a:ext cx="563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БОУ СОШ № 40                       Вазагова З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20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713880" y="2785680"/>
            <a:ext cx="75726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46b86"/>
                </a:solidFill>
                <a:latin typeface="Georgia"/>
              </a:rPr>
              <a:t>1.ПЕРЕСТАВЛЕНЫ ЧЁТНЫЕ И НЕЧЁТНЫЕ БУКВЫ В СЛОВАХ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46b86"/>
                </a:solidFill>
                <a:latin typeface="Georgia"/>
              </a:rPr>
              <a:t>2.КАЖДАЯ БУКВА ЗАМЕНЕНА НА СЛЕДУЮЩУЮ ЗА НЕЙ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235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16349"/>
                </a:solidFill>
                <a:latin typeface="Times New Roman"/>
                <a:ea typeface="Times New Roman"/>
              </a:rPr>
              <a:t>Расшифруйте послание и определите способ кодировки</a:t>
            </a:r>
            <a:br>
              <a:rPr sz="2000"/>
            </a:br>
            <a:r>
              <a:rPr b="0" lang="ru-RU" sz="2800" spc="-1" strike="noStrike">
                <a:solidFill>
                  <a:srgbClr val="0070c0"/>
                </a:solidFill>
                <a:latin typeface="Georgia"/>
              </a:rPr>
              <a:t>Математика уступает свои </a:t>
            </a:r>
            <a:r>
              <a:rPr b="1" lang="ru-RU" sz="2800" spc="-1" strike="noStrike">
                <a:solidFill>
                  <a:srgbClr val="0070c0"/>
                </a:solidFill>
                <a:latin typeface="Georgia"/>
              </a:rPr>
              <a:t>ркпесоит</a:t>
            </a:r>
            <a:r>
              <a:rPr b="0" lang="ru-RU" sz="2800" spc="-1" strike="noStrike">
                <a:solidFill>
                  <a:srgbClr val="0070c0"/>
                </a:solidFill>
                <a:latin typeface="Georgia"/>
              </a:rPr>
              <a:t> лишь </a:t>
            </a:r>
            <a:r>
              <a:rPr b="1" lang="ru-RU" sz="2800" spc="-1" strike="noStrike">
                <a:solidFill>
                  <a:srgbClr val="0070c0"/>
                </a:solidFill>
                <a:latin typeface="Georgia"/>
              </a:rPr>
              <a:t>исьлынм</a:t>
            </a:r>
            <a:r>
              <a:rPr b="0" lang="ru-RU" sz="2800" spc="-1" strike="noStrike">
                <a:solidFill>
                  <a:srgbClr val="0070c0"/>
                </a:solidFill>
                <a:latin typeface="Georgia"/>
              </a:rPr>
              <a:t> и </a:t>
            </a:r>
            <a:r>
              <a:rPr b="1" lang="ru-RU" sz="2800" spc="-1" strike="noStrike">
                <a:solidFill>
                  <a:srgbClr val="0070c0"/>
                </a:solidFill>
                <a:latin typeface="Georgia"/>
              </a:rPr>
              <a:t>мслемы</a:t>
            </a:r>
            <a:r>
              <a:rPr b="0" lang="ru-RU" sz="2800" spc="-1" strike="noStrike">
                <a:solidFill>
                  <a:srgbClr val="0070c0"/>
                </a:solidFill>
                <a:latin typeface="Georgia"/>
              </a:rPr>
              <a:t>. (А.П. Конфорович)</a:t>
            </a:r>
            <a:br>
              <a:rPr sz="2000"/>
            </a:b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4" name="Нижний колонтитул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МБОУ СОШ № 40                       Вазагова З.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12"/>
          <p:cNvSpPr/>
          <p:nvPr/>
        </p:nvSpPr>
        <p:spPr>
          <a:xfrm>
            <a:off x="928800" y="655200"/>
            <a:ext cx="8572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6" name="Object 13"/>
              <p:cNvSpPr txBox="1"/>
              <p:nvPr/>
            </p:nvSpPr>
            <p:spPr>
              <a:xfrm>
                <a:off x="0" y="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97" name="Заголовок 1"/>
          <p:cNvSpPr/>
          <p:nvPr/>
        </p:nvSpPr>
        <p:spPr>
          <a:xfrm>
            <a:off x="30168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16349"/>
                </a:solidFill>
                <a:latin typeface="Monotype Corsiva"/>
                <a:ea typeface="Times New Roman"/>
              </a:rPr>
              <a:t>Упростите выражения и найдите соответствующий отве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Содержимое 2"/>
          <p:cNvSpPr/>
          <p:nvPr/>
        </p:nvSpPr>
        <p:spPr>
          <a:xfrm>
            <a:off x="314280" y="1747800"/>
            <a:ext cx="4038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а) (4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y</a:t>
            </a:r>
            <a:r>
              <a:rPr b="0" lang="ru-RU" sz="2400" spc="-1" strike="noStrike" baseline="30000">
                <a:solidFill>
                  <a:srgbClr val="000000"/>
                </a:solidFill>
                <a:latin typeface="Georgia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+15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)-(17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y</a:t>
            </a:r>
            <a:r>
              <a:rPr b="0" lang="ru-RU" sz="2400" spc="-1" strike="noStrike" baseline="30000">
                <a:solidFill>
                  <a:srgbClr val="000000"/>
                </a:solidFill>
                <a:latin typeface="Georgia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б) -2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x</a:t>
            </a:r>
            <a:r>
              <a:rPr b="0" lang="ru-RU" sz="2400" spc="-1" strike="noStrike" baseline="30000">
                <a:solidFill>
                  <a:srgbClr val="000000"/>
                </a:solidFill>
                <a:latin typeface="Georgia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-7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-3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в) (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+8)(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-1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г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) -(a-2)(-4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eorgia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-3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eorgia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Содержимое 3"/>
          <p:cNvSpPr/>
          <p:nvPr/>
        </p:nvSpPr>
        <p:spPr>
          <a:xfrm>
            <a:off x="4800600" y="1731960"/>
            <a:ext cx="4038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а) -2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Georgia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+14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Georgia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+6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б) -4а</a:t>
            </a:r>
            <a:r>
              <a:rPr b="0" lang="ru-RU" sz="2400" spc="-1" strike="noStrike" baseline="30000">
                <a:solidFill>
                  <a:srgbClr val="000000"/>
                </a:solidFill>
                <a:latin typeface="Georgia"/>
                <a:ea typeface="Times New Roman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-5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eorgia"/>
                <a:ea typeface="Times New Roman"/>
              </a:rPr>
              <a:t>3</a:t>
            </a:r>
            <a:r>
              <a:rPr b="0" lang="ru-RU" sz="2400" spc="-1" strike="noStrike" baseline="30000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-6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eorgia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в)ху–х+8у-8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г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 5у</a:t>
            </a:r>
            <a:r>
              <a:rPr b="0" lang="ru-RU" sz="2400" spc="-1" strike="noStrike" baseline="30000">
                <a:solidFill>
                  <a:srgbClr val="000000"/>
                </a:solidFill>
                <a:latin typeface="Georgia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-2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Нижний колонтитул 1"/>
          <p:cNvSpPr/>
          <p:nvPr/>
        </p:nvSpPr>
        <p:spPr>
          <a:xfrm>
            <a:off x="304920" y="6410160"/>
            <a:ext cx="651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МБОУ СОШ № 40                       Вазагова З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6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6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6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157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16349"/>
                </a:solidFill>
                <a:latin typeface="Georgia"/>
              </a:rPr>
              <a:t>Работаем с учебником №295 (1 ст.)</a:t>
            </a:r>
            <a:endParaRPr b="0" lang="en-US" sz="5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2" name="Rectangle 6"/>
          <p:cNvSpPr/>
          <p:nvPr/>
        </p:nvSpPr>
        <p:spPr>
          <a:xfrm>
            <a:off x="428760" y="2657520"/>
            <a:ext cx="76435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а.)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20m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+ 38mn+14n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в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.)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4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-9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д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.)  -2a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+ab+3b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ж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.)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a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+2a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b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+b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и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)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2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+4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5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-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-2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Нижний колонтитул 1"/>
          <p:cNvSpPr/>
          <p:nvPr/>
        </p:nvSpPr>
        <p:spPr>
          <a:xfrm>
            <a:off x="304920" y="6410160"/>
            <a:ext cx="750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МБОУ СОШ № 40                       Вазагова З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d16349"/>
                </a:solidFill>
                <a:latin typeface="Georgia"/>
              </a:rPr>
              <a:t>Домашнее задание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. 5.6 Произведение многочленов ( определение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№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94 (2 ст), №295 (2ст), индивидуально 296(з,к,м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Нижний колонтитул 1"/>
          <p:cNvSpPr/>
          <p:nvPr/>
        </p:nvSpPr>
        <p:spPr>
          <a:xfrm>
            <a:off x="304920" y="6410160"/>
            <a:ext cx="649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МБОУ СОШ № 40                       Вазагова З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d16349"/>
                </a:solidFill>
                <a:latin typeface="Georgia"/>
              </a:rPr>
              <a:t>Итог урока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Что нового я сегодня узнал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Что было самым трудным на уроке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Что было самым интересным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Чему я научился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Доволен ли я своей работай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9" name="Нижний колонтитул 1"/>
          <p:cNvSpPr/>
          <p:nvPr/>
        </p:nvSpPr>
        <p:spPr>
          <a:xfrm>
            <a:off x="304920" y="6410160"/>
            <a:ext cx="693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МБОУ СОШ № 40                       Вазагова З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c00000"/>
                </a:solidFill>
                <a:latin typeface="Georgia"/>
              </a:rPr>
              <a:t>Рефлексия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Я строил храм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Я выполнял свою работу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Я возил тяжелые камн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2" name="Блок-схема: извлечение 3"/>
          <p:cNvSpPr/>
          <p:nvPr/>
        </p:nvSpPr>
        <p:spPr>
          <a:xfrm>
            <a:off x="6500880" y="1571760"/>
            <a:ext cx="1071360" cy="714240"/>
          </a:xfrm>
          <a:prstGeom prst="flowChartExtract">
            <a:avLst/>
          </a:prstGeom>
          <a:solidFill>
            <a:srgbClr val="d16349"/>
          </a:solidFill>
          <a:ln w="478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Равнобедренный треугольник 4"/>
          <p:cNvSpPr/>
          <p:nvPr/>
        </p:nvSpPr>
        <p:spPr>
          <a:xfrm>
            <a:off x="6429240" y="2857680"/>
            <a:ext cx="1214640" cy="6426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478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Равнобедренный треугольник 5"/>
          <p:cNvSpPr/>
          <p:nvPr/>
        </p:nvSpPr>
        <p:spPr>
          <a:xfrm>
            <a:off x="6500880" y="3929040"/>
            <a:ext cx="1285920" cy="5716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478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Нижний колонтитул 1"/>
          <p:cNvSpPr/>
          <p:nvPr/>
        </p:nvSpPr>
        <p:spPr>
          <a:xfrm>
            <a:off x="304920" y="6410160"/>
            <a:ext cx="6838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МБОУ СОШ № 40                       Вазагова З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1680" y="500040"/>
            <a:ext cx="7772400" cy="583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b9899"/>
                </a:solidFill>
                <a:latin typeface="Georgia"/>
              </a:rPr>
              <a:t> </a:t>
            </a:r>
            <a:r>
              <a:rPr b="0" lang="ru-RU" sz="3600" spc="-1" strike="noStrike">
                <a:solidFill>
                  <a:srgbClr val="595959"/>
                </a:solidFill>
                <a:latin typeface="Georgia"/>
              </a:rPr>
              <a:t>В 3 веке нашей эры греческий математик Деофант Александрийский рассмотрел понятие «одночлена». В свое время он дал следующее определение:</a:t>
            </a:r>
            <a:br>
              <a:rPr sz="3600"/>
            </a:br>
            <a:r>
              <a:rPr b="0" lang="ru-RU" sz="3600" spc="-1" strike="noStrike">
                <a:solidFill>
                  <a:srgbClr val="595959"/>
                </a:solidFill>
                <a:latin typeface="Georgia"/>
              </a:rPr>
              <a:t>      Одночлен – это алгебраическое выражение, являющееся произведением конечного числа чисел и букв.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Нижний колонтитул 1"/>
          <p:cNvSpPr/>
          <p:nvPr/>
        </p:nvSpPr>
        <p:spPr>
          <a:xfrm>
            <a:off x="304920" y="6410160"/>
            <a:ext cx="599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МБОУ СОШ № 40                       Вазагова З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d16349"/>
                </a:solidFill>
                <a:latin typeface="Georgia"/>
              </a:rPr>
              <a:t>Актуализация</a:t>
            </a:r>
            <a:r>
              <a:rPr b="0" lang="en-US" sz="3300" spc="-1" strike="noStrike">
                <a:solidFill>
                  <a:srgbClr val="d16349"/>
                </a:solidFill>
                <a:latin typeface="Georgia"/>
              </a:rPr>
              <a:t> </a:t>
            </a:r>
            <a:br>
              <a:rPr sz="3300"/>
            </a:br>
            <a:r>
              <a:rPr b="0" lang="ru-RU" sz="3200" spc="-1" strike="noStrike">
                <a:solidFill>
                  <a:srgbClr val="d16349"/>
                </a:solidFill>
                <a:latin typeface="Georgia"/>
              </a:rPr>
              <a:t>задание 1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928800" y="1527120"/>
            <a:ext cx="3571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∙(-9)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4∙(-8a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7t∙9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3y∙(-7y)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a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(-3a)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4" name="Нижний колонтитул 1"/>
          <p:cNvSpPr/>
          <p:nvPr/>
        </p:nvSpPr>
        <p:spPr>
          <a:xfrm>
            <a:off x="304920" y="6410160"/>
            <a:ext cx="599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МБОУ СОШ № 40                       Вазагова З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7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d16349"/>
                </a:solidFill>
                <a:latin typeface="Georgia"/>
              </a:rPr>
              <a:t>Актуализация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-6∙(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a+8)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x∙(5x-17)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3x∙(x-21)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-7a∙(2a-3)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(x+2)∙(y+3)</a:t>
            </a: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7" name="Нижний колонтитул 1"/>
          <p:cNvSpPr/>
          <p:nvPr/>
        </p:nvSpPr>
        <p:spPr>
          <a:xfrm>
            <a:off x="304920" y="6410160"/>
            <a:ext cx="700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МБОУ СОШ № 40                       Вазагова З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28" name="Object 1"/>
              <p:cNvSpPr txBox="1"/>
              <p:nvPr/>
            </p:nvSpPr>
            <p:spPr>
              <a:xfrm>
                <a:off x="0" y="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629" name=""/>
          <p:cNvGraphicFramePr/>
          <p:nvPr/>
        </p:nvGraphicFramePr>
        <p:xfrm>
          <a:off x="2143080" y="571680"/>
          <a:ext cx="4714920" cy="3294000"/>
        </p:xfrm>
        <a:graphic>
          <a:graphicData uri="http://schemas.openxmlformats.org/drawingml/2006/table">
            <a:tbl>
              <a:tblPr/>
              <a:tblGrid>
                <a:gridCol w="173520"/>
                <a:gridCol w="1102320"/>
                <a:gridCol w="3154320"/>
                <a:gridCol w="284760"/>
              </a:tblGrid>
              <a:tr h="2030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3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0" name="Rectangle 3"/>
          <p:cNvSpPr/>
          <p:nvPr/>
        </p:nvSpPr>
        <p:spPr>
          <a:xfrm>
            <a:off x="1857240" y="133920"/>
            <a:ext cx="550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b050"/>
                </a:solidFill>
                <a:latin typeface="Arial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  <a:ea typeface="Times New Roman"/>
              </a:rPr>
              <a:t>а</a:t>
            </a:r>
            <a:r>
              <a:rPr b="0" lang="en-US" sz="2000" spc="-1" strike="noStrike">
                <a:solidFill>
                  <a:srgbClr val="00b05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1" name="Object 2"/>
              <p:cNvSpPr txBox="1"/>
              <p:nvPr/>
            </p:nvSpPr>
            <p:spPr>
              <a:xfrm>
                <a:off x="0" y="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32" name="Rectangle 4"/>
          <p:cNvSpPr/>
          <p:nvPr/>
        </p:nvSpPr>
        <p:spPr>
          <a:xfrm>
            <a:off x="2000160" y="3646080"/>
            <a:ext cx="564372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b050"/>
                </a:solidFill>
                <a:latin typeface="Arial"/>
                <a:ea typeface="Times New Roman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</a:t>
            </a:r>
            <a:r>
              <a:rPr b="0" lang="en-US" sz="2000" spc="-1" strike="noStrike">
                <a:solidFill>
                  <a:srgbClr val="00b050"/>
                </a:solidFill>
                <a:latin typeface="Arial"/>
                <a:ea typeface="Times New Roman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5"/>
          <p:cNvSpPr/>
          <p:nvPr/>
        </p:nvSpPr>
        <p:spPr>
          <a:xfrm>
            <a:off x="285840" y="4078440"/>
            <a:ext cx="857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посо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S= (a+ b)(c+ d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посо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S=S1+S2+S3+S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=ad + ac+ bd + 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a+ b)(c+ d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 +ac + bd + 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Box 7"/>
          <p:cNvSpPr/>
          <p:nvPr/>
        </p:nvSpPr>
        <p:spPr>
          <a:xfrm>
            <a:off x="1928880" y="10717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8"/>
          <p:cNvSpPr/>
          <p:nvPr/>
        </p:nvSpPr>
        <p:spPr>
          <a:xfrm>
            <a:off x="1928880" y="292896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Нижний колонтитул 1"/>
          <p:cNvSpPr/>
          <p:nvPr/>
        </p:nvSpPr>
        <p:spPr>
          <a:xfrm>
            <a:off x="304920" y="6308640"/>
            <a:ext cx="6788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МБОУ СОШ № 40                       Вазагова З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357120" y="2819520"/>
            <a:ext cx="8786880" cy="3109680"/>
          </a:xfrm>
          <a:prstGeom prst="rect">
            <a:avLst/>
          </a:prstGeom>
          <a:solidFill>
            <a:srgbClr val="c5d1d7"/>
          </a:solidFill>
          <a:ln w="0">
            <a:noFill/>
          </a:ln>
        </p:spPr>
        <p:txBody>
          <a:bodyPr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99"/>
                </a:solidFill>
                <a:latin typeface="Times New Roman"/>
              </a:rPr>
              <a:t>Я многочлен от слова </a:t>
            </a:r>
            <a:r>
              <a:rPr b="0" i="1" lang="ru-RU" sz="3600" spc="-1" strike="noStrike">
                <a:solidFill>
                  <a:srgbClr val="00a3d6"/>
                </a:solidFill>
                <a:latin typeface="Times New Roman"/>
              </a:rPr>
              <a:t>«много»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99"/>
                </a:solidFill>
                <a:latin typeface="Times New Roman"/>
              </a:rPr>
              <a:t>Во мне всегда сидит тревога: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a3d6"/>
                </a:solidFill>
                <a:latin typeface="Times New Roman"/>
              </a:rPr>
              <a:t>Как</a:t>
            </a:r>
            <a:r>
              <a:rPr b="0" i="1" lang="ru-RU" sz="3600" spc="-1" strike="noStrike">
                <a:solidFill>
                  <a:srgbClr val="000099"/>
                </a:solidFill>
                <a:latin typeface="Times New Roman"/>
              </a:rPr>
              <a:t> одночлены все собрать?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99"/>
                </a:solidFill>
                <a:latin typeface="Times New Roman"/>
              </a:rPr>
              <a:t>В какую </a:t>
            </a:r>
            <a:r>
              <a:rPr b="0" i="1" lang="ru-RU" sz="3600" spc="-1" strike="noStrike">
                <a:solidFill>
                  <a:srgbClr val="00a3d6"/>
                </a:solidFill>
                <a:latin typeface="Times New Roman"/>
              </a:rPr>
              <a:t>сумму </a:t>
            </a:r>
            <a:r>
              <a:rPr b="0" i="1" lang="ru-RU" sz="3600" spc="-1" strike="noStrike">
                <a:solidFill>
                  <a:srgbClr val="000099"/>
                </a:solidFill>
                <a:latin typeface="Times New Roman"/>
              </a:rPr>
              <a:t>записать?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title"/>
          </p:nvPr>
        </p:nvSpPr>
        <p:spPr>
          <a:xfrm>
            <a:off x="108000" y="380520"/>
            <a:ext cx="8856720" cy="1752840"/>
          </a:xfrm>
          <a:prstGeom prst="rect">
            <a:avLst/>
          </a:prstGeom>
          <a:solidFill>
            <a:srgbClr val="c5d1d7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Times New Roman"/>
              </a:rPr>
              <a:t>Что называется многочленом?</a:t>
            </a:r>
            <a:r>
              <a:rPr b="0" lang="ru-RU" sz="4400" spc="-1" strike="noStrike">
                <a:solidFill>
                  <a:srgbClr val="000099"/>
                </a:solidFill>
                <a:latin typeface="Tahoma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9" name="TextBox 3"/>
          <p:cNvSpPr/>
          <p:nvPr/>
        </p:nvSpPr>
        <p:spPr>
          <a:xfrm>
            <a:off x="-140040" y="1785960"/>
            <a:ext cx="96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Многочленом называется сумма одночле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Нижний колонтитул 2"/>
          <p:cNvSpPr/>
          <p:nvPr/>
        </p:nvSpPr>
        <p:spPr>
          <a:xfrm>
            <a:off x="304920" y="6308640"/>
            <a:ext cx="6427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МБОУ СОШ № 40                       Вазагова З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1357200" y="3857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 Unicode MS"/>
              </a:rPr>
              <a:t>(</a:t>
            </a:r>
            <a:r>
              <a:rPr b="1" i="1" lang="en-US" sz="3200" spc="-1" strike="noStrike">
                <a:solidFill>
                  <a:srgbClr val="000099"/>
                </a:solidFill>
                <a:latin typeface="Arial Unicode MS"/>
              </a:rPr>
              <a:t>a</a:t>
            </a:r>
            <a:r>
              <a:rPr b="1" i="1" lang="en-US" sz="3200" spc="-1" strike="noStrike">
                <a:solidFill>
                  <a:srgbClr val="000099"/>
                </a:solidFill>
                <a:latin typeface="Century Schoolbook"/>
              </a:rPr>
              <a:t>+b</a:t>
            </a:r>
            <a:r>
              <a:rPr b="1" i="1" lang="ru-RU" sz="3200" spc="-1" strike="noStrike">
                <a:solidFill>
                  <a:srgbClr val="000099"/>
                </a:solidFill>
                <a:latin typeface="Century Schoolbook"/>
              </a:rPr>
              <a:t>)</a:t>
            </a:r>
            <a:r>
              <a:rPr b="1" i="1" lang="en-US" sz="3200" spc="-1" strike="noStrike">
                <a:solidFill>
                  <a:srgbClr val="000099"/>
                </a:solidFill>
                <a:latin typeface="Century Schoolbook"/>
              </a:rPr>
              <a:t>(c+d) =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Century Schoolbook"/>
              </a:rPr>
              <a:t> </a:t>
            </a:r>
            <a:r>
              <a:rPr b="1" i="1" lang="ru-RU" sz="3200" spc="-1" strike="noStrike">
                <a:solidFill>
                  <a:srgbClr val="000099"/>
                </a:solidFill>
                <a:latin typeface="Century Schoolbook"/>
              </a:rPr>
              <a:t>=</a:t>
            </a:r>
            <a:r>
              <a:rPr b="1" i="1" lang="en-US" sz="3200" spc="-1" strike="noStrike">
                <a:solidFill>
                  <a:srgbClr val="000099"/>
                </a:solidFill>
                <a:latin typeface="Century Schoolbook"/>
              </a:rPr>
              <a:t> ac + ad + bc + bd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title"/>
          </p:nvPr>
        </p:nvSpPr>
        <p:spPr>
          <a:xfrm>
            <a:off x="785880" y="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d16349"/>
                </a:solidFill>
                <a:latin typeface="Times New Roman"/>
              </a:rPr>
              <a:t>Правило </a:t>
            </a:r>
            <a:r>
              <a:rPr b="1" i="1" lang="en-US" sz="4200" spc="-1" strike="noStrike">
                <a:solidFill>
                  <a:srgbClr val="d16349"/>
                </a:solidFill>
                <a:latin typeface="Times New Roman"/>
              </a:rPr>
              <a:t>(“</a:t>
            </a:r>
            <a:r>
              <a:rPr b="1" i="1" lang="ru-RU" sz="4200" spc="-1" strike="noStrike">
                <a:solidFill>
                  <a:srgbClr val="d16349"/>
                </a:solidFill>
                <a:latin typeface="Times New Roman"/>
              </a:rPr>
              <a:t>фонтана</a:t>
            </a:r>
            <a:r>
              <a:rPr b="1" i="1" lang="en-US" sz="4200" spc="-1" strike="noStrike">
                <a:solidFill>
                  <a:srgbClr val="d16349"/>
                </a:solidFill>
                <a:latin typeface="Times New Roman"/>
              </a:rPr>
              <a:t>”)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3" name="AutoShape 6"/>
          <p:cNvSpPr/>
          <p:nvPr/>
        </p:nvSpPr>
        <p:spPr>
          <a:xfrm>
            <a:off x="3429000" y="3500280"/>
            <a:ext cx="1571760" cy="714600"/>
          </a:xfrm>
          <a:custGeom>
            <a:avLst/>
            <a:gdLst>
              <a:gd name="textAreaLeft" fmla="*/ 230040 w 1571760"/>
              <a:gd name="textAreaRight" fmla="*/ 1341720 w 1571760"/>
              <a:gd name="textAreaTop" fmla="*/ 104400 h 714600"/>
              <a:gd name="textAreaBottom" fmla="*/ 610200 h 714600"/>
            </a:gdLst>
            <a:ahLst/>
            <a:rect l="textAreaLeft" t="textAreaTop" r="textAreaRight" b="textAreaBottom"/>
            <a:pathLst>
              <a:path w="21600" h="21600">
                <a:moveTo>
                  <a:pt x="20771" y="8192"/>
                </a:moveTo>
                <a:cubicBezTo>
                  <a:pt x="19585" y="3656"/>
                  <a:pt x="15487" y="493"/>
                  <a:pt x="10800" y="493"/>
                </a:cubicBezTo>
                <a:cubicBezTo>
                  <a:pt x="5107" y="493"/>
                  <a:pt x="493" y="5107"/>
                  <a:pt x="493" y="10800"/>
                </a:cubicBezTo>
                <a:cubicBezTo>
                  <a:pt x="492" y="11358"/>
                  <a:pt x="538" y="11915"/>
                  <a:pt x="628" y="12466"/>
                </a:cubicBezTo>
                <a:lnTo>
                  <a:pt x="142" y="12546"/>
                </a:lnTo>
                <a:cubicBezTo>
                  <a:pt x="47" y="11968"/>
                  <a:pt x="0" y="11384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5712" y="-1"/>
                  <a:pt x="20005" y="3314"/>
                  <a:pt x="21248" y="8067"/>
                </a:cubicBezTo>
                <a:lnTo>
                  <a:pt x="23860" y="7384"/>
                </a:lnTo>
                <a:lnTo>
                  <a:pt x="21756" y="10980"/>
                </a:lnTo>
                <a:lnTo>
                  <a:pt x="18159" y="8875"/>
                </a:lnTo>
                <a:lnTo>
                  <a:pt x="20771" y="8192"/>
                </a:lnTo>
                <a:close/>
              </a:path>
            </a:pathLst>
          </a:custGeom>
          <a:solidFill>
            <a:srgbClr val="00a3d6"/>
          </a:solidFill>
          <a:ln w="9360">
            <a:solidFill>
              <a:srgbClr val="00a3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AutoShape 6"/>
          <p:cNvSpPr/>
          <p:nvPr/>
        </p:nvSpPr>
        <p:spPr>
          <a:xfrm>
            <a:off x="3429000" y="3571920"/>
            <a:ext cx="1000080" cy="714240"/>
          </a:xfrm>
          <a:custGeom>
            <a:avLst/>
            <a:gdLst>
              <a:gd name="textAreaLeft" fmla="*/ 146160 w 1000080"/>
              <a:gd name="textAreaRight" fmla="*/ 853920 w 1000080"/>
              <a:gd name="textAreaTop" fmla="*/ 104400 h 714240"/>
              <a:gd name="textAreaBottom" fmla="*/ 609840 h 714240"/>
            </a:gdLst>
            <a:ahLst/>
            <a:rect l="textAreaLeft" t="textAreaTop" r="textAreaRight" b="textAreaBottom"/>
            <a:pathLst>
              <a:path w="21600" h="21600">
                <a:moveTo>
                  <a:pt x="20771" y="8192"/>
                </a:moveTo>
                <a:cubicBezTo>
                  <a:pt x="19585" y="3656"/>
                  <a:pt x="15487" y="493"/>
                  <a:pt x="10800" y="493"/>
                </a:cubicBezTo>
                <a:cubicBezTo>
                  <a:pt x="5107" y="493"/>
                  <a:pt x="493" y="5107"/>
                  <a:pt x="493" y="10800"/>
                </a:cubicBezTo>
                <a:cubicBezTo>
                  <a:pt x="492" y="11358"/>
                  <a:pt x="538" y="11915"/>
                  <a:pt x="628" y="12466"/>
                </a:cubicBezTo>
                <a:lnTo>
                  <a:pt x="142" y="12546"/>
                </a:lnTo>
                <a:cubicBezTo>
                  <a:pt x="47" y="11968"/>
                  <a:pt x="0" y="11384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5712" y="-1"/>
                  <a:pt x="20005" y="3314"/>
                  <a:pt x="21248" y="8067"/>
                </a:cubicBezTo>
                <a:lnTo>
                  <a:pt x="23860" y="7384"/>
                </a:lnTo>
                <a:lnTo>
                  <a:pt x="21756" y="10980"/>
                </a:lnTo>
                <a:lnTo>
                  <a:pt x="18159" y="8875"/>
                </a:lnTo>
                <a:lnTo>
                  <a:pt x="20771" y="8192"/>
                </a:lnTo>
                <a:close/>
              </a:path>
            </a:pathLst>
          </a:custGeom>
          <a:solidFill>
            <a:srgbClr val="00a3d6"/>
          </a:solidFill>
          <a:ln w="9360">
            <a:solidFill>
              <a:srgbClr val="00a3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AutoShape 9"/>
          <p:cNvSpPr/>
          <p:nvPr/>
        </p:nvSpPr>
        <p:spPr>
          <a:xfrm flipV="1">
            <a:off x="4071960" y="3929040"/>
            <a:ext cx="642960" cy="642960"/>
          </a:xfrm>
          <a:custGeom>
            <a:avLst/>
            <a:gdLst>
              <a:gd name="textAreaLeft" fmla="*/ 93960 w 642960"/>
              <a:gd name="textAreaRight" fmla="*/ 549000 w 642960"/>
              <a:gd name="textAreaTop" fmla="*/ 93960 h 642960"/>
              <a:gd name="textAreaBottom" fmla="*/ 549000 h 642960"/>
            </a:gdLst>
            <a:ahLst/>
            <a:rect l="textAreaLeft" t="textAreaTop" r="textAreaRight" b="textAreaBottom"/>
            <a:pathLst>
              <a:path w="21600" h="21600">
                <a:moveTo>
                  <a:pt x="20771" y="8192"/>
                </a:moveTo>
                <a:cubicBezTo>
                  <a:pt x="19585" y="3656"/>
                  <a:pt x="15487" y="493"/>
                  <a:pt x="10800" y="493"/>
                </a:cubicBezTo>
                <a:cubicBezTo>
                  <a:pt x="5107" y="493"/>
                  <a:pt x="493" y="5107"/>
                  <a:pt x="493" y="10800"/>
                </a:cubicBezTo>
                <a:cubicBezTo>
                  <a:pt x="492" y="10932"/>
                  <a:pt x="495" y="11065"/>
                  <a:pt x="500" y="11197"/>
                </a:cubicBezTo>
                <a:lnTo>
                  <a:pt x="8" y="11216"/>
                </a:lnTo>
                <a:cubicBezTo>
                  <a:pt x="2" y="11077"/>
                  <a:pt x="0" y="10938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5712" y="-1"/>
                  <a:pt x="20005" y="3314"/>
                  <a:pt x="21248" y="8067"/>
                </a:cubicBezTo>
                <a:lnTo>
                  <a:pt x="23860" y="7384"/>
                </a:lnTo>
                <a:lnTo>
                  <a:pt x="21756" y="10980"/>
                </a:lnTo>
                <a:lnTo>
                  <a:pt x="18159" y="8875"/>
                </a:lnTo>
                <a:lnTo>
                  <a:pt x="20771" y="8192"/>
                </a:lnTo>
                <a:close/>
              </a:path>
            </a:pathLst>
          </a:custGeom>
          <a:solidFill>
            <a:srgbClr val="ccb400"/>
          </a:solidFill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AutoShape 9"/>
          <p:cNvSpPr/>
          <p:nvPr/>
        </p:nvSpPr>
        <p:spPr>
          <a:xfrm flipV="1">
            <a:off x="4000680" y="3929040"/>
            <a:ext cx="1214280" cy="642960"/>
          </a:xfrm>
          <a:custGeom>
            <a:avLst/>
            <a:gdLst>
              <a:gd name="textAreaLeft" fmla="*/ 177840 w 1214280"/>
              <a:gd name="textAreaRight" fmla="*/ 1036440 w 1214280"/>
              <a:gd name="textAreaTop" fmla="*/ 93960 h 642960"/>
              <a:gd name="textAreaBottom" fmla="*/ 549000 h 642960"/>
            </a:gdLst>
            <a:ahLst/>
            <a:rect l="textAreaLeft" t="textAreaTop" r="textAreaRight" b="textAreaBottom"/>
            <a:pathLst>
              <a:path w="21600" h="21600">
                <a:moveTo>
                  <a:pt x="20771" y="8192"/>
                </a:moveTo>
                <a:cubicBezTo>
                  <a:pt x="19585" y="3656"/>
                  <a:pt x="15487" y="493"/>
                  <a:pt x="10800" y="493"/>
                </a:cubicBezTo>
                <a:cubicBezTo>
                  <a:pt x="5107" y="493"/>
                  <a:pt x="493" y="5107"/>
                  <a:pt x="493" y="10800"/>
                </a:cubicBezTo>
                <a:cubicBezTo>
                  <a:pt x="492" y="10932"/>
                  <a:pt x="495" y="11065"/>
                  <a:pt x="500" y="11197"/>
                </a:cubicBezTo>
                <a:lnTo>
                  <a:pt x="8" y="11216"/>
                </a:lnTo>
                <a:cubicBezTo>
                  <a:pt x="2" y="11077"/>
                  <a:pt x="0" y="10938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5712" y="-1"/>
                  <a:pt x="20005" y="3314"/>
                  <a:pt x="21248" y="8067"/>
                </a:cubicBezTo>
                <a:lnTo>
                  <a:pt x="23860" y="7384"/>
                </a:lnTo>
                <a:lnTo>
                  <a:pt x="21756" y="10980"/>
                </a:lnTo>
                <a:lnTo>
                  <a:pt x="18159" y="8875"/>
                </a:lnTo>
                <a:lnTo>
                  <a:pt x="20771" y="8192"/>
                </a:lnTo>
                <a:close/>
              </a:path>
            </a:pathLst>
          </a:custGeom>
          <a:solidFill>
            <a:srgbClr val="ccb400"/>
          </a:solidFill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12"/>
          <p:cNvSpPr/>
          <p:nvPr/>
        </p:nvSpPr>
        <p:spPr>
          <a:xfrm>
            <a:off x="2643120" y="5429160"/>
            <a:ext cx="865080" cy="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12"/>
          <p:cNvSpPr/>
          <p:nvPr/>
        </p:nvSpPr>
        <p:spPr>
          <a:xfrm>
            <a:off x="3857760" y="5429160"/>
            <a:ext cx="865080" cy="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12"/>
          <p:cNvSpPr/>
          <p:nvPr/>
        </p:nvSpPr>
        <p:spPr>
          <a:xfrm>
            <a:off x="4857840" y="5429160"/>
            <a:ext cx="865080" cy="0"/>
          </a:xfrm>
          <a:prstGeom prst="line">
            <a:avLst/>
          </a:prstGeom>
          <a:ln w="507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12"/>
          <p:cNvSpPr/>
          <p:nvPr/>
        </p:nvSpPr>
        <p:spPr>
          <a:xfrm>
            <a:off x="6143760" y="5429160"/>
            <a:ext cx="865080" cy="0"/>
          </a:xfrm>
          <a:prstGeom prst="line">
            <a:avLst/>
          </a:prstGeom>
          <a:ln w="507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Box 15"/>
          <p:cNvSpPr/>
          <p:nvPr/>
        </p:nvSpPr>
        <p:spPr>
          <a:xfrm>
            <a:off x="222120" y="981000"/>
            <a:ext cx="874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Чтобы умножить многочлен на многочлен нужно каждый член одного многочлена  умножить на  каждый член другого многочлена и полученные  произведения слож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Нижний колонтитул 2"/>
          <p:cNvSpPr/>
          <p:nvPr/>
        </p:nvSpPr>
        <p:spPr>
          <a:xfrm>
            <a:off x="304920" y="6410160"/>
            <a:ext cx="6270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МБОУ СОШ № 40                       Вазагова З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896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d16349"/>
                </a:solidFill>
                <a:latin typeface="Times New Roman"/>
              </a:rPr>
              <a:t>Не много из истории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54" name="Picture 4" descr="C:\Users\МБОУ СОШ 40\Pictures\5-johann-carl-friedrich-gauss-german-science-source.jpg"/>
          <p:cNvPicPr/>
          <p:nvPr/>
        </p:nvPicPr>
        <p:blipFill>
          <a:blip r:embed="rId1"/>
          <a:stretch/>
        </p:blipFill>
        <p:spPr>
          <a:xfrm>
            <a:off x="7429680" y="142920"/>
            <a:ext cx="1522080" cy="1827000"/>
          </a:xfrm>
          <a:prstGeom prst="rect">
            <a:avLst/>
          </a:prstGeom>
          <a:ln w="0">
            <a:noFill/>
          </a:ln>
        </p:spPr>
      </p:pic>
      <p:sp>
        <p:nvSpPr>
          <p:cNvPr id="655" name="Прямоугольник 4"/>
          <p:cNvSpPr/>
          <p:nvPr/>
        </p:nvSpPr>
        <p:spPr>
          <a:xfrm>
            <a:off x="428760" y="1720800"/>
            <a:ext cx="8286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л Фридрих Гаусс в 1799 г. привел несколько доказательств основной теоремы алгебры: «Число комплексных корней многочлена равно степени многочлена ». Далее и по сегодняшний день были приведены другие работы, связанные с многочленами, такие как: «Теорема Коши», «Теорема Лагерра», «Теорема Гаусса-Люка», «Гипотеза Сендова-Илиева», «Теорема Штурма», «Ряд Лагранжа-Бюрмана», «Признак Эйзенштейна»  и д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Нижний колонтитул 1"/>
          <p:cNvSpPr/>
          <p:nvPr/>
        </p:nvSpPr>
        <p:spPr>
          <a:xfrm>
            <a:off x="428760" y="6308640"/>
            <a:ext cx="57798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МБОУ СОШ № 40                       Вазагова З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12:58:39Z</dcterms:created>
  <dc:creator>власенко</dc:creator>
  <dc:description/>
  <dc:language>en-US</dc:language>
  <cp:lastModifiedBy>RePack by Diakov</cp:lastModifiedBy>
  <dcterms:modified xsi:type="dcterms:W3CDTF">2022-04-10T17:43:47Z</dcterms:modified>
  <cp:revision>151</cp:revision>
  <dc:subject/>
  <dc:title>Умножение многочленов</dc:title>
</cp:coreProperties>
</file>