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5C30-4B63-4CA4-9B0B-B7CBED652C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A328-75F4-4114-A6B3-F6E26F09FE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64DB-E8CB-41FF-9BAE-229C0D120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CFDC-6DBF-4DE6-A530-9E13F5B1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67B468-7D8F-4C20-9E27-BFEC4C34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7BBD2A-E19F-4EE9-9752-575DD391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BA2BE0-C866-4C4A-8794-51D03F18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84CAC6-3C39-4EF1-AA9D-6111B025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F58B0B-3383-4F3A-BAB7-B7617DF2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8D8589-BB88-49C7-AE2E-B08FAA1B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CDDC11-D159-4CD3-987F-7BF542FE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EEF71A-6B33-4DC9-B6A2-6936E720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162B67-1CBD-4519-AB7D-815F8B230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EB519D-05DB-40DD-BF9B-C39F3168F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DBC3-6B4C-41D0-B663-4C5A1574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EB46B1-73F7-43C0-9C2F-0044B870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6A15C5-48AA-436A-8A2A-C0A67043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696790-E984-4D6A-B29D-7AD3EB39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4CD0C3-5C97-46C3-8161-1BA0C1CF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25482B-8262-4B37-A3EF-16F12256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66F9DB-45BF-4FC8-BC9E-AC783B81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019137-A7B5-4D76-A134-8D925A2E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AD6B4D-B862-4CAE-9880-A6BBC8DF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DD3780-232F-4364-A7F0-20F7B04E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18BEF1-8EC0-4D2F-9CA2-6C7DC5053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D6D2-DB34-410A-A3F2-AF2170724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3360A7-4000-47D1-9207-5EE67C957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A60FE-6E60-4874-B7E4-0A7A5E40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086DF-5EC6-4FC0-856D-6B0499DD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7AF7C-ED83-4EC5-9B3F-5E3A6399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BD69E-ABA2-474B-B7A6-6D5E8E33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4E2D6-3C06-4228-9FD3-46F42C16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D8A5E-9EF3-4E07-B65B-E4558F48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14CED-12A8-4F19-8155-E105CB57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3F52A-B836-43F1-8A31-8D1E3ED4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E3FDE-0BFF-48C2-8ED8-65DC6D49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7AB3-4B3E-4491-90BF-F7664D148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1B6A8-63EF-4CDE-9534-F76D4654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4923A-3B00-4F4D-8699-2BDECB106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ABAB1-2571-4838-8AF5-53DE1DFC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5B12BD-EE4D-42C8-B826-64C871BDF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FFFBFE-0D60-49CC-ABFB-4B594A8C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89C625-2B32-425A-A4BD-258C6951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280979-B69F-4B17-B18F-88DF214F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859C1D-F2FB-4502-8B76-BAF943CB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B7CC85-88A3-4EFB-A1F4-C46BE7FB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554AF8-2412-4207-8319-A20EB16B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8C3D-722B-4338-A872-6E2AA981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B5FE1D-94FA-4082-99A7-93E15438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A57F26-0883-49BE-A9F3-94FD5172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E8E56C-0EE3-47E2-BC4F-B1317230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18892D-7A39-4953-AB98-3AE80B652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50339C-7058-423A-8B1C-638A3A904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320C-23B7-401A-B827-D8CF340D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93BC-E263-4506-B3C0-E515E684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1E36-3571-4942-8354-F7D374D9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6C0E-401E-45D0-9808-8549F456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C584-7391-42C8-A126-537E73BC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39DC-E745-4385-A463-6ADFDF25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CD04-37DC-4D34-BDDC-296C6CAF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44F4-8927-48BC-94D6-FC54B777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8E39-7708-47ED-A549-E2DD7EF0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3934-2F1C-4F14-A40B-EC5F78D03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73F0-7D8D-4286-8552-24DA2F078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20353-959D-487B-A40B-29498024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88E01-F669-413B-93F8-987D4218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58996-FC7E-4BF3-86F8-271AEFEA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4452B-029C-47EB-8AB6-E72BA532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7DA4C-1C54-4D7B-9C16-2C27EDB3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8704-CCF3-4362-8801-FAB5A7DD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A2D3F-59A0-48CA-9A92-F7DE194D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423D9-98D9-41D6-89AE-1AB87802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52378-B776-4B10-ACD8-F15D570C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C753C-C8B5-4442-8C68-5E1D32F5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67EAE-586F-4761-8AF9-5FC13CDD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4BA27-F118-47FF-9D94-DE19E56EE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3D314-00C7-45DD-A2AC-BD1E23741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ABB51-52B9-4D44-826E-E6E932083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BABF5-1BE2-410A-AE5A-CA29161E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C95D4-28C7-4E0C-99B6-5C3758A5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4DD4-C563-42E8-987C-7427DE6D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ABD82-290B-4C94-BF87-64B4F875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CA0E6-34B9-424A-BDD3-0E4C9F37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72D43-C623-4371-9D17-29148024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6B168-E125-477E-A3C8-5D894311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4E96E-C5E9-4134-8B61-D68621D4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58319-2AB1-4450-B531-77113655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D51D9-88DD-4A04-801C-4E884920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E0E44-F074-45B3-B9A5-5E4440433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27A1E-108E-4867-97A7-1B52849C1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37CFA-8E84-49DE-AA58-99B381AC3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4B03-2963-49A8-A01A-78D852DE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12CB4-E997-43F6-8861-3897B45D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AC2E4-0E9D-4D7D-9918-9206EA0B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20C33-8114-4E3F-AF12-50919D13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C9A00-E092-4AA6-B599-EF112FDF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5622A-3517-4DB0-84B8-2B212FAF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532BA-3BFE-42D8-B45E-E2E5BF36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783B2-9B23-4EDC-83CA-210CA87F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4ED6D-096E-4356-A95B-E7237110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D9581-7E46-4DDB-953E-F529448B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1C730-D754-4C9C-8592-1923C6191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1265-1EC3-450A-8737-8ED5E6A2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18AF9-8568-4AB8-9E8B-B7E89D30A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75A0F-96A3-40C5-80C5-880B1C056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0D66C-802F-4FC2-8FDE-3B3E9C77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499BD-73C0-4E94-9151-39D12439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CB2F3-CA56-41C4-B8AF-2D3098FC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12388-F814-49D7-86A3-2E28325D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DE6D1-EC87-4C71-9C64-EA981558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1DA46-AFD8-4BF7-8E35-1A3A6AE9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47E47-1D7F-4213-A8DF-49260184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61AE2-63D7-4DA0-8312-7FD5B90E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BE13-AF98-471D-8337-F9039ECB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5EF2C-2542-4645-919E-036DDF93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F3211-1E9B-47AF-A9CA-5151362BF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7BB3F-6DB0-4803-8545-B9E91AF8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7C428-47A6-4654-89FD-2FB579B4D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62C1E-3366-412B-8BA2-A38AAE11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6025A-3696-470B-BEC3-38C90E80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8A6A3-B477-4F1C-B966-57C7221B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9156A-6A39-4AEC-9EDB-DA14A48E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B9244-8DC7-4C7D-9BEC-D92D8B66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83543-CB7F-41B5-AF5D-C50562BB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4798-9183-4172-BA40-57E36A8C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4C757-CF5C-4C09-855B-E655D00A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AE532-8EEF-41AF-8515-7DF4CB6C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8A646-A1D9-4CA5-986E-492D6E27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96D50-2F33-4B5B-948E-B18E9D45B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6D6A4-0C7B-45E7-9AB9-3875C6166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605BA-D700-4B1F-A8A7-3F13DD044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E278A-4987-4997-AD7D-21D1FA70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B6E6D-7AC8-4912-B5F6-42837158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1A636-8803-4274-9F71-13062E20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616F6-CD29-4675-98C4-901C674B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02A7-A2F4-41C2-979C-DBCC70B2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1D659-6B1E-465C-AB1F-A892B824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90498-2D2A-429A-A378-4FB98030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D3CDA-892E-4C37-8CD1-A1D32ED3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71101-8AC9-4FCE-BDE3-15F2B27B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76789-55E7-4EA3-B05A-D867ACD8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58602-B502-4D35-B8F5-C2C62FBD9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E5E6D-D550-4A32-B8D6-1A858990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20DE10-10EA-425A-BCBC-B2D8E9776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7D6BD7-FCC4-4862-9190-3356EB49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954C4C-1BB7-4C93-87F8-1F9BD150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A262-9766-4848-A54D-D71F33BF4434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15A7-795B-4139-A90D-3C4E0119663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B6A9-CB53-4F6D-A497-B25DC06EB11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6E8B-2AB4-4A02-9E27-614F2BA64C9A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3ADF-2EC2-4F70-ADE9-21F9134CA2B3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2E6A-1B0A-4048-97B2-2AF253A4B99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2715-1A88-4901-9942-1A448A43F58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221A-527B-44A1-A267-99F6B8F1C626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1AB1-F954-405E-972F-7BA71D6A6651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278B-A0B4-4557-95E5-2751DC71E49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BE87-F748-42B0-ABA2-D708E7356138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B49E-8731-410A-8364-9FA332AF327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FAEE-A660-4F5C-B9D6-26C6E790D5B3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4B70-CB3C-414B-88AD-E3AACD3B6EB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C67C-2163-4FCB-B1C9-C0C23FF3BABB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6500-3C40-4011-995B-87E5D3FE696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D600-F440-4061-BC6B-69C7A51B843C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EC02-2878-4118-945F-71D91E41ED1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1B26-865D-44ED-BB46-B1BB8812EEFE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949C-FAF1-43D9-9179-3A6125AE02B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0F6D-F14B-4CA1-953D-9D4F588F63E0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87AC-C802-441A-88CE-7CB4BD5BFADC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FA08-BCE9-4A2F-BFC4-B92D829DF18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FA28-9C34-42C8-A4F0-393A454FA8BC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Georgia"/>
              </a:rPr>
              <a:t>Произведение Многочленов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4" name="Picture 3" descr="Рисунок1"/>
          <p:cNvPicPr/>
          <p:nvPr/>
        </p:nvPicPr>
        <p:blipFill>
          <a:blip r:embed="rId1"/>
          <a:stretch/>
        </p:blipFill>
        <p:spPr>
          <a:xfrm>
            <a:off x="142920" y="2786040"/>
            <a:ext cx="2019240" cy="3895920"/>
          </a:xfrm>
          <a:prstGeom prst="rect">
            <a:avLst/>
          </a:prstGeom>
          <a:ln w="0">
            <a:noFill/>
          </a:ln>
        </p:spPr>
      </p:pic>
      <p:sp>
        <p:nvSpPr>
          <p:cNvPr id="615" name="Прямоугольник 4"/>
          <p:cNvSpPr/>
          <p:nvPr/>
        </p:nvSpPr>
        <p:spPr>
          <a:xfrm>
            <a:off x="2286000" y="1982880"/>
            <a:ext cx="45720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лан работы на уро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онный мом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уализация опорных знаний и ум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ение новой 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ичное закреп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.мину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самостояте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тог ур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Нижний колонтитул 1"/>
          <p:cNvSpPr/>
          <p:nvPr/>
        </p:nvSpPr>
        <p:spPr>
          <a:xfrm>
            <a:off x="304920" y="6410160"/>
            <a:ext cx="743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713880" y="2785680"/>
            <a:ext cx="7572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Century Schoolbook"/>
              </a:rPr>
              <a:t>А. (а+1)(а+1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Century Schoolbook"/>
              </a:rPr>
              <a:t>В.(2+у)(у+3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Century Schoolbook"/>
              </a:rPr>
              <a:t>Д.(1+х)(1-х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Century Schoolbook"/>
              </a:rPr>
              <a:t>Ж.(х-у)(х+у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Century Schoolbook"/>
              </a:rPr>
              <a:t>И.(2а+в)(а+2в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16349"/>
                </a:solidFill>
                <a:latin typeface="Georgia"/>
              </a:rPr>
              <a:t>Работаем по учебнику  </a:t>
            </a:r>
            <a:br>
              <a:rPr sz="4000"/>
            </a:br>
            <a:r>
              <a:rPr b="0" lang="ru-RU" sz="4000" spc="-1" strike="noStrike">
                <a:solidFill>
                  <a:srgbClr val="d16349"/>
                </a:solidFill>
                <a:latin typeface="Georgia"/>
              </a:rPr>
              <a:t> № 294(1ст.)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9" name="Нижний колонтитул 2"/>
          <p:cNvSpPr/>
          <p:nvPr/>
        </p:nvSpPr>
        <p:spPr>
          <a:xfrm>
            <a:off x="304920" y="6410160"/>
            <a:ext cx="707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9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16349"/>
                </a:solidFill>
                <a:latin typeface="Georgia"/>
              </a:rPr>
              <a:t>Верны ли равенства (найдите ошибку, если она есть, исправьте ее):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5x-1)(3x+7)=5x(3x+7)+1(3x+7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3+2a)(5a-4)=3∙5a+3∙ (-4)+2a∙5a+2a∙(-4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(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0,1)(0,5-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0,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0,5+0,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 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Нижний колонтитул 1"/>
          <p:cNvSpPr/>
          <p:nvPr/>
        </p:nvSpPr>
        <p:spPr>
          <a:xfrm>
            <a:off x="179280" y="6381720"/>
            <a:ext cx="547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142560" y="2819520"/>
            <a:ext cx="9001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Times New Roman"/>
              </a:rPr>
              <a:t>1. </a:t>
            </a:r>
            <a:r>
              <a:rPr b="1" lang="ru-RU" sz="2000" spc="-1" strike="noStrike">
                <a:solidFill>
                  <a:srgbClr val="646b86"/>
                </a:solidFill>
                <a:latin typeface="Times New Roman"/>
              </a:rPr>
              <a:t>СКОЛЬКО ЧЛЕНОВ БУДЕТ ИМЕТЬ ПРОИЗВЕДЕНИЕ ДО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46b86"/>
                </a:solidFill>
                <a:latin typeface="Times New Roman"/>
              </a:rPr>
              <a:t>ПРИВЕДЕНИЯ ПОДОБНЫХ ЧЛЕНО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16349"/>
                </a:solidFill>
                <a:latin typeface="Times New Roman"/>
              </a:rPr>
              <a:t>Проверь себя!</a:t>
            </a:r>
            <a:br>
              <a:rPr sz="4400"/>
            </a:br>
            <a:r>
              <a:rPr b="1" i="1" lang="ru-RU" sz="4400" spc="-1" strike="noStrike">
                <a:solidFill>
                  <a:srgbClr val="d16349"/>
                </a:solidFill>
                <a:latin typeface="Times New Roman"/>
              </a:rPr>
              <a:t>(работаем устно)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Object 8"/>
              <p:cNvSpPr txBox="1"/>
              <p:nvPr/>
            </p:nvSpPr>
            <p:spPr>
              <a:xfrm>
                <a:off x="357120" y="3432240"/>
                <a:ext cx="30542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Object 9"/>
              <p:cNvSpPr txBox="1"/>
              <p:nvPr/>
            </p:nvSpPr>
            <p:spPr>
              <a:xfrm>
                <a:off x="357120" y="4214880"/>
                <a:ext cx="43801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Object 10"/>
              <p:cNvSpPr txBox="1"/>
              <p:nvPr/>
            </p:nvSpPr>
            <p:spPr>
              <a:xfrm>
                <a:off x="417600" y="5186520"/>
                <a:ext cx="45640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8" name="Line 24"/>
          <p:cNvSpPr/>
          <p:nvPr/>
        </p:nvSpPr>
        <p:spPr>
          <a:xfrm>
            <a:off x="3571920" y="3786120"/>
            <a:ext cx="2952720" cy="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28"/>
          <p:cNvSpPr/>
          <p:nvPr/>
        </p:nvSpPr>
        <p:spPr>
          <a:xfrm>
            <a:off x="4857840" y="4714920"/>
            <a:ext cx="1584360" cy="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28"/>
          <p:cNvSpPr/>
          <p:nvPr/>
        </p:nvSpPr>
        <p:spPr>
          <a:xfrm>
            <a:off x="5000760" y="5786280"/>
            <a:ext cx="1584360" cy="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Прямоугольник 11"/>
          <p:cNvSpPr/>
          <p:nvPr/>
        </p:nvSpPr>
        <p:spPr>
          <a:xfrm>
            <a:off x="6576120" y="307188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12"/>
          <p:cNvSpPr/>
          <p:nvPr/>
        </p:nvSpPr>
        <p:spPr>
          <a:xfrm>
            <a:off x="6580440" y="4143240"/>
            <a:ext cx="69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Georgia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13"/>
          <p:cNvSpPr/>
          <p:nvPr/>
        </p:nvSpPr>
        <p:spPr>
          <a:xfrm>
            <a:off x="6723360" y="5072040"/>
            <a:ext cx="69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Georgia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Нижний колонтитул 2"/>
          <p:cNvSpPr/>
          <p:nvPr/>
        </p:nvSpPr>
        <p:spPr>
          <a:xfrm>
            <a:off x="304920" y="6410160"/>
            <a:ext cx="534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WordArt 4"/>
          <p:cNvSpPr txBox="1"/>
          <p:nvPr/>
        </p:nvSpPr>
        <p:spPr>
          <a:xfrm>
            <a:off x="324000" y="907920"/>
            <a:ext cx="849600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ряд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л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лаз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6" name="Нижний колонтитул 1"/>
          <p:cNvSpPr/>
          <p:nvPr/>
        </p:nvSpPr>
        <p:spPr>
          <a:xfrm>
            <a:off x="304920" y="6410160"/>
            <a:ext cx="59227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Oval 2"/>
          <p:cNvSpPr/>
          <p:nvPr/>
        </p:nvSpPr>
        <p:spPr>
          <a:xfrm>
            <a:off x="1116000" y="189000"/>
            <a:ext cx="6769080" cy="648000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val 3"/>
          <p:cNvSpPr/>
          <p:nvPr/>
        </p:nvSpPr>
        <p:spPr>
          <a:xfrm>
            <a:off x="900000" y="321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val 4"/>
          <p:cNvSpPr/>
          <p:nvPr/>
        </p:nvSpPr>
        <p:spPr>
          <a:xfrm rot="17668200">
            <a:off x="7740720" y="314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Нижний колонтитул 1"/>
          <p:cNvSpPr/>
          <p:nvPr/>
        </p:nvSpPr>
        <p:spPr>
          <a:xfrm>
            <a:off x="304920" y="6410160"/>
            <a:ext cx="57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0.03376 C 0.00869 -0.07237 -0.00347 -0.12717 0.01893 -0.15861 C 0.0231 -0.17364 0.029 -0.18451 0.03646 -0.19653 C 0.04011 -0.20231 0.04132 -0.20948 0.04445 -0.21572 C 0.04775 -0.23353 0.0533 -0.23977 0.06025 -0.25364 C 0.06389 -0.26867 0.07448 -0.27676 0.08247 -0.2874 C 0.08612 -0.30266 0.08438 -0.3015 0.09514 -0.30867 C 0.09723 -0.31723 0.10139 -0.32486 0.10782 -0.32763 C 0.11389 -0.33526 0.11025 -0.33017 0.11737 -0.34451 C 0.11823 -0.34636 0.12066 -0.3459 0.12223 -0.34659 C 0.12813 -0.34936 0.12622 -0.34821 0.13178 -0.35306 C 0.13542 -0.36046 0.1382 -0.36301 0.14445 -0.36578 C 0.14844 -0.37387 0.15139 -0.38474 0.15712 -0.39098 C 0.1625 -0.39676 0.17292 -0.39676 0.17935 -0.39954 C 0.1823 -0.40231 0.18525 -0.40647 0.18889 -0.40809 C 0.19046 -0.40879 0.19219 -0.40902 0.19358 -0.41017 C 0.2 -0.4148 0.20435 -0.4222 0.21112 -0.42497 C 0.22205 -0.43445 0.21685 -0.43168 0.22518 -0.43538 C 0.23334 -0.44301 0.22674 -0.43815 0.23959 -0.44185 C 0.25174 -0.44532 0.26198 -0.45041 0.27448 -0.45249 C 0.28542 -0.45711 0.29462 -0.45919 0.30625 -0.46081 C 0.31632 -0.46405 0.31007 -0.46173 0.32223 -0.46728 C 0.32535 -0.46867 0.33178 -0.47145 0.33178 -0.47121 C 0.35869 -0.47075 0.3856 -0.47121 0.41268 -0.46936 C 0.42275 -0.46867 0.42744 -0.46081 0.43629 -0.45873 C 0.4566 -0.45387 0.47639 -0.45133 0.49671 -0.44809 C 0.50504 -0.44439 0.51077 -0.43931 0.51875 -0.43538 C 0.52553 -0.42705 0.53299 -0.42474 0.54115 -0.42058 C 0.54549 -0.41503 0.5507 -0.41318 0.55539 -0.40809 C 0.56164 -0.40139 0.56685 -0.39769 0.57448 -0.3933 C 0.57935 -0.39029 0.58872 -0.38266 0.58872 -0.38243 C 0.59341 -0.3741 0.59584 -0.3711 0.60313 -0.36786 C 0.6066 -0.3533 0.60139 -0.37017 0.61424 -0.35306 C 0.62362 -0.34058 0.62014 -0.34659 0.62535 -0.33619 C 0.62587 -0.33341 0.62518 -0.32948 0.62691 -0.32763 C 0.62952 -0.32462 0.63646 -0.32347 0.63646 -0.32324 C 0.64115 -0.31699 0.64428 -0.31353 0.6507 -0.31075 C 0.66007 -0.29827 0.6566 -0.30428 0.66181 -0.29387 C 0.66389 -0.28208 0.66823 -0.28 0.67292 -0.27052 C 0.67431 -0.26798 0.67483 -0.26474 0.67622 -0.2622 C 0.67848 -0.25827 0.68403 -0.25156 0.68403 -0.25133 C 0.68577 -0.24462 0.69202 -0.2326 0.69202 -0.23237 C 0.6941 -0.22428 0.69514 -0.21318 0.7 -0.20717 C 0.70209 -0.19908 0.70417 -0.19699 0.70955 -0.19237 C 0.71441 -0.18358 0.7165 -0.17526 0.71893 -0.16486 C 0.725 -0.13965 0.73021 -0.11399 0.73646 -0.08879 C 0.73091 -0.06636 0.73907 -0.03861 0.74445 -0.01688 C 0.74671 0.01896 0.74757 0.02173 0.74445 0.06775 C 0.74393 0.07653 0.74011 0.08462 0.73803 0.09295 C 0.73507 0.10497 0.73316 0.11699 0.73004 0.12902 C 0.72674 0.14196 0.72483 0.15792 0.71893 0.16902 C 0.71719 0.17618 0.71494 0.18058 0.71112 0.18613 C 0.7099 0.19399 0.70747 0.20139 0.70625 0.20925 C 0.70573 0.21272 0.70591 0.21665 0.70469 0.21988 C 0.70365 0.22243 0.70157 0.22405 0.7 0.22613 C 0.69775 0.23584 0.69132 0.24647 0.6856 0.25364 C 0.68195 0.26913 0.67639 0.28046 0.66823 0.29179 C 0.66511 0.30451 0.66146 0.30543 0.65226 0.30867 C 0.64914 0.30983 0.64289 0.31283 0.64289 0.31306 C 0.63785 0.31931 0.63803 0.33087 0.63178 0.33618 C 0.62344 0.34335 0.6191 0.35306 0.60955 0.35722 C 0.60139 0.3674 0.59688 0.37988 0.5856 0.38474 C 0.58282 0.38728 0.58073 0.39098 0.57778 0.39329 C 0.57414 0.39607 0.56997 0.39699 0.56667 0.39954 C 0.56476 0.40069 0.5632 0.40208 0.56164 0.4037 C 0.5606 0.40486 0.5599 0.40694 0.55851 0.40809 C 0.55469 0.41133 0.54896 0.41433 0.54445 0.41642 C 0.53178 0.43329 0.50191 0.44277 0.48386 0.44601 C 0.47553 0.45179 0.4665 0.45988 0.45712 0.46289 C 0.42691 0.47283 0.39289 0.46728 0.36181 0.46936 C 0.35174 0.46867 0.34185 0.46844 0.33178 0.46728 C 0.32952 0.46705 0.31632 0.46104 0.3158 0.46081 C 0.31129 0.45873 0.30625 0.45942 0.30157 0.45873 C 0.2974 0.45734 0.29254 0.4578 0.28889 0.45457 C 0.28733 0.45318 0.28577 0.45133 0.28403 0.45017 C 0.27014 0.44208 0.25296 0.43815 0.23803 0.43329 C 0.22917 0.42728 0.22049 0.42266 0.21112 0.4185 C 0.20487 0.41064 0.19549 0.40879 0.18733 0.40578 C 0.18073 0.4 0.17483 0.39584 0.16823 0.39098 C 0.16129 0.38566 0.15643 0.37965 0.14914 0.37618 C 0.14566 0.37156 0.1415 0.36832 0.13803 0.3637 C 0.13073 0.35399 0.13959 0.35931 0.13004 0.35514 C 0.12813 0.35144 0.12553 0.34844 0.12379 0.34451 C 0.12084 0.3378 0.12431 0.3385 0.11893 0.3341 C 0.11754 0.33295 0.1158 0.33272 0.11424 0.33179 C 0.1125 0.33064 0.11112 0.32902 0.10955 0.32763 C 0.10678 0.31769 0.10226 0.31121 0.09514 0.30659 C 0.09132 0.2985 0.0875 0.29688 0.08091 0.29387 C 0.07483 0.28116 0.07761 0.26775 0.06511 0.2622 C 0.05973 0.25734 0.05695 0.25133 0.05226 0.24532 C 0.04983 0.23237 0.04827 0.22289 0.04115 0.21341 C 0.03959 0.20509 0.03664 0.18381 0.03334 0.17757 C 0.03021 0.17179 0.02674 0.1667 0.02379 0.16069 C 0.02153 0.15121 0.01997 0.1415 0.0158 0.13318 C 0.0125 0.11538 0.0125 0.09803 0.00469 0.08254 C 0.00244 0.06983 0.00382 0.07653 -4.72222E-006 0.06127 C -0.00052 0.05919 -0.00156 0.05503 -0.00156 0.05526 C -4.72221999999996E-006 0.00277 -4.72222E-006 0.02104 -4.72222E-006 4.62428E-007 E">
                                      <p:cBhvr>
                                        <p:cTn id="169" dur="3000" fill="hold"/>
                                        <p:tgtEl>
                                          <p:spTgt spid="6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100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5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46821E-006 C -0.00659 -0.03768 0.00591 -0.09364 -0.01684 -0.1237 C -0.02048 -0.13896 -0.02673 -0.14936 -0.03507 -0.16208 C -0.03837 -0.16716 -0.03923 -0.1741 -0.04218 -0.18081 C -0.04531 -0.19815 -0.05087 -0.20485 -0.05833 -0.21849 C -0.06198 -0.2326 -0.07239 -0.24162 -0.08021 -0.25248 C -0.08437 -0.26751 -0.08316 -0.2652 -0.09305 -0.27329 C -0.09583 -0.28115 -0.09948 -0.28855 -0.10677 -0.29202 C -0.1125 -0.29919 -0.10885 -0.29479 -0.11597 -0.30844 C -0.11666 -0.31075 -0.11944 -0.30867 -0.12083 -0.31052 C -0.12656 -0.31352 -0.12517 -0.3126 -0.12986 -0.31722 C -0.13403 -0.3237 -0.13663 -0.32786 -0.14305 -0.33017 C -0.14739 -0.3378 -0.15069 -0.3482 -0.15555 -0.35491 C -0.16111 -0.36046 -0.17239 -0.36092 -0.17864 -0.363 C -0.18142 -0.36508 -0.18385 -0.36925 -0.18767 -0.37225 C -0.18975 -0.37179 -0.19097 -0.37318 -0.19271 -0.3741 C -0.1993 -0.3778 -0.20364 -0.38589 -0.21059 -0.38844 C -0.22153 -0.39792 -0.21666 -0.39468 -0.22465 -0.39907 C -0.23316 -0.40555 -0.22621 -0.40138 -0.23923 -0.40416 C -0.25121 -0.40809 -0.26198 -0.41318 -0.27465 -0.41503 C -0.28489 -0.42034 -0.29444 -0.42266 -0.30607 -0.42358 C -0.31632 -0.42659 -0.31007 -0.42427 -0.32257 -0.43052 C -0.32534 -0.43144 -0.33229 -0.43422 -0.33177 -0.43422 C -0.35937 -0.43375 -0.38646 -0.43375 -0.41319 -0.43237 C -0.42343 -0.43144 -0.4283 -0.42381 -0.4368 -0.42173 C -0.45764 -0.41664 -0.4776 -0.41387 -0.49774 -0.41109 C -0.50642 -0.40809 -0.51215 -0.40231 -0.52066 -0.39884 C -0.52708 -0.39029 -0.53455 -0.38797 -0.54271 -0.38358 C -0.54722 -0.37896 -0.55243 -0.37688 -0.55659 -0.37225 C -0.56371 -0.36462 -0.56857 -0.36162 -0.57604 -0.35699 C -0.58055 -0.35422 -0.59028 -0.34635 -0.59062 -0.34589 C -0.59566 -0.3378 -0.59739 -0.33572 -0.60573 -0.33156 C -0.60885 -0.31722 -0.60295 -0.33318 -0.61684 -0.31722 C -0.62587 -0.30427 -0.62205 -0.31029 -0.6276 -0.30034 C -0.62847 -0.29711 -0.62743 -0.29341 -0.62899 -0.29202 C -0.63177 -0.28855 -0.63889 -0.28716 -0.63923 -0.2874 C -0.64323 -0.28069 -0.6467 -0.27768 -0.65312 -0.27491 C -0.66267 -0.26289 -0.65937 -0.2689 -0.66389 -0.25803 C -0.66632 -0.2467 -0.67014 -0.24508 -0.67587 -0.23491 C -0.67691 -0.2326 -0.6776 -0.22913 -0.67882 -0.22682 C -0.6809 -0.22219 -0.68646 -0.21664 -0.68593 -0.21618 C -0.68819 -0.20925 -0.69427 -0.19768 -0.69514 -0.19768 C -0.69705 -0.19005 -0.69757 -0.17849 -0.70278 -0.17179 C -0.70451 -0.16393 -0.70712 -0.16208 -0.71198 -0.15768 C -0.71771 -0.1489 -0.71909 -0.13988 -0.72153 -0.1304 C -0.72795 -0.10566 -0.73316 -0.08046 -0.73906 -0.05526 C -0.73472 -0.03237 -0.74166 -0.00416 -0.74739 0.01688 C -0.75 0.05318 -0.75104 0.05573 -0.74739 0.10058 C -0.74687 0.10821 -0.74288 0.11746 -0.74132 0.12532 C -0.73871 0.13827 -0.73593 0.1496 -0.73298 0.16162 C -0.72916 0.1748 -0.72795 0.19099 -0.72205 0.20093 C -0.72014 0.20948 -0.71788 0.21226 -0.71389 0.21873 C -0.7125 0.22682 -0.71024 0.23445 -0.70903 0.24162 C -0.70833 0.24578 -0.70903 0.24902 -0.70764 0.25226 C -0.70659 0.25457 -0.70364 0.25596 -0.70312 0.25758 C -0.70069 0.26798 -0.6934 0.27769 -0.68767 0.28648 C -0.68489 0.30151 -0.67812 0.31122 -0.671 0.32417 C -0.66701 0.33688 -0.66406 0.33734 -0.65434 0.34104 C -0.65208 0.34128 -0.64548 0.34312 -0.64531 0.34405 C -0.64028 0.35099 -0.63993 0.36208 -0.63437 0.36763 C -0.62552 0.37295 -0.62153 0.38474 -0.61163 0.38821 C -0.60382 0.39931 -0.59913 0.4118 -0.58698 0.41457 C -0.58437 0.41804 -0.58212 0.42081 -0.57951 0.42451 C -0.57604 0.42659 -0.57187 0.42659 -0.56805 0.43122 C -0.56649 0.43122 -0.56528 0.43168 -0.56302 0.43492 C -0.5625 0.43561 -0.56163 0.43723 -0.56041 0.43746 C -0.55642 0.4407 -0.55 0.44486 -0.54635 0.44671 C -0.53333 0.46336 -0.50295 0.47284 -0.48489 0.477 C -0.47691 0.48185 -0.46736 0.49156 -0.4585 0.4918 C -0.42778 0.50312 -0.39375 0.49781 -0.36215 0.49873 C -0.35208 0.49804 -0.34201 0.49919 -0.33212 0.4985 C -0.32968 0.49642 -0.31632 0.4918 -0.31528 0.49203 C -0.31128 0.48856 -0.30659 0.4911 -0.30156 0.48925 C -0.29739 0.48786 -0.29236 0.48925 -0.28854 0.48486 C -0.28715 0.4837 -0.28541 0.48116 -0.28455 0.47977 C -0.26996 0.47284 -0.25225 0.46867 -0.23732 0.46405 C -0.22864 0.45734 -0.22048 0.45411 -0.21093 0.44995 C -0.20382 0.44116 -0.19444 0.43931 -0.18646 0.43561 C -0.17986 0.43052 -0.17396 0.42567 -0.16701 0.42081 C -0.16024 0.41711 -0.15468 0.41018 -0.14809 0.40648 C -0.14392 0.40301 -0.1401 0.39977 -0.13732 0.39469 C -0.12934 0.38405 -0.13802 0.39052 -0.12899 0.38613 C -0.12691 0.38289 -0.12396 0.37827 -0.12326 0.37642 C -0.11996 0.36833 -0.12326 0.37018 -0.11753 0.36602 C -0.11597 0.36417 -0.1151 0.36393 -0.11302 0.36393 C -0.11076 0.36162 -0.10972 0.35977 -0.10764 0.35862 C -0.10555 0.34867 -0.10069 0.34266 -0.09427 0.33758 C -0.0901 0.33018 -0.08611 0.32833 -0.07864 0.3244 C -0.07309 0.31307 -0.07604 0.30035 -0.06337 0.29365 C -0.05729 0.28925 -0.05538 0.28301 -0.05034 0.27746 C -0.04843 0.26405 -0.04687 0.25341 -0.03923 0.24602 C -0.03732 0.23607 -0.03489 0.21503 -0.03159 0.21041 C -0.02795 0.20463 -0.02465 0.19885 -0.02239 0.19307 C -0.02031 0.18359 -0.01753 0.17411 -0.01337 0.16532 C -0.00989 0.14867 -0.01007 0.13133 -0.0026 0.11607 C 0.00035 0.10336 -0.00156 0.11006 0.00209 0.09388 C 0.00261 0.09295 0.004 0.08717 0.00365 0.0881 C 0.00261 0.03677 0.00209 0.05549 0.00209 0.03376 E">
                                      <p:cBhvr>
                                        <p:cTn id="186" dur="3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Oval 2"/>
          <p:cNvSpPr/>
          <p:nvPr/>
        </p:nvSpPr>
        <p:spPr>
          <a:xfrm>
            <a:off x="179280" y="314172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Нижний колонтитул 1"/>
          <p:cNvSpPr/>
          <p:nvPr/>
        </p:nvSpPr>
        <p:spPr>
          <a:xfrm>
            <a:off x="304920" y="6410160"/>
            <a:ext cx="599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96532E-006 C 8.33333E-007 0.17249 0.09896 0.31468 0.21944 0.31468 C 0.36146 0.31468 0.41285 0.157 0.43455 0.06243 L 0.45677 -0.06289 C 0.47882 -0.15769 0.53351 -0.31468 0.69392 -0.31468 C 0.7967 -0.31468 0.91354 -0.17318 0.91354 -1.96532E-006 C 0.91354 0.17249 0.7967 0.31468 0.69392 0.31468 C 0.53351 0.31468 0.47882 0.157 0.45677 0.06243 L 0.43455 -0.06289 C 0.41285 -0.15769 0.36146 -0.31468 0.21944 -0.31468 C 0.09896 -0.31468 8.33333E-007 -0.17318 8.33333E-007 -1.96532E-006 Z">
                                      <p:cBhvr>
                                        <p:cTn id="199" dur="3000" fill="hold"/>
                                        <p:tgtEl>
                                          <p:spTgt spid="6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Oval 2"/>
          <p:cNvSpPr/>
          <p:nvPr/>
        </p:nvSpPr>
        <p:spPr>
          <a:xfrm>
            <a:off x="8388360" y="3645000"/>
            <a:ext cx="431640" cy="43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Нижний колонтитул 1"/>
          <p:cNvSpPr/>
          <p:nvPr/>
        </p:nvSpPr>
        <p:spPr>
          <a:xfrm>
            <a:off x="304920" y="6410160"/>
            <a:ext cx="642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4104E-006 C 0.01493 -0.26543 -0.16528 -0.49479 -0.40625 -0.51075 C -0.63646 -0.53017 -0.85104 -0.35237 -0.86511 -0.09479 C -0.88281 0.14243 -0.73264 0.36463 -0.51684 0.38012 C -0.31997 0.3926 -0.13281 0.24532 -0.1184 0.02405 C -0.10434 -0.17803 -0.23021 -0.36832 -0.41285 -0.38381 C -0.58195 -0.39583 -0.73993 -0.27283 -0.75052 -0.0874 C -0.76111 0.07908 -0.66094 0.24162 -0.5099 0.24995 C -0.37327 0.26128 -0.24479 0.16648 -0.23299 0.01619 C -0.22604 -0.11861 -0.30156 -0.24948 -0.42014 -0.25711 C -0.52413 -0.26543 -0.62813 -0.19375 -0.63646 -0.07907 C -0.64288 0.02012 -0.58959 0.11492 -0.50261 0.12324 C -0.43073 0.13064 -0.35556 0.0874 -0.35191 0.00833 C -0.34497 -0.05572 -0.37327 -0.123 -0.42709 -0.13063 C -0.47066 -0.13063 -0.51354 -0.11468 -0.52049 -0.07144 C -0.52413 -0.04323 -0.51684 -0.01572 -0.49584 -0.00393 C -0.48507 -3.41039999999983E-006 -0.47761 -3.41039999999983E-006 -0.46684 -0.00393 E">
                                      <p:cBhvr>
                                        <p:cTn id="212" dur="5000" fill="hold"/>
                                        <p:tgtEl>
                                          <p:spTgt spid="6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Oval 2"/>
          <p:cNvSpPr/>
          <p:nvPr/>
        </p:nvSpPr>
        <p:spPr>
          <a:xfrm>
            <a:off x="826920" y="3716280"/>
            <a:ext cx="432000" cy="43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Нижний колонтитул 1"/>
          <p:cNvSpPr/>
          <p:nvPr/>
        </p:nvSpPr>
        <p:spPr>
          <a:xfrm>
            <a:off x="304920" y="6410160"/>
            <a:ext cx="657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19653E-006 C -0.01232 -0.27191 0.14653 -0.50659 0.35955 -0.52277 C 0.56337 -0.54243 0.75417 -0.36115 0.76684 -0.09734 C 0.78316 0.1452 0.64914 0.37249 0.45799 0.3889 C 0.28368 0.40139 0.11771 0.25064 0.10487 0.02451 C 0.09237 -0.18266 0.20382 -0.37711 0.36563 -0.39376 C 0.51528 -0.40532 0.65556 -0.2793 0.66528 -0.08971 C 0.67448 0.08093 0.58525 0.24624 0.45157 0.25526 C 0.33073 0.26705 0.21667 0.16971 0.2066 0.01596 C 0.20052 -0.12208 0.26737 -0.25549 0.3724 -0.26358 C 0.46476 -0.27191 0.55643 -0.19884 0.56337 -0.08092 C 0.56962 0.02058 0.52171 0.11723 0.44514 0.12555 C 0.3816 0.13341 0.31476 0.08902 0.31146 0.00809 C 0.30556 -0.05688 0.33073 -0.12647 0.3783 -0.13364 C 0.41684 -0.13364 0.45504 -0.11815 0.46129 -0.07329 C 0.46476 -0.04462 0.45799 -0.01618 0.43941 -0.00416 C 0.42952 -2.19652999999993E-006 0.42309 -2.19652999999993E-006 0.41389 -0.00416 E">
                                      <p:cBhvr>
                                        <p:cTn id="225" dur="5000" fill="hold"/>
                                        <p:tgtEl>
                                          <p:spTgt spid="6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Oval 2"/>
          <p:cNvSpPr/>
          <p:nvPr/>
        </p:nvSpPr>
        <p:spPr>
          <a:xfrm>
            <a:off x="5076720" y="328464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Нижний колонтитул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path" presetID="2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15607E-006 C 0.0224 -0.03792 0.04566 -0.08 0.06788 -0.1341 C 0.12952 -0.2867 0.14583 -0.43561 0.10087 -0.45826 C 0.05521 -0.48509 -0.03281 -0.3778 -0.0941 -0.22543 C -0.12656 -0.14474 -0.14583 -0.06844 -0.1526 -0.01063 C -0.16215 0.03491 -0.16528 0.08046 -0.16528 0.13434 C -0.16528 0.30613 -0.12326 0.44832 -0.07396 0.44832 C -0.02569 0.44832 0.01632 0.30613 0.01632 0.13434 C 0.01632 0.05411 0.00695 -0.02266 -0.00937 -0.07561 C -0.01632 -0.12185 -0.03281 -0.17156 -0.05173 -0.2215 C -0.11649 -0.3778 -0.20434 -0.48509 -0.25035 -0.45826 C -0.29514 -0.43191 -0.27864 -0.2867 -0.21389 -0.12994 C -0.18802 -0.05665 -0.1526 0.00416 -0.11649 0.04601 C -0.09045 0.08486 -0.06128 0.11931 -0.02257 0.15306 C 0.0941 0.26382 0.21059 0.31376 0.2434 0.26798 C 0.27274 0.2222 0.20799 0.09595 0.0908 -0.01063 C 0.04236 -0.05665 -0.00937 -0.09133 -0.05173 -0.11422 C -0.09045 -0.13711 -0.13976 -0.15653 -0.19132 -0.16763 C -0.33385 -0.20624 -0.45729 -0.19468 -0.46684 -0.1341 C -0.47951 -0.07561 -0.37292 -1.15607000000101E-006 -0.23038 0.03885 C -0.16528 0.05411 -0.10364 0.06127 -0.05503 0.05757 C -0.01302 0.05757 0.03247 0.05041 0.08125 0.03885 C 0.22379 -1.15607000000101E-006 0.3316 -0.08 0.31771 -0.13711 C 0.30816 -0.19468 0.18472 -0.20971 0.04236 -0.17156 C -0.02569 -0.15214 -0.08785 -0.12578 -0.12951 -0.09549 C -0.16528 -0.07214 -0.20087 -0.04578 -0.23993 -0.01063 C -0.35347 0.10012 -0.42187 0.2222 -0.38906 0.26798 C -0.35972 0.31376 -0.23993 0.26382 -0.12656 0.15676 C -0.07153 0.10358 -0.02569 0.05041 -1.38889E-006 -1.15607E-006 Z">
                                      <p:cBhvr>
                                        <p:cTn id="238" dur="5000" fill="hold"/>
                                        <p:tgtEl>
                                          <p:spTgt spid="6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713880" y="2785680"/>
            <a:ext cx="7572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646b86"/>
                </a:solidFill>
                <a:latin typeface="Times New Roman"/>
                <a:ea typeface="Times New Roman"/>
              </a:rPr>
              <a:t>НАЧИНАЯ С 20 ВЕКА МНОГОЧЛЕНЫ СТАЛИ ИСПОЛЬЗОВАТЬСЯ ДЛЯ НОВЫХ ЦЕЛЕЙ. НУЖНО БЫЛО БЫСТРО И ЭФФЕКТИВНО ПЕРЕДАВАТЬ ИНФОРМАЦИЮ. МНОГОЧЛЕНЫ СОДЕРЖАТ В СЕБЕ СИМВОЛЬНЫЕ ИСЧИСЛЕНИЯ, КОТОРЫЕ СТАЛИ ИСПОЛЬЗОВАТЬ КАК СПОСОБ ПЕРЕДАЧИ ДАННЫХ. СООБЩЕНИЕ ДОЛЖНО БЫЛО СОДЕРЖАТЬ В СЕБЕ ПОСЛЕДОВАТЕЛЬНОСТЬ СИМВОЛОВ, КОТОРОЕ ПОТОМ ПЕРЕДАЛИ ПО КАНАЛУ СВЯЗИ. ОДНАКО ПРИ ПЕРЕДАЧЕ ИНФОРМАЦИИ МОГЛИ ВОЗНИКНУТЬ ОШИБКИ. ПОЭТОМУ БЫЛА ПРЕДЛОЖЕНА ИДЕЯ КОДИРОВАНИЯ СООБЩЕНИЯ, КОТОРУЮ УСПЕШНО ИСПОЛЬЗУЮТ И В НАСТОЯЩЕЕ ВРЕМЯ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16349"/>
                </a:solidFill>
                <a:latin typeface="Georgia"/>
              </a:rPr>
              <a:t>А где многочлен используется?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Нижний колонтитул 2"/>
          <p:cNvSpPr/>
          <p:nvPr/>
        </p:nvSpPr>
        <p:spPr>
          <a:xfrm>
            <a:off x="304920" y="6410160"/>
            <a:ext cx="649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285840" y="2819160"/>
            <a:ext cx="8572320" cy="32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46b86"/>
                </a:solidFill>
                <a:latin typeface="Georgia"/>
              </a:rPr>
              <a:t>НАУЧИТЬСЯ УМНОЖАТЬ МНОГОЧЛЕН НА МНОГОЧЛЕН И ПРИМЕНЯТЬ ЭТО ПРИ РЕШЕНИИ РАЗЛИЧНЫХ ЗАДАЧ.</a:t>
            </a:r>
            <a:endParaRPr b="0" lang="en-US" sz="37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785880" y="35676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Georgia"/>
              </a:rPr>
              <a:t>Цель урока: </a:t>
            </a:r>
            <a:endParaRPr b="0" lang="en-US" sz="6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Нижний колонтитул 2"/>
          <p:cNvSpPr/>
          <p:nvPr/>
        </p:nvSpPr>
        <p:spPr>
          <a:xfrm>
            <a:off x="304920" y="6410160"/>
            <a:ext cx="563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БОУ СОШ № 40                       Вазагова З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713880" y="2785680"/>
            <a:ext cx="7572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46b86"/>
                </a:solidFill>
                <a:latin typeface="Georgia"/>
              </a:rPr>
              <a:t>1.ПЕРЕСТАВЛЕНЫ ЧЁТНЫЕ И НЕЧЁТНЫЕ БУКВЫ В СЛОВАХ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46b86"/>
                </a:solidFill>
                <a:latin typeface="Georgia"/>
              </a:rPr>
              <a:t>2.КАЖДАЯ БУКВА ЗАМЕНЕНА НА СЛЕДУЮЩУЮ ЗА НЕ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235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16349"/>
                </a:solidFill>
                <a:latin typeface="Times New Roman"/>
                <a:ea typeface="Times New Roman"/>
              </a:rPr>
              <a:t>Расшифруйте послание и определите способ кодировки</a:t>
            </a:r>
            <a:br>
              <a:rPr sz="2000"/>
            </a:b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Математика уступает свои </a:t>
            </a:r>
            <a:r>
              <a:rPr b="1" lang="ru-RU" sz="2800" spc="-1" strike="noStrike">
                <a:solidFill>
                  <a:srgbClr val="0070c0"/>
                </a:solidFill>
                <a:latin typeface="Georgia"/>
              </a:rPr>
              <a:t>ркпесоит</a:t>
            </a: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 лишь </a:t>
            </a:r>
            <a:r>
              <a:rPr b="1" lang="ru-RU" sz="2800" spc="-1" strike="noStrike">
                <a:solidFill>
                  <a:srgbClr val="0070c0"/>
                </a:solidFill>
                <a:latin typeface="Georgia"/>
              </a:rPr>
              <a:t>исьлынм</a:t>
            </a: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 и </a:t>
            </a:r>
            <a:r>
              <a:rPr b="1" lang="ru-RU" sz="2800" spc="-1" strike="noStrike">
                <a:solidFill>
                  <a:srgbClr val="0070c0"/>
                </a:solidFill>
                <a:latin typeface="Georgia"/>
              </a:rPr>
              <a:t>мслемы</a:t>
            </a: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. (А.П. Конфорович)</a:t>
            </a:r>
            <a:br>
              <a:rPr sz="2000"/>
            </a:b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4" name="Нижний колонтитул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12"/>
          <p:cNvSpPr/>
          <p:nvPr/>
        </p:nvSpPr>
        <p:spPr>
          <a:xfrm>
            <a:off x="928800" y="655200"/>
            <a:ext cx="8572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6" name="Object 13"/>
              <p:cNvSpPr txBox="1"/>
              <p:nvPr/>
            </p:nvSpPr>
            <p:spPr>
              <a:xfrm>
                <a:off x="0" y="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97" name="Заголовок 1"/>
          <p:cNvSpPr/>
          <p:nvPr/>
        </p:nvSpPr>
        <p:spPr>
          <a:xfrm>
            <a:off x="30168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16349"/>
                </a:solidFill>
                <a:latin typeface="Monotype Corsiva"/>
                <a:ea typeface="Times New Roman"/>
              </a:rPr>
              <a:t>Упростите выражения и найдите соответствующий отв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Содержимое 2"/>
          <p:cNvSpPr/>
          <p:nvPr/>
        </p:nvSpPr>
        <p:spPr>
          <a:xfrm>
            <a:off x="314280" y="1747800"/>
            <a:ext cx="4038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а) (4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y</a:t>
            </a:r>
            <a:r>
              <a:rPr b="0" lang="ru-RU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+15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)-(17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y</a:t>
            </a:r>
            <a:r>
              <a:rPr b="0" lang="ru-RU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б) -2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x</a:t>
            </a:r>
            <a:r>
              <a:rPr b="0" lang="ru-RU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-7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-3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в) (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+8)(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-1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) -(a-2)(-4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-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Содержимое 3"/>
          <p:cNvSpPr/>
          <p:nvPr/>
        </p:nvSpPr>
        <p:spPr>
          <a:xfrm>
            <a:off x="4800600" y="1731960"/>
            <a:ext cx="4038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а) -2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+14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+6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б) -4а</a:t>
            </a:r>
            <a:r>
              <a:rPr b="0" lang="ru-RU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-5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-6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в)ху–х+8у-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5у</a:t>
            </a:r>
            <a:r>
              <a:rPr b="0" lang="ru-RU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-2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Нижний колонтитул 1"/>
          <p:cNvSpPr/>
          <p:nvPr/>
        </p:nvSpPr>
        <p:spPr>
          <a:xfrm>
            <a:off x="304920" y="6410160"/>
            <a:ext cx="651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6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16349"/>
                </a:solidFill>
                <a:latin typeface="Georgia"/>
              </a:rPr>
              <a:t>Работаем с учебником №295 (1 ст.)</a:t>
            </a: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2" name="Rectangle 6"/>
          <p:cNvSpPr/>
          <p:nvPr/>
        </p:nvSpPr>
        <p:spPr>
          <a:xfrm>
            <a:off x="428760" y="2657520"/>
            <a:ext cx="7643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а.)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20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+ 38mn+14n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в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.)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-9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д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.)  -2a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+ab+3b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ж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.)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+2a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b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+b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)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+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-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-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Нижний колонтитул 1"/>
          <p:cNvSpPr/>
          <p:nvPr/>
        </p:nvSpPr>
        <p:spPr>
          <a:xfrm>
            <a:off x="304920" y="6410160"/>
            <a:ext cx="75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d16349"/>
                </a:solidFill>
                <a:latin typeface="Georgia"/>
              </a:rPr>
              <a:t>Домашнее задан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. 5.6 Произведение многочленов ( определение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№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94 (2 ст), №295 (2ст), индивидуально 296(з,к,м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Нижний колонтитул 1"/>
          <p:cNvSpPr/>
          <p:nvPr/>
        </p:nvSpPr>
        <p:spPr>
          <a:xfrm>
            <a:off x="304920" y="6410160"/>
            <a:ext cx="649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d16349"/>
                </a:solidFill>
                <a:latin typeface="Georgia"/>
              </a:rPr>
              <a:t>Итог урока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то нового я сегодня узнал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то было самым трудным на уроке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то было самым интересным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ему я научился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Доволен ли я своей работай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9" name="Нижний колонтитул 1"/>
          <p:cNvSpPr/>
          <p:nvPr/>
        </p:nvSpPr>
        <p:spPr>
          <a:xfrm>
            <a:off x="304920" y="6410160"/>
            <a:ext cx="693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c00000"/>
                </a:solidFill>
                <a:latin typeface="Georgia"/>
              </a:rPr>
              <a:t>Рефлекси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Я строил храм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Я выполнял свою работу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Я возил тяжелые камн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2" name="Блок-схема: извлечение 3"/>
          <p:cNvSpPr/>
          <p:nvPr/>
        </p:nvSpPr>
        <p:spPr>
          <a:xfrm>
            <a:off x="6500880" y="1571760"/>
            <a:ext cx="1071360" cy="714240"/>
          </a:xfrm>
          <a:prstGeom prst="flowChartExtract">
            <a:avLst/>
          </a:prstGeom>
          <a:solidFill>
            <a:srgbClr val="d16349"/>
          </a:solidFill>
          <a:ln w="478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Равнобедренный треугольник 4"/>
          <p:cNvSpPr/>
          <p:nvPr/>
        </p:nvSpPr>
        <p:spPr>
          <a:xfrm>
            <a:off x="6429240" y="2857680"/>
            <a:ext cx="1214640" cy="6426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478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Равнобедренный треугольник 5"/>
          <p:cNvSpPr/>
          <p:nvPr/>
        </p:nvSpPr>
        <p:spPr>
          <a:xfrm>
            <a:off x="6500880" y="3929040"/>
            <a:ext cx="1285920" cy="5716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478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Нижний колонтитул 1"/>
          <p:cNvSpPr/>
          <p:nvPr/>
        </p:nvSpPr>
        <p:spPr>
          <a:xfrm>
            <a:off x="304920" y="6410160"/>
            <a:ext cx="683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7772400" cy="583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0" lang="ru-RU" sz="3600" spc="-1" strike="noStrike">
                <a:solidFill>
                  <a:srgbClr val="595959"/>
                </a:solidFill>
                <a:latin typeface="Georgia"/>
              </a:rPr>
              <a:t>В 3 веке нашей эры греческий математик Деофант Александрийский рассмотрел понятие «одночлена». В свое время он дал следующее определение:</a:t>
            </a:r>
            <a:br>
              <a:rPr sz="3600"/>
            </a:br>
            <a:r>
              <a:rPr b="0" lang="ru-RU" sz="3600" spc="-1" strike="noStrike">
                <a:solidFill>
                  <a:srgbClr val="595959"/>
                </a:solidFill>
                <a:latin typeface="Georgia"/>
              </a:rPr>
              <a:t>      Одночлен – это алгебраическое выражение, являющееся произведением конечного числа чисел и букв.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Нижний колонтитул 1"/>
          <p:cNvSpPr/>
          <p:nvPr/>
        </p:nvSpPr>
        <p:spPr>
          <a:xfrm>
            <a:off x="304920" y="6410160"/>
            <a:ext cx="599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d16349"/>
                </a:solidFill>
                <a:latin typeface="Georgia"/>
              </a:rPr>
              <a:t>Актуализация</a:t>
            </a:r>
            <a:r>
              <a:rPr b="0" lang="en-US" sz="3300" spc="-1" strike="noStrike">
                <a:solidFill>
                  <a:srgbClr val="d16349"/>
                </a:solidFill>
                <a:latin typeface="Georgia"/>
              </a:rPr>
              <a:t> </a:t>
            </a:r>
            <a:br>
              <a:rPr sz="3300"/>
            </a:br>
            <a:r>
              <a:rPr b="0" lang="ru-RU" sz="3200" spc="-1" strike="noStrike">
                <a:solidFill>
                  <a:srgbClr val="d16349"/>
                </a:solidFill>
                <a:latin typeface="Georgia"/>
              </a:rPr>
              <a:t>задание 1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928800" y="1527120"/>
            <a:ext cx="3571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∙(-9)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4∙(-8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7t∙9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y∙(-7y)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(-3a)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Нижний колонтитул 1"/>
          <p:cNvSpPr/>
          <p:nvPr/>
        </p:nvSpPr>
        <p:spPr>
          <a:xfrm>
            <a:off x="304920" y="6410160"/>
            <a:ext cx="599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d16349"/>
                </a:solidFill>
                <a:latin typeface="Georgia"/>
              </a:rPr>
              <a:t>Актуализаци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-6∙(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a+8)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x∙(5x-17)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3x∙(x-21)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-7a∙(2a-3)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(x+2)∙(y+3)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Нижний колонтитул 1"/>
          <p:cNvSpPr/>
          <p:nvPr/>
        </p:nvSpPr>
        <p:spPr>
          <a:xfrm>
            <a:off x="304920" y="6410160"/>
            <a:ext cx="700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8" name="Object 1"/>
              <p:cNvSpPr txBox="1"/>
              <p:nvPr/>
            </p:nvSpPr>
            <p:spPr>
              <a:xfrm>
                <a:off x="0" y="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629" name=""/>
          <p:cNvGraphicFramePr/>
          <p:nvPr/>
        </p:nvGraphicFramePr>
        <p:xfrm>
          <a:off x="2143080" y="571680"/>
          <a:ext cx="4714920" cy="3294000"/>
        </p:xfrm>
        <a:graphic>
          <a:graphicData uri="http://schemas.openxmlformats.org/drawingml/2006/table">
            <a:tbl>
              <a:tblPr/>
              <a:tblGrid>
                <a:gridCol w="173520"/>
                <a:gridCol w="1102320"/>
                <a:gridCol w="3154320"/>
                <a:gridCol w="284760"/>
              </a:tblGrid>
              <a:tr h="2030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3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0" name="Rectangle 3"/>
          <p:cNvSpPr/>
          <p:nvPr/>
        </p:nvSpPr>
        <p:spPr>
          <a:xfrm>
            <a:off x="1857240" y="133920"/>
            <a:ext cx="55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а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Object 2"/>
              <p:cNvSpPr txBox="1"/>
              <p:nvPr/>
            </p:nvSpPr>
            <p:spPr>
              <a:xfrm>
                <a:off x="0" y="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32" name="Rectangle 4"/>
          <p:cNvSpPr/>
          <p:nvPr/>
        </p:nvSpPr>
        <p:spPr>
          <a:xfrm>
            <a:off x="2000160" y="3646080"/>
            <a:ext cx="564372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5"/>
          <p:cNvSpPr/>
          <p:nvPr/>
        </p:nvSpPr>
        <p:spPr>
          <a:xfrm>
            <a:off x="285840" y="4078440"/>
            <a:ext cx="857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S= (a+ b)(c+ d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S=S1+S2+S3+S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=ad + ac+ bd + 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a+ b)(c+ d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 +ac + bd + 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7"/>
          <p:cNvSpPr/>
          <p:nvPr/>
        </p:nvSpPr>
        <p:spPr>
          <a:xfrm>
            <a:off x="1928880" y="10717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8"/>
          <p:cNvSpPr/>
          <p:nvPr/>
        </p:nvSpPr>
        <p:spPr>
          <a:xfrm>
            <a:off x="1928880" y="29289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Нижний колонтитул 1"/>
          <p:cNvSpPr/>
          <p:nvPr/>
        </p:nvSpPr>
        <p:spPr>
          <a:xfrm>
            <a:off x="304920" y="6308640"/>
            <a:ext cx="6788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357120" y="2819520"/>
            <a:ext cx="8786880" cy="3109680"/>
          </a:xfrm>
          <a:prstGeom prst="rect">
            <a:avLst/>
          </a:prstGeom>
          <a:solidFill>
            <a:srgbClr val="c5d1d7"/>
          </a:solidFill>
          <a:ln w="0">
            <a:noFill/>
          </a:ln>
        </p:spPr>
        <p:txBody>
          <a:bodyPr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99"/>
                </a:solidFill>
                <a:latin typeface="Times New Roman"/>
              </a:rPr>
              <a:t>Я многочлен от слова </a:t>
            </a:r>
            <a:r>
              <a:rPr b="0" i="1" lang="ru-RU" sz="3600" spc="-1" strike="noStrike">
                <a:solidFill>
                  <a:srgbClr val="00a3d6"/>
                </a:solidFill>
                <a:latin typeface="Times New Roman"/>
              </a:rPr>
              <a:t>«много»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99"/>
                </a:solidFill>
                <a:latin typeface="Times New Roman"/>
              </a:rPr>
              <a:t>Во мне всегда сидит тревога: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a3d6"/>
                </a:solidFill>
                <a:latin typeface="Times New Roman"/>
              </a:rPr>
              <a:t>Как</a:t>
            </a:r>
            <a:r>
              <a:rPr b="0" i="1" lang="ru-RU" sz="3600" spc="-1" strike="noStrike">
                <a:solidFill>
                  <a:srgbClr val="000099"/>
                </a:solidFill>
                <a:latin typeface="Times New Roman"/>
              </a:rPr>
              <a:t> одночлены все собрать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99"/>
                </a:solidFill>
                <a:latin typeface="Times New Roman"/>
              </a:rPr>
              <a:t>В какую </a:t>
            </a:r>
            <a:r>
              <a:rPr b="0" i="1" lang="ru-RU" sz="3600" spc="-1" strike="noStrike">
                <a:solidFill>
                  <a:srgbClr val="00a3d6"/>
                </a:solidFill>
                <a:latin typeface="Times New Roman"/>
              </a:rPr>
              <a:t>сумму </a:t>
            </a:r>
            <a:r>
              <a:rPr b="0" i="1" lang="ru-RU" sz="3600" spc="-1" strike="noStrike">
                <a:solidFill>
                  <a:srgbClr val="000099"/>
                </a:solidFill>
                <a:latin typeface="Times New Roman"/>
              </a:rPr>
              <a:t>записать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title"/>
          </p:nvPr>
        </p:nvSpPr>
        <p:spPr>
          <a:xfrm>
            <a:off x="108000" y="380520"/>
            <a:ext cx="8856720" cy="1752840"/>
          </a:xfrm>
          <a:prstGeom prst="rect">
            <a:avLst/>
          </a:prstGeom>
          <a:solidFill>
            <a:srgbClr val="c5d1d7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imes New Roman"/>
              </a:rPr>
              <a:t>Что называется многочленом?</a:t>
            </a: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TextBox 3"/>
          <p:cNvSpPr/>
          <p:nvPr/>
        </p:nvSpPr>
        <p:spPr>
          <a:xfrm>
            <a:off x="-140040" y="1785960"/>
            <a:ext cx="96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Многочленом называется сумма одночле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Нижний колонтитул 2"/>
          <p:cNvSpPr/>
          <p:nvPr/>
        </p:nvSpPr>
        <p:spPr>
          <a:xfrm>
            <a:off x="304920" y="6308640"/>
            <a:ext cx="6427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БОУ СОШ № 40                       Вазагова З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1357200" y="3857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 Unicode MS"/>
              </a:rPr>
              <a:t>(</a:t>
            </a:r>
            <a:r>
              <a:rPr b="1" i="1" lang="en-US" sz="3200" spc="-1" strike="noStrike">
                <a:solidFill>
                  <a:srgbClr val="000099"/>
                </a:solidFill>
                <a:latin typeface="Arial Unicode MS"/>
              </a:rPr>
              <a:t>a</a:t>
            </a:r>
            <a:r>
              <a:rPr b="1" i="1" lang="en-US" sz="3200" spc="-1" strike="noStrike">
                <a:solidFill>
                  <a:srgbClr val="000099"/>
                </a:solidFill>
                <a:latin typeface="Century Schoolbook"/>
              </a:rPr>
              <a:t>+b</a:t>
            </a:r>
            <a:r>
              <a:rPr b="1" i="1" lang="ru-RU" sz="3200" spc="-1" strike="noStrike">
                <a:solidFill>
                  <a:srgbClr val="000099"/>
                </a:solidFill>
                <a:latin typeface="Century Schoolbook"/>
              </a:rPr>
              <a:t>)</a:t>
            </a:r>
            <a:r>
              <a:rPr b="1" i="1" lang="en-US" sz="3200" spc="-1" strike="noStrike">
                <a:solidFill>
                  <a:srgbClr val="000099"/>
                </a:solidFill>
                <a:latin typeface="Century Schoolbook"/>
              </a:rPr>
              <a:t>(c+d) =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0099"/>
                </a:solidFill>
                <a:latin typeface="Century Schoolbook"/>
              </a:rPr>
              <a:t>=</a:t>
            </a:r>
            <a:r>
              <a:rPr b="1" i="1" lang="en-US" sz="3200" spc="-1" strike="noStrike">
                <a:solidFill>
                  <a:srgbClr val="000099"/>
                </a:solidFill>
                <a:latin typeface="Century Schoolbook"/>
              </a:rPr>
              <a:t> ac + ad + bc + bd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title"/>
          </p:nvPr>
        </p:nvSpPr>
        <p:spPr>
          <a:xfrm>
            <a:off x="785880" y="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d16349"/>
                </a:solidFill>
                <a:latin typeface="Times New Roman"/>
              </a:rPr>
              <a:t>Правило </a:t>
            </a:r>
            <a:r>
              <a:rPr b="1" i="1" lang="en-US" sz="4200" spc="-1" strike="noStrike">
                <a:solidFill>
                  <a:srgbClr val="d16349"/>
                </a:solidFill>
                <a:latin typeface="Times New Roman"/>
              </a:rPr>
              <a:t>(“</a:t>
            </a:r>
            <a:r>
              <a:rPr b="1" i="1" lang="ru-RU" sz="4200" spc="-1" strike="noStrike">
                <a:solidFill>
                  <a:srgbClr val="d16349"/>
                </a:solidFill>
                <a:latin typeface="Times New Roman"/>
              </a:rPr>
              <a:t>фонтана</a:t>
            </a:r>
            <a:r>
              <a:rPr b="1" i="1" lang="en-US" sz="4200" spc="-1" strike="noStrike">
                <a:solidFill>
                  <a:srgbClr val="d16349"/>
                </a:solidFill>
                <a:latin typeface="Times New Roman"/>
              </a:rPr>
              <a:t>”)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AutoShape 6"/>
          <p:cNvSpPr/>
          <p:nvPr/>
        </p:nvSpPr>
        <p:spPr>
          <a:xfrm>
            <a:off x="3429000" y="3500280"/>
            <a:ext cx="1571760" cy="714600"/>
          </a:xfrm>
          <a:custGeom>
            <a:avLst/>
            <a:gdLst>
              <a:gd name="textAreaLeft" fmla="*/ 230040 w 1571760"/>
              <a:gd name="textAreaRight" fmla="*/ 1341720 w 1571760"/>
              <a:gd name="textAreaTop" fmla="*/ 104400 h 714600"/>
              <a:gd name="textAreaBottom" fmla="*/ 610200 h 714600"/>
            </a:gdLst>
            <a:ahLst/>
            <a:rect l="textAreaLeft" t="textAreaTop" r="textAreaRight" b="textAreaBottom"/>
            <a:pathLst>
              <a:path w="21600" h="21600">
                <a:moveTo>
                  <a:pt x="20771" y="8192"/>
                </a:moveTo>
                <a:cubicBezTo>
                  <a:pt x="19585" y="3656"/>
                  <a:pt x="15487" y="493"/>
                  <a:pt x="10800" y="493"/>
                </a:cubicBezTo>
                <a:cubicBezTo>
                  <a:pt x="5107" y="493"/>
                  <a:pt x="493" y="5107"/>
                  <a:pt x="493" y="10800"/>
                </a:cubicBezTo>
                <a:cubicBezTo>
                  <a:pt x="492" y="11358"/>
                  <a:pt x="538" y="11915"/>
                  <a:pt x="628" y="12466"/>
                </a:cubicBezTo>
                <a:lnTo>
                  <a:pt x="142" y="12546"/>
                </a:lnTo>
                <a:cubicBezTo>
                  <a:pt x="47" y="11968"/>
                  <a:pt x="0" y="11384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5712" y="-1"/>
                  <a:pt x="20005" y="3314"/>
                  <a:pt x="21248" y="8067"/>
                </a:cubicBezTo>
                <a:lnTo>
                  <a:pt x="23860" y="7384"/>
                </a:lnTo>
                <a:lnTo>
                  <a:pt x="21756" y="10980"/>
                </a:lnTo>
                <a:lnTo>
                  <a:pt x="18159" y="8875"/>
                </a:lnTo>
                <a:lnTo>
                  <a:pt x="20771" y="8192"/>
                </a:lnTo>
                <a:close/>
              </a:path>
            </a:pathLst>
          </a:custGeom>
          <a:solidFill>
            <a:srgbClr val="00a3d6"/>
          </a:solidFill>
          <a:ln w="9360">
            <a:solidFill>
              <a:srgbClr val="00a3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6"/>
          <p:cNvSpPr/>
          <p:nvPr/>
        </p:nvSpPr>
        <p:spPr>
          <a:xfrm>
            <a:off x="3429000" y="3571920"/>
            <a:ext cx="1000080" cy="714240"/>
          </a:xfrm>
          <a:custGeom>
            <a:avLst/>
            <a:gdLst>
              <a:gd name="textAreaLeft" fmla="*/ 146160 w 1000080"/>
              <a:gd name="textAreaRight" fmla="*/ 853920 w 1000080"/>
              <a:gd name="textAreaTop" fmla="*/ 104400 h 714240"/>
              <a:gd name="textAreaBottom" fmla="*/ 609840 h 714240"/>
            </a:gdLst>
            <a:ahLst/>
            <a:rect l="textAreaLeft" t="textAreaTop" r="textAreaRight" b="textAreaBottom"/>
            <a:pathLst>
              <a:path w="21600" h="21600">
                <a:moveTo>
                  <a:pt x="20771" y="8192"/>
                </a:moveTo>
                <a:cubicBezTo>
                  <a:pt x="19585" y="3656"/>
                  <a:pt x="15487" y="493"/>
                  <a:pt x="10800" y="493"/>
                </a:cubicBezTo>
                <a:cubicBezTo>
                  <a:pt x="5107" y="493"/>
                  <a:pt x="493" y="5107"/>
                  <a:pt x="493" y="10800"/>
                </a:cubicBezTo>
                <a:cubicBezTo>
                  <a:pt x="492" y="11358"/>
                  <a:pt x="538" y="11915"/>
                  <a:pt x="628" y="12466"/>
                </a:cubicBezTo>
                <a:lnTo>
                  <a:pt x="142" y="12546"/>
                </a:lnTo>
                <a:cubicBezTo>
                  <a:pt x="47" y="11968"/>
                  <a:pt x="0" y="11384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5712" y="-1"/>
                  <a:pt x="20005" y="3314"/>
                  <a:pt x="21248" y="8067"/>
                </a:cubicBezTo>
                <a:lnTo>
                  <a:pt x="23860" y="7384"/>
                </a:lnTo>
                <a:lnTo>
                  <a:pt x="21756" y="10980"/>
                </a:lnTo>
                <a:lnTo>
                  <a:pt x="18159" y="8875"/>
                </a:lnTo>
                <a:lnTo>
                  <a:pt x="20771" y="8192"/>
                </a:lnTo>
                <a:close/>
              </a:path>
            </a:pathLst>
          </a:custGeom>
          <a:solidFill>
            <a:srgbClr val="00a3d6"/>
          </a:solidFill>
          <a:ln w="9360">
            <a:solidFill>
              <a:srgbClr val="00a3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9"/>
          <p:cNvSpPr/>
          <p:nvPr/>
        </p:nvSpPr>
        <p:spPr>
          <a:xfrm flipV="1">
            <a:off x="4071960" y="3929040"/>
            <a:ext cx="642960" cy="642960"/>
          </a:xfrm>
          <a:custGeom>
            <a:avLst/>
            <a:gdLst>
              <a:gd name="textAreaLeft" fmla="*/ 93960 w 642960"/>
              <a:gd name="textAreaRight" fmla="*/ 549000 w 642960"/>
              <a:gd name="textAreaTop" fmla="*/ 93960 h 642960"/>
              <a:gd name="textAreaBottom" fmla="*/ 549000 h 642960"/>
            </a:gdLst>
            <a:ahLst/>
            <a:rect l="textAreaLeft" t="textAreaTop" r="textAreaRight" b="textAreaBottom"/>
            <a:pathLst>
              <a:path w="21600" h="21600">
                <a:moveTo>
                  <a:pt x="20771" y="8192"/>
                </a:moveTo>
                <a:cubicBezTo>
                  <a:pt x="19585" y="3656"/>
                  <a:pt x="15487" y="493"/>
                  <a:pt x="10800" y="493"/>
                </a:cubicBezTo>
                <a:cubicBezTo>
                  <a:pt x="5107" y="493"/>
                  <a:pt x="493" y="5107"/>
                  <a:pt x="493" y="10800"/>
                </a:cubicBezTo>
                <a:cubicBezTo>
                  <a:pt x="492" y="10932"/>
                  <a:pt x="495" y="11065"/>
                  <a:pt x="500" y="11197"/>
                </a:cubicBezTo>
                <a:lnTo>
                  <a:pt x="8" y="11216"/>
                </a:lnTo>
                <a:cubicBezTo>
                  <a:pt x="2" y="11077"/>
                  <a:pt x="0" y="10938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5712" y="-1"/>
                  <a:pt x="20005" y="3314"/>
                  <a:pt x="21248" y="8067"/>
                </a:cubicBezTo>
                <a:lnTo>
                  <a:pt x="23860" y="7384"/>
                </a:lnTo>
                <a:lnTo>
                  <a:pt x="21756" y="10980"/>
                </a:lnTo>
                <a:lnTo>
                  <a:pt x="18159" y="8875"/>
                </a:lnTo>
                <a:lnTo>
                  <a:pt x="20771" y="8192"/>
                </a:lnTo>
                <a:close/>
              </a:path>
            </a:pathLst>
          </a:custGeom>
          <a:solidFill>
            <a:srgbClr val="ccb40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9"/>
          <p:cNvSpPr/>
          <p:nvPr/>
        </p:nvSpPr>
        <p:spPr>
          <a:xfrm flipV="1">
            <a:off x="4000680" y="3929040"/>
            <a:ext cx="1214280" cy="642960"/>
          </a:xfrm>
          <a:custGeom>
            <a:avLst/>
            <a:gdLst>
              <a:gd name="textAreaLeft" fmla="*/ 177840 w 1214280"/>
              <a:gd name="textAreaRight" fmla="*/ 1036440 w 1214280"/>
              <a:gd name="textAreaTop" fmla="*/ 93960 h 642960"/>
              <a:gd name="textAreaBottom" fmla="*/ 549000 h 642960"/>
            </a:gdLst>
            <a:ahLst/>
            <a:rect l="textAreaLeft" t="textAreaTop" r="textAreaRight" b="textAreaBottom"/>
            <a:pathLst>
              <a:path w="21600" h="21600">
                <a:moveTo>
                  <a:pt x="20771" y="8192"/>
                </a:moveTo>
                <a:cubicBezTo>
                  <a:pt x="19585" y="3656"/>
                  <a:pt x="15487" y="493"/>
                  <a:pt x="10800" y="493"/>
                </a:cubicBezTo>
                <a:cubicBezTo>
                  <a:pt x="5107" y="493"/>
                  <a:pt x="493" y="5107"/>
                  <a:pt x="493" y="10800"/>
                </a:cubicBezTo>
                <a:cubicBezTo>
                  <a:pt x="492" y="10932"/>
                  <a:pt x="495" y="11065"/>
                  <a:pt x="500" y="11197"/>
                </a:cubicBezTo>
                <a:lnTo>
                  <a:pt x="8" y="11216"/>
                </a:lnTo>
                <a:cubicBezTo>
                  <a:pt x="2" y="11077"/>
                  <a:pt x="0" y="10938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5712" y="-1"/>
                  <a:pt x="20005" y="3314"/>
                  <a:pt x="21248" y="8067"/>
                </a:cubicBezTo>
                <a:lnTo>
                  <a:pt x="23860" y="7384"/>
                </a:lnTo>
                <a:lnTo>
                  <a:pt x="21756" y="10980"/>
                </a:lnTo>
                <a:lnTo>
                  <a:pt x="18159" y="8875"/>
                </a:lnTo>
                <a:lnTo>
                  <a:pt x="20771" y="8192"/>
                </a:lnTo>
                <a:close/>
              </a:path>
            </a:pathLst>
          </a:custGeom>
          <a:solidFill>
            <a:srgbClr val="ccb40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12"/>
          <p:cNvSpPr/>
          <p:nvPr/>
        </p:nvSpPr>
        <p:spPr>
          <a:xfrm>
            <a:off x="2643120" y="5429160"/>
            <a:ext cx="86508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12"/>
          <p:cNvSpPr/>
          <p:nvPr/>
        </p:nvSpPr>
        <p:spPr>
          <a:xfrm>
            <a:off x="3857760" y="5429160"/>
            <a:ext cx="86508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12"/>
          <p:cNvSpPr/>
          <p:nvPr/>
        </p:nvSpPr>
        <p:spPr>
          <a:xfrm>
            <a:off x="4857840" y="5429160"/>
            <a:ext cx="865080" cy="0"/>
          </a:xfrm>
          <a:prstGeom prst="line">
            <a:avLst/>
          </a:prstGeom>
          <a:ln w="507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12"/>
          <p:cNvSpPr/>
          <p:nvPr/>
        </p:nvSpPr>
        <p:spPr>
          <a:xfrm>
            <a:off x="6143760" y="5429160"/>
            <a:ext cx="865080" cy="0"/>
          </a:xfrm>
          <a:prstGeom prst="line">
            <a:avLst/>
          </a:prstGeom>
          <a:ln w="507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15"/>
          <p:cNvSpPr/>
          <p:nvPr/>
        </p:nvSpPr>
        <p:spPr>
          <a:xfrm>
            <a:off x="222120" y="981000"/>
            <a:ext cx="874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Чтобы умножить многочлен на многочлен нужно каждый член одного многочлена  умножить на  каждый член другого многочлена и полученные  произведения слож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Нижний колонтитул 2"/>
          <p:cNvSpPr/>
          <p:nvPr/>
        </p:nvSpPr>
        <p:spPr>
          <a:xfrm>
            <a:off x="304920" y="6410160"/>
            <a:ext cx="627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9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d16349"/>
                </a:solidFill>
                <a:latin typeface="Times New Roman"/>
              </a:rPr>
              <a:t>Не много из истории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4" name="Picture 4" descr="C:\Users\МБОУ СОШ 40\Pictures\5-johann-carl-friedrich-gauss-german-science-source.jpg"/>
          <p:cNvPicPr/>
          <p:nvPr/>
        </p:nvPicPr>
        <p:blipFill>
          <a:blip r:embed="rId1"/>
          <a:stretch/>
        </p:blipFill>
        <p:spPr>
          <a:xfrm>
            <a:off x="7429680" y="142920"/>
            <a:ext cx="1522080" cy="1827000"/>
          </a:xfrm>
          <a:prstGeom prst="rect">
            <a:avLst/>
          </a:prstGeom>
          <a:ln w="0">
            <a:noFill/>
          </a:ln>
        </p:spPr>
      </p:pic>
      <p:sp>
        <p:nvSpPr>
          <p:cNvPr id="655" name="Прямоугольник 4"/>
          <p:cNvSpPr/>
          <p:nvPr/>
        </p:nvSpPr>
        <p:spPr>
          <a:xfrm>
            <a:off x="428760" y="1720800"/>
            <a:ext cx="8286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л Фридрих Гаусс в 1799 г. привел несколько доказательств основной теоремы алгебры: «Число комплексных корней многочлена равно степени многочлена ». Далее и по сегодняшний день были приведены другие работы, связанные с многочленами, такие как: «Теорема Коши», «Теорема Лагерра», «Теорема Гаусса-Люка», «Гипотеза Сендова-Илиева», «Теорема Штурма», «Ряд Лагранжа-Бюрмана», «Признак Эйзенштейна»  и 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Нижний колонтитул 1"/>
          <p:cNvSpPr/>
          <p:nvPr/>
        </p:nvSpPr>
        <p:spPr>
          <a:xfrm>
            <a:off x="428760" y="6308640"/>
            <a:ext cx="57798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МБОУ СОШ № 40                       Вазагова З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2:58:39Z</dcterms:created>
  <dc:creator>власенко</dc:creator>
  <dc:description/>
  <dc:language>en-US</dc:language>
  <cp:lastModifiedBy>RePack by Diakov</cp:lastModifiedBy>
  <dcterms:modified xsi:type="dcterms:W3CDTF">2022-04-10T17:43:47Z</dcterms:modified>
  <cp:revision>151</cp:revision>
  <dc:subject/>
  <dc:title>Умножение многочленов</dc:title>
</cp:coreProperties>
</file>