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FEC-4670-4EF6-B168-759D6B73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7DD-29EB-430B-BEDF-B3CE4CD7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4262D-74BD-4976-83F7-A1F1E958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392F3-EE3D-47AE-9933-4F0DF2A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58DA2-C041-4FA5-85CC-CC2DF46B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B1FC5-678D-4D97-AEE5-2BD936D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6149E-C681-4213-BE64-0605168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D3E1D-CF27-445A-984D-45F74F2F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18148-A6BF-4BFE-8F31-02A6DEFD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349B5-B768-4D65-BA51-A33D2CDF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0062B-76F6-4BBF-A7E4-45669889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F3A99-FB73-4A66-8924-310233FA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F18-8126-490C-BE54-1EDA9785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45FB6-E1DE-42A5-AF4B-2A7F3777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6F203-7DE8-4F88-8E2B-997FE206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38422-9088-4E0E-9D3A-BE567D91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5141D-2889-40FC-B199-9676049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D5640-D7FB-427F-865D-17B8DD5C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77D8A-AACD-4244-93AC-B41D9176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A82FF-9C97-4125-B421-0B3A0A54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FC4F9-1CA3-498E-9691-5F0E530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5FC42-903B-4050-94DE-82F67F9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20FD9-D712-4B98-BCBB-AB2484C1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E73-361B-4E1C-8DD4-E127BA40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674D8-1CD9-43E8-BBD2-644D5D1B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69A7D-E7C9-412B-8104-24DF8591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08D82-3A68-40CE-8C8F-C0FC2986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6C210-1D7A-4FE7-8B5F-3C4E4641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C2194-8C40-40A6-95B3-5AC97C7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8D2A8-4206-49ED-B7AD-2773699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EFA60-6FAE-47A2-93AB-3BA82CC9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08CD8-2767-4FD3-8846-4E19F98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2941-398A-44BA-B610-467E9D45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988A1-EDED-4EF2-A93A-9B3B2E1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F77A-0082-4057-91C4-75F4260E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1BF2B-605C-4025-B002-5A51455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258BE-09DD-44AC-A820-D04B18DF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086F9-2F4E-4734-A4E1-9EE1CD49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F4DA9-B27C-48C1-B40E-ED5F3150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51929-7F6C-4ED8-B6F9-5536A124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FDCAF-4F83-4391-9483-2099AE11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70D8A-7F68-44D7-A800-7BF04C6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EB564-C6F2-4F59-98E6-0E555B9E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67E29-84A8-4C6B-9B33-CE1DA81A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5F493-5E12-4D7E-8BEC-4238E28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5709-6105-4BB5-A4ED-7B43FD54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744D3-8DBA-49CD-A198-8C908CF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5D30D-BB3D-4A25-BED3-A58349E0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B139A-A0FC-45BA-BF47-A404C93B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021CF-BFA8-4CA4-B88F-6EE527E9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8831E-6908-4B45-9132-01F8FBAA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1E0-A40C-4417-86B6-B6F53584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A035-5F5F-4A07-9E94-0F7D14B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8246-C6A7-4396-B705-C3B4A182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8353-C8A3-4343-A107-9EE32634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D496-5932-4E06-8DB2-6008AB2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ABF-A6E9-4D6A-883C-4853373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497-2251-426A-AA86-241B3353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3B14-DB13-4E69-AFE1-E5F5747A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AFA3-E964-471D-A08F-FADA3EF4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099E-4683-48BC-99A3-11BD1CF4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DD75-C617-46B0-BA3D-628F6C61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D4A9-D5A3-426B-ABCA-3AC65EC0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02FD-97D5-47FE-9BC0-F603BCF6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A669-70FD-400E-B4D2-6C5E7F36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DB35-4970-4AF5-A1D1-0518DC99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5029-167C-48A2-8D29-8FA43EE9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57A-3F34-4F57-97AE-00A5D93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EBE2-C4B7-430B-BA95-3092780F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CB62-92DF-4270-B50F-F980629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A9BC-908B-4C68-990A-45548E2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7DFB-D38A-4327-8DCC-6BB79BC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53F7-9918-4CF7-ABA7-753C668C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2BDD-EAE3-461F-8F96-673F5236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B2D35-7339-4C84-A4B9-2AB47735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08475-0231-47DE-8B5D-78DB162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1F3A-18D0-465C-9544-68780DAF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BB85-FBA5-4E4E-B365-E1B5DAF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868-A518-4F2C-9D82-5D65D8D4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5713-819F-47E9-92C5-3B94BA0A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1B89-CDB0-413E-8F90-BE28EC79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6BCE6-4665-4FA6-A429-CA0DD8E7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7516-9A6B-4E97-951E-6C4F258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266F-941C-4F04-BB38-241A0B3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2542-F794-4E46-88F6-83EBF8A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08BFD-7894-4180-8FD0-BA32B702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2086-30E0-4F32-AE24-C813F454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D0A8-5D44-4D02-A1B6-86E32708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23547-E7D2-402B-8C5E-CA973693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B38-6C71-4045-9C7A-59B49F48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CA553-02AC-48FB-B656-B652107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929F-21A0-42A4-AB5F-E62FC317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766A5-FDE6-4A84-A9E7-85126FE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C03C-34E8-4291-890D-CFE419BC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82F94-4942-4D9F-8CB5-E1B311A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387E-3978-48F0-8B22-4D50472C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73261-0A65-4228-AF5E-D7495B8D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C2A4-3509-4EBC-8ED3-CA76D8E0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1EE7-5227-49B3-8B4F-5E637A9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8952-ED90-4B4E-9BD3-594958DD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021-42C0-487A-A2DE-F4A5F5EB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A913-CDDD-420F-A774-2BC939E8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8C04-2A1F-484F-80E8-061744B2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44B61-7533-4380-9B11-D74132D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B99E-204F-447E-B7B4-475379F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2DD4-1966-47BD-A55F-A3F3FA6D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C5E2D-E36C-4F66-B9F4-7117FBEE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AF4B5-E3F7-42B9-A150-72220176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1081-D7D9-4BB0-B61F-B988315A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CB5D7-2121-431F-90D9-0F8BA81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27EE-186F-42C5-B980-264F126A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2B3-B5B5-4579-852A-2316ACA1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7B7E8-27C3-4C3D-992A-6F0E2D44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50E9-2747-46F5-9A94-2873BE46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9E51-0F58-4283-9AB9-3373D53E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CDF3-DBE3-4B60-BE6B-478E5789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B0EA6-5896-4E45-9305-6B7EA44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086E-CB40-47AC-912D-21678D38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240C8-198D-4CE4-8C67-A9B4324B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95CE9-A72B-4962-9FFB-B06C9EA3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8B23-8A20-46DC-835B-BADECEB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5B69-E094-4DE5-A2CF-28716F5E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8F5-381C-4E42-9121-C76F75C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FE4F-9BDB-4A7B-9667-3B62B782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8D4F-795B-4632-8433-1A31F0B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8A902-2514-4E5A-A3EB-49037D05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C27C-F620-4A2E-A53C-5C9819ED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076E-31BC-4969-8169-650563C9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49E1E-FD9F-4061-9CED-049E8D5F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CA115-C6F6-4AC6-9715-059D9B7E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35B78-54B7-4DA9-9A3E-4461A324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AE603-1D50-4E36-BF48-A6D09BC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50467-F756-4793-89B8-D7969B9E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3B6-69C3-4DB2-AEBB-1AEA0CB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B002C-7E73-46E4-844F-A1BCF4E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AFE69-EEDB-4ABB-8EFB-78F89075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B897-C5FC-4254-8B03-EA1D3B5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108A0-711C-40BD-AD05-4B12CE7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48C9-DBDF-43E0-8D67-DC51E07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06FA-063A-4D63-9552-249EDBF9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85FD-5A00-4157-A583-6D529347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4F72C-4BCF-40C6-A4CD-A5C9C7DB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FF201-7884-4E4A-AB5B-1CC80B9D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903D2-519C-477C-888D-44BFDC7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7B0D-95CA-4783-A37B-094468B6DC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CD18-DD4F-44F8-9FAB-4C7B59B55F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DDC5-50EF-494D-903C-CA264FD04C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F25E-8387-47A4-B44E-CE0052EEA9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21BD-87D3-4D64-98F2-C563A92173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1AE1-D9B9-4830-A317-5DC5352E92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8092-EB71-4317-B5A1-C54CB8B35B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04DE-98F0-4760-BBD2-0AD6EE34E0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8240-F840-41F9-BD40-BF63891A10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845B-DDB1-40C8-9192-ACFFEE42E1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B7F1-536A-4645-B233-24883E920F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1325-6C87-42F7-8583-878DBCAC29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4"/>
          <p:cNvSpPr/>
          <p:nvPr/>
        </p:nvSpPr>
        <p:spPr>
          <a:xfrm>
            <a:off x="1332000" y="2205000"/>
            <a:ext cx="69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задач на нах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и (дроби) от числа и числа по его части (дроб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Заголовок 1"/>
          <p:cNvSpPr/>
          <p:nvPr/>
        </p:nvSpPr>
        <p:spPr>
          <a:xfrm>
            <a:off x="468360" y="30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«Средняя общеобразовательная школа № 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города Магнит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5"/>
          <p:cNvSpPr/>
          <p:nvPr/>
        </p:nvSpPr>
        <p:spPr>
          <a:xfrm>
            <a:off x="6419160" y="45799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Самойленко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6"/>
          <p:cNvSpPr/>
          <p:nvPr/>
        </p:nvSpPr>
        <p:spPr>
          <a:xfrm>
            <a:off x="4309560" y="5924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4"/>
          <p:cNvSpPr/>
          <p:nvPr/>
        </p:nvSpPr>
        <p:spPr>
          <a:xfrm>
            <a:off x="179280" y="131760"/>
            <a:ext cx="87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1 (б)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ределите длину отрезка,      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вны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Группа 19"/>
          <p:cNvGrpSpPr/>
          <p:nvPr/>
        </p:nvGrpSpPr>
        <p:grpSpPr>
          <a:xfrm>
            <a:off x="6303960" y="135000"/>
            <a:ext cx="515880" cy="916200"/>
            <a:chOff x="6303960" y="135000"/>
            <a:chExt cx="515880" cy="916200"/>
          </a:xfrm>
        </p:grpSpPr>
        <p:sp>
          <p:nvSpPr>
            <p:cNvPr id="670" name="TextBox 14"/>
            <p:cNvSpPr/>
            <p:nvPr/>
          </p:nvSpPr>
          <p:spPr>
            <a:xfrm>
              <a:off x="6365520" y="135000"/>
              <a:ext cx="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Прямая соединительная линия 15"/>
            <p:cNvSpPr/>
            <p:nvPr/>
          </p:nvSpPr>
          <p:spPr>
            <a:xfrm>
              <a:off x="6365880" y="59544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16"/>
            <p:cNvSpPr/>
            <p:nvPr/>
          </p:nvSpPr>
          <p:spPr>
            <a:xfrm>
              <a:off x="6303960" y="591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Прямая соединительная линия 7"/>
          <p:cNvSpPr/>
          <p:nvPr/>
        </p:nvSpPr>
        <p:spPr>
          <a:xfrm>
            <a:off x="90000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9"/>
          <p:cNvSpPr/>
          <p:nvPr/>
        </p:nvSpPr>
        <p:spPr>
          <a:xfrm>
            <a:off x="90000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ая соединительная линия 10"/>
          <p:cNvSpPr/>
          <p:nvPr/>
        </p:nvSpPr>
        <p:spPr>
          <a:xfrm>
            <a:off x="197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11"/>
          <p:cNvSpPr/>
          <p:nvPr/>
        </p:nvSpPr>
        <p:spPr>
          <a:xfrm>
            <a:off x="197964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12"/>
          <p:cNvSpPr/>
          <p:nvPr/>
        </p:nvSpPr>
        <p:spPr>
          <a:xfrm>
            <a:off x="305928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13"/>
          <p:cNvSpPr/>
          <p:nvPr/>
        </p:nvSpPr>
        <p:spPr>
          <a:xfrm>
            <a:off x="30592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14"/>
          <p:cNvSpPr/>
          <p:nvPr/>
        </p:nvSpPr>
        <p:spPr>
          <a:xfrm>
            <a:off x="41403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16"/>
          <p:cNvSpPr/>
          <p:nvPr/>
        </p:nvSpPr>
        <p:spPr>
          <a:xfrm>
            <a:off x="4140360" y="1700280"/>
            <a:ext cx="10792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17"/>
          <p:cNvSpPr/>
          <p:nvPr/>
        </p:nvSpPr>
        <p:spPr>
          <a:xfrm>
            <a:off x="521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18"/>
          <p:cNvSpPr/>
          <p:nvPr/>
        </p:nvSpPr>
        <p:spPr>
          <a:xfrm>
            <a:off x="52228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19"/>
          <p:cNvSpPr/>
          <p:nvPr/>
        </p:nvSpPr>
        <p:spPr>
          <a:xfrm>
            <a:off x="63039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авая фигурная скобка 20"/>
          <p:cNvSpPr/>
          <p:nvPr/>
        </p:nvSpPr>
        <p:spPr>
          <a:xfrm rot="5400000">
            <a:off x="2321280" y="386280"/>
            <a:ext cx="396720" cy="3240360"/>
          </a:xfrm>
          <a:custGeom>
            <a:avLst/>
            <a:gdLst>
              <a:gd name="textAreaLeft" fmla="*/ 0 w 396720"/>
              <a:gd name="textAreaRight" fmla="*/ 143280 w 396720"/>
              <a:gd name="textAreaTop" fmla="*/ 10080 h 3240360"/>
              <a:gd name="textAreaBottom" fmla="*/ 323028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"/>
                  <a:pt x="10800" y="220"/>
                </a:cubicBezTo>
                <a:lnTo>
                  <a:pt x="10800" y="10509"/>
                </a:lnTo>
                <a:cubicBezTo>
                  <a:pt x="10800" y="10619"/>
                  <a:pt x="16200" y="10729"/>
                  <a:pt x="21600" y="10729"/>
                </a:cubicBezTo>
                <a:cubicBezTo>
                  <a:pt x="16200" y="10729"/>
                  <a:pt x="10800" y="10839"/>
                  <a:pt x="10800" y="10949"/>
                </a:cubicBezTo>
                <a:lnTo>
                  <a:pt x="10800" y="21380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21"/>
          <p:cNvSpPr/>
          <p:nvPr/>
        </p:nvSpPr>
        <p:spPr>
          <a:xfrm>
            <a:off x="2127600" y="220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23"/>
          <p:cNvSpPr/>
          <p:nvPr/>
        </p:nvSpPr>
        <p:spPr>
          <a:xfrm>
            <a:off x="1042920" y="2924280"/>
            <a:ext cx="526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резка составляют  1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 : 3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5 = 25 (см) – длина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2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Группа 19"/>
          <p:cNvGrpSpPr/>
          <p:nvPr/>
        </p:nvGrpSpPr>
        <p:grpSpPr>
          <a:xfrm>
            <a:off x="1104840" y="2706840"/>
            <a:ext cx="453960" cy="916920"/>
            <a:chOff x="1104840" y="2706840"/>
            <a:chExt cx="453960" cy="916920"/>
          </a:xfrm>
        </p:grpSpPr>
        <p:sp>
          <p:nvSpPr>
            <p:cNvPr id="688" name="TextBox 14"/>
            <p:cNvSpPr/>
            <p:nvPr/>
          </p:nvSpPr>
          <p:spPr>
            <a:xfrm>
              <a:off x="1158840" y="2706840"/>
              <a:ext cx="31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Прямая соединительная линия 26"/>
            <p:cNvSpPr/>
            <p:nvPr/>
          </p:nvSpPr>
          <p:spPr>
            <a:xfrm>
              <a:off x="1158840" y="3168720"/>
              <a:ext cx="2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Box 16"/>
            <p:cNvSpPr/>
            <p:nvPr/>
          </p:nvSpPr>
          <p:spPr>
            <a:xfrm>
              <a:off x="1104840" y="316404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4"/>
          <p:cNvSpPr/>
          <p:nvPr/>
        </p:nvSpPr>
        <p:spPr>
          <a:xfrm>
            <a:off x="179280" y="131760"/>
            <a:ext cx="871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5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 покупку овощей хозяйка израсходовала 180 р., что составило       имевшихся у неё денег. Затем она купила 2 кг яблок по 54 р. за килограмм.  Сколько денег у неё осталось после этих покуп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Группа 19"/>
          <p:cNvGrpSpPr/>
          <p:nvPr/>
        </p:nvGrpSpPr>
        <p:grpSpPr>
          <a:xfrm>
            <a:off x="8523360" y="108000"/>
            <a:ext cx="585720" cy="727560"/>
            <a:chOff x="8523360" y="108000"/>
            <a:chExt cx="585720" cy="727560"/>
          </a:xfrm>
        </p:grpSpPr>
        <p:sp>
          <p:nvSpPr>
            <p:cNvPr id="693" name="TextBox 14"/>
            <p:cNvSpPr/>
            <p:nvPr/>
          </p:nvSpPr>
          <p:spPr>
            <a:xfrm>
              <a:off x="8593200" y="108000"/>
              <a:ext cx="4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Прямая соединительная линия 15"/>
            <p:cNvSpPr/>
            <p:nvPr/>
          </p:nvSpPr>
          <p:spPr>
            <a:xfrm>
              <a:off x="8593200" y="47160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Box 16"/>
            <p:cNvSpPr/>
            <p:nvPr/>
          </p:nvSpPr>
          <p:spPr>
            <a:xfrm>
              <a:off x="8523360" y="46728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4"/>
          <p:cNvSpPr/>
          <p:nvPr/>
        </p:nvSpPr>
        <p:spPr>
          <a:xfrm>
            <a:off x="179280" y="131760"/>
            <a:ext cx="871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5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 покупку овощей хозяйка израсходовала 180 р., что составило       имевшихся у неё денег. Затем она купила 2 кг яблок по 54 р. за килограмм.  Сколько денег у неё осталось после этих покуп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Группа 19"/>
          <p:cNvGrpSpPr/>
          <p:nvPr/>
        </p:nvGrpSpPr>
        <p:grpSpPr>
          <a:xfrm>
            <a:off x="8523360" y="108000"/>
            <a:ext cx="585720" cy="727560"/>
            <a:chOff x="8523360" y="108000"/>
            <a:chExt cx="585720" cy="727560"/>
          </a:xfrm>
        </p:grpSpPr>
        <p:sp>
          <p:nvSpPr>
            <p:cNvPr id="698" name="TextBox 14"/>
            <p:cNvSpPr/>
            <p:nvPr/>
          </p:nvSpPr>
          <p:spPr>
            <a:xfrm>
              <a:off x="8593200" y="108000"/>
              <a:ext cx="4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Прямая соединительная линия 15"/>
            <p:cNvSpPr/>
            <p:nvPr/>
          </p:nvSpPr>
          <p:spPr>
            <a:xfrm>
              <a:off x="8593200" y="47160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Box 16"/>
            <p:cNvSpPr/>
            <p:nvPr/>
          </p:nvSpPr>
          <p:spPr>
            <a:xfrm>
              <a:off x="8523360" y="46728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Прямоугольник 6"/>
          <p:cNvSpPr/>
          <p:nvPr/>
        </p:nvSpPr>
        <p:spPr>
          <a:xfrm>
            <a:off x="395280" y="1557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?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 на овощи – 180 р.,          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на яблоки - ? р., 2 кг по 54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алось - ?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Соединительная линия уступом 11"/>
          <p:cNvCxnSpPr/>
          <p:nvPr/>
        </p:nvCxnSpPr>
        <p:spPr>
          <a:xfrm flipH="1" flipV="1">
            <a:off x="4026600" y="1939320"/>
            <a:ext cx="909000" cy="61020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703" name="Группа 19"/>
          <p:cNvGrpSpPr/>
          <p:nvPr/>
        </p:nvGrpSpPr>
        <p:grpSpPr>
          <a:xfrm>
            <a:off x="4067280" y="2155680"/>
            <a:ext cx="555480" cy="761760"/>
            <a:chOff x="4067280" y="2155680"/>
            <a:chExt cx="555480" cy="761760"/>
          </a:xfrm>
        </p:grpSpPr>
        <p:sp>
          <p:nvSpPr>
            <p:cNvPr id="704" name="TextBox 13"/>
            <p:cNvSpPr/>
            <p:nvPr/>
          </p:nvSpPr>
          <p:spPr>
            <a:xfrm>
              <a:off x="4133520" y="21556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Прямая соединительная линия 17"/>
            <p:cNvSpPr/>
            <p:nvPr/>
          </p:nvSpPr>
          <p:spPr>
            <a:xfrm>
              <a:off x="4133880" y="255240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Box 18"/>
            <p:cNvSpPr/>
            <p:nvPr/>
          </p:nvSpPr>
          <p:spPr>
            <a:xfrm>
              <a:off x="4067280" y="25491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179280" y="131760"/>
            <a:ext cx="871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5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 покупку овощей хозяйка израсходовала 180 р., что составило       имевшихся у неё денег. Затем она купила 2 кг яблок по 54 р. за килограмм.  Сколько денег у неё осталось после этих покуп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Группа 19"/>
          <p:cNvGrpSpPr/>
          <p:nvPr/>
        </p:nvGrpSpPr>
        <p:grpSpPr>
          <a:xfrm>
            <a:off x="8523360" y="108000"/>
            <a:ext cx="585720" cy="727560"/>
            <a:chOff x="8523360" y="108000"/>
            <a:chExt cx="585720" cy="727560"/>
          </a:xfrm>
        </p:grpSpPr>
        <p:sp>
          <p:nvSpPr>
            <p:cNvPr id="709" name="TextBox 14"/>
            <p:cNvSpPr/>
            <p:nvPr/>
          </p:nvSpPr>
          <p:spPr>
            <a:xfrm>
              <a:off x="8593200" y="108000"/>
              <a:ext cx="4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Прямая соединительная линия 15"/>
            <p:cNvSpPr/>
            <p:nvPr/>
          </p:nvSpPr>
          <p:spPr>
            <a:xfrm>
              <a:off x="8593200" y="47160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16"/>
            <p:cNvSpPr/>
            <p:nvPr/>
          </p:nvSpPr>
          <p:spPr>
            <a:xfrm>
              <a:off x="8523360" y="46728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Прямоугольник 6"/>
          <p:cNvSpPr/>
          <p:nvPr/>
        </p:nvSpPr>
        <p:spPr>
          <a:xfrm>
            <a:off x="395280" y="1557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?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 на овощи – 180 р.,          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расходовала на яблоки - ? р., 2 кг по 54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алось - ?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Группа 19"/>
          <p:cNvGrpSpPr/>
          <p:nvPr/>
        </p:nvGrpSpPr>
        <p:grpSpPr>
          <a:xfrm>
            <a:off x="395280" y="3716280"/>
            <a:ext cx="555480" cy="761040"/>
            <a:chOff x="395280" y="3716280"/>
            <a:chExt cx="555480" cy="761040"/>
          </a:xfrm>
        </p:grpSpPr>
        <p:sp>
          <p:nvSpPr>
            <p:cNvPr id="714" name="TextBox 8"/>
            <p:cNvSpPr/>
            <p:nvPr/>
          </p:nvSpPr>
          <p:spPr>
            <a:xfrm>
              <a:off x="461520" y="37162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Прямая соединительная линия 9"/>
            <p:cNvSpPr/>
            <p:nvPr/>
          </p:nvSpPr>
          <p:spPr>
            <a:xfrm>
              <a:off x="461880" y="411336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Box 10"/>
            <p:cNvSpPr/>
            <p:nvPr/>
          </p:nvSpPr>
          <p:spPr>
            <a:xfrm>
              <a:off x="395280" y="41090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7" name="Соединительная линия уступом 11"/>
          <p:cNvCxnSpPr/>
          <p:nvPr/>
        </p:nvCxnSpPr>
        <p:spPr>
          <a:xfrm flipH="1" flipV="1">
            <a:off x="4026600" y="1939320"/>
            <a:ext cx="909000" cy="61020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718" name="Группа 19"/>
          <p:cNvGrpSpPr/>
          <p:nvPr/>
        </p:nvGrpSpPr>
        <p:grpSpPr>
          <a:xfrm>
            <a:off x="4067280" y="2155680"/>
            <a:ext cx="555480" cy="761760"/>
            <a:chOff x="4067280" y="2155680"/>
            <a:chExt cx="555480" cy="761760"/>
          </a:xfrm>
        </p:grpSpPr>
        <p:sp>
          <p:nvSpPr>
            <p:cNvPr id="719" name="TextBox 13"/>
            <p:cNvSpPr/>
            <p:nvPr/>
          </p:nvSpPr>
          <p:spPr>
            <a:xfrm>
              <a:off x="4133520" y="215568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Прямая соединительная линия 17"/>
            <p:cNvSpPr/>
            <p:nvPr/>
          </p:nvSpPr>
          <p:spPr>
            <a:xfrm>
              <a:off x="4133880" y="255240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Box 18"/>
            <p:cNvSpPr/>
            <p:nvPr/>
          </p:nvSpPr>
          <p:spPr>
            <a:xfrm>
              <a:off x="4067280" y="25491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Прямоугольник 19"/>
          <p:cNvSpPr/>
          <p:nvPr/>
        </p:nvSpPr>
        <p:spPr>
          <a:xfrm>
            <a:off x="461880" y="386568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х  денег  составляют 18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0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6 =  1080 (р.) –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4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2 = 108 (р.) – израсходовала на яб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80 – (180 + 108) = 792 (р.) - ост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792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179280" y="131760"/>
            <a:ext cx="8713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Запишите натуральные числа  3, 7 в виде дроби  со знаменателем 1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Запишите натуральные числа 4, 10 в виде дроби с числителем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3"/>
          <p:cNvSpPr/>
          <p:nvPr/>
        </p:nvSpPr>
        <p:spPr>
          <a:xfrm>
            <a:off x="1763640" y="981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4"/>
          <p:cNvSpPr/>
          <p:nvPr/>
        </p:nvSpPr>
        <p:spPr>
          <a:xfrm>
            <a:off x="1978200" y="181296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1770120" y="1812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2421000" y="1413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1784520" y="2793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25"/>
          <p:cNvSpPr/>
          <p:nvPr/>
        </p:nvSpPr>
        <p:spPr>
          <a:xfrm>
            <a:off x="1998720" y="362592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6"/>
          <p:cNvSpPr/>
          <p:nvPr/>
        </p:nvSpPr>
        <p:spPr>
          <a:xfrm>
            <a:off x="1790640" y="3625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7"/>
          <p:cNvSpPr/>
          <p:nvPr/>
        </p:nvSpPr>
        <p:spPr>
          <a:xfrm>
            <a:off x="2441520" y="3225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1"/>
          <p:cNvSpPr/>
          <p:nvPr/>
        </p:nvSpPr>
        <p:spPr>
          <a:xfrm>
            <a:off x="1784520" y="4579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ая соединительная линия 32"/>
          <p:cNvSpPr/>
          <p:nvPr/>
        </p:nvSpPr>
        <p:spPr>
          <a:xfrm>
            <a:off x="1998720" y="541188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3"/>
          <p:cNvSpPr/>
          <p:nvPr/>
        </p:nvSpPr>
        <p:spPr>
          <a:xfrm>
            <a:off x="1784520" y="5410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4"/>
          <p:cNvSpPr/>
          <p:nvPr/>
        </p:nvSpPr>
        <p:spPr>
          <a:xfrm>
            <a:off x="2441520" y="50115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8"/>
          <p:cNvSpPr/>
          <p:nvPr/>
        </p:nvSpPr>
        <p:spPr>
          <a:xfrm>
            <a:off x="179280" y="1317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кратите дроб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3"/>
          <p:cNvSpPr/>
          <p:nvPr/>
        </p:nvSpPr>
        <p:spPr>
          <a:xfrm>
            <a:off x="1139760" y="1125360"/>
            <a:ext cx="171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4 ∙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4"/>
          <p:cNvSpPr/>
          <p:nvPr/>
        </p:nvSpPr>
        <p:spPr>
          <a:xfrm>
            <a:off x="1346040" y="1776240"/>
            <a:ext cx="134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1208160" y="1806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6 ∙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6"/>
          <p:cNvSpPr/>
          <p:nvPr/>
        </p:nvSpPr>
        <p:spPr>
          <a:xfrm>
            <a:off x="2441520" y="13622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4"/>
          <p:cNvSpPr/>
          <p:nvPr/>
        </p:nvSpPr>
        <p:spPr>
          <a:xfrm>
            <a:off x="1208160" y="2712960"/>
            <a:ext cx="17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4 ∙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25"/>
          <p:cNvSpPr/>
          <p:nvPr/>
        </p:nvSpPr>
        <p:spPr>
          <a:xfrm>
            <a:off x="1490760" y="33685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6"/>
          <p:cNvSpPr/>
          <p:nvPr/>
        </p:nvSpPr>
        <p:spPr>
          <a:xfrm>
            <a:off x="1139760" y="3368520"/>
            <a:ext cx="19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5 ∙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7"/>
          <p:cNvSpPr/>
          <p:nvPr/>
        </p:nvSpPr>
        <p:spPr>
          <a:xfrm>
            <a:off x="2692440" y="29527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31"/>
          <p:cNvSpPr/>
          <p:nvPr/>
        </p:nvSpPr>
        <p:spPr>
          <a:xfrm>
            <a:off x="1063800" y="413712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2 ∙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32"/>
          <p:cNvSpPr/>
          <p:nvPr/>
        </p:nvSpPr>
        <p:spPr>
          <a:xfrm>
            <a:off x="1490760" y="4906800"/>
            <a:ext cx="185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3"/>
          <p:cNvSpPr/>
          <p:nvPr/>
        </p:nvSpPr>
        <p:spPr>
          <a:xfrm>
            <a:off x="1085760" y="49068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49 ∙ 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4"/>
          <p:cNvSpPr/>
          <p:nvPr/>
        </p:nvSpPr>
        <p:spPr>
          <a:xfrm>
            <a:off x="3348000" y="4491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8"/>
          <p:cNvSpPr/>
          <p:nvPr/>
        </p:nvSpPr>
        <p:spPr>
          <a:xfrm>
            <a:off x="179280" y="1317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кратите дроб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4"/>
          <p:cNvSpPr/>
          <p:nvPr/>
        </p:nvSpPr>
        <p:spPr>
          <a:xfrm>
            <a:off x="179280" y="13176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 4.3. стр. 1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1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ыло 600 р.,        этой суммы истрати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колько денег истрат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Группа 19"/>
          <p:cNvGrpSpPr/>
          <p:nvPr/>
        </p:nvGrpSpPr>
        <p:grpSpPr>
          <a:xfrm>
            <a:off x="3276720" y="550800"/>
            <a:ext cx="628560" cy="854280"/>
            <a:chOff x="3276720" y="550800"/>
            <a:chExt cx="628560" cy="854280"/>
          </a:xfrm>
        </p:grpSpPr>
        <p:pic>
          <p:nvPicPr>
            <p:cNvPr id="592" name="TextBox 14" descr=""/>
            <p:cNvPicPr/>
            <p:nvPr/>
          </p:nvPicPr>
          <p:blipFill>
            <a:blip r:embed="rId1"/>
            <a:stretch/>
          </p:blipFill>
          <p:spPr>
            <a:xfrm>
              <a:off x="3282480" y="550800"/>
              <a:ext cx="561600" cy="5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Прямая соединительная линия 15"/>
            <p:cNvSpPr/>
            <p:nvPr/>
          </p:nvSpPr>
          <p:spPr>
            <a:xfrm>
              <a:off x="3348360" y="912960"/>
              <a:ext cx="39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TextBox 16" descr=""/>
            <p:cNvPicPr/>
            <p:nvPr/>
          </p:nvPicPr>
          <p:blipFill>
            <a:blip r:embed="rId2"/>
            <a:stretch/>
          </p:blipFill>
          <p:spPr>
            <a:xfrm>
              <a:off x="3276720" y="875520"/>
              <a:ext cx="62856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TextBox 6"/>
          <p:cNvSpPr/>
          <p:nvPr/>
        </p:nvSpPr>
        <p:spPr>
          <a:xfrm>
            <a:off x="179280" y="294480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4.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тратили 600 р.,  это составило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воначальной суммы дене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йдите первоначальную сумму де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20"/>
          <p:cNvSpPr/>
          <p:nvPr/>
        </p:nvSpPr>
        <p:spPr>
          <a:xfrm>
            <a:off x="2916360" y="22557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 4.3. стр. 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Группа 19"/>
          <p:cNvGrpSpPr/>
          <p:nvPr/>
        </p:nvGrpSpPr>
        <p:grpSpPr>
          <a:xfrm>
            <a:off x="6300720" y="2944800"/>
            <a:ext cx="628560" cy="853920"/>
            <a:chOff x="6300720" y="2944800"/>
            <a:chExt cx="628560" cy="853920"/>
          </a:xfrm>
        </p:grpSpPr>
        <p:pic>
          <p:nvPicPr>
            <p:cNvPr id="598" name="TextBox 22" descr=""/>
            <p:cNvPicPr/>
            <p:nvPr/>
          </p:nvPicPr>
          <p:blipFill>
            <a:blip r:embed="rId3"/>
            <a:stretch/>
          </p:blipFill>
          <p:spPr>
            <a:xfrm>
              <a:off x="6306480" y="2944800"/>
              <a:ext cx="56160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Прямая соединительная линия 23"/>
            <p:cNvSpPr/>
            <p:nvPr/>
          </p:nvSpPr>
          <p:spPr>
            <a:xfrm>
              <a:off x="6372720" y="3307320"/>
              <a:ext cx="39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TextBox 24" descr=""/>
            <p:cNvPicPr/>
            <p:nvPr/>
          </p:nvPicPr>
          <p:blipFill>
            <a:blip r:embed="rId4"/>
            <a:stretch/>
          </p:blipFill>
          <p:spPr>
            <a:xfrm>
              <a:off x="6300720" y="3266280"/>
              <a:ext cx="6285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4"/>
          <p:cNvSpPr/>
          <p:nvPr/>
        </p:nvSpPr>
        <p:spPr>
          <a:xfrm>
            <a:off x="179280" y="131760"/>
            <a:ext cx="518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 4.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1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ыло 600 р.,        этой суммы истратили.  Сколько денег истрат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Группа 19"/>
          <p:cNvGrpSpPr/>
          <p:nvPr/>
        </p:nvGrpSpPr>
        <p:grpSpPr>
          <a:xfrm>
            <a:off x="2268360" y="444600"/>
            <a:ext cx="689040" cy="608040"/>
            <a:chOff x="2268360" y="444600"/>
            <a:chExt cx="689040" cy="608040"/>
          </a:xfrm>
        </p:grpSpPr>
        <p:pic>
          <p:nvPicPr>
            <p:cNvPr id="603" name="TextBox 14" descr=""/>
            <p:cNvPicPr/>
            <p:nvPr/>
          </p:nvPicPr>
          <p:blipFill>
            <a:blip r:embed="rId1"/>
            <a:stretch/>
          </p:blipFill>
          <p:spPr>
            <a:xfrm>
              <a:off x="2518200" y="444600"/>
              <a:ext cx="439200" cy="3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Прямая соединительная линия 15"/>
            <p:cNvSpPr/>
            <p:nvPr/>
          </p:nvSpPr>
          <p:spPr>
            <a:xfrm>
              <a:off x="2583720" y="721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TextBox 16" descr=""/>
            <p:cNvPicPr/>
            <p:nvPr/>
          </p:nvPicPr>
          <p:blipFill>
            <a:blip r:embed="rId2"/>
            <a:stretch/>
          </p:blipFill>
          <p:spPr>
            <a:xfrm>
              <a:off x="2268360" y="715320"/>
              <a:ext cx="62820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Прямоугольник 6"/>
          <p:cNvSpPr/>
          <p:nvPr/>
        </p:nvSpPr>
        <p:spPr>
          <a:xfrm>
            <a:off x="395280" y="20718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6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ратили -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.,            о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Группа 19"/>
          <p:cNvGrpSpPr/>
          <p:nvPr/>
        </p:nvGrpSpPr>
        <p:grpSpPr>
          <a:xfrm>
            <a:off x="395280" y="3398760"/>
            <a:ext cx="555480" cy="761040"/>
            <a:chOff x="395280" y="3398760"/>
            <a:chExt cx="555480" cy="761040"/>
          </a:xfrm>
        </p:grpSpPr>
        <p:sp>
          <p:nvSpPr>
            <p:cNvPr id="608" name="TextBox 8"/>
            <p:cNvSpPr/>
            <p:nvPr/>
          </p:nvSpPr>
          <p:spPr>
            <a:xfrm>
              <a:off x="461520" y="3398760"/>
              <a:ext cx="3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ая соединительная линия 9"/>
            <p:cNvSpPr/>
            <p:nvPr/>
          </p:nvSpPr>
          <p:spPr>
            <a:xfrm>
              <a:off x="461880" y="379584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10"/>
            <p:cNvSpPr/>
            <p:nvPr/>
          </p:nvSpPr>
          <p:spPr>
            <a:xfrm>
              <a:off x="395280" y="3791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11" name="Соединительная линия уступом 12"/>
          <p:cNvCxnSpPr/>
          <p:nvPr/>
        </p:nvCxnSpPr>
        <p:spPr>
          <a:xfrm flipH="1" flipV="1">
            <a:off x="2442960" y="2426760"/>
            <a:ext cx="908640" cy="61056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612" name="Группа 19"/>
          <p:cNvGrpSpPr/>
          <p:nvPr/>
        </p:nvGrpSpPr>
        <p:grpSpPr>
          <a:xfrm>
            <a:off x="2376360" y="2508120"/>
            <a:ext cx="555840" cy="761760"/>
            <a:chOff x="2376360" y="2508120"/>
            <a:chExt cx="555840" cy="761760"/>
          </a:xfrm>
        </p:grpSpPr>
        <p:sp>
          <p:nvSpPr>
            <p:cNvPr id="613" name="TextBox 21"/>
            <p:cNvSpPr/>
            <p:nvPr/>
          </p:nvSpPr>
          <p:spPr>
            <a:xfrm>
              <a:off x="2442600" y="250812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рямая соединительная линия 22"/>
            <p:cNvSpPr/>
            <p:nvPr/>
          </p:nvSpPr>
          <p:spPr>
            <a:xfrm>
              <a:off x="2442960" y="290484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23"/>
            <p:cNvSpPr/>
            <p:nvPr/>
          </p:nvSpPr>
          <p:spPr>
            <a:xfrm>
              <a:off x="2376360" y="2901600"/>
              <a:ext cx="55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Прямоугольник 28"/>
          <p:cNvSpPr/>
          <p:nvPr/>
        </p:nvSpPr>
        <p:spPr>
          <a:xfrm>
            <a:off x="461880" y="3608280"/>
            <a:ext cx="4902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 6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00 : 4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= 150 (р.) – истра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150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9"/>
          <p:cNvSpPr/>
          <p:nvPr/>
        </p:nvSpPr>
        <p:spPr>
          <a:xfrm>
            <a:off x="4443480" y="444600"/>
            <a:ext cx="459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4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тратили 600 р.,  это составило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воначальной суммы денег. Найдите первоначальную сумму ден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Группа 19"/>
          <p:cNvGrpSpPr/>
          <p:nvPr/>
        </p:nvGrpSpPr>
        <p:grpSpPr>
          <a:xfrm>
            <a:off x="4443480" y="893880"/>
            <a:ext cx="689040" cy="608040"/>
            <a:chOff x="4443480" y="893880"/>
            <a:chExt cx="689040" cy="608040"/>
          </a:xfrm>
        </p:grpSpPr>
        <p:pic>
          <p:nvPicPr>
            <p:cNvPr id="619" name="TextBox 21" descr=""/>
            <p:cNvPicPr/>
            <p:nvPr/>
          </p:nvPicPr>
          <p:blipFill>
            <a:blip r:embed="rId3"/>
            <a:stretch/>
          </p:blipFill>
          <p:spPr>
            <a:xfrm>
              <a:off x="4693320" y="893880"/>
              <a:ext cx="439200" cy="3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Прямая соединительная линия 23"/>
            <p:cNvSpPr/>
            <p:nvPr/>
          </p:nvSpPr>
          <p:spPr>
            <a:xfrm>
              <a:off x="4757400" y="1169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TextBox 24" descr=""/>
            <p:cNvPicPr/>
            <p:nvPr/>
          </p:nvPicPr>
          <p:blipFill>
            <a:blip r:embed="rId4"/>
            <a:stretch/>
          </p:blipFill>
          <p:spPr>
            <a:xfrm>
              <a:off x="4443480" y="1164600"/>
              <a:ext cx="62820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Прямая соединительная линия 26"/>
          <p:cNvSpPr/>
          <p:nvPr/>
        </p:nvSpPr>
        <p:spPr>
          <a:xfrm>
            <a:off x="4443480" y="444600"/>
            <a:ext cx="0" cy="4929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6"/>
          <p:cNvSpPr/>
          <p:nvPr/>
        </p:nvSpPr>
        <p:spPr>
          <a:xfrm>
            <a:off x="4643280" y="2106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 -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ратили - 600 р., это         о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Группа 19"/>
          <p:cNvGrpSpPr/>
          <p:nvPr/>
        </p:nvGrpSpPr>
        <p:grpSpPr>
          <a:xfrm>
            <a:off x="6948360" y="2732040"/>
            <a:ext cx="690840" cy="609480"/>
            <a:chOff x="6948360" y="2732040"/>
            <a:chExt cx="690840" cy="609480"/>
          </a:xfrm>
        </p:grpSpPr>
        <p:pic>
          <p:nvPicPr>
            <p:cNvPr id="625" name="TextBox 30" descr=""/>
            <p:cNvPicPr/>
            <p:nvPr/>
          </p:nvPicPr>
          <p:blipFill>
            <a:blip r:embed="rId5"/>
            <a:stretch/>
          </p:blipFill>
          <p:spPr>
            <a:xfrm>
              <a:off x="7198920" y="2732040"/>
              <a:ext cx="4402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Прямая соединительная линия 31"/>
            <p:cNvSpPr/>
            <p:nvPr/>
          </p:nvSpPr>
          <p:spPr>
            <a:xfrm>
              <a:off x="7262640" y="3010320"/>
              <a:ext cx="23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TextBox 32" descr=""/>
            <p:cNvPicPr/>
            <p:nvPr/>
          </p:nvPicPr>
          <p:blipFill>
            <a:blip r:embed="rId6"/>
            <a:stretch/>
          </p:blipFill>
          <p:spPr>
            <a:xfrm>
              <a:off x="6948360" y="3006720"/>
              <a:ext cx="630000" cy="3348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28" name="Соединительная линия уступом 33"/>
          <p:cNvCxnSpPr/>
          <p:nvPr/>
        </p:nvCxnSpPr>
        <p:spPr>
          <a:xfrm flipH="1" flipV="1">
            <a:off x="7184160" y="2430000"/>
            <a:ext cx="909000" cy="610560"/>
          </a:xfrm>
          <a:prstGeom prst="bentConnector3">
            <a:avLst>
              <a:gd name="adj1" fmla="val -1545"/>
            </a:avLst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629" name="Группа 19"/>
          <p:cNvGrpSpPr/>
          <p:nvPr/>
        </p:nvGrpSpPr>
        <p:grpSpPr>
          <a:xfrm>
            <a:off x="4643280" y="3414600"/>
            <a:ext cx="555840" cy="761040"/>
            <a:chOff x="4643280" y="3414600"/>
            <a:chExt cx="555840" cy="761040"/>
          </a:xfrm>
        </p:grpSpPr>
        <p:sp>
          <p:nvSpPr>
            <p:cNvPr id="630" name="TextBox 8"/>
            <p:cNvSpPr/>
            <p:nvPr/>
          </p:nvSpPr>
          <p:spPr>
            <a:xfrm>
              <a:off x="4709520" y="341460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Прямая соединительная линия 36"/>
            <p:cNvSpPr/>
            <p:nvPr/>
          </p:nvSpPr>
          <p:spPr>
            <a:xfrm>
              <a:off x="4709880" y="3811680"/>
              <a:ext cx="3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10"/>
            <p:cNvSpPr/>
            <p:nvPr/>
          </p:nvSpPr>
          <p:spPr>
            <a:xfrm>
              <a:off x="4643280" y="3807360"/>
              <a:ext cx="55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Прямоугольник 38"/>
          <p:cNvSpPr/>
          <p:nvPr/>
        </p:nvSpPr>
        <p:spPr>
          <a:xfrm>
            <a:off x="4643280" y="358308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х денег составляют  6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00 : 2 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3 = 900 (р.) –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900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Box 4"/>
          <p:cNvSpPr/>
          <p:nvPr/>
        </p:nvSpPr>
        <p:spPr>
          <a:xfrm>
            <a:off x="179280" y="26028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 найдит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826920" y="1125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6"/>
          <p:cNvSpPr/>
          <p:nvPr/>
        </p:nvSpPr>
        <p:spPr>
          <a:xfrm>
            <a:off x="1270080" y="158580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"/>
          <p:cNvSpPr/>
          <p:nvPr/>
        </p:nvSpPr>
        <p:spPr>
          <a:xfrm>
            <a:off x="826920" y="1601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1476360" y="13730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а 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3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 найдите число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14"/>
          <p:cNvSpPr/>
          <p:nvPr/>
        </p:nvSpPr>
        <p:spPr>
          <a:xfrm>
            <a:off x="5940360" y="1314360"/>
            <a:ext cx="40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5"/>
          <p:cNvSpPr/>
          <p:nvPr/>
        </p:nvSpPr>
        <p:spPr>
          <a:xfrm>
            <a:off x="5580000" y="131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6"/>
          <p:cNvSpPr/>
          <p:nvPr/>
        </p:nvSpPr>
        <p:spPr>
          <a:xfrm>
            <a:off x="6348240" y="1092240"/>
            <a:ext cx="24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ого равны 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7"/>
          <p:cNvSpPr/>
          <p:nvPr/>
        </p:nvSpPr>
        <p:spPr>
          <a:xfrm>
            <a:off x="5580000" y="906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00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27"/>
          <p:cNvSpPr/>
          <p:nvPr/>
        </p:nvSpPr>
        <p:spPr>
          <a:xfrm>
            <a:off x="4443480" y="444600"/>
            <a:ext cx="0" cy="4929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4"/>
          <p:cNvSpPr/>
          <p:nvPr/>
        </p:nvSpPr>
        <p:spPr>
          <a:xfrm>
            <a:off x="179280" y="131760"/>
            <a:ext cx="87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1 (б)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ределите длину отрезка,      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вны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Группа 19"/>
          <p:cNvGrpSpPr/>
          <p:nvPr/>
        </p:nvGrpSpPr>
        <p:grpSpPr>
          <a:xfrm>
            <a:off x="6303960" y="135000"/>
            <a:ext cx="515880" cy="916200"/>
            <a:chOff x="6303960" y="135000"/>
            <a:chExt cx="515880" cy="916200"/>
          </a:xfrm>
        </p:grpSpPr>
        <p:sp>
          <p:nvSpPr>
            <p:cNvPr id="647" name="TextBox 14"/>
            <p:cNvSpPr/>
            <p:nvPr/>
          </p:nvSpPr>
          <p:spPr>
            <a:xfrm>
              <a:off x="6365520" y="135000"/>
              <a:ext cx="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Прямая соединительная линия 15"/>
            <p:cNvSpPr/>
            <p:nvPr/>
          </p:nvSpPr>
          <p:spPr>
            <a:xfrm>
              <a:off x="6365880" y="59544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16"/>
            <p:cNvSpPr/>
            <p:nvPr/>
          </p:nvSpPr>
          <p:spPr>
            <a:xfrm>
              <a:off x="6303960" y="591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4"/>
          <p:cNvSpPr/>
          <p:nvPr/>
        </p:nvSpPr>
        <p:spPr>
          <a:xfrm>
            <a:off x="179280" y="131760"/>
            <a:ext cx="87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1 (б)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пределите длину отрезка,      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вны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Группа 19"/>
          <p:cNvGrpSpPr/>
          <p:nvPr/>
        </p:nvGrpSpPr>
        <p:grpSpPr>
          <a:xfrm>
            <a:off x="6303960" y="135000"/>
            <a:ext cx="515880" cy="916200"/>
            <a:chOff x="6303960" y="135000"/>
            <a:chExt cx="515880" cy="916200"/>
          </a:xfrm>
        </p:grpSpPr>
        <p:sp>
          <p:nvSpPr>
            <p:cNvPr id="652" name="TextBox 14"/>
            <p:cNvSpPr/>
            <p:nvPr/>
          </p:nvSpPr>
          <p:spPr>
            <a:xfrm>
              <a:off x="6365520" y="135000"/>
              <a:ext cx="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Прямая соединительная линия 15"/>
            <p:cNvSpPr/>
            <p:nvPr/>
          </p:nvSpPr>
          <p:spPr>
            <a:xfrm>
              <a:off x="6365880" y="59544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16"/>
            <p:cNvSpPr/>
            <p:nvPr/>
          </p:nvSpPr>
          <p:spPr>
            <a:xfrm>
              <a:off x="6303960" y="591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Прямая соединительная линия 7"/>
          <p:cNvSpPr/>
          <p:nvPr/>
        </p:nvSpPr>
        <p:spPr>
          <a:xfrm>
            <a:off x="90000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9"/>
          <p:cNvSpPr/>
          <p:nvPr/>
        </p:nvSpPr>
        <p:spPr>
          <a:xfrm>
            <a:off x="90000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10"/>
          <p:cNvSpPr/>
          <p:nvPr/>
        </p:nvSpPr>
        <p:spPr>
          <a:xfrm>
            <a:off x="197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11"/>
          <p:cNvSpPr/>
          <p:nvPr/>
        </p:nvSpPr>
        <p:spPr>
          <a:xfrm>
            <a:off x="1979640" y="1700280"/>
            <a:ext cx="107964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12"/>
          <p:cNvSpPr/>
          <p:nvPr/>
        </p:nvSpPr>
        <p:spPr>
          <a:xfrm>
            <a:off x="305928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13"/>
          <p:cNvSpPr/>
          <p:nvPr/>
        </p:nvSpPr>
        <p:spPr>
          <a:xfrm>
            <a:off x="30592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14"/>
          <p:cNvSpPr/>
          <p:nvPr/>
        </p:nvSpPr>
        <p:spPr>
          <a:xfrm>
            <a:off x="41403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16"/>
          <p:cNvSpPr/>
          <p:nvPr/>
        </p:nvSpPr>
        <p:spPr>
          <a:xfrm>
            <a:off x="4140360" y="1700280"/>
            <a:ext cx="10792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17"/>
          <p:cNvSpPr/>
          <p:nvPr/>
        </p:nvSpPr>
        <p:spPr>
          <a:xfrm>
            <a:off x="521964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18"/>
          <p:cNvSpPr/>
          <p:nvPr/>
        </p:nvSpPr>
        <p:spPr>
          <a:xfrm>
            <a:off x="5222880" y="1700280"/>
            <a:ext cx="1081080" cy="0"/>
          </a:xfrm>
          <a:prstGeom prst="line">
            <a:avLst/>
          </a:prstGeom>
          <a:ln w="381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ая соединительная линия 19"/>
          <p:cNvSpPr/>
          <p:nvPr/>
        </p:nvSpPr>
        <p:spPr>
          <a:xfrm>
            <a:off x="6303960" y="1592280"/>
            <a:ext cx="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авая фигурная скобка 20"/>
          <p:cNvSpPr/>
          <p:nvPr/>
        </p:nvSpPr>
        <p:spPr>
          <a:xfrm rot="5400000">
            <a:off x="2321280" y="386280"/>
            <a:ext cx="396720" cy="3240360"/>
          </a:xfrm>
          <a:custGeom>
            <a:avLst/>
            <a:gdLst>
              <a:gd name="textAreaLeft" fmla="*/ 0 w 396720"/>
              <a:gd name="textAreaRight" fmla="*/ 143280 w 396720"/>
              <a:gd name="textAreaTop" fmla="*/ 10080 h 3240360"/>
              <a:gd name="textAreaBottom" fmla="*/ 323028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"/>
                  <a:pt x="10800" y="220"/>
                </a:cubicBezTo>
                <a:lnTo>
                  <a:pt x="10800" y="10509"/>
                </a:lnTo>
                <a:cubicBezTo>
                  <a:pt x="10800" y="10619"/>
                  <a:pt x="16200" y="10729"/>
                  <a:pt x="21600" y="10729"/>
                </a:cubicBezTo>
                <a:cubicBezTo>
                  <a:pt x="16200" y="10729"/>
                  <a:pt x="10800" y="10839"/>
                  <a:pt x="10800" y="10949"/>
                </a:cubicBezTo>
                <a:lnTo>
                  <a:pt x="10800" y="21380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21"/>
          <p:cNvSpPr/>
          <p:nvPr/>
        </p:nvSpPr>
        <p:spPr>
          <a:xfrm>
            <a:off x="2127600" y="220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16:17Z</dcterms:created>
  <dc:creator>User</dc:creator>
  <dc:description/>
  <dc:language>en-US</dc:language>
  <cp:lastModifiedBy>3388</cp:lastModifiedBy>
  <dcterms:modified xsi:type="dcterms:W3CDTF">2023-06-05T20:15:02Z</dcterms:modified>
  <cp:revision>254</cp:revision>
  <dc:subject/>
  <dc:title>Слайд 1</dc:title>
</cp:coreProperties>
</file>