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8C8-4DC1-4572-B423-D7CBF474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EBB-D014-45E3-A193-52A9BD6D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143A-D5E4-4432-93E3-C67E2E07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10AE7-B25B-4504-83EA-D54F452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0A59-FFC3-457A-BB5E-1410251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A1E01-FA12-459B-8E45-4CCAC8C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1237-1B5A-454B-9C1D-66939B0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09B4D-500E-4084-A112-C3C2919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FC21C-12F9-4597-BD2E-0338CEEB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3F4B-2446-4918-B01F-CAE0C589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789B0-D007-4E8B-A001-DA93031B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BB046-E59F-477F-B392-8AAF661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8D8-DBD0-4236-8A7F-B5F182A6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415C3-E17F-483D-A0CF-16B9EBE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903A9-A0C8-4FA1-81AC-30A8FD0D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8BCD3-E524-4905-9E25-6B46ED31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F9605-669F-425C-AEEA-29360FE4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C6708-4834-433F-9831-4156F292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D030A-B453-401D-806C-BDCBD3A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9FF3C-D1F3-4E04-AA86-9739BDC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80829-F410-48AB-B4AF-6FE05EE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39FF-B257-4BC4-8269-A621490B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E225-CD0D-4470-99D5-9413EC2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6FB-E647-42B2-AF70-09B82E6E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2C855-674B-4D9F-9355-2A1F7966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2D81E-4645-49B1-8DBC-FE682CE3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61BAD-CB43-411E-B56E-2B7A30C5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F30EF-C565-4D89-8352-42A9D73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4F883-BF3F-4152-BD8A-B90B5F7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FE33A-10EB-40B8-A433-49D2213C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1A45-8FAB-47C1-9839-49E785B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648B8-76D1-42C3-BF20-1EADCC6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0264B-D0CC-404B-90DD-04FEE5A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6A1DF-621D-4C9C-907D-D1A5F8E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C59A-3487-4CAF-9272-F4921B88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5B711-2313-4430-96FF-00A68F3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D1575-8D83-41D5-98F0-F9C83A4D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B7DCB-2485-4E11-94A6-5298310E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2241D-8791-484A-B3F7-C9D3C990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1F9F8-A163-461C-BA59-1B0F283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DE174-ED47-466F-BAD3-1AF8793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09348-7397-47C6-B0DD-7BA69F2A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38E0-DFB7-42F9-A1CD-F375D47F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5505A-48A3-4ABF-88BC-104CB1B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A4A5D-0C46-4E4A-BD94-A014A8F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BB8-E603-464A-874B-3B00967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0D716-A52B-4B6B-952E-621DE94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1F8C8-672E-4FC5-BA3D-67794B9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CB12B-39BE-488F-8576-B3DFFA7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BA372-C277-4938-954C-1FF72F78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5D319-13A2-4B21-A9CD-C34CD6E8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91F-EB77-4979-B50B-2C2719B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6E6-61B5-46C0-A823-F8A5BAD2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1B21-7090-4DF3-8532-028957A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D266-0A29-42AC-A205-02CF8269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36C-0DD2-4E6F-80AF-9C04421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2F6-4BE1-4188-9474-C7996AF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AAB-6065-4698-9B7B-38D0C2B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137-1C07-42D3-94D9-9C2BEDC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FA5-79C9-4EEF-BB8D-CEFEA39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D6A7-2357-4E6F-B48B-00D39A3B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00AF-7879-40FD-8711-9D0BFF94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8C3F-10B2-46E0-BD2B-2CBC5CFF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324A-D35C-4B24-B703-FC19650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ADF6-B7BD-48CB-B807-A049120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D190-686E-4EE1-AD27-4AFDBE0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6ED1-220E-49E1-8DF6-7C09D52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A5F-E6F4-4E08-93DD-FC603FA5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1ADC-8EA2-444C-B660-ECDC37E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D032-21A6-4876-8795-20158EB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F409-98DF-464E-A99E-F962A97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CC30-4360-4812-B401-88693B2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EDED-FA92-4830-9781-776A47F6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2E8D-9106-4E23-8637-C3A786AA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467D-1118-41BD-9263-386D026C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3F02-08BF-40F9-9DA6-F6EAC5BC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A7F4-5C47-4FDE-8EDA-DA667482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006E-C1B2-488B-A64C-076B3B8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B5B-C304-4269-81C9-CF766613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53FC-3A5B-498C-A0AD-2E36C8D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941D-9319-49D7-AAB7-F22E635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77B7-93DC-4C8A-9339-9BFA4A4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8867-2A9D-43C9-A0EF-222306C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FDE8-8E8F-4AEA-BDE5-6293209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3424-F3E2-43ED-AD10-B693973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9BBC-2868-488E-8275-B468EF7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6384E-1BEE-4CEE-AA1F-CCC8A15B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94A6-0A39-4530-8279-3DF3CD98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1560-9EA5-4E70-91B4-BFA37C9D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4EF-2543-4ED3-B914-08DEF8E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FE6C-4875-450A-88F8-7B8B79A4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F74E-8F92-4618-9371-CD8181F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33A5-24D1-4BED-A7E9-4D52CFB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7210-D5FF-47C3-94E4-422A7135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0EDA-77DF-4FDC-9860-15E19CA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C2AC-AE6C-4109-8B4B-53A087B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F5DC-552A-4B7A-9241-3B899E3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8408-9B7F-40FB-9A58-F05631F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91942-E61F-43CD-831F-EA8F1C27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B6D2-9AD4-480E-B7D2-415B4A78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FED-AEAB-4668-BA22-5EC13E8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4E0E-C3B8-4931-9D04-2E93FEE5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F918-063C-4114-8EC8-0B112F70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49CF-6374-4D7B-A763-A302F151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4D78-3D2D-4ED0-BC7B-F18DE2F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5A75-CCDF-4275-82CB-282FFA5A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A686-A3F2-49D4-B59C-0226BD0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1C22-D987-4D6F-8621-7457F34C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9292-C966-4DC0-A662-2B5EFAB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838A-0535-4CE2-8A08-15CB1F2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E4A1-086B-45C8-ACED-3DC006E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04E-967E-4494-8D64-F22F35D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38D6-CDBF-4281-A666-C5CB16E1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8C64-0063-4223-AB91-1FB771FD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DB25-BEAD-449F-A7A5-5710658E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3B9A-7CD6-4B85-8F11-FC1D7634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7FF8-645F-410D-8A5A-8230B42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6C49-4909-47F5-995F-1AE1DCEB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2778-B6AA-4AA0-9A2C-CC6AC8A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D01A-4BAF-4FDC-8E41-7544F6B9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5AC9-3127-4E2A-BEAC-585A478A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AA05-242A-49BC-9B47-E4CC6C6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CFF-85A2-433F-A570-936AD31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1668-4323-431D-8E47-970FD43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94B8-D790-4A59-A517-E5B7408E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37D5-86BD-4262-91E8-8A8A23E9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46B3-E7D4-4ABE-B16B-79C5AE10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F9FE-7B31-4E68-9095-C695E87A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7410A-E0AC-416B-824C-1DA9D5BF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F208-3309-43DD-8083-241D181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6005C-E8A9-48E5-ADD9-BA429E5C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7C6F-DABB-48E5-9C6A-5028518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EBF6-9F24-4E19-BC7A-4E8F3CD7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16D-186C-4E2F-8333-0028E44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29DA-D462-4F71-B5CE-BF65BA9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AFE9-0CF3-4097-83D5-FF400AF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ADCD-C0FA-445E-A922-B02BC6B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231CE-4732-4AAC-8EF6-E465B37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B9A4-387E-451C-B478-DA341F89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0AC79-D496-40C6-BBA3-EFF1F0DA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C1164-6EAB-4F7F-8B4D-EBF890E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09FF6-2DFF-4C0E-800A-68E2C867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47ABF-1437-4A4A-92EF-6CF23C8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CD89-2CE7-4AF0-A6B3-0F813B1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6673-187B-4012-8422-82E198BF21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5CE-DEE7-48F1-A422-6E8AB1ED2D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E3F7-9966-442D-AF3E-A37AB81CFE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F6D-B951-4D67-A3DF-26F0733D30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AD9-20AC-491E-87EA-CCDDD57506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FE0-D571-4F44-8975-E98079B66A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B75-FEA7-4418-A5A5-F6B48DD79D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7B5-6DA3-422B-B125-B88D02B28D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6F9-56FD-43E7-ADDB-212F1B4442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7A6-89F3-4ADC-B74D-E119E3EE77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D97-76CF-455F-A375-A419B64818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424-9834-4852-BD79-E8A924DD45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4"/>
          <p:cNvSpPr/>
          <p:nvPr/>
        </p:nvSpPr>
        <p:spPr>
          <a:xfrm>
            <a:off x="1332000" y="2205000"/>
            <a:ext cx="69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 на нах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и (дроби) от числа и числа по его части (дроб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Заголовок 1"/>
          <p:cNvSpPr/>
          <p:nvPr/>
        </p:nvSpPr>
        <p:spPr>
          <a:xfrm>
            <a:off x="468360" y="30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«Средняя общеобразовательная школа № 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города Магнит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5"/>
          <p:cNvSpPr/>
          <p:nvPr/>
        </p:nvSpPr>
        <p:spPr>
          <a:xfrm>
            <a:off x="6419160" y="45799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Самойленко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6"/>
          <p:cNvSpPr/>
          <p:nvPr/>
        </p:nvSpPr>
        <p:spPr>
          <a:xfrm>
            <a:off x="4309560" y="5924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70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Прямая соединительная линия 7"/>
          <p:cNvSpPr/>
          <p:nvPr/>
        </p:nvSpPr>
        <p:spPr>
          <a:xfrm>
            <a:off x="90000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9"/>
          <p:cNvSpPr/>
          <p:nvPr/>
        </p:nvSpPr>
        <p:spPr>
          <a:xfrm>
            <a:off x="90000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ая соединительная линия 10"/>
          <p:cNvSpPr/>
          <p:nvPr/>
        </p:nvSpPr>
        <p:spPr>
          <a:xfrm>
            <a:off x="197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11"/>
          <p:cNvSpPr/>
          <p:nvPr/>
        </p:nvSpPr>
        <p:spPr>
          <a:xfrm>
            <a:off x="197964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12"/>
          <p:cNvSpPr/>
          <p:nvPr/>
        </p:nvSpPr>
        <p:spPr>
          <a:xfrm>
            <a:off x="305928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13"/>
          <p:cNvSpPr/>
          <p:nvPr/>
        </p:nvSpPr>
        <p:spPr>
          <a:xfrm>
            <a:off x="30592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14"/>
          <p:cNvSpPr/>
          <p:nvPr/>
        </p:nvSpPr>
        <p:spPr>
          <a:xfrm>
            <a:off x="41403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16"/>
          <p:cNvSpPr/>
          <p:nvPr/>
        </p:nvSpPr>
        <p:spPr>
          <a:xfrm>
            <a:off x="4140360" y="1700280"/>
            <a:ext cx="10792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17"/>
          <p:cNvSpPr/>
          <p:nvPr/>
        </p:nvSpPr>
        <p:spPr>
          <a:xfrm>
            <a:off x="521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18"/>
          <p:cNvSpPr/>
          <p:nvPr/>
        </p:nvSpPr>
        <p:spPr>
          <a:xfrm>
            <a:off x="52228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9"/>
          <p:cNvSpPr/>
          <p:nvPr/>
        </p:nvSpPr>
        <p:spPr>
          <a:xfrm>
            <a:off x="63039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авая фигурная скобка 20"/>
          <p:cNvSpPr/>
          <p:nvPr/>
        </p:nvSpPr>
        <p:spPr>
          <a:xfrm rot="5400000">
            <a:off x="2321280" y="386280"/>
            <a:ext cx="396720" cy="3240360"/>
          </a:xfrm>
          <a:custGeom>
            <a:avLst/>
            <a:gdLst>
              <a:gd name="textAreaLeft" fmla="*/ 0 w 396720"/>
              <a:gd name="textAreaRight" fmla="*/ 143280 w 396720"/>
              <a:gd name="textAreaTop" fmla="*/ 10080 h 3240360"/>
              <a:gd name="textAreaBottom" fmla="*/ 323028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09"/>
                </a:lnTo>
                <a:cubicBezTo>
                  <a:pt x="10800" y="10619"/>
                  <a:pt x="16200" y="10729"/>
                  <a:pt x="21600" y="10729"/>
                </a:cubicBezTo>
                <a:cubicBezTo>
                  <a:pt x="16200" y="10729"/>
                  <a:pt x="10800" y="10839"/>
                  <a:pt x="10800" y="10949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21"/>
          <p:cNvSpPr/>
          <p:nvPr/>
        </p:nvSpPr>
        <p:spPr>
          <a:xfrm>
            <a:off x="2127600" y="220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23"/>
          <p:cNvSpPr/>
          <p:nvPr/>
        </p:nvSpPr>
        <p:spPr>
          <a:xfrm>
            <a:off x="1042920" y="2924280"/>
            <a:ext cx="526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езка составляют  1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 : 3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 = 25 (см) – длина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2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Группа 19"/>
          <p:cNvGrpSpPr/>
          <p:nvPr/>
        </p:nvGrpSpPr>
        <p:grpSpPr>
          <a:xfrm>
            <a:off x="1104840" y="2706840"/>
            <a:ext cx="453960" cy="916920"/>
            <a:chOff x="1104840" y="2706840"/>
            <a:chExt cx="453960" cy="916920"/>
          </a:xfrm>
        </p:grpSpPr>
        <p:sp>
          <p:nvSpPr>
            <p:cNvPr id="688" name="TextBox 14"/>
            <p:cNvSpPr/>
            <p:nvPr/>
          </p:nvSpPr>
          <p:spPr>
            <a:xfrm>
              <a:off x="1158840" y="2706840"/>
              <a:ext cx="3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Прямая соединительная линия 26"/>
            <p:cNvSpPr/>
            <p:nvPr/>
          </p:nvSpPr>
          <p:spPr>
            <a:xfrm>
              <a:off x="1158840" y="316872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Box 16"/>
            <p:cNvSpPr/>
            <p:nvPr/>
          </p:nvSpPr>
          <p:spPr>
            <a:xfrm>
              <a:off x="1104840" y="316404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693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698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Прямоугольник 6"/>
          <p:cNvSpPr/>
          <p:nvPr/>
        </p:nvSpPr>
        <p:spPr>
          <a:xfrm>
            <a:off x="395280" y="1557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?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 на овощи – 180 р.,         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на яблоки - ? р., 2 кг по 5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лось - ?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Соединительная линия уступом 11"/>
          <p:cNvCxnSpPr/>
          <p:nvPr/>
        </p:nvCxnSpPr>
        <p:spPr>
          <a:xfrm flipH="1" flipV="1">
            <a:off x="4026600" y="1939320"/>
            <a:ext cx="909000" cy="61020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703" name="Группа 19"/>
          <p:cNvGrpSpPr/>
          <p:nvPr/>
        </p:nvGrpSpPr>
        <p:grpSpPr>
          <a:xfrm>
            <a:off x="4067280" y="2155680"/>
            <a:ext cx="555480" cy="761760"/>
            <a:chOff x="4067280" y="2155680"/>
            <a:chExt cx="555480" cy="761760"/>
          </a:xfrm>
        </p:grpSpPr>
        <p:sp>
          <p:nvSpPr>
            <p:cNvPr id="704" name="TextBox 13"/>
            <p:cNvSpPr/>
            <p:nvPr/>
          </p:nvSpPr>
          <p:spPr>
            <a:xfrm>
              <a:off x="4133520" y="21556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Прямая соединительная линия 17"/>
            <p:cNvSpPr/>
            <p:nvPr/>
          </p:nvSpPr>
          <p:spPr>
            <a:xfrm>
              <a:off x="4133880" y="255240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18"/>
            <p:cNvSpPr/>
            <p:nvPr/>
          </p:nvSpPr>
          <p:spPr>
            <a:xfrm>
              <a:off x="4067280" y="2549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709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Прямоугольник 6"/>
          <p:cNvSpPr/>
          <p:nvPr/>
        </p:nvSpPr>
        <p:spPr>
          <a:xfrm>
            <a:off x="395280" y="1557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?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 на овощи – 180 р.,         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на яблоки - ? р., 2 кг по 5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лось - ?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Группа 19"/>
          <p:cNvGrpSpPr/>
          <p:nvPr/>
        </p:nvGrpSpPr>
        <p:grpSpPr>
          <a:xfrm>
            <a:off x="395280" y="3716280"/>
            <a:ext cx="555480" cy="761040"/>
            <a:chOff x="395280" y="3716280"/>
            <a:chExt cx="555480" cy="761040"/>
          </a:xfrm>
        </p:grpSpPr>
        <p:sp>
          <p:nvSpPr>
            <p:cNvPr id="714" name="TextBox 8"/>
            <p:cNvSpPr/>
            <p:nvPr/>
          </p:nvSpPr>
          <p:spPr>
            <a:xfrm>
              <a:off x="461520" y="37162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Прямая соединительная линия 9"/>
            <p:cNvSpPr/>
            <p:nvPr/>
          </p:nvSpPr>
          <p:spPr>
            <a:xfrm>
              <a:off x="461880" y="411336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0"/>
            <p:cNvSpPr/>
            <p:nvPr/>
          </p:nvSpPr>
          <p:spPr>
            <a:xfrm>
              <a:off x="395280" y="41090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7" name="Соединительная линия уступом 11"/>
          <p:cNvCxnSpPr/>
          <p:nvPr/>
        </p:nvCxnSpPr>
        <p:spPr>
          <a:xfrm flipH="1" flipV="1">
            <a:off x="4026600" y="1939320"/>
            <a:ext cx="909000" cy="61020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718" name="Группа 19"/>
          <p:cNvGrpSpPr/>
          <p:nvPr/>
        </p:nvGrpSpPr>
        <p:grpSpPr>
          <a:xfrm>
            <a:off x="4067280" y="2155680"/>
            <a:ext cx="555480" cy="761760"/>
            <a:chOff x="4067280" y="2155680"/>
            <a:chExt cx="555480" cy="761760"/>
          </a:xfrm>
        </p:grpSpPr>
        <p:sp>
          <p:nvSpPr>
            <p:cNvPr id="719" name="TextBox 13"/>
            <p:cNvSpPr/>
            <p:nvPr/>
          </p:nvSpPr>
          <p:spPr>
            <a:xfrm>
              <a:off x="4133520" y="21556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Прямая соединительная линия 17"/>
            <p:cNvSpPr/>
            <p:nvPr/>
          </p:nvSpPr>
          <p:spPr>
            <a:xfrm>
              <a:off x="4133880" y="255240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Box 18"/>
            <p:cNvSpPr/>
            <p:nvPr/>
          </p:nvSpPr>
          <p:spPr>
            <a:xfrm>
              <a:off x="4067280" y="2549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Прямоугольник 19"/>
          <p:cNvSpPr/>
          <p:nvPr/>
        </p:nvSpPr>
        <p:spPr>
          <a:xfrm>
            <a:off x="461880" y="386568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х  денег  составляют 18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0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6 =  1080 (р.) –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4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2 = 108 (р.) – израсходовала на я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80 – (180 + 108) = 792 (р.) - ост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792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79280" y="13176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Запишите натуральные числа  3, 7 в виде дроби  со знаменателем 1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Запишите натуральные числа 4, 10 в виде дроби с числителем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3"/>
          <p:cNvSpPr/>
          <p:nvPr/>
        </p:nvSpPr>
        <p:spPr>
          <a:xfrm>
            <a:off x="1763640" y="981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4"/>
          <p:cNvSpPr/>
          <p:nvPr/>
        </p:nvSpPr>
        <p:spPr>
          <a:xfrm>
            <a:off x="1978200" y="18129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1770120" y="181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2421000" y="141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1784520" y="2793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25"/>
          <p:cNvSpPr/>
          <p:nvPr/>
        </p:nvSpPr>
        <p:spPr>
          <a:xfrm>
            <a:off x="1998720" y="362592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6"/>
          <p:cNvSpPr/>
          <p:nvPr/>
        </p:nvSpPr>
        <p:spPr>
          <a:xfrm>
            <a:off x="1790640" y="3625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7"/>
          <p:cNvSpPr/>
          <p:nvPr/>
        </p:nvSpPr>
        <p:spPr>
          <a:xfrm>
            <a:off x="2441520" y="3225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1"/>
          <p:cNvSpPr/>
          <p:nvPr/>
        </p:nvSpPr>
        <p:spPr>
          <a:xfrm>
            <a:off x="1784520" y="4579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ая соединительная линия 32"/>
          <p:cNvSpPr/>
          <p:nvPr/>
        </p:nvSpPr>
        <p:spPr>
          <a:xfrm>
            <a:off x="1998720" y="541188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3"/>
          <p:cNvSpPr/>
          <p:nvPr/>
        </p:nvSpPr>
        <p:spPr>
          <a:xfrm>
            <a:off x="1784520" y="5410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2441520" y="50115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8"/>
          <p:cNvSpPr/>
          <p:nvPr/>
        </p:nvSpPr>
        <p:spPr>
          <a:xfrm>
            <a:off x="179280" y="1317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кратите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3"/>
          <p:cNvSpPr/>
          <p:nvPr/>
        </p:nvSpPr>
        <p:spPr>
          <a:xfrm>
            <a:off x="1139760" y="1125360"/>
            <a:ext cx="171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 ∙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4"/>
          <p:cNvSpPr/>
          <p:nvPr/>
        </p:nvSpPr>
        <p:spPr>
          <a:xfrm>
            <a:off x="1346040" y="1776240"/>
            <a:ext cx="134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1208160" y="1806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6 ∙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6"/>
          <p:cNvSpPr/>
          <p:nvPr/>
        </p:nvSpPr>
        <p:spPr>
          <a:xfrm>
            <a:off x="2441520" y="13622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4"/>
          <p:cNvSpPr/>
          <p:nvPr/>
        </p:nvSpPr>
        <p:spPr>
          <a:xfrm>
            <a:off x="1208160" y="2712960"/>
            <a:ext cx="17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 ∙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1490760" y="33685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6"/>
          <p:cNvSpPr/>
          <p:nvPr/>
        </p:nvSpPr>
        <p:spPr>
          <a:xfrm>
            <a:off x="1139760" y="3368520"/>
            <a:ext cx="19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5 ∙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7"/>
          <p:cNvSpPr/>
          <p:nvPr/>
        </p:nvSpPr>
        <p:spPr>
          <a:xfrm>
            <a:off x="2692440" y="29527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31"/>
          <p:cNvSpPr/>
          <p:nvPr/>
        </p:nvSpPr>
        <p:spPr>
          <a:xfrm>
            <a:off x="1063800" y="41371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 ∙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2"/>
          <p:cNvSpPr/>
          <p:nvPr/>
        </p:nvSpPr>
        <p:spPr>
          <a:xfrm>
            <a:off x="1490760" y="4906800"/>
            <a:ext cx="185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3"/>
          <p:cNvSpPr/>
          <p:nvPr/>
        </p:nvSpPr>
        <p:spPr>
          <a:xfrm>
            <a:off x="1085760" y="49068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9 ∙ 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4"/>
          <p:cNvSpPr/>
          <p:nvPr/>
        </p:nvSpPr>
        <p:spPr>
          <a:xfrm>
            <a:off x="3348000" y="4491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8"/>
          <p:cNvSpPr/>
          <p:nvPr/>
        </p:nvSpPr>
        <p:spPr>
          <a:xfrm>
            <a:off x="179280" y="1317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кратите дроб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4"/>
          <p:cNvSpPr/>
          <p:nvPr/>
        </p:nvSpPr>
        <p:spPr>
          <a:xfrm>
            <a:off x="179280" y="13176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стр. 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ыло 600 р.,        этой суммы истрат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колько денег истра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Группа 19"/>
          <p:cNvGrpSpPr/>
          <p:nvPr/>
        </p:nvGrpSpPr>
        <p:grpSpPr>
          <a:xfrm>
            <a:off x="3276720" y="550800"/>
            <a:ext cx="628560" cy="854280"/>
            <a:chOff x="3276720" y="550800"/>
            <a:chExt cx="628560" cy="854280"/>
          </a:xfrm>
        </p:grpSpPr>
        <p:pic>
          <p:nvPicPr>
            <p:cNvPr id="592" name="TextBox 14" descr=""/>
            <p:cNvPicPr/>
            <p:nvPr/>
          </p:nvPicPr>
          <p:blipFill>
            <a:blip r:embed="rId1"/>
            <a:stretch/>
          </p:blipFill>
          <p:spPr>
            <a:xfrm>
              <a:off x="3282480" y="550800"/>
              <a:ext cx="56160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Прямая соединительная линия 15"/>
            <p:cNvSpPr/>
            <p:nvPr/>
          </p:nvSpPr>
          <p:spPr>
            <a:xfrm>
              <a:off x="3348360" y="912960"/>
              <a:ext cx="3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TextBox 16" descr=""/>
            <p:cNvPicPr/>
            <p:nvPr/>
          </p:nvPicPr>
          <p:blipFill>
            <a:blip r:embed="rId2"/>
            <a:stretch/>
          </p:blipFill>
          <p:spPr>
            <a:xfrm>
              <a:off x="3276720" y="875520"/>
              <a:ext cx="62856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TextBox 6"/>
          <p:cNvSpPr/>
          <p:nvPr/>
        </p:nvSpPr>
        <p:spPr>
          <a:xfrm>
            <a:off x="179280" y="294480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4.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тратили 600 р.,  это составило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воначальной суммы ден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йдите первоначальную сумму де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20"/>
          <p:cNvSpPr/>
          <p:nvPr/>
        </p:nvSpPr>
        <p:spPr>
          <a:xfrm>
            <a:off x="2916360" y="22557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стр. 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Группа 19"/>
          <p:cNvGrpSpPr/>
          <p:nvPr/>
        </p:nvGrpSpPr>
        <p:grpSpPr>
          <a:xfrm>
            <a:off x="6300720" y="2944800"/>
            <a:ext cx="628560" cy="853920"/>
            <a:chOff x="6300720" y="2944800"/>
            <a:chExt cx="628560" cy="853920"/>
          </a:xfrm>
        </p:grpSpPr>
        <p:pic>
          <p:nvPicPr>
            <p:cNvPr id="598" name="TextBox 22" descr=""/>
            <p:cNvPicPr/>
            <p:nvPr/>
          </p:nvPicPr>
          <p:blipFill>
            <a:blip r:embed="rId3"/>
            <a:stretch/>
          </p:blipFill>
          <p:spPr>
            <a:xfrm>
              <a:off x="6306480" y="2944800"/>
              <a:ext cx="5616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Прямая соединительная линия 23"/>
            <p:cNvSpPr/>
            <p:nvPr/>
          </p:nvSpPr>
          <p:spPr>
            <a:xfrm>
              <a:off x="6372720" y="3307320"/>
              <a:ext cx="3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TextBox 24" descr=""/>
            <p:cNvPicPr/>
            <p:nvPr/>
          </p:nvPicPr>
          <p:blipFill>
            <a:blip r:embed="rId4"/>
            <a:stretch/>
          </p:blipFill>
          <p:spPr>
            <a:xfrm>
              <a:off x="6300720" y="3266280"/>
              <a:ext cx="6285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4"/>
          <p:cNvSpPr/>
          <p:nvPr/>
        </p:nvSpPr>
        <p:spPr>
          <a:xfrm>
            <a:off x="179280" y="131760"/>
            <a:ext cx="518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ыло 600 р.,        этой суммы истратили.  Сколько денег истрат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Группа 19"/>
          <p:cNvGrpSpPr/>
          <p:nvPr/>
        </p:nvGrpSpPr>
        <p:grpSpPr>
          <a:xfrm>
            <a:off x="2268360" y="444600"/>
            <a:ext cx="689040" cy="608040"/>
            <a:chOff x="2268360" y="444600"/>
            <a:chExt cx="689040" cy="608040"/>
          </a:xfrm>
        </p:grpSpPr>
        <p:pic>
          <p:nvPicPr>
            <p:cNvPr id="603" name="TextBox 14" descr=""/>
            <p:cNvPicPr/>
            <p:nvPr/>
          </p:nvPicPr>
          <p:blipFill>
            <a:blip r:embed="rId1"/>
            <a:stretch/>
          </p:blipFill>
          <p:spPr>
            <a:xfrm>
              <a:off x="2518200" y="444600"/>
              <a:ext cx="43920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Прямая соединительная линия 15"/>
            <p:cNvSpPr/>
            <p:nvPr/>
          </p:nvSpPr>
          <p:spPr>
            <a:xfrm>
              <a:off x="2583720" y="721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TextBox 16" descr=""/>
            <p:cNvPicPr/>
            <p:nvPr/>
          </p:nvPicPr>
          <p:blipFill>
            <a:blip r:embed="rId2"/>
            <a:stretch/>
          </p:blipFill>
          <p:spPr>
            <a:xfrm>
              <a:off x="2268360" y="715320"/>
              <a:ext cx="62820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Прямоугольник 6"/>
          <p:cNvSpPr/>
          <p:nvPr/>
        </p:nvSpPr>
        <p:spPr>
          <a:xfrm>
            <a:off x="395280" y="20718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ратили -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.,            о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Группа 19"/>
          <p:cNvGrpSpPr/>
          <p:nvPr/>
        </p:nvGrpSpPr>
        <p:grpSpPr>
          <a:xfrm>
            <a:off x="395280" y="3398760"/>
            <a:ext cx="555480" cy="761040"/>
            <a:chOff x="395280" y="3398760"/>
            <a:chExt cx="555480" cy="761040"/>
          </a:xfrm>
        </p:grpSpPr>
        <p:sp>
          <p:nvSpPr>
            <p:cNvPr id="608" name="TextBox 8"/>
            <p:cNvSpPr/>
            <p:nvPr/>
          </p:nvSpPr>
          <p:spPr>
            <a:xfrm>
              <a:off x="461520" y="339876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ая соединительная линия 9"/>
            <p:cNvSpPr/>
            <p:nvPr/>
          </p:nvSpPr>
          <p:spPr>
            <a:xfrm>
              <a:off x="461880" y="379584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10"/>
            <p:cNvSpPr/>
            <p:nvPr/>
          </p:nvSpPr>
          <p:spPr>
            <a:xfrm>
              <a:off x="395280" y="3791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11" name="Соединительная линия уступом 12"/>
          <p:cNvCxnSpPr/>
          <p:nvPr/>
        </p:nvCxnSpPr>
        <p:spPr>
          <a:xfrm flipH="1" flipV="1">
            <a:off x="2442960" y="2426760"/>
            <a:ext cx="908640" cy="61056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612" name="Группа 19"/>
          <p:cNvGrpSpPr/>
          <p:nvPr/>
        </p:nvGrpSpPr>
        <p:grpSpPr>
          <a:xfrm>
            <a:off x="2376360" y="2508120"/>
            <a:ext cx="555840" cy="761760"/>
            <a:chOff x="2376360" y="2508120"/>
            <a:chExt cx="555840" cy="761760"/>
          </a:xfrm>
        </p:grpSpPr>
        <p:sp>
          <p:nvSpPr>
            <p:cNvPr id="613" name="TextBox 21"/>
            <p:cNvSpPr/>
            <p:nvPr/>
          </p:nvSpPr>
          <p:spPr>
            <a:xfrm>
              <a:off x="2442600" y="250812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рямая соединительная линия 22"/>
            <p:cNvSpPr/>
            <p:nvPr/>
          </p:nvSpPr>
          <p:spPr>
            <a:xfrm>
              <a:off x="2442960" y="290484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23"/>
            <p:cNvSpPr/>
            <p:nvPr/>
          </p:nvSpPr>
          <p:spPr>
            <a:xfrm>
              <a:off x="2376360" y="2901600"/>
              <a:ext cx="55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Прямоугольник 28"/>
          <p:cNvSpPr/>
          <p:nvPr/>
        </p:nvSpPr>
        <p:spPr>
          <a:xfrm>
            <a:off x="461880" y="3608280"/>
            <a:ext cx="4902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00 : 4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= 150 (р.) – истра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150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9"/>
          <p:cNvSpPr/>
          <p:nvPr/>
        </p:nvSpPr>
        <p:spPr>
          <a:xfrm>
            <a:off x="4443480" y="444600"/>
            <a:ext cx="459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4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тратили 600 р.,  это составило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воначальной суммы денег. Найдите первоначальную сумму ден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Группа 19"/>
          <p:cNvGrpSpPr/>
          <p:nvPr/>
        </p:nvGrpSpPr>
        <p:grpSpPr>
          <a:xfrm>
            <a:off x="4443480" y="893880"/>
            <a:ext cx="689040" cy="608040"/>
            <a:chOff x="4443480" y="893880"/>
            <a:chExt cx="689040" cy="608040"/>
          </a:xfrm>
        </p:grpSpPr>
        <p:pic>
          <p:nvPicPr>
            <p:cNvPr id="619" name="TextBox 21" descr=""/>
            <p:cNvPicPr/>
            <p:nvPr/>
          </p:nvPicPr>
          <p:blipFill>
            <a:blip r:embed="rId3"/>
            <a:stretch/>
          </p:blipFill>
          <p:spPr>
            <a:xfrm>
              <a:off x="4693320" y="893880"/>
              <a:ext cx="43920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Прямая соединительная линия 23"/>
            <p:cNvSpPr/>
            <p:nvPr/>
          </p:nvSpPr>
          <p:spPr>
            <a:xfrm>
              <a:off x="4757400" y="1169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TextBox 24" descr=""/>
            <p:cNvPicPr/>
            <p:nvPr/>
          </p:nvPicPr>
          <p:blipFill>
            <a:blip r:embed="rId4"/>
            <a:stretch/>
          </p:blipFill>
          <p:spPr>
            <a:xfrm>
              <a:off x="4443480" y="1164600"/>
              <a:ext cx="62820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Прямая соединительная линия 26"/>
          <p:cNvSpPr/>
          <p:nvPr/>
        </p:nvSpPr>
        <p:spPr>
          <a:xfrm>
            <a:off x="4443480" y="444600"/>
            <a:ext cx="0" cy="4929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6"/>
          <p:cNvSpPr/>
          <p:nvPr/>
        </p:nvSpPr>
        <p:spPr>
          <a:xfrm>
            <a:off x="4643280" y="2106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ратили - 600 р., это         о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Группа 19"/>
          <p:cNvGrpSpPr/>
          <p:nvPr/>
        </p:nvGrpSpPr>
        <p:grpSpPr>
          <a:xfrm>
            <a:off x="6948360" y="2732040"/>
            <a:ext cx="690840" cy="609480"/>
            <a:chOff x="6948360" y="2732040"/>
            <a:chExt cx="690840" cy="609480"/>
          </a:xfrm>
        </p:grpSpPr>
        <p:pic>
          <p:nvPicPr>
            <p:cNvPr id="625" name="TextBox 30" descr=""/>
            <p:cNvPicPr/>
            <p:nvPr/>
          </p:nvPicPr>
          <p:blipFill>
            <a:blip r:embed="rId5"/>
            <a:stretch/>
          </p:blipFill>
          <p:spPr>
            <a:xfrm>
              <a:off x="7198920" y="2732040"/>
              <a:ext cx="440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Прямая соединительная линия 31"/>
            <p:cNvSpPr/>
            <p:nvPr/>
          </p:nvSpPr>
          <p:spPr>
            <a:xfrm>
              <a:off x="7262640" y="3010320"/>
              <a:ext cx="23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TextBox 32" descr=""/>
            <p:cNvPicPr/>
            <p:nvPr/>
          </p:nvPicPr>
          <p:blipFill>
            <a:blip r:embed="rId6"/>
            <a:stretch/>
          </p:blipFill>
          <p:spPr>
            <a:xfrm>
              <a:off x="6948360" y="3006720"/>
              <a:ext cx="630000" cy="3348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28" name="Соединительная линия уступом 33"/>
          <p:cNvCxnSpPr/>
          <p:nvPr/>
        </p:nvCxnSpPr>
        <p:spPr>
          <a:xfrm flipH="1" flipV="1">
            <a:off x="7184160" y="2430000"/>
            <a:ext cx="909000" cy="61056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629" name="Группа 19"/>
          <p:cNvGrpSpPr/>
          <p:nvPr/>
        </p:nvGrpSpPr>
        <p:grpSpPr>
          <a:xfrm>
            <a:off x="4643280" y="3414600"/>
            <a:ext cx="555840" cy="761040"/>
            <a:chOff x="4643280" y="3414600"/>
            <a:chExt cx="555840" cy="761040"/>
          </a:xfrm>
        </p:grpSpPr>
        <p:sp>
          <p:nvSpPr>
            <p:cNvPr id="630" name="TextBox 8"/>
            <p:cNvSpPr/>
            <p:nvPr/>
          </p:nvSpPr>
          <p:spPr>
            <a:xfrm>
              <a:off x="4709520" y="341460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Прямая соединительная линия 36"/>
            <p:cNvSpPr/>
            <p:nvPr/>
          </p:nvSpPr>
          <p:spPr>
            <a:xfrm>
              <a:off x="4709880" y="381168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10"/>
            <p:cNvSpPr/>
            <p:nvPr/>
          </p:nvSpPr>
          <p:spPr>
            <a:xfrm>
              <a:off x="4643280" y="3807360"/>
              <a:ext cx="55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Прямоугольник 38"/>
          <p:cNvSpPr/>
          <p:nvPr/>
        </p:nvSpPr>
        <p:spPr>
          <a:xfrm>
            <a:off x="4643280" y="358308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х денег составляют 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00 : 2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 = 900 (р.) –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900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4"/>
          <p:cNvSpPr/>
          <p:nvPr/>
        </p:nvSpPr>
        <p:spPr>
          <a:xfrm>
            <a:off x="179280" y="26028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 найдит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826920" y="112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6"/>
          <p:cNvSpPr/>
          <p:nvPr/>
        </p:nvSpPr>
        <p:spPr>
          <a:xfrm>
            <a:off x="1270080" y="158580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"/>
          <p:cNvSpPr/>
          <p:nvPr/>
        </p:nvSpPr>
        <p:spPr>
          <a:xfrm>
            <a:off x="826920" y="1601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1476360" y="13730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а 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3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 найдите число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14"/>
          <p:cNvSpPr/>
          <p:nvPr/>
        </p:nvSpPr>
        <p:spPr>
          <a:xfrm>
            <a:off x="5940360" y="131436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5"/>
          <p:cNvSpPr/>
          <p:nvPr/>
        </p:nvSpPr>
        <p:spPr>
          <a:xfrm>
            <a:off x="5580000" y="131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6"/>
          <p:cNvSpPr/>
          <p:nvPr/>
        </p:nvSpPr>
        <p:spPr>
          <a:xfrm>
            <a:off x="6348240" y="1092240"/>
            <a:ext cx="24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го равны 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7"/>
          <p:cNvSpPr/>
          <p:nvPr/>
        </p:nvSpPr>
        <p:spPr>
          <a:xfrm>
            <a:off x="5580000" y="906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27"/>
          <p:cNvSpPr/>
          <p:nvPr/>
        </p:nvSpPr>
        <p:spPr>
          <a:xfrm>
            <a:off x="4443480" y="444600"/>
            <a:ext cx="0" cy="4929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47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52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Прямая соединительная линия 7"/>
          <p:cNvSpPr/>
          <p:nvPr/>
        </p:nvSpPr>
        <p:spPr>
          <a:xfrm>
            <a:off x="90000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9"/>
          <p:cNvSpPr/>
          <p:nvPr/>
        </p:nvSpPr>
        <p:spPr>
          <a:xfrm>
            <a:off x="90000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0"/>
          <p:cNvSpPr/>
          <p:nvPr/>
        </p:nvSpPr>
        <p:spPr>
          <a:xfrm>
            <a:off x="197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11"/>
          <p:cNvSpPr/>
          <p:nvPr/>
        </p:nvSpPr>
        <p:spPr>
          <a:xfrm>
            <a:off x="197964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12"/>
          <p:cNvSpPr/>
          <p:nvPr/>
        </p:nvSpPr>
        <p:spPr>
          <a:xfrm>
            <a:off x="305928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13"/>
          <p:cNvSpPr/>
          <p:nvPr/>
        </p:nvSpPr>
        <p:spPr>
          <a:xfrm>
            <a:off x="30592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14"/>
          <p:cNvSpPr/>
          <p:nvPr/>
        </p:nvSpPr>
        <p:spPr>
          <a:xfrm>
            <a:off x="41403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6"/>
          <p:cNvSpPr/>
          <p:nvPr/>
        </p:nvSpPr>
        <p:spPr>
          <a:xfrm>
            <a:off x="4140360" y="1700280"/>
            <a:ext cx="10792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17"/>
          <p:cNvSpPr/>
          <p:nvPr/>
        </p:nvSpPr>
        <p:spPr>
          <a:xfrm>
            <a:off x="521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18"/>
          <p:cNvSpPr/>
          <p:nvPr/>
        </p:nvSpPr>
        <p:spPr>
          <a:xfrm>
            <a:off x="52228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ая соединительная линия 19"/>
          <p:cNvSpPr/>
          <p:nvPr/>
        </p:nvSpPr>
        <p:spPr>
          <a:xfrm>
            <a:off x="63039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авая фигурная скобка 20"/>
          <p:cNvSpPr/>
          <p:nvPr/>
        </p:nvSpPr>
        <p:spPr>
          <a:xfrm rot="5400000">
            <a:off x="2321280" y="386280"/>
            <a:ext cx="396720" cy="3240360"/>
          </a:xfrm>
          <a:custGeom>
            <a:avLst/>
            <a:gdLst>
              <a:gd name="textAreaLeft" fmla="*/ 0 w 396720"/>
              <a:gd name="textAreaRight" fmla="*/ 143280 w 396720"/>
              <a:gd name="textAreaTop" fmla="*/ 10080 h 3240360"/>
              <a:gd name="textAreaBottom" fmla="*/ 323028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09"/>
                </a:lnTo>
                <a:cubicBezTo>
                  <a:pt x="10800" y="10619"/>
                  <a:pt x="16200" y="10729"/>
                  <a:pt x="21600" y="10729"/>
                </a:cubicBezTo>
                <a:cubicBezTo>
                  <a:pt x="16200" y="10729"/>
                  <a:pt x="10800" y="10839"/>
                  <a:pt x="10800" y="10949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21"/>
          <p:cNvSpPr/>
          <p:nvPr/>
        </p:nvSpPr>
        <p:spPr>
          <a:xfrm>
            <a:off x="2127600" y="220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16:17Z</dcterms:created>
  <dc:creator>User</dc:creator>
  <dc:description/>
  <dc:language>en-US</dc:language>
  <cp:lastModifiedBy>3388</cp:lastModifiedBy>
  <dcterms:modified xsi:type="dcterms:W3CDTF">2023-06-05T20:15:02Z</dcterms:modified>
  <cp:revision>254</cp:revision>
  <dc:subject/>
  <dc:title>Слайд 1</dc:title>
</cp:coreProperties>
</file>