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1.jpeg" ContentType="image/jpeg"/>
  <Override PartName="/ppt/media/image2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E4BA-BCEF-4440-9590-3720666AC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B182-DB67-4569-95F4-8536EBDDD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4354-D842-4516-9E4A-488390080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EBE3-A07C-4F4C-AFB2-58D8FB4D5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CAD2-12BD-4E60-A1D8-2157B2492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A346-E8C2-4CC2-9D12-4908E9237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1CA6-A5C6-436C-A41C-DF29E8B3E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5F42-434F-46DB-9E56-A0CB11636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DFED-12CE-4B5A-8A31-0D4B9EC0E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7EAA-CDFC-4BE5-82B4-530334CD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E9D1-B2C8-4D2C-BAAA-255B06CE8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7C26-8CB0-4B09-9708-BCE365CE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A7B31-5F04-46F4-BF3F-9E0EC4CC5C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D:\Users\Светочка\Desktop\История АО\Фото\arhangelsk_obl_map_smal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533520"/>
            <a:ext cx="6972480" cy="286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0000"/>
                </a:solidFill>
                <a:latin typeface="Calibri"/>
              </a:rPr>
              <a:t>История</a:t>
            </a:r>
            <a:r>
              <a:rPr b="0" i="1" lang="ru-RU" sz="4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i="1" lang="ru-RU" sz="6000" spc="-1" strike="noStrike">
                <a:solidFill>
                  <a:srgbClr val="ff0000"/>
                </a:solidFill>
                <a:latin typeface="Calibri"/>
              </a:rPr>
              <a:t>Архангельской област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D:\Users\Светочка\Desktop\История АО\Фото\arhangelsk_obl_gerb.jpg"/>
          <p:cNvPicPr/>
          <p:nvPr/>
        </p:nvPicPr>
        <p:blipFill>
          <a:blip r:embed="rId2"/>
          <a:stretch/>
        </p:blipFill>
        <p:spPr>
          <a:xfrm>
            <a:off x="6286680" y="3643200"/>
            <a:ext cx="2539800" cy="2540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D:\Users\Светочка\Desktop\История АО\Фото\arhangelsk_obl_flag.gif"/>
          <p:cNvPicPr/>
          <p:nvPr/>
        </p:nvPicPr>
        <p:blipFill>
          <a:blip r:embed="rId3"/>
          <a:stretch/>
        </p:blipFill>
        <p:spPr>
          <a:xfrm>
            <a:off x="357120" y="3643200"/>
            <a:ext cx="38671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D:\Users\Светочка\Desktop\История АО\Фото\arhangelsk_obl_map_smal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2060"/>
                </a:solidFill>
                <a:latin typeface="Calibri"/>
              </a:rPr>
              <a:t>Архангельский край в разные времена был местом ссылки. Самый знаменитый узник — вождь раскола протопоп Аввакум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D:\Users\Светочка\Desktop\История АО\Фото\arhangelsk_obl_map_smal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2060"/>
                </a:solidFill>
                <a:latin typeface="Calibri"/>
              </a:rPr>
              <a:t>Архангельская область — родина ученого М. В. Ломоносова и скульптора Ф. В. Шубина (уроженцы Холмогор), писателя Ф. А. Абрамова (деревня Веркола). В селе Суре Пинежского района родился святитель Иоанн Кронштадский. С Поморьем связано творчество художника В. В. Верещагина, писателей М. М. Пришвина и Ю. П. Казакова. Сказовая речь поморов запечатлена в произведениях Б. В. Шергина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D:\Users\Светочка\Desktop\История АО\Фото\arhangelsk_obl_map_smal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Calibri"/>
              </a:rPr>
              <a:t>Города Архангельской области и их символик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D:\Users\Светочка\Desktop\История АО\Фото\arhangelsk_obl_map_smal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ff0000"/>
                </a:solidFill>
                <a:uFillTx/>
                <a:latin typeface="Calibri"/>
              </a:rPr>
              <a:t>КОТЛАС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i="1" lang="ru-RU" sz="3000" spc="-1" strike="noStrike">
                <a:solidFill>
                  <a:srgbClr val="002060"/>
                </a:solidFill>
                <a:latin typeface="Calibri"/>
              </a:rPr>
              <a:t>город (с 1917) в Российской Федерации, Архангельская обл., пристань на Сев. Двине, при впадении р. Вычегда. Железнодорожный узел. Население 65,5 тыс. человек (2002). Крупная лесоперевалочная база. Заводы: судоремонтно-судостроительный, глиноземный, электромеханический. Деревообрабатывающая промышленность. Краеведческий музей. В 30 км от Котласа (в г. Коряжма) — Котласский целлюлозно-бумажный комбинат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D:\Users\Светочка\Desktop\История АО\Фото\arhangelsk_obl_map_smal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428760" y="-360"/>
            <a:ext cx="557208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2060"/>
                </a:solidFill>
                <a:latin typeface="Calibri"/>
              </a:rPr>
              <a:t>Герб Котласа был принят 9 октября 1987 года. В поле стального цвета, олицетворяющего Север, расположена трехконечная звезда голубого цвета, окаймленная узкой золотой полоской, символ слияния двух рек: Вычегды и Северной Двины, где расположен город. Звезду охватывает золотая полушестерня, рядом с которой золотые эмблемы воздушного, железнодорожного и речного транспорта. В нижней части герба маленькая золотая елочка. Венчает герб флаг РСФСР, на голубой полосе которого дата образования города, а на красной — название города. Буквы, цифры и узкая кайма золотого цвета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3" descr="D:\Users\Светочка\Desktop\История АО\Фото\kotlas_gerb(2).jpg"/>
          <p:cNvPicPr/>
          <p:nvPr/>
        </p:nvPicPr>
        <p:blipFill>
          <a:blip r:embed="rId2"/>
          <a:stretch/>
        </p:blipFill>
        <p:spPr>
          <a:xfrm>
            <a:off x="6572160" y="214200"/>
            <a:ext cx="228600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D:\Users\Светочка\Desktop\История АО\Фото\arhangelsk_obl_map_smal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457200" y="21420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СЕВЕРОДВИНС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Город (с 1938  до 1957 Молотовск) в Российской Федерации, Архангельская обл., на берегу Белого м., в дельте Сев. Двины. Железнодорожная станция. Население 227,6 тыс. человек (2002). Центр подводного атомного судостроения (АО «Северное машинное предприятие»). Деревообрабатывающая, пищевая промышленность. Теат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D:\Users\Светочка\Desktop\История АО\Фото\arhangelsk_obl_map_smal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457200" y="3642840"/>
            <a:ext cx="8229600" cy="24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Герб Северодвинска был принят 2 июля 1993 года. В серебряном поле красный цветок шиповника, в оконечности щита синяя волна. </a:t>
            </a: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D:\Users\Светочка\Desktop\История АО\Фото\severdvinsk_gerb(2).jpg"/>
          <p:cNvPicPr/>
          <p:nvPr/>
        </p:nvPicPr>
        <p:blipFill>
          <a:blip r:embed="rId2"/>
          <a:stretch/>
        </p:blipFill>
        <p:spPr>
          <a:xfrm>
            <a:off x="5072040" y="0"/>
            <a:ext cx="3357720" cy="36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D:\Users\Светочка\Desktop\История АО\Фото\arhangelsk_obl_map_smal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Calibri"/>
              </a:rPr>
              <a:t>СОЛЬВЫЧЕГОДСК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alibri"/>
              </a:rPr>
              <a:t>Город в Российской Федерации, Архангельская обл., расположен на правом берегу р. Вычегда (приток р. Северная Двина), в 18 км от железнодорожного узла Котлас, в 830 км к юго-востоку от Архангельска. Пристань на р. Вычегда. Аэропорт. Население 3,9 тыс. человек (2001). Основан в 14 в. Город с 1796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D:\Users\Светочка\Desktop\История АО\Фото\arhangelsk_obl_map_smal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214200" y="-360"/>
            <a:ext cx="822960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600" spc="-1" strike="noStrike">
                <a:solidFill>
                  <a:srgbClr val="002060"/>
                </a:solidFill>
                <a:latin typeface="Calibri"/>
              </a:rPr>
              <a:t>Герб Сольвычегодска был утвержден 2 октября 1780 года. В верхней половине щита вологодский герб, в нижней половине «две ступки соли в красном поле»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3" descr="D:\Users\Светочка\Desktop\История АО\Фото\solvichegorsk_gerb(2).jpg"/>
          <p:cNvPicPr/>
          <p:nvPr/>
        </p:nvPicPr>
        <p:blipFill>
          <a:blip r:embed="rId2"/>
          <a:stretch/>
        </p:blipFill>
        <p:spPr>
          <a:xfrm>
            <a:off x="2786040" y="2857680"/>
            <a:ext cx="3040200" cy="34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D:\Users\Светочка\Desktop\История АО\Фото\arhangelsk_obl_map_smal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457200" y="356760"/>
            <a:ext cx="822960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Calibri"/>
              </a:rPr>
              <a:t>МЕЗЕНЬ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alibri"/>
              </a:rPr>
              <a:t>Город в Российской Федерации, Архангельская обл., расположен на р. Мезень, в 45 км от Белого моря и в 273 км от железнодорожного узла Архангельск. Население 4,5 тыс. человек (2001). Районный центр. В 7 км от Мезени, в поселке Каменка — морской и речной порты. Аэропорт. Основан в первой половине 16 в. Город с 1780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D:\Users\Светочка\Desktop\История АО\Фото\arhangelsk_obl_map_smal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2060"/>
                </a:solidFill>
                <a:latin typeface="Calibri"/>
              </a:rPr>
              <a:t>Люди пришли на территорию Архангельского Севера сразу после отступления ледника, а в некоторые районы еще раньше, во время последнего ледниковья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D:\Users\Светочка\Desktop\История АО\Фото\arhangelsk_obl_map_smal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2999880"/>
            <a:ext cx="8229600" cy="31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Герб Мезени, утвержденный 2 октября 1780 года. В верхней половине щита вологодский герб, в нижней половине «красная лисица в серебряном поле потому, что жители сего города и его уезда сими зверями производят торг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D:\Users\Светочка\Desktop\История АО\Фото\mezen_gerb(2).jpg"/>
          <p:cNvPicPr/>
          <p:nvPr/>
        </p:nvPicPr>
        <p:blipFill>
          <a:blip r:embed="rId2"/>
          <a:stretch/>
        </p:blipFill>
        <p:spPr>
          <a:xfrm>
            <a:off x="5929200" y="0"/>
            <a:ext cx="2540160" cy="31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D:\Users\Светочка\Desktop\История АО\Фото\arhangelsk_obl_map_smal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0000"/>
                </a:solidFill>
                <a:uFillTx/>
                <a:latin typeface="Calibri"/>
              </a:rPr>
              <a:t>ХОЛМОГОР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Село в Российской Федерации, Архангельская обл., расположено на р. Северная Двина, в 75 км от железнодорожной станции Архангельск. Пристань. Население около 5 тыс. человек (2001). Районный центр. Нынешнее название получило в 1692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D:\Users\Светочка\Desktop\История АО\Фото\arhangelsk_obl_map_smal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D:\Users\Светочка\Desktop\История АО\Фото\holmogori_gerb(2).jpg"/>
          <p:cNvPicPr/>
          <p:nvPr/>
        </p:nvPicPr>
        <p:blipFill>
          <a:blip r:embed="rId2"/>
          <a:stretch/>
        </p:blipFill>
        <p:spPr>
          <a:xfrm>
            <a:off x="5715000" y="0"/>
            <a:ext cx="2000160" cy="2879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2786040"/>
            <a:ext cx="822960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Герб Холмогор был утвержден 17 августа 1781 года, когда они были уездным городом Вологодского наместничества. «В верхней половине щита вологодский герб, в нижней половине квадрант в голубом поле, в знак того, что сего 1781 года марта 12 дня указом велено учредить мореходную школу».</a:t>
            </a: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D:\Users\Светочка\Desktop\История АО\Фото\arhangelsk_obl_map_smal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500040" y="213840"/>
            <a:ext cx="8229600" cy="59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Calibri"/>
              </a:rPr>
              <a:t>ШЕНКУРСК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i="1" lang="ru-RU" sz="3600" spc="-1" strike="noStrike">
                <a:solidFill>
                  <a:srgbClr val="002060"/>
                </a:solidFill>
                <a:latin typeface="Calibri"/>
              </a:rPr>
              <a:t>город в Российской Федерации, Архангельская обл., расположен на р. Вага, в 148 км к северу от железнодорожной станции Вельск, в 373 км от к юго-востоку от Архангельска. Пристань. Районный центр. Население 6,8 тыс. человек (2001). Основан в 1229. Город с 1780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D:\Users\Светочка\Desktop\История АО\Фото\arhangelsk_obl_map_smal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428400"/>
            <a:ext cx="8229600" cy="32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Герб Шенкурска был утвержден 2 октября 1780 года. В верхней половине щита вологодский герб, в нижней половине «зверек, называемый барсук, в зеленом поле, которых в окрестностях сего города много находится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D:\Users\Светочка\Desktop\История АО\Фото\shenkursk_gerb(2).jpg"/>
          <p:cNvPicPr/>
          <p:nvPr/>
        </p:nvPicPr>
        <p:blipFill>
          <a:blip r:embed="rId2"/>
          <a:stretch/>
        </p:blipFill>
        <p:spPr>
          <a:xfrm>
            <a:off x="5572080" y="3357720"/>
            <a:ext cx="25401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D:\Users\Светочка\Desktop\История АО\Фото\arhangelsk_obl_map_smal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D:\Users\Светочка\Desktop\История АО\Фото\pinega(2).jpg"/>
          <p:cNvPicPr/>
          <p:nvPr/>
        </p:nvPicPr>
        <p:blipFill>
          <a:blip r:embed="rId2"/>
          <a:stretch/>
        </p:blipFill>
        <p:spPr>
          <a:xfrm>
            <a:off x="6429240" y="3357720"/>
            <a:ext cx="2540160" cy="30477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57200" y="214200"/>
            <a:ext cx="6400800" cy="607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 u="sng">
                <a:solidFill>
                  <a:srgbClr val="ff0000"/>
                </a:solidFill>
                <a:uFillTx/>
                <a:latin typeface="Calibri"/>
              </a:rPr>
              <a:t>Пинега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002060"/>
                </a:solidFill>
                <a:latin typeface="Calibri"/>
              </a:rPr>
              <a:t>Посёлок в Пинежском районе (центр района - село Крапогоры) Архангельской области, в 230 км к востоку от Архангельска. Расположен на правом берегу р. Пинега (пристань). Население 4,5 тыс. человек (1989; 992 человека в 1897; 1,4 тыс. в 1926; 4,1 тыс. в 1979)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D:\Users\Светочка\Desktop\История АО\Фото\arhangelsk_obl_map_smal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7200" y="213840"/>
            <a:ext cx="822960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Онег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В Архангельской области, областного подчинения, районный центр, в 263 км к юго-западу от Архангельска. Расположен в устье р. Онега, в 7 км от Белого моря (морской порт). Конечная станция железнодорожной ветки от линии Обозерская - Беломорск. Аэропорт. Население 26,1 тыс. человек (1992; 2,7 тыс. в 1897; 5,3 тыс. в 1926; 25 тыс. в 1979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D:\Users\Светочка\Desktop\История АО\Фото\arhangelsk_obl_map_smal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Calibri"/>
              </a:rPr>
              <a:t>НЯНДОМ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i="1" lang="ru-RU" sz="3600" spc="-1" strike="noStrike">
                <a:solidFill>
                  <a:srgbClr val="002060"/>
                </a:solidFill>
                <a:latin typeface="Calibri"/>
              </a:rPr>
              <a:t>Районный центр в Архангельской области, в 342 км к югу от Архангельска. Расположен на склоне Няндомской возвышенности. Железнодорожная станция на линии Коноша - Архангельск. Население 25,4 тыс. человек (1992; 21,4 тыс. в 1979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alibri"/>
              </a:rPr>
              <a:t>Возник в 1896 как посёлок при строительстве железной дороги. Город - с 1939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D:\Users\Светочка\Desktop\История АО\Фото\arhangelsk_obl_map_smal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 u="sng">
                <a:solidFill>
                  <a:srgbClr val="ff0000"/>
                </a:solidFill>
                <a:uFillTx/>
                <a:latin typeface="Calibri"/>
              </a:rPr>
              <a:t>НОВОДВИНСК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002060"/>
                </a:solidFill>
                <a:latin typeface="Calibri"/>
              </a:rPr>
              <a:t>В Архангельской области, областного подчинения, в 20 км к югу от Архангельска. Расположен на левом берегу р. Северная Двина, в 11 км от железнодорожной станции Исакогорка на линии Вологда - Архангельск. Население 50,0 тыс. человек (1992; 48,4 тыс. в 1979)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D:\Users\Светочка\Desktop\История АО\Фото\arhangelsk_obl_map_smal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2286000" y="428760"/>
            <a:ext cx="64008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f0000"/>
                </a:solidFill>
                <a:uFillTx/>
                <a:latin typeface="Calibri"/>
              </a:rPr>
              <a:t>  </a:t>
            </a:r>
            <a:r>
              <a:rPr b="1" i="1" lang="ru-RU" sz="3700" spc="-1" strike="noStrike" u="sng">
                <a:solidFill>
                  <a:srgbClr val="ff0000"/>
                </a:solidFill>
                <a:uFillTx/>
                <a:latin typeface="Calibri"/>
              </a:rPr>
              <a:t>Красноборск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002060"/>
                </a:solidFill>
                <a:latin typeface="Calibri"/>
              </a:rPr>
              <a:t>Село, районный центр в Архангельской области, в 856 км к юго-востоку от Архангельска. Расположено на р. Северная Двина, в 55 км к северо-западу от железнодорожного узла Котлас. Население 5 тыс. человек (1989; 671 человек в 1897)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D:\Users\Светочка\Desktop\История АО\Фото\krasnoborsk(2).jpg"/>
          <p:cNvPicPr/>
          <p:nvPr/>
        </p:nvPicPr>
        <p:blipFill>
          <a:blip r:embed="rId2"/>
          <a:stretch/>
        </p:blipFill>
        <p:spPr>
          <a:xfrm>
            <a:off x="0" y="500040"/>
            <a:ext cx="25401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D:\Users\Светочка\Desktop\История АО\Фото\arhangelsk_obl_map_smal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457200" y="142920"/>
            <a:ext cx="8229600" cy="59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2060"/>
                </a:solidFill>
                <a:latin typeface="Calibri"/>
              </a:rPr>
              <a:t>В севернорусских преданиях имеются упоминания о чудских племенах («шень», «пинь», «немь», «ла» и др.; отсюда - Шенкурск, Пинега, Немьнюга, Лавела и т.п.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D:\Users\Светочка\Desktop\История АО\Фото\arhangelsk_obl_map_smal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Calibri"/>
              </a:rPr>
              <a:t>КОРЯЖМ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alibri"/>
              </a:rPr>
              <a:t>В Архангельской области, областного подчинения, в 835 км к юго-востоку от Архангельска. Расположен на левом берегу р. Вычегда (пристань), близ железнодорожной станции Низовка на линии Котлас - Микунь, в 40 км к востоку от Котласа. Население 43,1 тыс. человек (1992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D:\Users\Светочка\Desktop\История АО\Фото\arhangelsk_obl_map_smal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D:\Users\Светочка\Desktop\История АО\Фото\kargopol(2).jpg"/>
          <p:cNvPicPr/>
          <p:nvPr/>
        </p:nvPicPr>
        <p:blipFill>
          <a:blip r:embed="rId2"/>
          <a:stretch/>
        </p:blipFill>
        <p:spPr>
          <a:xfrm>
            <a:off x="6429240" y="285840"/>
            <a:ext cx="2540160" cy="30607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456840" y="356760"/>
            <a:ext cx="618660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f0000"/>
                </a:solidFill>
                <a:uFillTx/>
                <a:latin typeface="Calibri"/>
              </a:rPr>
              <a:t> </a:t>
            </a:r>
            <a:r>
              <a:rPr b="1" i="1" lang="ru-RU" sz="3300" spc="-1" strike="noStrike" u="sng">
                <a:solidFill>
                  <a:srgbClr val="ff0000"/>
                </a:solidFill>
                <a:uFillTx/>
                <a:latin typeface="Calibri"/>
              </a:rPr>
              <a:t>Каргополь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2060"/>
                </a:solidFill>
                <a:latin typeface="Calibri"/>
              </a:rPr>
              <a:t>Районный центр в Архангельской области, в 427 км к юго-западу от Архангельска. Расположен на левом берегу р. Онега, в 5 км от её истока из озера Лача, в 79 км к западу от железнодорожной станции Няндома на линии Вологда - Архангельск. Аэропорт. Население 13,1 тыс. человек (1992; 3,0 тыс. в 1897; 3,4 тыс. в 1926; 11,0 тыс. в 1979)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D:\Users\Светочка\Desktop\История АО\Фото\arhangelsk_obl_map_smal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D:\Users\Светочка\Desktop\История АО\Фото\velsk(2).jpg"/>
          <p:cNvPicPr/>
          <p:nvPr/>
        </p:nvPicPr>
        <p:blipFill>
          <a:blip r:embed="rId2"/>
          <a:stretch/>
        </p:blipFill>
        <p:spPr>
          <a:xfrm>
            <a:off x="0" y="3357720"/>
            <a:ext cx="2540160" cy="31366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1928880" y="428400"/>
            <a:ext cx="675792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ВЕЛЬС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Районный центр в Архангельской области, в 545 км к югу от Архангельска. Расположен на высоком левом берегу р. Вель, при впадении её в р. Вага (бассейн Северной Двины). Железнодорожная станция на линии Коноша - Котлас. Аэропорт. Население 26,8 тыс. человек (1992; 2 тыс. в 1897; 3,5 тыс. в 1926; 24 тыс. в 1979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D:\Users\Светочка\Desktop\История АО\Фото\arhangelsk_obl_map_smal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0000"/>
                </a:solidFill>
                <a:latin typeface="Calibri"/>
              </a:rPr>
              <a:t>Фотографии старого Архангельска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D:\Users\Светочка\Desktop\История АО\Фото\Img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D:\Users\Светочка\Desktop\История АО\Фото\Img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D:\Users\Светочка\Desktop\История АО\Фото\Img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D:\Users\Светочка\Desktop\История АО\Фото\Img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D:\Users\Светочка\Desktop\История АО\Фото\Img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D:\Users\Светочка\Desktop\История АО\Фото\Img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D:\Users\Светочка\Desktop\История АО\Фото\arhangelsk_obl_map_smal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457200" y="21420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Исконными жителями Поморья были финно-угорские племена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Пушные и рыбные северные богатства издавна привлекали новгородских купцов и промысловых людей. В 11 веке новгородцы вышли на берега Студеного моря, добрались до Печоры и севера Уральских гор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2" descr="D:\Users\Светочка\Desktop\История АО\Фото\Img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D:\Users\Светочка\Desktop\История АО\Фото\Img8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D:\Users\Светочка\Desktop\История АО\Фото\Img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2" descr="D:\Users\Светочка\Desktop\История АО\Фото\Img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D:\Users\Светочка\Desktop\История АО\Фото\Img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1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2" descr="D:\Users\Светочка\Desktop\История АО\Фото\Img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D:\Users\Светочка\Desktop\История АО\Фото\arhangelsk_obl_map_smal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0000"/>
                </a:solidFill>
                <a:latin typeface="Calibri"/>
              </a:rPr>
              <a:t>Красоты Архангельской области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D:\Users\Светочка\Desktop\История АО\Фото\malie_koreli_muse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Calibri"/>
              </a:rPr>
              <a:t>Малые Карел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D:\Users\Светочка\Desktop\История АО\Фото\pur_navol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alibri"/>
              </a:rPr>
              <a:t>Пур-Наволо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D:\Users\Светочка\Desktop\История АО\Фото\solvichegorsk_panoram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alibri"/>
              </a:rPr>
              <a:t>Сольвычегодская панорам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D:\Users\Светочка\Desktop\История АО\Фото\arhangelsk_obl_map_smal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57200" y="21420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Calibri"/>
              </a:rPr>
              <a:t>Из-за холодного климата и бедных почв земледелие никогда не играло в Поморье большой роли, основными занятиями жителей было рыболовство, добыча морского зверя и охота, животноводство, особенно молочное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D:\Users\Светочка\Desktop\История АО\Фото\solvichegorsk_sobor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Собор в Сольвычегодск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D:\Users\Светочка\Desktop\История АО\Фото\vid_na_reku_pinegu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Вид на реку Пинегу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D:\Users\Светочка\Desktop\История АО\Фото\arhangelsk_obl_map_smal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alibri"/>
              </a:rPr>
              <a:t>На Русском Севере сформировался особый тип дома-усадьбы в пять или шесть стен с подклетями и светелкой с балахоном (балконом), обширными хозяйственными дворами, амбарами, мастерскими. В домах обычно выстраивался огромный зал (поветь), где собиралась молодежь. Большие поморские дома свидетельствуют о былой зажиточности и успешном ведении хозяйства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D:\Users\Светочка\Desktop\История АО\Фото\arhangelsk_obl_map_smal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457200" y="21420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alibri"/>
              </a:rPr>
              <a:t>Огромную роль в экономической жизни поморов играли промыслы — солеварение, плотничество, резьба по кости, а также торговля. После открытия торговли с Англией в 16 веке важной отраслью экономики края становится экспортная лесодобыча. Поморские плотники принимали участие в строительстве Петербурга, работали на судоверфях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D:\Users\Светочка\Desktop\История АО\Фото\arhangelsk_obl_map_smal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457200" y="21420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2060"/>
                </a:solidFill>
                <a:latin typeface="Calibri"/>
              </a:rPr>
              <a:t>Особое место в истории Поморья занимают Соловецкие острова, где находится одноименный монастырь и историко-архитектурный и природный музей-заповедник (с 1974)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D:\Users\Светочка\Desktop\История АО\Фото\arhangelsk_obl_map_smal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457200" y="142920"/>
            <a:ext cx="8229600" cy="59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2060"/>
                </a:solidFill>
                <a:latin typeface="Calibri"/>
              </a:rPr>
              <a:t>В ходе петровских реформ в1708 была образована Архангелогородская губерния, которая заняла огромную территорию на севере России площадью в 850 тысяч кв. км. Помимо земель вдоль Северной Двины в состав губернии входи север Карелии, Кольский полуостров и территория Печорского бассейна. В 1780 Архангелогородская губерния была переименована в Архангельскую. Население ее на 1 января 1914 составляло 483 тысяч человек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5T01:44:25Z</dcterms:created>
  <dc:creator>Светочка</dc:creator>
  <dc:description/>
  <dc:language>en-US</dc:language>
  <cp:lastModifiedBy>библиотека</cp:lastModifiedBy>
  <dcterms:modified xsi:type="dcterms:W3CDTF">2009-06-15T05:05:29Z</dcterms:modified>
  <cp:revision>9</cp:revision>
  <dc:subject/>
  <dc:title>История Архангельской области</dc:title>
</cp:coreProperties>
</file>