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F477-B3B1-4683-BF18-0E79C86B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4EFD-468F-4BD7-ABA6-6D34F270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65B7-D8E7-4779-BF36-21CB99764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CA6A-4944-4AFF-9A2B-533FF996F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3215-43CE-48DC-A81A-6D6ED44B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327A-02FE-43E0-A36F-FBF99B08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300C-1AA0-4596-8FC3-C865A0A2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1936-2335-4E6C-BBE9-553AFF7D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C20C-F7E4-46C4-9940-27F535C9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A470-E707-46F4-8E1F-A0C934F6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424E-CDAD-4920-95A3-D76E02DF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62B7-9FE3-459B-8A42-95651FC9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5015-B495-47B9-84DE-F4CE9F825C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533520"/>
            <a:ext cx="6972480" cy="28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0000"/>
                </a:solidFill>
                <a:latin typeface="Calibri"/>
              </a:rPr>
              <a:t>История</a:t>
            </a: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6000" spc="-1" strike="noStrike">
                <a:solidFill>
                  <a:srgbClr val="ff0000"/>
                </a:solidFill>
                <a:latin typeface="Calibri"/>
              </a:rPr>
              <a:t>Архангельской област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D:\Users\Светочка\Desktop\История АО\Фото\arhangelsk_obl_gerb.jpg"/>
          <p:cNvPicPr/>
          <p:nvPr/>
        </p:nvPicPr>
        <p:blipFill>
          <a:blip r:embed="rId2"/>
          <a:stretch/>
        </p:blipFill>
        <p:spPr>
          <a:xfrm>
            <a:off x="6286680" y="3643200"/>
            <a:ext cx="2539800" cy="2540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D:\Users\Светочка\Desktop\История АО\Фото\arhangelsk_obl_flag.gif"/>
          <p:cNvPicPr/>
          <p:nvPr/>
        </p:nvPicPr>
        <p:blipFill>
          <a:blip r:embed="rId3"/>
          <a:stretch/>
        </p:blipFill>
        <p:spPr>
          <a:xfrm>
            <a:off x="357120" y="3643200"/>
            <a:ext cx="38671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Calibri"/>
              </a:rPr>
              <a:t>Архангельский край в разные времена был местом ссылки. Самый знаменитый узник — вождь раскола протопоп Аввакум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2060"/>
                </a:solidFill>
                <a:latin typeface="Calibri"/>
              </a:rPr>
              <a:t>Архангельская область — родина ученого М. В. Ломоносова и скульптора Ф. В. Шубина (уроженцы Холмогор), писателя Ф. А. Абрамова (деревня Веркола). В селе Суре Пинежского района родился святитель Иоанн Кронштадский. С Поморьем связано творчество художника В. В. Верещагина, писателей М. М. Пришвина и Ю. П. Казакова. Сказовая речь поморов запечатлена в произведениях Б. В. Шергина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Города Архангельской области и их символи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ff0000"/>
                </a:solidFill>
                <a:uFillTx/>
                <a:latin typeface="Calibri"/>
              </a:rPr>
              <a:t>КОТЛА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3000" spc="-1" strike="noStrike">
                <a:solidFill>
                  <a:srgbClr val="002060"/>
                </a:solidFill>
                <a:latin typeface="Calibri"/>
              </a:rPr>
              <a:t>город (с 1917) в Российской Федерации, Архангельская обл., пристань на Сев. Двине, при впадении р. Вычегда. Железнодорожный узел. Население 65,5 тыс. человек (2002). Крупная лесоперевалочная база. Заводы: судоремонтно-судостроительный, глиноземный, электромеханический. Деревообрабатывающая промышленность. Краеведческий музей. В 30 км от Котласа (в г. Коряжма) — Котласский целлюлозно-бумажный комбинат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28760" y="-360"/>
            <a:ext cx="557208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2060"/>
                </a:solidFill>
                <a:latin typeface="Calibri"/>
              </a:rPr>
              <a:t>Герб Котласа был принят 9 октября 1987 года. В поле стального цвета, олицетворяющего Север, расположена трехконечная звезда голубого цвета, окаймленная узкой золотой полоской, символ слияния двух рек: Вычегды и Северной Двины, где расположен город. Звезду охватывает золотая полушестерня, рядом с которой золотые эмблемы воздушного, железнодорожного и речного транспорта. В нижней части герба маленькая золотая елочка. Венчает герб флаг РСФСР, на голубой полосе которого дата образования города, а на красной — название города. Буквы, цифры и узкая кайма золотого цвета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D:\Users\Светочка\Desktop\История АО\Фото\kotlas_gerb(2).jpg"/>
          <p:cNvPicPr/>
          <p:nvPr/>
        </p:nvPicPr>
        <p:blipFill>
          <a:blip r:embed="rId2"/>
          <a:stretch/>
        </p:blipFill>
        <p:spPr>
          <a:xfrm>
            <a:off x="6572160" y="214200"/>
            <a:ext cx="22860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СЕВЕРОДВИНС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Город (с 1938  до 1957 Молотовск) в Российской Федерации, Архангельская обл., на берегу Белого м., в дельте Сев. Двины. Железнодорожная станция. Население 227,6 тыс. человек (2002). Центр подводного атомного судостроения (АО «Северное машинное предприятие»). Деревообрабатывающая, пищевая промышленность. Теат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7200" y="3642840"/>
            <a:ext cx="8229600" cy="24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Герб Северодвинска был принят 2 июля 1993 года. В серебряном поле красный цветок шиповника, в оконечности щита синяя волна.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D:\Users\Светочка\Desktop\История АО\Фото\severdvinsk_gerb(2).jpg"/>
          <p:cNvPicPr/>
          <p:nvPr/>
        </p:nvPicPr>
        <p:blipFill>
          <a:blip r:embed="rId2"/>
          <a:stretch/>
        </p:blipFill>
        <p:spPr>
          <a:xfrm>
            <a:off x="5072040" y="0"/>
            <a:ext cx="335772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СОЛЬВЫЧЕГОДСК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Город в Российской Федерации, Архангельская обл., расположен на правом берегу р. Вычегда (приток р. Северная Двина), в 18 км от железнодорожного узла Котлас, в 830 км к юго-востоку от Архангельска. Пристань на р. Вычегда. Аэропорт. Население 3,9 тыс. человек (2001). Основан в 14 в. Город с 1796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214200" y="-360"/>
            <a:ext cx="82296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Герб Сольвычегодска был утвержден 2 октября 1780 года. В верхней половине щита вологодский герб, в нижней половине «две ступки соли в красном поле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3" descr="D:\Users\Светочка\Desktop\История АО\Фото\solvichegorsk_gerb(2).jpg"/>
          <p:cNvPicPr/>
          <p:nvPr/>
        </p:nvPicPr>
        <p:blipFill>
          <a:blip r:embed="rId2"/>
          <a:stretch/>
        </p:blipFill>
        <p:spPr>
          <a:xfrm>
            <a:off x="2786040" y="2857680"/>
            <a:ext cx="304020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356760"/>
            <a:ext cx="82296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МЕЗЕН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Город в Российской Федерации, Архангельская обл., расположен на р. Мезень, в 45 км от Белого моря и в 273 км от железнодорожного узла Архангельск. Население 4,5 тыс. человек (2001). Районный центр. В 7 км от Мезени, в поселке Каменка — морской и речной порты. Аэропорт. Основан в первой половине 16 в. Город с 1780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Люди пришли на территорию Архангельского Севера сразу после отступления ледника, а в некоторые районы еще раньше, во время последнего ледниковь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2999880"/>
            <a:ext cx="822960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Герб Мезени, утвержденный 2 октября 1780 года. В верхней половине щита вологодский герб, в нижней половине «красная лисица в серебряном поле потому, что жители сего города и его уезда сими зверями производят торг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D:\Users\Светочка\Desktop\История АО\Фото\mezen_gerb(2).jpg"/>
          <p:cNvPicPr/>
          <p:nvPr/>
        </p:nvPicPr>
        <p:blipFill>
          <a:blip r:embed="rId2"/>
          <a:stretch/>
        </p:blipFill>
        <p:spPr>
          <a:xfrm>
            <a:off x="5929200" y="0"/>
            <a:ext cx="254016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ХОЛМОГОР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Село в Российской Федерации, Архангельская обл., расположено на р. Северная Двина, в 75 км от железнодорожной станции Архангельск. Пристань. Население около 5 тыс. человек (2001). Районный центр. Нынешнее название получило в 1692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D:\Users\Светочка\Desktop\История АО\Фото\holmogori_gerb(2).jpg"/>
          <p:cNvPicPr/>
          <p:nvPr/>
        </p:nvPicPr>
        <p:blipFill>
          <a:blip r:embed="rId2"/>
          <a:stretch/>
        </p:blipFill>
        <p:spPr>
          <a:xfrm>
            <a:off x="5715000" y="0"/>
            <a:ext cx="2000160" cy="2879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2786040"/>
            <a:ext cx="82296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Герб Холмогор был утвержден 17 августа 1781 года, когда они были уездным городом Вологодского наместничества. «В верхней половине щита вологодский герб, в нижней половине квадрант в голубом поле, в знак того, что сего 1781 года марта 12 дня указом велено учредить мореходную школу».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500040" y="213840"/>
            <a:ext cx="8229600" cy="59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ШЕНКУРСК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город в Российской Федерации, Архангельская обл., расположен на р. Вага, в 148 км к северу от железнодорожной станции Вельск, в 373 км от к юго-востоку от Архангельска. Пристань. Районный центр. Население 6,8 тыс. человек (2001). Основан в 1229. Город с 1780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428400"/>
            <a:ext cx="822960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Герб Шенкурска был утвержден 2 октября 1780 года. В верхней половине щита вологодский герб, в нижней половине «зверек, называемый барсук, в зеленом поле, которых в окрестностях сего города много находится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D:\Users\Светочка\Desktop\История АО\Фото\shenkursk_gerb(2).jpg"/>
          <p:cNvPicPr/>
          <p:nvPr/>
        </p:nvPicPr>
        <p:blipFill>
          <a:blip r:embed="rId2"/>
          <a:stretch/>
        </p:blipFill>
        <p:spPr>
          <a:xfrm>
            <a:off x="5572080" y="3357720"/>
            <a:ext cx="25401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D:\Users\Светочка\Desktop\История АО\Фото\pinega(2).jpg"/>
          <p:cNvPicPr/>
          <p:nvPr/>
        </p:nvPicPr>
        <p:blipFill>
          <a:blip r:embed="rId2"/>
          <a:stretch/>
        </p:blipFill>
        <p:spPr>
          <a:xfrm>
            <a:off x="6429240" y="3357720"/>
            <a:ext cx="2540160" cy="3047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214200"/>
            <a:ext cx="6400800" cy="607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 u="sng">
                <a:solidFill>
                  <a:srgbClr val="ff0000"/>
                </a:solidFill>
                <a:uFillTx/>
                <a:latin typeface="Calibri"/>
              </a:rPr>
              <a:t>Пинега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2060"/>
                </a:solidFill>
                <a:latin typeface="Calibri"/>
              </a:rPr>
              <a:t>Посёлок в Пинежском районе (центр района - село Крапогоры) Архангельской области, в 230 км к востоку от Архангельска. Расположен на правом берегу р. Пинега (пристань). Население 4,5 тыс. человек (1989; 992 человека в 1897; 1,4 тыс. в 1926; 4,1 тыс. в 1979)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213840"/>
            <a:ext cx="82296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Оне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В Архангельской области, областного подчинения, районный центр, в 263 км к юго-западу от Архангельска. Расположен в устье р. Онега, в 7 км от Белого моря (морской порт). Конечная станция железнодорожной ветки от линии Обозерская - Беломорск. Аэропорт. Население 26,1 тыс. человек (1992; 2,7 тыс. в 1897; 5,3 тыс. в 1926; 25 тыс. в 1979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НЯНДОМ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Районный центр в Архангельской области, в 342 км к югу от Архангельска. Расположен на склоне Няндомской возвышенности. Железнодорожная станция на линии Коноша - Архангельск. Население 25,4 тыс. человек (1992; 21,4 тыс. в 1979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Возник в 1896 как посёлок при строительстве железной дороги. Город - с 1939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 u="sng">
                <a:solidFill>
                  <a:srgbClr val="ff0000"/>
                </a:solidFill>
                <a:uFillTx/>
                <a:latin typeface="Calibri"/>
              </a:rPr>
              <a:t>НОВОДВИНСК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2060"/>
                </a:solidFill>
                <a:latin typeface="Calibri"/>
              </a:rPr>
              <a:t>В Архангельской области, областного подчинения, в 20 км к югу от Архангельска. Расположен на левом берегу р. Северная Двина, в 11 км от железнодорожной станции Исакогорка на линии Вологда - Архангельск. Население 50,0 тыс. человек (1992; 48,4 тыс. в 1979)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2286000" y="428760"/>
            <a:ext cx="64008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0000"/>
                </a:solidFill>
                <a:uFillTx/>
                <a:latin typeface="Calibri"/>
              </a:rPr>
              <a:t>  </a:t>
            </a:r>
            <a:r>
              <a:rPr b="1" i="1" lang="ru-RU" sz="3700" spc="-1" strike="noStrike" u="sng">
                <a:solidFill>
                  <a:srgbClr val="ff0000"/>
                </a:solidFill>
                <a:uFillTx/>
                <a:latin typeface="Calibri"/>
              </a:rPr>
              <a:t>Красноборск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2060"/>
                </a:solidFill>
                <a:latin typeface="Calibri"/>
              </a:rPr>
              <a:t>Село, районный центр в Архангельской области, в 856 км к юго-востоку от Архангельска. Расположено на р. Северная Двина, в 55 км к северо-западу от железнодорожного узла Котлас. Население 5 тыс. человек (1989; 671 человек в 1897)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D:\Users\Светочка\Desktop\История АО\Фото\krasnoborsk(2).jpg"/>
          <p:cNvPicPr/>
          <p:nvPr/>
        </p:nvPicPr>
        <p:blipFill>
          <a:blip r:embed="rId2"/>
          <a:stretch/>
        </p:blipFill>
        <p:spPr>
          <a:xfrm>
            <a:off x="0" y="500040"/>
            <a:ext cx="2540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57200" y="142920"/>
            <a:ext cx="822960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В севернорусских преданиях имеются упоминания о чудских племенах («шень», «пинь», «немь», «ла» и др.; отсюда - Шенкурск, Пинега, Немьнюга, Лавела и т.п.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КОРЯЖМ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В Архангельской области, областного подчинения, в 835 км к юго-востоку от Архангельска. Расположен на левом берегу р. Вычегда (пристань), близ железнодорожной станции Низовка на линии Котлас - Микунь, в 40 км к востоку от Котласа. Население 43,1 тыс. человек (1992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D:\Users\Светочка\Desktop\История АО\Фото\kargopol(2).jpg"/>
          <p:cNvPicPr/>
          <p:nvPr/>
        </p:nvPicPr>
        <p:blipFill>
          <a:blip r:embed="rId2"/>
          <a:stretch/>
        </p:blipFill>
        <p:spPr>
          <a:xfrm>
            <a:off x="6429240" y="285840"/>
            <a:ext cx="2540160" cy="3060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6840" y="356760"/>
            <a:ext cx="61866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i="1" lang="ru-RU" sz="3300" spc="-1" strike="noStrike" u="sng">
                <a:solidFill>
                  <a:srgbClr val="ff0000"/>
                </a:solidFill>
                <a:uFillTx/>
                <a:latin typeface="Calibri"/>
              </a:rPr>
              <a:t>Каргополь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2060"/>
                </a:solidFill>
                <a:latin typeface="Calibri"/>
              </a:rPr>
              <a:t>Районный центр в Архангельской области, в 427 км к юго-западу от Архангельска. Расположен на левом берегу р. Онега, в 5 км от её истока из озера Лача, в 79 км к западу от железнодорожной станции Няндома на линии Вологда - Архангельск. Аэропорт. Население 13,1 тыс. человек (1992; 3,0 тыс. в 1897; 3,4 тыс. в 1926; 11,0 тыс. в 1979)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D:\Users\Светочка\Desktop\История АО\Фото\velsk(2).jpg"/>
          <p:cNvPicPr/>
          <p:nvPr/>
        </p:nvPicPr>
        <p:blipFill>
          <a:blip r:embed="rId2"/>
          <a:stretch/>
        </p:blipFill>
        <p:spPr>
          <a:xfrm>
            <a:off x="0" y="3357720"/>
            <a:ext cx="2540160" cy="31366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1928880" y="428400"/>
            <a:ext cx="675792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ВЕЛЬС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Районный центр в Архангельской области, в 545 км к югу от Архангельска. Расположен на высоком левом берегу р. Вель, при впадении её в р. Вага (бассейн Северной Двины). Железнодорожная станция на линии Коноша - Котлас. Аэропорт. Население 26,8 тыс. человек (1992; 2 тыс. в 1897; 3,5 тыс. в 1926; 24 тыс. в 1979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00"/>
                </a:solidFill>
                <a:latin typeface="Calibri"/>
              </a:rPr>
              <a:t>Фотографии старого Архангельск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D:\Users\Светочка\Desktop\История АО\Фото\Img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D:\Users\Светочка\Desktop\История АО\Фото\Img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D:\Users\Светочка\Desktop\История АО\Фото\Img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D:\Users\Светочка\Desktop\История АО\Фото\Img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D:\Users\Светочка\Desktop\История АО\Фото\Img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D:\Users\Светочка\Desktop\История АО\Фото\Img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Исконными жителями Поморья были финно-угорские племена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Пушные и рыбные северные богатства издавна привлекали новгородских купцов и промысловых людей. В 11 веке новгородцы вышли на берега Студеного моря, добрались до Печоры и севера Уральских гор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D:\Users\Светочка\Desktop\История АО\Фото\Img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D:\Users\Светочка\Desktop\История АО\Фото\Img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D:\Users\Светочка\Desktop\История АО\Фото\Img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D:\Users\Светочка\Desktop\История АО\Фото\Img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D:\Users\Светочка\Desktop\История АО\Фото\Img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D:\Users\Светочка\Desktop\История АО\Фото\Img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00"/>
                </a:solidFill>
                <a:latin typeface="Calibri"/>
              </a:rPr>
              <a:t>Красоты Архангельской области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D:\Users\Светочка\Desktop\История АО\Фото\malie_koreli_muse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Calibri"/>
              </a:rPr>
              <a:t>Малые Карел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D:\Users\Светочка\Desktop\История АО\Фото\pur_navol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Пур-Наволо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D:\Users\Светочка\Desktop\История АО\Фото\solvichegorsk_panoram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Сольвычегодская панорам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Из-за холодного климата и бедных почв земледелие никогда не играло в Поморье большой роли, основными занятиями жителей было рыболовство, добыча морского зверя и охота, животноводство, особенно молочное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D:\Users\Светочка\Desktop\История АО\Фото\solvichegorsk_sobor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Собор в Сольвычегодск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D:\Users\Светочка\Desktop\История АО\Фото\vid_na_reku_pineg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Вид на реку Пинег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На Русском Севере сформировался особый тип дома-усадьбы в пять или шесть стен с подклетями и светелкой с балахоном (балконом), обширными хозяйственными дворами, амбарами, мастерскими. В домах обычно выстраивался огромный зал (поветь), где собиралась молодежь. Большие поморские дома свидетельствуют о былой зажиточности и успешном ведении хозяйств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Огромную роль в экономической жизни поморов играли промыслы — солеварение, плотничество, резьба по кости, а также торговля. После открытия торговли с Англией в 16 веке важной отраслью экономики края становится экспортная лесодобыча. Поморские плотники принимали участие в строительстве Петербурга, работали на судоверфях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Особое место в истории Поморья занимают Соловецкие острова, где находится одноименный монастырь и историко-архитектурный и природный музей-заповедник (с 1974)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142920"/>
            <a:ext cx="822960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2060"/>
                </a:solidFill>
                <a:latin typeface="Calibri"/>
              </a:rPr>
              <a:t>В ходе петровских реформ в1708 была образована Архангелогородская губерния, которая заняла огромную территорию на севере России площадью в 850 тысяч кв. км. Помимо земель вдоль Северной Двины в состав губернии входи север Карелии, Кольский полуостров и территория Печорского бассейна. В 1780 Архангелогородская губерния была переименована в Архангельскую. Население ее на 1 января 1914 составляло 483 тысяч человек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5T01:44:25Z</dcterms:created>
  <dc:creator>Светочка</dc:creator>
  <dc:description/>
  <dc:language>en-US</dc:language>
  <cp:lastModifiedBy>библиотека</cp:lastModifiedBy>
  <dcterms:modified xsi:type="dcterms:W3CDTF">2009-06-15T05:05:29Z</dcterms:modified>
  <cp:revision>9</cp:revision>
  <dc:subject/>
  <dc:title>История Архангельской области</dc:title>
</cp:coreProperties>
</file>