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58A-94C9-45FE-8CF9-A8DE0D12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34F-0C94-49F2-A9EA-CA161A70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25E-F982-40F9-B938-F620D4F0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25B-F47F-4AF0-A278-02A19475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0433-C485-4F14-ADB8-EABDA109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B929-9F15-47FC-8CA7-55BE1CF2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AA35-9D2E-422D-8C81-5FD355F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3CC4-3771-414A-986B-55A3FE6A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8EA3-6A96-436B-B880-7BB2883C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9F12-C15D-45C5-9CCB-64B1AC57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30EA-A1EB-4787-871D-01CD2310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479-676D-42E1-B3C1-3907EE8D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CFB7-5318-47BD-B5D7-6DAE70A3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5BD7-1F97-46DB-BF9E-39E2768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54BD-8290-407C-98F6-8BF847C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AF65-9E4F-4025-8A42-20962BD7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8D30-AEF0-4FCB-9351-96DF6F03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ABCC-9155-4C95-B75E-95064660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B22F-1F1C-4D93-AE67-BA262F68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44E7-F5B4-4BFB-994F-95516DAD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5A87-E21D-442C-A2F3-6F5D568C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6E34-3A83-468A-A77F-B18D4D82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113-37D7-4DFA-8F0B-5B2A56B1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AAD8-64D9-48BD-B34D-820B08EF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70F0-2AAC-43FB-8594-DC02A10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A332-D44D-429D-95A1-45EDCD3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DC0B-FAA7-4676-A4F6-E961625A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66DB-1D1E-4DC6-9CFB-ABF3A0E1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C229-0B4A-416D-9FEC-38921A38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443B-F5CF-4641-ADFD-1F7130FA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CC2D-F093-4FCD-A661-860892D9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765BE-6B53-460D-B0A8-D8F9AD5C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8734-DDF7-407B-8E55-D04AEE3F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5DE-E3DA-4ABC-BB15-19EFCC52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5ECE-77FF-408C-A72E-0F1553B5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A064-4249-4CCE-9D15-A7D8CB4D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204A-3BF5-4DD3-8ACC-BD1D801E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A96E-C456-464A-AFCB-53332DB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691D-D304-4A8E-964E-850CC8D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135C-8390-4580-A14E-CE09380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1B31-9151-4914-8717-174645B6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E009C-D461-495F-962F-5CECF1CD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07FF-D1ED-43D9-8476-21D565B3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B513-8537-4D75-BA4F-13006664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D7E-EBE2-4F42-AEBC-6887937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3D32-5752-4D6A-A109-A4A59E0F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E9C2-24E5-470E-B741-E7C5B9FF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A9785-8878-4665-9744-5A48E64B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2B06-06FA-4518-AEEE-72DB4C3C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75BA-2CCD-4BD2-922F-B34215EA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C358-164F-42C6-B673-4F5BB6F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E77CE-157C-43B6-A617-6D66531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E464-7FA2-427F-B455-536FE0E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A3A99-69BE-4163-805B-2FE14CC9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F597-274C-45D8-9E8E-FFE5C619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97A-6659-45FF-BDF5-120854A1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0B56-6E24-4A7E-8E97-DD0F04CF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798-0E6C-407C-8D60-9290C3D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2F1-C1F8-444A-B22B-F6E6B29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626-D284-4196-9004-CD250D4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7EBE5-6EB0-4229-A418-B91870E99363}" type="slidenum"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ABB39-8744-424B-8DC5-ADC516A613ED}" type="slidenum"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2C79E-E354-4107-A728-F6A3B883A9B6}" type="slidenum"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CFAEE-7ACA-425A-AF8C-8CD4D28E626E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6F09A-D8D9-4D78-B640-A3F2BD2C89F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4"/>
          <p:cNvSpPr/>
          <p:nvPr/>
        </p:nvSpPr>
        <p:spPr>
          <a:xfrm>
            <a:off x="826920" y="170028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Картины русских художников о русской природ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755640" y="5157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а воспитатель МКДОУ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ртавальского МР РК ДС № 23 корпус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1год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8113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«</a:t>
            </a: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Корабельная роща» И .И. Шишкин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7" name="Объект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User\Desktop\slide_4.jpg"/>
          <p:cNvPicPr/>
          <p:nvPr/>
        </p:nvPicPr>
        <p:blipFill>
          <a:blip r:embed="rId1"/>
          <a:stretch/>
        </p:blipFill>
        <p:spPr>
          <a:xfrm>
            <a:off x="395280" y="390600"/>
            <a:ext cx="8353440" cy="6075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88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«Берёзовая роща» И. И.Левитан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0" name="Объект 4" descr=""/>
          <p:cNvPicPr/>
          <p:nvPr/>
        </p:nvPicPr>
        <p:blipFill>
          <a:blip r:embed="rId1"/>
          <a:stretch/>
        </p:blipFill>
        <p:spPr>
          <a:xfrm>
            <a:off x="216000" y="836640"/>
            <a:ext cx="8712000" cy="5761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2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008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«Сирень на окне» П.П.Кончаловски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4" name="Объект 4" descr=""/>
          <p:cNvPicPr/>
          <p:nvPr/>
        </p:nvPicPr>
        <p:blipFill>
          <a:blip r:embed="rId1"/>
          <a:stretch/>
        </p:blipFill>
        <p:spPr>
          <a:xfrm>
            <a:off x="233280" y="692280"/>
            <a:ext cx="8677440" cy="5903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одготовительная группа (6-7 лет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47760" y="1133640"/>
            <a:ext cx="82915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асширять представления о творческой профессии-художник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азвивать эстетическое восприятие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художественный вкус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эстетическое отношение к искусству .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должать знакомить с произведениями живопис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Шишки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 Левит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. Саврас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.Васнецов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.Пласт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Айвазовск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361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И.Шишкин «Ваалам»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8" name="Объект 4" descr=""/>
          <p:cNvPicPr/>
          <p:nvPr/>
        </p:nvPicPr>
        <p:blipFill>
          <a:blip r:embed="rId1"/>
          <a:stretch/>
        </p:blipFill>
        <p:spPr>
          <a:xfrm>
            <a:off x="214200" y="134136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540072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И. Шишкин «Утро в сосновом лесу»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0" name="Picture 2" descr="C:\Users\User\Desktop\utro_sosnovom_lesu_shishkin_mo_1280x800_wallpaperhi.com.jpg"/>
          <p:cNvPicPr/>
          <p:nvPr/>
        </p:nvPicPr>
        <p:blipFill>
          <a:blip r:embed="rId1"/>
          <a:stretch/>
        </p:blipFill>
        <p:spPr>
          <a:xfrm>
            <a:off x="206280" y="1341360"/>
            <a:ext cx="86868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6802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2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317952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И. Левитан «Март»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4" name="Picture 2" descr="C:\Users\User\Desktop\Mart_levitan.jpg"/>
          <p:cNvPicPr/>
          <p:nvPr/>
        </p:nvPicPr>
        <p:blipFill>
          <a:blip r:embed="rId1"/>
          <a:stretch/>
        </p:blipFill>
        <p:spPr>
          <a:xfrm>
            <a:off x="214200" y="907920"/>
            <a:ext cx="8713800" cy="5761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148428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разовательная область </a:t>
            </a: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40" name="Содержимое 2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645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6" name="Picture 2" descr="C:\Users\User\Desktop\img19.jpg"/>
          <p:cNvPicPr/>
          <p:nvPr/>
        </p:nvPicPr>
        <p:blipFill>
          <a:blip r:embed="rId1"/>
          <a:stretch/>
        </p:blipFill>
        <p:spPr>
          <a:xfrm>
            <a:off x="731880" y="642960"/>
            <a:ext cx="7727760" cy="5450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5596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В. Васнецов «Иван-царевич на сером волке»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8" name="Picture 2" descr="C:\Users\User\Desktop\0812.jpeg"/>
          <p:cNvPicPr/>
          <p:nvPr/>
        </p:nvPicPr>
        <p:blipFill>
          <a:blip r:embed="rId1"/>
          <a:stretch/>
        </p:blipFill>
        <p:spPr>
          <a:xfrm>
            <a:off x="1116000" y="836640"/>
            <a:ext cx="7272360" cy="5746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0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20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«Морские пейзажи И.К.Айвазовски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2" name="Объект 4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1880" y="47880"/>
            <a:ext cx="7680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31880" y="764640"/>
            <a:ext cx="76802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ебёнок познаёт красоту окружающего мира прежде всего через восприятие красоты природы. Нравственное-эстетическое отношение к природе обогащается её отражением в художественных образах искусства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с которыми знакомятся дошкольники .Таким  образом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ельзя отделить художественно-эстетическое воспитание от экологического .Ознакомление  детей дошкольного возраста с изобразительным искусством  связано с яркими впечатлениями от окружающего мира . Для полного восприятия художественного произведения детям необходим запас наблюдений и опыта положительно-активного отношения к окружающему . Чем больше опыт наблюдения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тем глубже восприятие произведений искусст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133640" y="262080"/>
            <a:ext cx="7351560" cy="1212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50920" y="126792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звиваем эстетическое восприяти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ращать внимание детей на красоту природы(растений и животных)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зывать чувство радост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249200" y="596880"/>
            <a:ext cx="7162920" cy="860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звивать эстетическое восприятие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мение видеть красоту и своеобразие окружающего ми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зывать положительный эмоциональный отклик на красоту природ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держивать желание отображать полученные впечатления в продуктивных видах деятель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852560" y="262080"/>
            <a:ext cx="6486480" cy="768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адачи: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иобщать детей к восприятию искусств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азвивать интерес к нему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знакомить детей с творческой профессией-художник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чить узнавать и называть предметы и явления природы в художественных образах(литература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музыка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зобразительное искусство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накомство с понятием картина(репродукция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731880" y="262080"/>
            <a:ext cx="7680240" cy="768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79280" y="1052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должать знакомить с основными жанрами изобразительного искусства(натюрморт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ейзаж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ртрет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накомить с произведениями живопис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Шишки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Левит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 Сер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 Грабарь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.Авдыш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.Кончаловск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2" name="Picture 2" descr="C:\Users\User\Desktop\0076-076-SHishkin-Ivan-Ivanovich-1832-1898.jpg"/>
          <p:cNvPicPr/>
          <p:nvPr/>
        </p:nvPicPr>
        <p:blipFill>
          <a:blip r:embed="rId1"/>
          <a:stretch/>
        </p:blipFill>
        <p:spPr>
          <a:xfrm>
            <a:off x="2448000" y="385920"/>
            <a:ext cx="5243400" cy="3931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User\Desktop\portraits10_.jpg"/>
          <p:cNvPicPr/>
          <p:nvPr/>
        </p:nvPicPr>
        <p:blipFill>
          <a:blip r:embed="rId2"/>
          <a:stretch/>
        </p:blipFill>
        <p:spPr>
          <a:xfrm>
            <a:off x="396720" y="1123920"/>
            <a:ext cx="4104000" cy="5348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6680" y="260280"/>
            <a:ext cx="69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«На севере диком» И.И.Шишкин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5" name="Объект 4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563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8T13:38:13Z</dcterms:created>
  <dc:creator>Иришка</dc:creator>
  <dc:description/>
  <dc:language>en-US</dc:language>
  <cp:lastModifiedBy>Воспитатель</cp:lastModifiedBy>
  <dcterms:modified xsi:type="dcterms:W3CDTF">2023-06-06T10:34:26Z</dcterms:modified>
  <cp:revision>179</cp:revision>
  <dc:subject/>
  <dc:title>Слайд 1</dc:title>
</cp:coreProperties>
</file>