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231-98F0-42BB-8205-B32DB5CC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5BB-3052-450A-89E7-9C11B39C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F9F-DF36-4721-95DA-CDBB6899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553-6E52-4D44-8696-EDD6B272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A0CD-ADFF-4373-9985-7A537C8E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7919-F6B8-409E-8366-A90D4121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BBFA-63F8-4961-8CE1-6299F609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5279-459A-42FD-8A3D-4DFD4FFF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BA18-9D39-4540-82CF-9D18E345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A50D-C305-4DB0-BB0C-8545CFF6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07BD-904D-4192-AC9A-2490F934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2CB-238C-480F-9D7A-BD2ED490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14C4-6B22-49CC-8B51-3A9F61F7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393F-510F-4A80-89B9-22767CC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D793-0C97-4136-9800-F487FD42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4ED5-8A0A-4B85-8152-5358D2BE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25E3-D401-431F-A1AD-AC06DFD7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E3F1-6F01-4AF5-A285-C025BD9F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93B4A-E8A5-49B1-818A-E8499235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093D6-EB53-4CEC-9757-B4D47A33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DB6B-CEA1-405C-A223-DAF0E2F6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CF95-0F9E-43D5-9DF5-629D94F1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C9D-E166-4975-810F-4EB5D74B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3842-020B-42FA-AC9F-E26B3A32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E5B5-B8B0-4E90-8C5A-8E9A5B7B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CFF0-B20E-494E-86FC-F3F39001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B5C6C-9985-4BD7-A8E4-60D96F7C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28D79-AA74-40B2-ADE4-6ABE5C44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1153-EFCA-4499-9DD5-9E8E0FDC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CEC2-5548-4017-B18D-78FE9BE0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656EF-D367-4E70-AC67-997B1DA9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02E17-235A-4D09-A85C-38059E3C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D2D0-1FD1-4F7E-B88C-3AE1D9CA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A1A-1C5C-43F8-8D08-BA91BEB3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E5A82-4144-43F0-B161-59A8789A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5B9B3-FE60-4582-A13E-41FC47E5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228F-1A1C-444A-BD0C-1742779D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D274-CDF7-48EB-B01A-A2A6253B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D88D7-BA01-4617-89D8-5B569C36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244E-DCF5-40AD-A16B-D4A8D30A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E473A-840F-4F9D-BB6C-73767696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DD47-E9EB-434E-AEF4-014CDF69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07BC0-E965-4031-A613-B3DD8874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1093-8C5C-4769-B993-F7BB61FA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084-148D-4DD7-92AD-E38D43D5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C1D88-F2F0-472B-81A3-BA063962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836E9-3939-41AB-92BB-8BE9069B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56366-12BC-4462-A355-E3AC3997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959E6-48DD-4EEA-B810-C3F825C4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FB82C-0D96-404F-AF13-0C199B67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9869-6923-4058-85EE-37AFBBA0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848B-9DBE-497D-9074-654BFB4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554E0-F83A-4F00-B8A5-D0214A4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259A4-6F61-4421-8D33-CCE4C207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A11C6-579C-40BF-9466-DBEB6CA3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499-D7B4-4960-BD39-7C8DD250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62EA8-E50C-4A3A-99AB-C53152B3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92B-A36B-4130-ADA6-A9B423C1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123-AB32-4F5A-91FA-5C5352A1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16E-315C-4831-826C-95255C04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66775-EDB7-49C7-849C-CB97BB21E461}" type="slidenum">
              <a:rPr b="0" lang="ru-RU" sz="9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A7E20-93BF-4BFE-BFB1-0D825B971994}" type="slidenum">
              <a:rPr b="0" lang="ru-RU" sz="9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2AD45-C178-4485-B16F-06E88B60B714}" type="slidenum">
              <a:rPr b="0" lang="ru-RU" sz="9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092D0-178E-41BC-B635-4E7C4C41B2D3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985FB-F5E7-4ABA-B175-75DA7B91F20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4"/>
          <p:cNvSpPr/>
          <p:nvPr/>
        </p:nvSpPr>
        <p:spPr>
          <a:xfrm>
            <a:off x="826920" y="170028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Картины русских художников о русской природ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755640" y="5157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ла воспитатель МКДОУ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ртавальского МР РК ДС № 23 корпус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1год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8113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«</a:t>
            </a: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Корабельная роща» И .И. Шишкин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7" name="Объект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Users\User\Desktop\slide_4.jpg"/>
          <p:cNvPicPr/>
          <p:nvPr/>
        </p:nvPicPr>
        <p:blipFill>
          <a:blip r:embed="rId1"/>
          <a:stretch/>
        </p:blipFill>
        <p:spPr>
          <a:xfrm>
            <a:off x="395280" y="390600"/>
            <a:ext cx="8353440" cy="6075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88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«Берёзовая роща» И. И.Левитан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0" name="Объект 4" descr=""/>
          <p:cNvPicPr/>
          <p:nvPr/>
        </p:nvPicPr>
        <p:blipFill>
          <a:blip r:embed="rId1"/>
          <a:stretch/>
        </p:blipFill>
        <p:spPr>
          <a:xfrm>
            <a:off x="216000" y="836640"/>
            <a:ext cx="8712000" cy="5761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2" name="Объект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008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«Сирень на окне» П.П.Кончаловский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4" name="Объект 4" descr=""/>
          <p:cNvPicPr/>
          <p:nvPr/>
        </p:nvPicPr>
        <p:blipFill>
          <a:blip r:embed="rId1"/>
          <a:stretch/>
        </p:blipFill>
        <p:spPr>
          <a:xfrm>
            <a:off x="233280" y="692280"/>
            <a:ext cx="8677440" cy="5903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одготовительная группа (6-7 лет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47760" y="1133640"/>
            <a:ext cx="82915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асширять представления о творческой профессии-художник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азвивать эстетическое восприятие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художественный вкус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эстетическое отношение к искусству .    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одолжать знакомить с произведениями живопис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Шишки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 Левита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. Саврас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.Васнецов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.Пласт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Айвазовск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0360" indent="-180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3612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И.Шишкин «Ваалам»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8" name="Объект 4" descr=""/>
          <p:cNvPicPr/>
          <p:nvPr/>
        </p:nvPicPr>
        <p:blipFill>
          <a:blip r:embed="rId1"/>
          <a:stretch/>
        </p:blipFill>
        <p:spPr>
          <a:xfrm>
            <a:off x="214200" y="134136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540072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И. Шишкин «Утро в сосновом лесу»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0" name="Picture 2" descr="C:\Users\User\Desktop\utro_sosnovom_lesu_shishkin_mo_1280x800_wallpaperhi.com.jpg"/>
          <p:cNvPicPr/>
          <p:nvPr/>
        </p:nvPicPr>
        <p:blipFill>
          <a:blip r:embed="rId1"/>
          <a:stretch/>
        </p:blipFill>
        <p:spPr>
          <a:xfrm>
            <a:off x="206280" y="1341360"/>
            <a:ext cx="868680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6802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2" name="Объект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317952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И. Левитан «Март»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4" name="Picture 2" descr="C:\Users\User\Desktop\Mart_levitan.jpg"/>
          <p:cNvPicPr/>
          <p:nvPr/>
        </p:nvPicPr>
        <p:blipFill>
          <a:blip r:embed="rId1"/>
          <a:stretch/>
        </p:blipFill>
        <p:spPr>
          <a:xfrm>
            <a:off x="214200" y="907920"/>
            <a:ext cx="8713800" cy="5761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148428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Образовательная область </a:t>
            </a:r>
            <a:br>
              <a:rPr sz="4000"/>
            </a:b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40" name="Содержимое 2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645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6" name="Picture 2" descr="C:\Users\User\Desktop\img19.jpg"/>
          <p:cNvPicPr/>
          <p:nvPr/>
        </p:nvPicPr>
        <p:blipFill>
          <a:blip r:embed="rId1"/>
          <a:stretch/>
        </p:blipFill>
        <p:spPr>
          <a:xfrm>
            <a:off x="731880" y="642960"/>
            <a:ext cx="7727760" cy="5450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5596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В. Васнецов «Иван-царевич на сером волке»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8" name="Picture 2" descr="C:\Users\User\Desktop\0812.jpeg"/>
          <p:cNvPicPr/>
          <p:nvPr/>
        </p:nvPicPr>
        <p:blipFill>
          <a:blip r:embed="rId1"/>
          <a:stretch/>
        </p:blipFill>
        <p:spPr>
          <a:xfrm>
            <a:off x="1116000" y="836640"/>
            <a:ext cx="7272360" cy="5746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0" name="Объект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20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«Морские пейзажи И.К.Айвазовский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2" name="Объект 4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1880" y="47880"/>
            <a:ext cx="7680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31880" y="764640"/>
            <a:ext cx="76802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ебёнок познаёт красоту окружающего мира прежде всего через восприятие красоты природы. Нравственное-эстетическое отношение к природе обогащается её отражением в художественных образах искусства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с которыми знакомятся дошкольники .Таким  образом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ельзя отделить художественно-эстетическое воспитание от экологического .Ознакомление  детей дошкольного возраста с изобразительным искусством  связано с яркими впечатлениями от окружающего мира . Для полного восприятия художественного произведения детям необходим запас наблюдений и опыта положительно-активного отношения к окружающему . Чем больше опыт наблюдения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тем глубже восприятие произведений искусст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133640" y="262080"/>
            <a:ext cx="7351560" cy="1212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50920" y="1267920"/>
            <a:ext cx="8642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азвиваем эстетическое восприяти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ращать внимание детей на красоту природы(растений и животных)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ызывать чувство радост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249200" y="596880"/>
            <a:ext cx="7162920" cy="860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азвивать эстетическое восприятие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мение видеть красоту и своеобразие окружающего ми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ызывать положительный эмоциональный отклик на красоту природ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ддерживать желание отображать полученные впечатления в продуктивных видах деятельност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1852560" y="262080"/>
            <a:ext cx="6486480" cy="768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адачи: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иобщать детей к восприятию искусства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азвивать интерес к нему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знакомить детей с творческой профессией-художник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чить узнавать и называть предметы и явления природы в художественных образах(литература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музыка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изобразительное искусство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накомство с понятием картина(репродукция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731880" y="262080"/>
            <a:ext cx="7680240" cy="768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79280" y="1052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одолжать знакомить с основными жанрами изобразительного искусства(натюрморт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ейзаж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ртрет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знакомить с произведениями живопис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Шишки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Левита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 Сер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. Грабарь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.Авдыше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.Кончаловск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2" name="Picture 2" descr="C:\Users\User\Desktop\0076-076-SHishkin-Ivan-Ivanovich-1832-1898.jpg"/>
          <p:cNvPicPr/>
          <p:nvPr/>
        </p:nvPicPr>
        <p:blipFill>
          <a:blip r:embed="rId1"/>
          <a:stretch/>
        </p:blipFill>
        <p:spPr>
          <a:xfrm>
            <a:off x="2448000" y="385920"/>
            <a:ext cx="5243400" cy="3931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User\Desktop\portraits10_.jpg"/>
          <p:cNvPicPr/>
          <p:nvPr/>
        </p:nvPicPr>
        <p:blipFill>
          <a:blip r:embed="rId2"/>
          <a:stretch/>
        </p:blipFill>
        <p:spPr>
          <a:xfrm>
            <a:off x="396720" y="1123920"/>
            <a:ext cx="4104000" cy="5348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6680" y="260280"/>
            <a:ext cx="698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«На севере диком» И.И.Шишкин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5" name="Объект 4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985080" cy="5630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8T13:38:13Z</dcterms:created>
  <dc:creator>Иришка</dc:creator>
  <dc:description/>
  <dc:language>en-US</dc:language>
  <cp:lastModifiedBy>Воспитатель</cp:lastModifiedBy>
  <dcterms:modified xsi:type="dcterms:W3CDTF">2023-06-06T10:34:26Z</dcterms:modified>
  <cp:revision>179</cp:revision>
  <dc:subject/>
  <dc:title>Слайд 1</dc:title>
</cp:coreProperties>
</file>