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AF1-FAC6-4467-89FD-65267A11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758-118B-4A5A-9B9B-DC98BEC3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C8A4-93D8-492D-8F6F-AE9ED86C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96D0-5713-4E60-B2FC-6ED07784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6CC0-4459-46FD-820E-2C49794B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817-A1A2-433E-895E-CEC98970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49FF-BB11-4C9E-855D-6E15B708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D4F-E1D4-48E5-AA3A-DD36F47C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F0A-0CB3-4C7A-83DD-0C9162A4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5D3-1205-4493-AB60-5605812A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045E-3FDE-401E-B4BA-B27A9796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BA5-D107-46D7-B633-3709376E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CA48-335C-46F1-BAB9-D49ED44F77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Lucida Handwriting"/>
              </a:rPr>
              <a:t>May of 20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7440" y="5071680"/>
            <a:ext cx="370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Lucida Handwriting"/>
              </a:rPr>
              <a:t>The last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Lucida Handwriting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143000"/>
          <a:ext cx="9144000" cy="53578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Lucida Handwriting"/>
                        </a:rPr>
                        <a:t>Vocabular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Lucida Handwriting"/>
                        </a:rPr>
                        <a:t>Gramm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Lucida Handwriting"/>
                        </a:rPr>
                        <a:t>Literatu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53735"/>
                          </a:solidFill>
                          <a:latin typeface="Lucida Handwriting"/>
                        </a:rPr>
                        <a:t>Count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3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Vocabulary - 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Comic Sans MS"/>
              </a:rPr>
              <a:t>Сколько букв в слове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Comic Sans MS"/>
              </a:rPr>
              <a:t>«дочь» на английском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Vocabulary-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Comic Sans MS"/>
              </a:rPr>
              <a:t>Interpreter </a:t>
            </a:r>
            <a:r>
              <a:rPr b="0" lang="en-US" sz="6000" spc="-1" strike="noStrike">
                <a:solidFill>
                  <a:srgbClr val="376092"/>
                </a:solidFill>
                <a:latin typeface="Comic Sans MS"/>
              </a:rPr>
              <a:t>–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76092"/>
                </a:solidFill>
                <a:latin typeface="Comic Sans MS"/>
              </a:rPr>
              <a:t>это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Vocabulary-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50"/>
                </a:solidFill>
                <a:latin typeface="Comic Sans MS"/>
              </a:rPr>
              <a:t>Conductor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953735"/>
                </a:solidFill>
                <a:latin typeface="Comic Sans MS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3735"/>
                </a:solidFill>
                <a:latin typeface="Comic Sans MS"/>
              </a:rPr>
              <a:t>это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Grammar -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3735"/>
                </a:solidFill>
                <a:latin typeface="Comic Sans MS"/>
              </a:rPr>
              <a:t>Первая форма глагола </a:t>
            </a:r>
            <a:r>
              <a:rPr b="0" lang="ru-RU" sz="8000" spc="-1" strike="noStrike">
                <a:solidFill>
                  <a:srgbClr val="00b050"/>
                </a:solidFill>
                <a:latin typeface="Comic Sans MS"/>
              </a:rPr>
              <a:t>«</a:t>
            </a:r>
            <a:r>
              <a:rPr b="0" lang="en-US" sz="8000" spc="-1" strike="noStrike">
                <a:solidFill>
                  <a:srgbClr val="00b050"/>
                </a:solidFill>
                <a:latin typeface="Comic Sans MS"/>
              </a:rPr>
              <a:t>caught</a:t>
            </a:r>
            <a:r>
              <a:rPr b="0" lang="ru-RU" sz="8000" spc="-1" strike="noStrike">
                <a:solidFill>
                  <a:srgbClr val="00b050"/>
                </a:solidFill>
                <a:latin typeface="Comic Sans MS"/>
              </a:rPr>
              <a:t>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Grammar - 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omic Sans MS"/>
              </a:rPr>
              <a:t>Найдите ошибку в предложе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omic Sans MS"/>
              </a:rPr>
              <a:t>A book is read with me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Grammar -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6228"/>
                </a:solidFill>
                <a:latin typeface="Comic Sans MS"/>
              </a:rPr>
              <a:t>Переведит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3735"/>
                </a:solidFill>
                <a:latin typeface="Comic Sans MS"/>
              </a:rPr>
              <a:t>Никто ничего никогда не зна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Literature - 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70c0"/>
                </a:solidFill>
                <a:latin typeface="Comic Sans MS"/>
              </a:rPr>
              <a:t>С именем какого английского поэта, драматурга, писателя связано место </a:t>
            </a:r>
            <a:r>
              <a:rPr b="0" lang="en-US" sz="4400" spc="-1" strike="noStrike">
                <a:solidFill>
                  <a:srgbClr val="0070c0"/>
                </a:solidFill>
                <a:latin typeface="Comic Sans MS"/>
              </a:rPr>
              <a:t>Stratford-upon-Av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Literature-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omic Sans MS"/>
              </a:rPr>
              <a:t>Samuel Langhorne Clemen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omic Sans MS"/>
              </a:rPr>
              <a:t>Под каким псевдонимом стал известен этот писатель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Literature-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57176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omic Sans MS"/>
              </a:rPr>
              <a:t>Сын этого писателя никогда не пользовался гонорарами с книг своего отца даже после его смерти. По его словам, это ставшее популярным произведение испортило ему всю жизнь. Мальчик стал прототипом героя книги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Lucida Handwriting"/>
              </a:rPr>
              <a:t>Let’s  remind  how  to  re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"/>
          <p:cNvPicPr/>
          <p:nvPr/>
        </p:nvPicPr>
        <p:blipFill>
          <a:blip r:embed="rId1"/>
          <a:stretch/>
        </p:blipFill>
        <p:spPr>
          <a:xfrm>
            <a:off x="390600" y="1566720"/>
            <a:ext cx="1018044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Countries-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5400" spc="-1" strike="noStrike">
                <a:solidFill>
                  <a:srgbClr val="0070c0"/>
                </a:solidFill>
                <a:latin typeface="Comic Sans MS"/>
              </a:rPr>
              <a:t>Кто является на данный момент королем/королевой Содружества /</a:t>
            </a:r>
            <a:r>
              <a:rPr b="0" lang="en-US" sz="5400" spc="-1" strike="noStrike">
                <a:solidFill>
                  <a:srgbClr val="0070c0"/>
                </a:solidFill>
                <a:latin typeface="Comic Sans MS"/>
              </a:rPr>
              <a:t>Commonwealth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Countries-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omic Sans MS"/>
              </a:rPr>
              <a:t>Какой штат самый маленький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Lucida Handwriting"/>
              </a:rPr>
              <a:t>Countries-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Comic Sans MS"/>
              </a:rPr>
              <a:t>Столица этой страны – Кардифф, один из официальных языков – валлийский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s://i.pinimg.com/564x/d3/7b/ad/d37bad7b66318d80fe96265afed72d10.jpg"/>
          <p:cNvPicPr/>
          <p:nvPr/>
        </p:nvPicPr>
        <p:blipFill>
          <a:blip r:embed="rId1"/>
          <a:stretch/>
        </p:blipFill>
        <p:spPr>
          <a:xfrm>
            <a:off x="1714680" y="357120"/>
            <a:ext cx="61434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s://i.pinimg.com/564x/07/02/b7/0702b78cb08866527565440c73fd6527.jpg"/>
          <p:cNvPicPr/>
          <p:nvPr/>
        </p:nvPicPr>
        <p:blipFill>
          <a:blip r:embed="rId1"/>
          <a:srcRect l="0" t="0" r="0" b="5144"/>
          <a:stretch/>
        </p:blipFill>
        <p:spPr>
          <a:xfrm>
            <a:off x="1714680" y="142920"/>
            <a:ext cx="565776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s://i.pinimg.com/564x/df/44/e8/df44e83e55e21356108a69e353ae4cd7.jpg"/>
          <p:cNvPicPr/>
          <p:nvPr/>
        </p:nvPicPr>
        <p:blipFill>
          <a:blip r:embed="rId1"/>
          <a:srcRect l="0" t="4433" r="0" b="12233"/>
          <a:stretch/>
        </p:blipFill>
        <p:spPr>
          <a:xfrm>
            <a:off x="1500120" y="71280"/>
            <a:ext cx="537228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s://i.pinimg.com/564x/54/c7/a8/54c7a8d275c004eb27a01f04b4b466fa.jpg"/>
          <p:cNvPicPr/>
          <p:nvPr/>
        </p:nvPicPr>
        <p:blipFill>
          <a:blip r:embed="rId1"/>
          <a:stretch/>
        </p:blipFill>
        <p:spPr>
          <a:xfrm>
            <a:off x="1285920" y="214200"/>
            <a:ext cx="67150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i.pinimg.com/564x/91/26/06/9126063f463128b080abb573f2a15395.jpg"/>
          <p:cNvPicPr/>
          <p:nvPr/>
        </p:nvPicPr>
        <p:blipFill>
          <a:blip r:embed="rId1"/>
          <a:srcRect l="0" t="5917" r="0" b="10651"/>
          <a:stretch/>
        </p:blipFill>
        <p:spPr>
          <a:xfrm>
            <a:off x="1428840" y="216000"/>
            <a:ext cx="64292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Lucida Handwriting"/>
              </a:rPr>
              <a:t>Let’s try to gu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21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i.pinimg.com/564x/dc/5c/53/dc5c53ce920ba704737586c185a918ba.jpg"/>
          <p:cNvPicPr/>
          <p:nvPr/>
        </p:nvPicPr>
        <p:blipFill>
          <a:blip r:embed="rId1"/>
          <a:srcRect l="0" t="0" r="0" b="3124"/>
          <a:stretch/>
        </p:blipFill>
        <p:spPr>
          <a:xfrm>
            <a:off x="1773360" y="-19080"/>
            <a:ext cx="520200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Lucida Handwriting"/>
              </a:rPr>
              <a:t>Rhyme-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"/>
          <p:cNvPicPr/>
          <p:nvPr/>
        </p:nvPicPr>
        <p:blipFill>
          <a:blip r:embed="rId1"/>
          <a:stretch/>
        </p:blipFill>
        <p:spPr>
          <a:xfrm>
            <a:off x="-12600" y="1420920"/>
            <a:ext cx="9175680" cy="2157480"/>
          </a:xfrm>
          <a:prstGeom prst="rect">
            <a:avLst/>
          </a:prstGeom>
          <a:ln w="0">
            <a:noFill/>
          </a:ln>
        </p:spPr>
      </p:pic>
      <p:pic>
        <p:nvPicPr>
          <p:cNvPr id="51" name="Схема 4" descr=""/>
          <p:cNvPicPr/>
          <p:nvPr/>
        </p:nvPicPr>
        <p:blipFill>
          <a:blip r:embed="rId2"/>
          <a:stretch/>
        </p:blipFill>
        <p:spPr>
          <a:xfrm>
            <a:off x="-12600" y="3706920"/>
            <a:ext cx="91756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i.pinimg.com/564x/72/75/98/727598524855a584148b70ed9fe8af82.jpg"/>
          <p:cNvPicPr/>
          <p:nvPr/>
        </p:nvPicPr>
        <p:blipFill>
          <a:blip r:embed="rId1"/>
          <a:srcRect l="0" t="0" r="0" b="9574"/>
          <a:stretch/>
        </p:blipFill>
        <p:spPr>
          <a:xfrm>
            <a:off x="1500120" y="357120"/>
            <a:ext cx="659772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Lucida Handwriting"/>
              </a:rPr>
              <a:t>Hangm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"/>
          <p:cNvPicPr/>
          <p:nvPr/>
        </p:nvPicPr>
        <p:blipFill>
          <a:blip r:embed="rId1"/>
          <a:stretch/>
        </p:blipFill>
        <p:spPr>
          <a:xfrm>
            <a:off x="-6480" y="1054080"/>
            <a:ext cx="869976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i.pinimg.com/564x/e1/6e/77/e16e7793d4bb82f8b5041442415822a3.jpg"/>
          <p:cNvPicPr/>
          <p:nvPr/>
        </p:nvPicPr>
        <p:blipFill>
          <a:blip r:embed="rId1"/>
          <a:srcRect l="0" t="0" r="0" b="8243"/>
          <a:stretch/>
        </p:blipFill>
        <p:spPr>
          <a:xfrm>
            <a:off x="1461960" y="642960"/>
            <a:ext cx="59677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5-09T23:48:27Z</dcterms:created>
  <dc:creator>КТВ</dc:creator>
  <dc:description/>
  <dc:language>en-US</dc:language>
  <cp:lastModifiedBy>КТВ</cp:lastModifiedBy>
  <dcterms:modified xsi:type="dcterms:W3CDTF">2023-05-10T14:26:49Z</dcterms:modified>
  <cp:revision>11</cp:revision>
  <dc:subject/>
  <dc:title>May of 2023</dc:title>
</cp:coreProperties>
</file>