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2DE7-1729-48E2-8D50-30F4B0372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76BF-3F48-492C-B69E-169DD4A5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28DA-5B56-4BD1-B141-BB3EFBB7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EF0F-87AB-4411-9C5F-B5E09105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F08F-0C9F-4209-8AE3-F2E2F9F8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2041-16A2-4F92-8E7E-624B245E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EC98-8296-4E4C-B739-EAE08490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B528-C2A9-4591-831E-D96EDEDA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37FC-24D6-41BA-84C0-BA6C5643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9374-1453-481E-A80E-99F1BE56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6708-6FBF-452E-8E32-D4C3310F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1553-67B2-4A7A-A192-AA3A4BD1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F21A-5822-4E07-B2BD-3EDF5454DA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Lucida Handwriting"/>
              </a:rPr>
              <a:t>May of 20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57440" y="5071680"/>
            <a:ext cx="3700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Lucida Handwriting"/>
              </a:rPr>
              <a:t>The last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Lucida Handwriting"/>
              </a:rPr>
              <a:t>Jeopar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1143000"/>
          <a:ext cx="9144000" cy="53578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3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Lucida Handwriting"/>
                        </a:rPr>
                        <a:t>Vocabular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Lucida Handwriting"/>
                        </a:rPr>
                        <a:t>Gramm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Lucida Handwriting"/>
                        </a:rPr>
                        <a:t>Literatur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53735"/>
                          </a:solidFill>
                          <a:latin typeface="Lucida Handwriting"/>
                        </a:rPr>
                        <a:t>Countr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3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13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3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Lucida Handwriting"/>
              </a:rPr>
              <a:t>Vocabulary - 1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0c0"/>
                </a:solidFill>
                <a:latin typeface="Comic Sans MS"/>
              </a:rPr>
              <a:t>Сколько букв в слове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0c0"/>
                </a:solidFill>
                <a:latin typeface="Comic Sans MS"/>
              </a:rPr>
              <a:t>«дочь» на английском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Lucida Handwriting"/>
              </a:rPr>
              <a:t>Vocabulary-3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50"/>
                </a:solidFill>
                <a:latin typeface="Comic Sans MS"/>
              </a:rPr>
              <a:t>Interpreter </a:t>
            </a:r>
            <a:r>
              <a:rPr b="0" lang="en-US" sz="6000" spc="-1" strike="noStrike">
                <a:solidFill>
                  <a:srgbClr val="376092"/>
                </a:solidFill>
                <a:latin typeface="Comic Sans MS"/>
              </a:rPr>
              <a:t>–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76092"/>
                </a:solidFill>
                <a:latin typeface="Comic Sans MS"/>
              </a:rPr>
              <a:t>это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Lucida Handwriting"/>
              </a:rPr>
              <a:t>Vocabulary-5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050"/>
                </a:solidFill>
                <a:latin typeface="Comic Sans MS"/>
              </a:rPr>
              <a:t>Conductor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953735"/>
                </a:solidFill>
                <a:latin typeface="Comic Sans MS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53735"/>
                </a:solidFill>
                <a:latin typeface="Comic Sans MS"/>
              </a:rPr>
              <a:t>это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Lucida Handwriting"/>
              </a:rPr>
              <a:t>Grammar -1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53735"/>
                </a:solidFill>
                <a:latin typeface="Comic Sans MS"/>
              </a:rPr>
              <a:t>Первая форма глагола </a:t>
            </a:r>
            <a:r>
              <a:rPr b="0" lang="ru-RU" sz="8000" spc="-1" strike="noStrike">
                <a:solidFill>
                  <a:srgbClr val="00b050"/>
                </a:solidFill>
                <a:latin typeface="Comic Sans MS"/>
              </a:rPr>
              <a:t>«</a:t>
            </a:r>
            <a:r>
              <a:rPr b="0" lang="en-US" sz="8000" spc="-1" strike="noStrike">
                <a:solidFill>
                  <a:srgbClr val="00b050"/>
                </a:solidFill>
                <a:latin typeface="Comic Sans MS"/>
              </a:rPr>
              <a:t>caught</a:t>
            </a:r>
            <a:r>
              <a:rPr b="0" lang="ru-RU" sz="8000" spc="-1" strike="noStrike">
                <a:solidFill>
                  <a:srgbClr val="00b050"/>
                </a:solidFill>
                <a:latin typeface="Comic Sans MS"/>
              </a:rPr>
              <a:t>»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Lucida Handwriting"/>
              </a:rPr>
              <a:t>Grammar - 3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omic Sans MS"/>
              </a:rPr>
              <a:t>Найдите ошибку в предложен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omic Sans MS"/>
              </a:rPr>
              <a:t>A book is read with me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Lucida Handwriting"/>
              </a:rPr>
              <a:t>Grammar -5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f6228"/>
                </a:solidFill>
                <a:latin typeface="Comic Sans MS"/>
              </a:rPr>
              <a:t>Переведите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53735"/>
                </a:solidFill>
                <a:latin typeface="Comic Sans MS"/>
              </a:rPr>
              <a:t>Никто ничего никогда не знае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Lucida Handwriting"/>
              </a:rPr>
              <a:t>Literature - 1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0070c0"/>
                </a:solidFill>
                <a:latin typeface="Comic Sans MS"/>
              </a:rPr>
              <a:t>С именем какого английского поэта, драматурга, писателя связано место </a:t>
            </a:r>
            <a:r>
              <a:rPr b="0" lang="en-US" sz="4400" spc="-1" strike="noStrike">
                <a:solidFill>
                  <a:srgbClr val="0070c0"/>
                </a:solidFill>
                <a:latin typeface="Comic Sans MS"/>
              </a:rPr>
              <a:t>Stratford-upon-Av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Lucida Handwriting"/>
              </a:rPr>
              <a:t>Literature-3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b050"/>
                </a:solidFill>
                <a:latin typeface="Comic Sans MS"/>
              </a:rPr>
              <a:t>Samuel Langhorne Clemens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00000"/>
                </a:solidFill>
                <a:latin typeface="Comic Sans MS"/>
              </a:rPr>
              <a:t>Под каким псевдонимом стал известен этот писатель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Lucida Handwriting"/>
              </a:rPr>
              <a:t>Literature-5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28760" y="157176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omic Sans MS"/>
              </a:rPr>
              <a:t>Сын этого писателя никогда не пользовался гонорарами с книг своего отца даже после его смерти. По его словам, это ставшее популярным произведение испортило ему всю жизнь. Мальчик стал прототипом героя книги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Lucida Handwriting"/>
              </a:rPr>
              <a:t>Let’s  remind  how  to  re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"/>
          <p:cNvPicPr/>
          <p:nvPr/>
        </p:nvPicPr>
        <p:blipFill>
          <a:blip r:embed="rId1"/>
          <a:stretch/>
        </p:blipFill>
        <p:spPr>
          <a:xfrm>
            <a:off x="390600" y="1566720"/>
            <a:ext cx="10180440" cy="45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Lucida Handwriting"/>
              </a:rPr>
              <a:t>Countries-1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5400" spc="-1" strike="noStrike">
                <a:solidFill>
                  <a:srgbClr val="0070c0"/>
                </a:solidFill>
                <a:latin typeface="Comic Sans MS"/>
              </a:rPr>
              <a:t>Кто является на данный момент королем/королевой Содружества /</a:t>
            </a:r>
            <a:r>
              <a:rPr b="0" lang="en-US" sz="5400" spc="-1" strike="noStrike">
                <a:solidFill>
                  <a:srgbClr val="0070c0"/>
                </a:solidFill>
                <a:latin typeface="Comic Sans MS"/>
              </a:rPr>
              <a:t>Commonwealth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Lucida Handwriting"/>
              </a:rPr>
              <a:t>Countries-3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Comic Sans MS"/>
              </a:rPr>
              <a:t>Какой штат самый маленький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Lucida Handwriting"/>
              </a:rPr>
              <a:t>Countries-5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70c0"/>
                </a:solidFill>
                <a:latin typeface="Comic Sans MS"/>
              </a:rPr>
              <a:t>Столица этой страны – Кардифф, один из официальных языков – валлийский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s://i.pinimg.com/564x/d3/7b/ad/d37bad7b66318d80fe96265afed72d10.jpg"/>
          <p:cNvPicPr/>
          <p:nvPr/>
        </p:nvPicPr>
        <p:blipFill>
          <a:blip r:embed="rId1"/>
          <a:stretch/>
        </p:blipFill>
        <p:spPr>
          <a:xfrm>
            <a:off x="1714680" y="357120"/>
            <a:ext cx="61434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s://i.pinimg.com/564x/07/02/b7/0702b78cb08866527565440c73fd6527.jpg"/>
          <p:cNvPicPr/>
          <p:nvPr/>
        </p:nvPicPr>
        <p:blipFill>
          <a:blip r:embed="rId1"/>
          <a:srcRect l="0" t="0" r="0" b="5144"/>
          <a:stretch/>
        </p:blipFill>
        <p:spPr>
          <a:xfrm>
            <a:off x="1714680" y="142920"/>
            <a:ext cx="5657760" cy="65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s://i.pinimg.com/564x/df/44/e8/df44e83e55e21356108a69e353ae4cd7.jpg"/>
          <p:cNvPicPr/>
          <p:nvPr/>
        </p:nvPicPr>
        <p:blipFill>
          <a:blip r:embed="rId1"/>
          <a:srcRect l="0" t="4433" r="0" b="12233"/>
          <a:stretch/>
        </p:blipFill>
        <p:spPr>
          <a:xfrm>
            <a:off x="1500120" y="71280"/>
            <a:ext cx="5372280" cy="671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s://i.pinimg.com/564x/54/c7/a8/54c7a8d275c004eb27a01f04b4b466fa.jpg"/>
          <p:cNvPicPr/>
          <p:nvPr/>
        </p:nvPicPr>
        <p:blipFill>
          <a:blip r:embed="rId1"/>
          <a:stretch/>
        </p:blipFill>
        <p:spPr>
          <a:xfrm>
            <a:off x="1285920" y="214200"/>
            <a:ext cx="67150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s://i.pinimg.com/564x/91/26/06/9126063f463128b080abb573f2a15395.jpg"/>
          <p:cNvPicPr/>
          <p:nvPr/>
        </p:nvPicPr>
        <p:blipFill>
          <a:blip r:embed="rId1"/>
          <a:srcRect l="0" t="5917" r="0" b="10651"/>
          <a:stretch/>
        </p:blipFill>
        <p:spPr>
          <a:xfrm>
            <a:off x="1428840" y="216000"/>
            <a:ext cx="6429240" cy="64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Lucida Handwriting"/>
              </a:rPr>
              <a:t>Let’s try to gu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"/>
          <p:cNvPicPr/>
          <p:nvPr/>
        </p:nvPicPr>
        <p:blipFill>
          <a:blip r:embed="rId1"/>
          <a:stretch/>
        </p:blipFill>
        <p:spPr>
          <a:xfrm>
            <a:off x="-19080" y="853920"/>
            <a:ext cx="918216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s://i.pinimg.com/564x/dc/5c/53/dc5c53ce920ba704737586c185a918ba.jpg"/>
          <p:cNvPicPr/>
          <p:nvPr/>
        </p:nvPicPr>
        <p:blipFill>
          <a:blip r:embed="rId1"/>
          <a:srcRect l="0" t="0" r="0" b="3124"/>
          <a:stretch/>
        </p:blipFill>
        <p:spPr>
          <a:xfrm>
            <a:off x="1773360" y="-19080"/>
            <a:ext cx="5202000" cy="65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Lucida Handwriting"/>
              </a:rPr>
              <a:t>Rhyme-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"/>
          <p:cNvPicPr/>
          <p:nvPr/>
        </p:nvPicPr>
        <p:blipFill>
          <a:blip r:embed="rId1"/>
          <a:stretch/>
        </p:blipFill>
        <p:spPr>
          <a:xfrm>
            <a:off x="-12600" y="1420920"/>
            <a:ext cx="9175680" cy="2157480"/>
          </a:xfrm>
          <a:prstGeom prst="rect">
            <a:avLst/>
          </a:prstGeom>
          <a:ln w="0">
            <a:noFill/>
          </a:ln>
        </p:spPr>
      </p:pic>
      <p:pic>
        <p:nvPicPr>
          <p:cNvPr id="51" name="Схема 4" descr=""/>
          <p:cNvPicPr/>
          <p:nvPr/>
        </p:nvPicPr>
        <p:blipFill>
          <a:blip r:embed="rId2"/>
          <a:stretch/>
        </p:blipFill>
        <p:spPr>
          <a:xfrm>
            <a:off x="-12600" y="3706920"/>
            <a:ext cx="917568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s://i.pinimg.com/564x/72/75/98/727598524855a584148b70ed9fe8af82.jpg"/>
          <p:cNvPicPr/>
          <p:nvPr/>
        </p:nvPicPr>
        <p:blipFill>
          <a:blip r:embed="rId1"/>
          <a:srcRect l="0" t="0" r="0" b="9574"/>
          <a:stretch/>
        </p:blipFill>
        <p:spPr>
          <a:xfrm>
            <a:off x="1500120" y="357120"/>
            <a:ext cx="659772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Lucida Handwriting"/>
              </a:rPr>
              <a:t>Hangm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"/>
          <p:cNvPicPr/>
          <p:nvPr/>
        </p:nvPicPr>
        <p:blipFill>
          <a:blip r:embed="rId1"/>
          <a:stretch/>
        </p:blipFill>
        <p:spPr>
          <a:xfrm>
            <a:off x="-6480" y="1054080"/>
            <a:ext cx="869976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s://i.pinimg.com/564x/e1/6e/77/e16e7793d4bb82f8b5041442415822a3.jpg"/>
          <p:cNvPicPr/>
          <p:nvPr/>
        </p:nvPicPr>
        <p:blipFill>
          <a:blip r:embed="rId1"/>
          <a:srcRect l="0" t="0" r="0" b="8243"/>
          <a:stretch/>
        </p:blipFill>
        <p:spPr>
          <a:xfrm>
            <a:off x="1461960" y="642960"/>
            <a:ext cx="596772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5-09T23:48:27Z</dcterms:created>
  <dc:creator>КТВ</dc:creator>
  <dc:description/>
  <dc:language>en-US</dc:language>
  <cp:lastModifiedBy>КТВ</cp:lastModifiedBy>
  <dcterms:modified xsi:type="dcterms:W3CDTF">2023-05-10T14:26:49Z</dcterms:modified>
  <cp:revision>11</cp:revision>
  <dc:subject/>
  <dc:title>May of 2023</dc:title>
</cp:coreProperties>
</file>