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F1C-6B5F-4F3B-BCF1-0471BFF2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D1F-1787-4F34-8A1C-070F7817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A6F-CEFE-44E5-881D-75ACF99D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9E6-CEC7-4B29-9829-5A781649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22BB-0B9E-4115-ADB3-BE8AB7D5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33C9-E5DE-49CA-9117-CB412C23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948E-8D65-4E60-BC62-B627400F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24A2-8449-4CEE-A6AA-CC67A783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F749-E8C0-4B11-BBC4-9F458377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198C-2881-419C-AEB0-202BBB7C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B1E4-487C-45E4-8388-E15082E2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414-D56D-4691-ABE1-03A09AF7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243C-94EE-4BDB-B395-FDAA9F53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DF2A-8101-4B03-B1E7-5D5E083C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D9FE-4117-4148-8FCD-2C4E0423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C3BE-9846-49AE-B5DF-906A052B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E943-B206-40E8-ACA6-5E4A8708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E2B3-8062-4C1A-92C4-472CDCC8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7B12-140F-4C8C-9AFB-A7305EB7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E41E-B8C7-48E9-AB9B-E08F8D3B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EEC5-88B3-45BE-88DC-A6E1E5F7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9C16-B0B3-4875-8DF3-CBF3556C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1E9-5F29-4286-9903-ECA6423A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FE2D-D208-4C00-A7F3-78CBFB8B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6C66-4B44-418B-BD23-421C1A9E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12E19-46E0-4C2C-8086-5E93F1D2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202AB-6287-4817-B1FB-C13A9DB3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308B-758D-4B41-9BCF-347E78FC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3826-5690-4C97-9DAF-24EBF74C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5C7C-9D9B-427C-BF40-D52394F3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6980E-EC27-4527-8A79-791AB059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522E3-F82F-49CD-BB07-2776DED9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3CE7-60D1-4E7A-9D19-EEDB14B2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284-F7F9-42A6-BE70-4AA79998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0E554-D274-4A13-AD1E-C95126B0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A033-F027-4946-9639-3DAFD9AC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3F029-D0B1-4BFE-AD87-534BA38C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A9006-6130-4EDC-AF09-E368E60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925DA-517E-45D3-9464-2C0E8F0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2B0C1-7B5C-4BA2-984A-D56D994F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A411-B426-4F91-9E8B-A0A207B8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E8B1-0CF8-4897-9E03-02A830C2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59E1-FB39-4A65-9E43-FF6200C2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835-757A-48F9-A2CF-02DAEE6C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AA8-5885-4C07-A835-C5C690E6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75E-75AD-4AB0-BA61-DF5D0D6C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463-AF37-4B45-A17E-5E1BA980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9E4-7F5A-481C-8E69-EC914EF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3E78D-536D-4043-BB50-B3441F606D05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51502-B0BC-45AF-A1C1-29F115DEB2E9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851C9-5204-4CBF-A3FA-553385519006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A0E7D-186B-44A5-B544-A57E6F882DC1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747720"/>
            <a:ext cx="10731240" cy="524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ЖПОЛУШАРНОГО ВЗАИМОДЕЙСТВИЯ – ОДИН ИЗ ФАКТОРОВ ФОРМИРОВАНИЯ ФУНКЦИОНАЛЬНОЙ ГРАМОТНОСТИ.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790200"/>
            <a:ext cx="10706040" cy="52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Gothic"/>
              </a:rPr>
              <a:t>ФУНКЦИОНАЛЬНАЯ ГРАМОТНОСТЬ УЧЕНИКА – ЭТО ЦЕЛЬ И РЕЗУЛЬТАТ ОБРАЗОВАНИЯ.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20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ГРАМОТНОСТЬ – ЭТО СПОСОБНОСТЬ ПРИМЕНЯТЬ ПРИОБРЕТЕННЫЕ ЗНАНИЯ, УМЕНИЯ И НАВЫКИ ДЛЯ РЕШЕНИЯ ЖИЗНЕННЫХ ЗАДАЧ В РАЗЛИЧНЫХ СФЕРАХ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8080" y="2461680"/>
            <a:ext cx="10515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тательская грамотность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матическая грамотность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онаучная грамотность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нансовая грамотность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обальные компетенции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реативное мышление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6160" y="498600"/>
            <a:ext cx="10515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ОЛУШАРНОЕ ВЗАИМОДЕЙСТВИЕ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5" name="Объект 2" descr=""/>
          <p:cNvPicPr/>
          <p:nvPr/>
        </p:nvPicPr>
        <p:blipFill>
          <a:blip r:embed="rId1"/>
          <a:stretch/>
        </p:blipFill>
        <p:spPr>
          <a:xfrm>
            <a:off x="2313000" y="2174760"/>
            <a:ext cx="658188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568440"/>
            <a:ext cx="10883880" cy="19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НЕСФОРМИРОВАННОСТИ МЕЖПОЛУШАРНОГО ВЗАИМОДЕЙСТВ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4000" y="2508120"/>
            <a:ext cx="9582120" cy="38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еркальное написание букв и цифр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евдолеворукость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опедические отклонения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ловкость движений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грессия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охая память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познавательной мотивации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ость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1082808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И  УПРАЖНЕНИЯ ДЛЯ РАЗВИТИЯ МЕЖПОЛУШАРНОГО ВЗАИМОДЕЙСТВ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2438280"/>
            <a:ext cx="10828080" cy="38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льчиковая гимнастика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оритмика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дактические игры и задания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незиологические упражнения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ртикуляционная и дыхательная гимнастика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массаж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ие занятия под классическую музыку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685800"/>
            <a:ext cx="10801080" cy="14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И  УПРАЖНЕНИЯ ДЛЯ РАЗВИТИЯ МЕЖПОЛУШАРНОГО ВЗАИМОДЕЙСТВ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000" y="2382480"/>
            <a:ext cx="10801080" cy="389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исование обеими руками одновременно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олнение зеркальных движений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жнения на координацию, ловкость движений и ориентацию в пространстве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ски, для развития межполушарного взаимодействия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766800" y="600120"/>
            <a:ext cx="2047680" cy="28288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" descr=""/>
          <p:cNvPicPr/>
          <p:nvPr/>
        </p:nvPicPr>
        <p:blipFill>
          <a:blip r:embed="rId2"/>
          <a:stretch/>
        </p:blipFill>
        <p:spPr>
          <a:xfrm>
            <a:off x="3911760" y="600120"/>
            <a:ext cx="2047680" cy="28288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3" descr=""/>
          <p:cNvPicPr/>
          <p:nvPr/>
        </p:nvPicPr>
        <p:blipFill>
          <a:blip r:embed="rId3"/>
          <a:stretch/>
        </p:blipFill>
        <p:spPr>
          <a:xfrm>
            <a:off x="7058160" y="600120"/>
            <a:ext cx="3958920" cy="28288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"/>
          <p:cNvPicPr/>
          <p:nvPr/>
        </p:nvPicPr>
        <p:blipFill>
          <a:blip r:embed="rId4"/>
          <a:stretch/>
        </p:blipFill>
        <p:spPr>
          <a:xfrm>
            <a:off x="766800" y="381780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"/>
          <p:cNvPicPr/>
          <p:nvPr/>
        </p:nvPicPr>
        <p:blipFill>
          <a:blip r:embed="rId5"/>
          <a:stretch/>
        </p:blipFill>
        <p:spPr>
          <a:xfrm>
            <a:off x="3911760" y="381780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"/>
          <p:cNvPicPr/>
          <p:nvPr/>
        </p:nvPicPr>
        <p:blipFill>
          <a:blip r:embed="rId6"/>
          <a:stretch/>
        </p:blipFill>
        <p:spPr>
          <a:xfrm>
            <a:off x="7058160" y="3817800"/>
            <a:ext cx="39589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2190600" y="0"/>
            <a:ext cx="781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2" descr=""/>
          <p:cNvPicPr/>
          <p:nvPr/>
        </p:nvPicPr>
        <p:blipFill>
          <a:blip r:embed="rId1"/>
          <a:stretch/>
        </p:blipFill>
        <p:spPr>
          <a:xfrm>
            <a:off x="476280" y="0"/>
            <a:ext cx="1123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2:23:39Z</dcterms:created>
  <dc:creator>Админ</dc:creator>
  <dc:description/>
  <dc:language>en-US</dc:language>
  <cp:lastModifiedBy>User</cp:lastModifiedBy>
  <dcterms:modified xsi:type="dcterms:W3CDTF">2023-06-06T08:18:31Z</dcterms:modified>
  <cp:revision>38</cp:revision>
  <dc:subject/>
  <dc:title>Презентация PowerPoint</dc:title>
</cp:coreProperties>
</file>