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EF2-6E30-41EC-9D15-DED08DF7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C21-27CD-4516-9692-0019041F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A11-B68E-4165-87CD-71C36B46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6A8-D02C-41AC-A906-98DD0E9B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94D5-7B64-4732-982F-FBAA1785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140D-2AEE-460E-A234-92C3883A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FE3F-C81F-4574-9A29-52A385AB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10A8-71D5-4C19-B31E-0D5D17AC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B924-704B-444C-B9E9-7CEB45E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A864-FB8C-49D0-A616-FA6BF0E2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9C73-0A1B-4D7C-90B7-54F85BA5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79E-4375-48BE-A68B-9765850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5751-B89F-43BE-9613-33B66EA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6F0E-C06D-4197-A280-BF1C8207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0302-FC9A-4125-9E1A-AC82E4D7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D6DC-D43D-4A8E-A9DB-84A4B3E5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2363-9360-4093-B7BD-39EC9CA5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DFFC-8F16-4E9D-95DC-0EC9DE26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A85A-E413-4B0E-8EF6-F0900832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CCD1F-4AB8-4E33-8763-87AEC168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B870-0E3F-4C70-8135-BA76D935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5316-3734-422B-ADF8-D04499A1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7B3-4F02-49D0-B501-FA562332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9D75-2C87-4F2F-BB1B-82B040AA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F596-0BD9-4E70-B1FF-EE9D8652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61F5-0667-4211-9FDA-80733717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F6DC-EFDE-4FA0-A989-2E8AACEA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4F760-474F-49DE-B216-2F950724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D68D-BB7D-48F0-8D39-4701C26B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77BF-4B25-423C-90CE-B754059C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0DCA-B2B2-4AE6-A3D2-C1790745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2CF3-3D03-4AD8-9105-4CDDBAE2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DC12-CDD2-4417-A241-96660AAD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80B-D2FD-49F8-8D1B-DD6588F0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4AEF-3094-4A92-B482-9843CFD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882A-910D-457A-8D68-1243610D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C187-607F-4A65-8322-EFA31703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8A11-5389-47FF-97FA-B797CEA3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A379-8499-4FFE-97AF-2C0BD4DD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3218-EC89-43BF-AA20-82D9A7B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E7A0-A89F-4073-A06E-B7E7CB26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6206-09F5-4AEE-A3DB-B5219B19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2034E-F68B-43DD-82C4-2B2F228A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8E0-0422-4FA4-96E8-9EEFC0E7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219-EE2F-4390-BA36-AE9E8515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669-9C1F-471B-A6E6-A77A3EBB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70A-2717-4E15-866B-F56CEA92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9B4-D9F0-4CBD-801B-40596B9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0AE33-4CCB-450F-9F29-2A4DF80D7DE4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36E2F-7D61-4FC4-89B3-D71FB6BE81E4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18645-923C-405F-8EF3-D12A951F5311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65F33-2F09-4649-A5A1-44F3A4FCF422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747720"/>
            <a:ext cx="10731240" cy="524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ЖПОЛУШАРНОГО ВЗАИМОДЕЙСТВИЯ – ОДИН ИЗ ФАКТОРОВ ФОРМИРОВАНИЯ ФУНКЦИОНАЛЬНОЙ ГРАМОТНОСТИ.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790200"/>
            <a:ext cx="10706040" cy="52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Gothic"/>
              </a:rPr>
              <a:t>ФУНКЦИОНАЛЬНАЯ ГРАМОТНОСТЬ УЧЕНИКА – ЭТО ЦЕЛЬ И РЕЗУЛЬТАТ ОБРАЗОВАНИЯ.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ГРАМОТНОСТЬ – ЭТО СПОСОБНОСТЬ ПРИМЕНЯТЬ ПРИОБРЕТЕННЫЕ ЗНАНИЯ, УМЕНИЯ И НАВЫКИ ДЛЯ РЕШЕНИЯ ЖИЗНЕННЫХ ЗАДАЧ В РАЗЛИЧНЫХ СФЕРАХ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2461680"/>
            <a:ext cx="10515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тательская грамотность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ческая грамотность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онаучная грамотность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нансовая грамотность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обальные компетенции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еативное мышление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6160" y="498600"/>
            <a:ext cx="10515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ОЛУШАРНОЕ ВЗАИМОДЕЙСТВИ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5" name="Объект 2" descr=""/>
          <p:cNvPicPr/>
          <p:nvPr/>
        </p:nvPicPr>
        <p:blipFill>
          <a:blip r:embed="rId1"/>
          <a:stretch/>
        </p:blipFill>
        <p:spPr>
          <a:xfrm>
            <a:off x="2313000" y="2174760"/>
            <a:ext cx="658188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568440"/>
            <a:ext cx="10883880" cy="19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НЕСФОРМИРОВАННОСТИ МЕЖПОЛУШАРНОГО ВЗАИМОДЕЙСТВ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4000" y="2508120"/>
            <a:ext cx="9582120" cy="38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еркальное написание букв и цифр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евдолеворукость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опедические отклонения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ловкость движений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грессия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охая память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познавательной мотивации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ость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1082808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И  УПРАЖНЕНИЯ ДЛЯ РАЗВИТИЯ МЕЖПОЛУШАРНОГО ВЗАИМОДЕЙСТВ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2438280"/>
            <a:ext cx="10828080" cy="38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льчиковая гимнастика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оритмика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дактические игры и задания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незиологические упражнения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ртикуляционная и дыхательная гимнастика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массаж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е занятия под классическую музыку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685800"/>
            <a:ext cx="10801080" cy="14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И  УПРАЖНЕНИЯ ДЛЯ РАЗВИТИЯ МЕЖПОЛУШАРНОГО ВЗАИМОДЕЙСТВ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000" y="2382480"/>
            <a:ext cx="10801080" cy="389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сование обеими руками одновременно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ение зеркальных движений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 на координацию, ловкость движений и ориентацию в пространстве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ски, для развития межполушарного взаимодействия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766800" y="600120"/>
            <a:ext cx="2047680" cy="28288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" descr=""/>
          <p:cNvPicPr/>
          <p:nvPr/>
        </p:nvPicPr>
        <p:blipFill>
          <a:blip r:embed="rId2"/>
          <a:stretch/>
        </p:blipFill>
        <p:spPr>
          <a:xfrm>
            <a:off x="3911760" y="600120"/>
            <a:ext cx="2047680" cy="28288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3" descr=""/>
          <p:cNvPicPr/>
          <p:nvPr/>
        </p:nvPicPr>
        <p:blipFill>
          <a:blip r:embed="rId3"/>
          <a:stretch/>
        </p:blipFill>
        <p:spPr>
          <a:xfrm>
            <a:off x="7058160" y="600120"/>
            <a:ext cx="3958920" cy="28288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"/>
          <p:cNvPicPr/>
          <p:nvPr/>
        </p:nvPicPr>
        <p:blipFill>
          <a:blip r:embed="rId4"/>
          <a:stretch/>
        </p:blipFill>
        <p:spPr>
          <a:xfrm>
            <a:off x="766800" y="381780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"/>
          <p:cNvPicPr/>
          <p:nvPr/>
        </p:nvPicPr>
        <p:blipFill>
          <a:blip r:embed="rId5"/>
          <a:stretch/>
        </p:blipFill>
        <p:spPr>
          <a:xfrm>
            <a:off x="3911760" y="381780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"/>
          <p:cNvPicPr/>
          <p:nvPr/>
        </p:nvPicPr>
        <p:blipFill>
          <a:blip r:embed="rId6"/>
          <a:stretch/>
        </p:blipFill>
        <p:spPr>
          <a:xfrm>
            <a:off x="7058160" y="3817800"/>
            <a:ext cx="39589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2190600" y="0"/>
            <a:ext cx="781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2" descr=""/>
          <p:cNvPicPr/>
          <p:nvPr/>
        </p:nvPicPr>
        <p:blipFill>
          <a:blip r:embed="rId1"/>
          <a:stretch/>
        </p:blipFill>
        <p:spPr>
          <a:xfrm>
            <a:off x="476280" y="0"/>
            <a:ext cx="1123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2:23:39Z</dcterms:created>
  <dc:creator>Админ</dc:creator>
  <dc:description/>
  <dc:language>en-US</dc:language>
  <cp:lastModifiedBy>User</cp:lastModifiedBy>
  <dcterms:modified xsi:type="dcterms:W3CDTF">2023-06-06T08:18:31Z</dcterms:modified>
  <cp:revision>38</cp:revision>
  <dc:subject/>
  <dc:title>Презентация PowerPoint</dc:title>
</cp:coreProperties>
</file>