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8CE-F2B5-445B-B13C-EC057E5C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6E0-08B8-442E-B1B6-3D9AF830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A3E-1929-46B1-80DA-1808DCB0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21D-42D0-4571-8854-DB2AAC1E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09E-0F8E-47E6-A132-2DC51959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380B-BF05-4980-9156-BCC191C1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7B7-3193-4300-A871-F1C8358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0E52-A0F4-4771-B6B7-129ADD8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AD4-B8C2-44D1-9082-77EE858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A4D1-491F-4140-84B6-1CDAF2AB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A6C2-00DC-4CD3-AFCA-261B217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860-7847-4709-BDE7-833EBE18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79B-79A9-4E04-83A9-03D16A34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1837-57AB-42E1-89DD-15C19EC4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05D3-E0D5-4B63-B006-FF3A828C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816-42B5-419B-A435-3E5CEAFB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A292-7F35-4CC3-A4F7-91DF8526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70C-D4F9-4B32-A8B6-3A5FF204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E88-E9FC-4072-A971-5E9B7FB2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989-4429-4B39-917F-7D9772B4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9D7-2B14-4C20-B824-75CD480D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D93-F17B-42D4-B812-FE52533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9AC-8E68-432F-AF7B-3C7F4DEB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838-940A-4F73-A9D8-57EF754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D94B-353D-487A-94C0-39DCC0954A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B81-62E5-4A58-83AE-3267038A95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520" y="4400640"/>
            <a:ext cx="7684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Неподвижные детали КШМ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93760" y="239760"/>
            <a:ext cx="86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«Октябрьский аграрно-технологически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71640" y="1068480"/>
            <a:ext cx="73371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Учебная презентация по ПМ 01 МДК 0101 «Назначение и общее устройство тракторов, автомобилей и сельскохозяйственных машин»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32000" y="2979720"/>
            <a:ext cx="51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я спец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вчаренко Сергея Леонид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86200" y="3881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льзы чаще всего изготавливают из серого чугуна, для повешения износостойкости в сплав добавляют хром, молибден, фосфор, ванадий, мед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Сухие» гильз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авливают двух видов: с верхним опорным буртом и без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щина стенок «сухих» гильз 2-4 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выполняться в виде короткой вставки в верхней части цилиндра, которая подвержена большему изнашиванию. Вставки изготавливают их высоколегированного чуг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«Мокрая» гильз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установке «мокрой» гильзы ее бурт выступает над привалочной плоскостью блока на 0,05-0,15 мм. Это позволяет уплотнять ее, зажимая бурт через прокла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ребования к коренным подшипника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е трения и теплоот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сность опор коленчатого в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жестк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наде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ВС могут применяться коренные подшипники качения (обычно роликовые) и сколь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ренные подшипники скольж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яя опорная часть расположена  в перегородке картера, а нижняя выполнена в виде крышки и фиксируется болтами или шпиль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шипники скольжения выполняют в виде тонкостенных сменных вкладышей, которые устанавливают в гнездах картера с натя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онкостенные вкладыши представляют собой изогнутую в полукольцо стальную ленту, на внутреннюю поверхность которой нанесен антифрикционный слой – высокооловянистый алюминиевый сплав, содержащий 17,5-22,5% олова, 0,7-1,3% меди, по 0,7% железа, кремния, марганца, остальное – алюмини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двигателях с повышенной нагрузкой на подшипники в качестве антифрикционного слоя вкладышей используется свинцовая бронза, содержащая 30% свин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конструкции головки блока цилиндр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жесткость, исключающая деформацию от механических нагру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лючение местного перегрева и коробления при рабочих температу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ве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ые размеры и формы впускных кла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ая форма камеры сго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е уплотнение газового ст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иональное размещение деталей 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та конструкции и технолог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ая 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атериал для изготовления головки цилин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вигателей с принудительным воспламенением  - алюминиевые спл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вигателей с воспламенением от сжатия - чуг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дон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оны изготавливают штамповкой из листовой стали толщиной 1-1,5 мм или отливают из алюминиевых спла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бования к КШМ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носостой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ольшая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ая посадка поршня в цилин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овешенность вращающихся дет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плотнение корпуса двигате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лотнению подлеж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ые стыки между головкой блока цилиндров, торцом цилиндра и впускным трубопро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ки между блоком цилиндров и головкой цилин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ки между «мокрой» гильзой и блоком –кар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ы между блок-картером, головкой блока цилиндров и различными навесными деталями и  крыш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щие из двигателя вращающиеся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проклад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нометаллические (из листовой стали, алюминия или ме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(набранные из нескольких тонких лис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ованные (из графитизированного асбестового полотна, армированного снаружи листовой сталь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дежность уплотнения газового стыка достигае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лщением прокладки по контуру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отренным выступом торца цилиндра над привалочной поверх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авливанием прокладки в фасонный торец гильзы стальным кольцом, расположенным в выточке головки блока цилиндров и выступающим над ее поверх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ой металлических колец, зажатых между торцом гильзы и головкой блока цилин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ля охлаждающей жидкости и масляные каналы уплотняют резиновыми коль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азовый стык между выпускным трубопроводом и головкой уплотняют прокладками из графитизированного асбестового картона, армированного стальным перфорированным листом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тык картера и поддона, разъемы с крышками и навесными деталями уплотняют паронитовыми, картонными или резиновыми прокладками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Искровая свеча зажигания в месте стыка с головкой – металлическими кольцами круглого сечения, а форсунки – кольцами из отожженной меди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Для предотвращения течи масла – уплотнительные манжеты или сальник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рпус двигателя может иметь 3 исполн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ер, к которому крепятся отдельные цилиндры (двигатели с воздушным охлаждение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ер, к которому крепятся цилиндры, объединенные в один блок цилиндров (ограниче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-картер, в котором все элементы отлиты как единое це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9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В зависимости от того, какие элементы корпуса двигателя воспринимают основную нагрузку, существуют следующие варианты силовых схем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сущим блоком цилиндро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сущими цилинд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сущими силовыми шпиль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ок - карте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вают из чугуна или алюминиевого спл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с цилиндрами, выполненными непосредственно в блоке, и со сменными гильзами цилин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льзы цилиндров могут бы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крыми» - если их наружные стенки омываются жид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ухими» - запрессовываются в расточенные отверстия цилиндров и не имеют контакта с жид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ля увеличения жесткости блок-картера выполняют следующе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ют все основные элементы в единый силовой каркас, имеющий пространственную конфигур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ют число несущих перегородок, расположенных в одной плоскости с коренными опорами коленчатого в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ют дополнительное оребрение перегородок и ст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агают плоскости разъема картера ниже оси коленчатого в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бразную компон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ют туннельный кар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деформации блок-карте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ачный выбор схемы КШ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мерный нагр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ческая или термическая перегрузка двиг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авильная сборка двиг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авка холодной охлаждающей жидкостью при разогретом двигате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рзание воды в рубашке охл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бования к гильзам двигате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жесткость и высокая прочность стенок и посадочных пояс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износостойк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ая герметизация стыков и сопряж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та конструкции и технолог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ля плотного прилегания поршня и поршневых колец к цилиндру и уменьшения сил трения между ними внутреннюю поверхность цилиндров обрабатывают с большой точностью, поэтому она называется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еркалом цилиндр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23-06-06T07:35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