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7CD-249C-4050-8994-1568D37D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8E7-8ADD-492D-8795-92ACEA4B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CC7-E34B-44CB-88D4-3D20A738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481-0745-427B-8127-1F2C6DEF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1873-4760-421A-B5C0-95C2CF45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92EE-26E0-4631-A02C-CB2AB809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AFCA-DEE6-41EA-905F-1BDC5C3B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74B0-4AF1-4484-952B-B17BB5D7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D309-0F2C-4437-BCEA-51272850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3136-D544-4416-8980-6DEC9B54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2B64-F902-4B61-A3D1-D97B245F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AE3-929D-481C-B4AB-0FCAD94C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1F49-A106-4E0F-86D4-7F6A03B9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59FD-C409-43F7-96B4-55D71066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ED5A-824F-427A-8C76-0174F384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214F-2007-4820-9858-883A5A7A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E2A7-27FB-4CA7-B624-0D330ECD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3E5C-CE0C-4954-B87B-6E1725C8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0B7-220B-431A-9092-D93FD23C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DEE-B43C-4EBC-937A-DBBBCBC0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266-D663-40EA-8D3B-2A78D7D3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B00-26CC-418F-9C1A-8B419939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1DC-5D8C-44A3-9131-8F630F2E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D63E-E5E7-4926-BC7B-778BC98A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C641-5F6A-472A-8D8F-B69DFC30BD9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4C11-6B3A-401B-9D37-A01DA7CB39E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3520" y="4400640"/>
            <a:ext cx="76849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Неподвижные детали КШМ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93760" y="239760"/>
            <a:ext cx="86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7e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b07e00"/>
                </a:solidFill>
                <a:latin typeface="Arial"/>
              </a:rPr>
              <a:t>«Октябрьский аграрно-технологический техник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971640" y="1068480"/>
            <a:ext cx="733716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Arial"/>
              </a:rPr>
              <a:t>Учебная презентация по ПМ 01 МДК 0101 «Назначение и общее устройство тракторов, автомобилей и сельскохозяйственных машин»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232000" y="2979720"/>
            <a:ext cx="51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подавателя спецдисцип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вчаренко Сергея Леонидови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886200" y="38815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0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Гильзы чаще всего изготавливают из серого чугуна, для повешения износостойкости в сплав добавляют хром, молибден, фосфор, ванадий, мед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«Сухие» гильз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готавливают двух видов: с верхним опорным буртом и без н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щина стенок «сухих» гильз 2-4 м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могут выполняться в виде короткой вставки в верхней части цилиндра, которая подвержена большему изнашиванию. Вставки изготавливают их высоколегированного чуг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«Мокрая» гильз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установке «мокрой» гильзы ее бурт выступает над привалочной плоскостью блока на 0,05-0,15 мм. Это позволяет уплотнять ее, зажимая бурт через проклад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Требования к коренным подшипникам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ьшение трения и теплоотв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сность опор коленчатого в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ая жестк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ая надеж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ВС могут применяться коренные подшипники качения (обычно роликовые) и сколь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оренные подшипники скольже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хняя опорная часть расположена  в перегородке картера, а нижняя выполнена в виде крышки и фиксируется болтами или шпиль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шипники скольжения выполняют в виде тонкостенных сменных вкладышей, которые устанавливают в гнездах картера с натя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89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онкостенные вкладыши представляют собой изогнутую в полукольцо стальную ленту, на внутреннюю поверхность которой нанесен антифрикционный слой – высокооловянистый алюминиевый сплав, содержащий 17,5-22,5% олова, 0,7-1,3% меди, по 0,7% железа, кремния, марганца, остальное – алюмини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0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 двигателях с повышенной нагрузкой на подшипники в качестве антифрикционного слоя вкладышей используется свинцовая бронза, содержащая 30% свинц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ебования к конструкции головки блока цилиндров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жесткость, исключающая деформацию от механических нагру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лючение местного перегрева и коробления при рабочих температу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гове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тимальные размеры и формы впускных клап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тимальная форма камеры сгор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жное уплотнение газового ст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циональное размещение деталей двиг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та конструкции и технолог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большая 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Материал для изготовления головки цилиндр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двигателей с принудительным воспламенением  - алюминиевые спла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двигателей с воспламенением от сжатия - чугу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ддон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оны изготавливают штамповкой из листовой стали толщиной 1-1,5 мм или отливают из алюминиевых спла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ребования к КШМ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носостой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большая м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отная посадка поршня в цилинд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овешенность вращающихся дета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плотнение корпуса двигате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лотнению подлеж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овые стыки между головкой блока цилиндров, торцом цилиндра и впускным трубопров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ыки между блоком цилиндров и головкой цилинд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ыки между «мокрой» гильзой и блоком –карт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ъемы между блок-картером, головкой блока цилиндров и различными навесными деталями и  крыш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ящие из двигателя вращающиеся де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иды прокладо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нометаллические (из листовой стали, алюминия или мед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(набранные из нескольких тонких лис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бинированные (из графитизированного асбестового полотна, армированного снаружи листовой сталь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дежность уплотнения газового стыка достигаетс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лщением прокладки по контуру цили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смотренным выступом торца цилиндра над привалочной поверх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авливанием прокладки в фасонный торец гильзы стальным кольцом, расположенным в выточке головки блока цилиндров и выступающим над ее поверх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ой металлических колец, зажатых между торцом гильзы и головкой блока цилинд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ля охлаждающей жидкости и масляные каналы уплотняют резиновыми коль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азовый стык между выпускным трубопроводом и головкой уплотняют прокладками из графитизированного асбестового картона, армированного стальным перфорированным листом.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Стык картера и поддона, разъемы с крышками и навесными деталями уплотняют паронитовыми, картонными или резиновыми прокладками.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Искровая свеча зажигания в месте стыка с головкой – металлическими кольцами круглого сечения, а форсунки – кольцами из отожженной меди.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Для предотвращения течи масла – уплотнительные манжеты или сальник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орпус двигателя может иметь 3 исполне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ер, к которому крепятся отдельные цилиндры (двигатели с воздушным охлаждение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ер, к которому крепятся цилиндры, объединенные в один блок цилиндров (ограниче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ок-картер, в котором все элементы отлиты как единое цел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9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В зависимости от того, какие элементы корпуса двигателя воспринимают основную нагрузку, существуют следующие варианты силовых схем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3352320"/>
            <a:ext cx="777240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несущим блоком цилиндров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несущими цилиндр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несущими силовыми шпиль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лок - карте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вают из чугуна или алюминиевого спла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гут быть с цилиндрами, выполненными непосредственно в блоке, и со сменными гильзами цилинд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льзы цилиндров могут бы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окрыми» - если их наружные стенки омываются жид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ухими» - запрессовываются в расточенные отверстия цилиндров и не имеют контакта с жид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Для увеличения жесткости блок-картера выполняют следующе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яют все основные элементы в единый силовой каркас, имеющий пространственную конфигур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ют число несущих перегородок, расположенных в одной плоскости с коренными опорами коленчатого в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ют дополнительное оребрение перегородок и ст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лагают плоскости разъема картера ниже оси коленчатого в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бразную компонов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ют туннельный кар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чины деформации блок-картер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удачный выбор схемы КШ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вномерный нагр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аническая или термическая перегрузка двиг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авильная сборка двиг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равка холодной охлаждающей жидкостью при разогретом двигате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рзание воды в рубашке охла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ребования к гильзам двигате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жесткость и высокая прочность стенок и посадочных пояс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ая износостойк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ая герметизация стыков и сопряж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ота конструкции и технолог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ля плотного прилегания поршня и поршневых колец к цилиндру и уменьшения сил трения между ними внутреннюю поверхность цилиндров обрабатывают с большой точностью, поэтому она называется </a:t>
            </a:r>
            <a:r>
              <a:rPr b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зеркалом цилиндра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23-06-06T07:35:4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