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81B-A23F-4D1F-A3D7-89533CA46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05AD-36F8-4484-A3C6-8A99E84FE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EAA-2B57-4122-A39A-EB36E9618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B8C3-0755-4425-A8D0-11B86ED80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403-89EC-49F7-9284-422DCAD99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21F4-621C-4024-B54B-83D39DCAC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5FE-28F4-43E4-906F-A252E61A1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6CF-9938-49A7-863A-6F3D21E5F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41E8-5758-4463-BD49-4CC706FE6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75A-2527-4D52-AF6F-23EC397A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663-81D5-476F-8ABA-CB886E64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AA0-EF63-4448-BDD8-89F82FAB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989-6D74-4B8F-851D-74FC736D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610-01FA-4747-B8BE-8F7F022A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EBBC-F442-4204-89A4-908E64F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A43-A29C-4778-A099-A39D713F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336C-9BB6-4318-BE4A-9D2A3D16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CC7D-7868-47E4-ABF1-8CA94ADF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7D72-75D3-4CF6-9C00-C34F5897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1E0-F53F-4528-B3CB-3A70212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E6A-06FF-40AF-A029-45F3DCC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0634-B6FB-42D2-B42B-93B16D50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B90F-A54F-4D5D-9BEA-52A9C24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29A-1FC5-43D0-9B11-8EBC97A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2FBC-660C-4599-8454-4D131FA5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A98-7D34-4429-8BB6-7E1F1B90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9117-2620-43BC-A26D-7993C31D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3F5D-2C15-4B5B-A0A6-3A63E1BE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FAC6-25FB-4D6A-93BC-A9F7C6B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7470-CA63-4D0D-835D-1EC685EC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4391-367D-493C-AC80-704F5535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66D-F374-453D-942B-A205CED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02BD-E9D9-4C87-B8E6-11BC176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5C4E-7EEF-4641-9F6C-AD23BEA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CBC1-975D-414E-8003-751B6F9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E78F-B1D9-4772-8E84-9B09637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D117-7BCA-4FA2-BFDD-EF51DC74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F86E-F3E2-4F92-9A66-A667F9E1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815E-EEC0-49EC-80D5-62FEBF4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DCFB-3126-4040-8A6B-DEDF73F2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9D8C-9A20-4A2B-B019-3CFE756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E676-CBCF-4DA7-B60F-703DDF6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26A-CF16-4C22-9B08-586C220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0BD9-41D7-42BC-8E4D-77E73CB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3086-3476-4104-B349-79DCF2E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C6D4-9ECB-4DCB-9E79-D084FBD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DB5C-E6FB-4FFF-961A-1825754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64F0-9A64-4E69-8614-70084B4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2724-9684-47D5-B5BB-DF12B33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A6DC-BC63-44AB-8E82-DEEDA50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C9D3-0218-44A8-A85B-92F1EBD2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3FF9-2C1F-4D35-8EFB-1984C6BA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1C0F3-AF9F-4984-8E4B-2FBA0CE9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3E7-6E6A-4007-881F-5F6031C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E884-AD3C-4C09-AAAB-B6D29D8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E530-4E09-4044-BE72-1E1AD28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4C60-1C9F-4213-82A3-8C17C76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355C-9F4A-4FB4-AA08-9F614926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28C6-9579-49FE-B5A5-2AF3B3C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1783-C212-4BDA-86F4-4EC52C9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F2CE-4BDB-4AAA-8BB9-BE1A302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1F26-131A-44BD-99E3-404243E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ADAB-2389-40E4-9A1A-1E61BA22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B78E-3779-46F4-A7F6-6CDB4CB5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A7C-76A4-4E87-B4D4-3339AB7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9F271-9A38-4C35-B09B-E5D2C86D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BE2-E4EF-4106-9B79-07C4F7A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510-7CAA-4250-9D04-339D4BE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FA8-F3B4-488D-AFF3-6E7F903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5B2-1AF7-4BE9-8771-BCD30EADA7D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C7F0-4BE2-4104-AB4D-AD2477CC669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F0F-C0F9-4494-8BFE-D8D2E42B5B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7521-8D6D-45F5-8445-A56D48750FD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5C9-1E90-4EFA-B6FC-2F06C0D78DE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4419720"/>
            <a:ext cx="7684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Verdana"/>
              </a:rPr>
              <a:t>Подвижные детали КШ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549360"/>
            <a:ext cx="86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«Октябрьский аграрн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71640" y="1068480"/>
            <a:ext cx="73371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Arial"/>
              </a:rPr>
              <a:t>Учебная презентация по ПМ 01 МДК 0101 «Назначение и общее устройство тракторов, автомобилей и сельскохозяйственных машин»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232000" y="2979720"/>
            <a:ext cx="51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подавателя спец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вчаренко Сергея Леонид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6200" y="388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поршень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0"/>
            <a:ext cx="86868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кольца 1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24000" y="243000"/>
            <a:ext cx="8208720" cy="5121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1143000" y="5791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%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1-прямоугольные, 2-прямоугольные с внутренней выточкой, 3-коническое, 4-бочкообразное, 5, 6, 8-трапециевидное симметричное и несимметричное, 7- скребковы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кольца"/>
          <p:cNvPicPr/>
          <p:nvPr/>
        </p:nvPicPr>
        <p:blipFill>
          <a:blip r:embed="rId1"/>
          <a:stretch/>
        </p:blipFill>
        <p:spPr>
          <a:xfrm>
            <a:off x="1143000" y="3240"/>
            <a:ext cx="68216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 u="sng">
                <a:solidFill>
                  <a:srgbClr val="0000ff"/>
                </a:solidFill>
                <a:uFillTx/>
                <a:latin typeface="Verdana"/>
              </a:rPr>
              <a:t>Поршневой палец</a:t>
            </a:r>
            <a:br>
              <a:rPr sz="3800"/>
            </a:br>
            <a:br>
              <a:rPr sz="3800"/>
            </a:br>
            <a:r>
              <a:rPr b="0" i="1" lang="ru-RU" sz="5100" spc="-1" strike="noStrike">
                <a:solidFill>
                  <a:srgbClr val="800080"/>
                </a:solidFill>
                <a:latin typeface="Verdana"/>
              </a:rPr>
              <a:t>Служит для соединения поршня с шатуном.</a:t>
            </a:r>
            <a:endParaRPr b="1" lang="en-US" sz="5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оршень и шатун"/>
          <p:cNvPicPr/>
          <p:nvPr/>
        </p:nvPicPr>
        <p:blipFill>
          <a:blip r:embed="rId1"/>
          <a:stretch/>
        </p:blipFill>
        <p:spPr>
          <a:xfrm>
            <a:off x="2438280" y="0"/>
            <a:ext cx="38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P1130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 u="sng">
                <a:solidFill>
                  <a:srgbClr val="0000ff"/>
                </a:solidFill>
                <a:uFillTx/>
                <a:latin typeface="Verdana"/>
              </a:rPr>
              <a:t>Шатун</a:t>
            </a:r>
            <a:br>
              <a:rPr sz="3800"/>
            </a:br>
            <a:br>
              <a:rPr sz="3800"/>
            </a:br>
            <a:r>
              <a:rPr b="0" i="1" lang="ru-RU" sz="4400" spc="-1" strike="noStrike">
                <a:solidFill>
                  <a:srgbClr val="800080"/>
                </a:solidFill>
                <a:latin typeface="Verdana"/>
              </a:rPr>
              <a:t>Передает усилие от поршня к коленчатому валу при рабочем ходе и в обратном направлении при вспомогательных тактах.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5" descr="шатуны 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404640"/>
            <a:ext cx="748836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шатуны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52280"/>
            <a:ext cx="9144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крепление шатун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90720" y="0"/>
            <a:ext cx="71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ШМ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90720" y="0"/>
            <a:ext cx="7105680" cy="6891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 rot="19467600">
            <a:off x="1676160" y="2666520"/>
            <a:ext cx="1752480" cy="76212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2438280" y="1523880"/>
            <a:ext cx="1752840" cy="7621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А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 rot="18829200">
            <a:off x="3619080" y="1790280"/>
            <a:ext cx="1752840" cy="7621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 rot="18829200">
            <a:off x="1215720" y="4462200"/>
            <a:ext cx="1981440" cy="762120"/>
          </a:xfrm>
          <a:custGeom>
            <a:avLst/>
            <a:gdLst>
              <a:gd name="textAreaLeft" fmla="*/ 247680 w 1981440"/>
              <a:gd name="textAreaRight" fmla="*/ 1733760 w 19814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Н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2"/>
          <p:cNvSpPr/>
          <p:nvPr/>
        </p:nvSpPr>
        <p:spPr>
          <a:xfrm rot="18829200">
            <a:off x="266400" y="4762440"/>
            <a:ext cx="1752840" cy="76176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Х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6.35838E-007 C -0.00747 -0.00948 -0.00868 -0.02058 -0.01285 -0.02798 C -0.01476 -0.03769 -0.01545 -0.04832 -0.01997 -0.05572 C -0.02066 -0.06035 -0.02223 -0.06497 -0.02223 -0.06959 C -0.02223 -0.10081 -0.02049 -0.13734 -0.01042 -0.16485 C -0.00973 -0.1667 -0.00868 -0.1674 -0.00799 -0.16902 C -0.0033 -0.1822 0.00086 -0.20231 0.00764 -0.21272 C 0.01007 -0.2252 0.01857 -0.23538 0.0243 -0.24462 C 0.03125 -0.25572 0.02413 -0.25064 0.03125 -0.25457 C 0.03507 -0.26011 0.03472 -0.26358 0.03975 -0.26659 C 0.04548 -0.27584 0.03836 -0.26566 0.04566 -0.27237 C 0.05694 -0.28277 0.05243 -0.28347 0.06475 -0.28624 C 0.06909 -0.28855 0.06701 -0.28832 0.07083 -0.28832 E">
                                      <p:cBhvr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28832 C 0.04982 -0.25202 0.02899 -0.21572 0.01371 -0.15931 C -0.00157 -0.10289 -0.02223 -0.01549 -0.02118 0.04994 C -0.02014 0.11538 -0.00261 0.18751 0.02013 0.23399 C 0.04288 0.28046 0.08454 0.31907 0.11527 0.32902 C 0.146 0.33896 0.18941 0.29919 0.20416 0.29318 E"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6 0.29318 C 0.19878 0.31353 0.1934 0.33388 0.20104 0.34798 C 0.20868 0.36208 0.23107 0.3926 0.25034 0.37757 C 0.26962 0.36255 0.30625 0.27677 0.31701 0.25711 E">
                                      <p:cBhvr>
                                        <p:cTn id="31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526E-006 L 0.00417 0.18867 E">
                                      <p:cBhvr>
                                        <p:cTn id="4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185E-006 L 0.31667 0.24971 E">
                                      <p:cBhvr>
                                        <p:cTn id="7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P113013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93280748443bd43f04d2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Коленчатый вал</a:t>
            </a:r>
            <a:br>
              <a:rPr sz="3800"/>
            </a:br>
            <a:br>
              <a:rPr sz="3800"/>
            </a:b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Воспринимает усилия, передаваемые от поршней шатунами и преобразует эти усилия в крутящий момент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коленвал 1"/>
          <p:cNvPicPr/>
          <p:nvPr/>
        </p:nvPicPr>
        <p:blipFill>
          <a:blip r:embed="rId1"/>
          <a:stretch/>
        </p:blipFill>
        <p:spPr>
          <a:xfrm>
            <a:off x="0" y="3168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коленвал 1"/>
          <p:cNvPicPr/>
          <p:nvPr/>
        </p:nvPicPr>
        <p:blipFill>
          <a:blip r:embed="rId1"/>
          <a:stretch/>
        </p:blipFill>
        <p:spPr>
          <a:xfrm>
            <a:off x="0" y="3168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360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кшм1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04920" y="1224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S36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Маховик</a:t>
            </a:r>
            <a:br>
              <a:rPr sz="3400"/>
            </a:br>
            <a:r>
              <a:rPr b="0" i="1" lang="ru-RU" sz="2800" spc="-1" strike="noStrike">
                <a:solidFill>
                  <a:srgbClr val="800080"/>
                </a:solidFill>
                <a:latin typeface="Verdana"/>
              </a:rPr>
              <a:t>Аккумулирует (накопляет) кинетическую энергию, необходимую для выведения КШМ из мертвых точек, облегчения пуска двигателя, уменьшения неравномерности вращения коленвала, преодоления повышенной нагрузки при трогании с места и преодолении кратковременных перегрузок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коленвал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Поршень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800080"/>
                </a:solidFill>
                <a:latin typeface="Verdana"/>
              </a:rPr>
              <a:t>Воспринимает и передаёт на шатун усилие, возникающее от давления газов.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1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Нормально прогретый нагруженный двигатель работает на номинальном режиме без дыма и посторонних стуков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2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Расход (угар) масла не превышает допустимого значения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Давление в системе смазки находится в пределах допустимого значения и не снижается на протяжении нескольких рабочих смен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знаки работоспособного состояния КШ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1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Ежесменно очищать двигатель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2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Обеспечивать хорошую очистку воздуха от пыли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Загружать двигатель только после прогрева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4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Не перегружать двигатель и не допускать его длительной работы на холостом ходу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260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Для поддержания работоспособного состояния КШМ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словия работы поршневой групп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Поршневая группа включает в себя поршень, поршневые кольца, поршневые кольца и фиксирующие его дета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Условия работы порш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Высокое давление газов (3,5-5,5 МПА для бензиновых, 6-15 МПА для дизелей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Контакт с горячим газом (до 2600 С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Движение с переменой направления и скор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1520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ебования к конструкции поршн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Он должен обладать достаточной жесткостью при минимальной м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Обеспечивать высокую герметичность рабочей пол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Перемещаться в цилиндре с минимальным трением без потери подвижности при нагревании, но и без ударов и стуков в холодном состоя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Не пропускать излишнего количества масла в камеру сгор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Иметь высокую долговеч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Выдержать высокие температ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поршень и палец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8"/>
          <p:cNvSpPr/>
          <p:nvPr/>
        </p:nvSpPr>
        <p:spPr>
          <a:xfrm>
            <a:off x="3048120" y="1219320"/>
            <a:ext cx="2438280" cy="761760"/>
          </a:xfrm>
          <a:prstGeom prst="leftArrow">
            <a:avLst>
              <a:gd name="adj1" fmla="val 61667"/>
              <a:gd name="adj2" fmla="val 666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048120" y="2590920"/>
            <a:ext cx="2438280" cy="761760"/>
          </a:xfrm>
          <a:prstGeom prst="leftArrow">
            <a:avLst>
              <a:gd name="adj1" fmla="val 61667"/>
              <a:gd name="adj2" fmla="val 666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 rot="19416000">
            <a:off x="2179800" y="520560"/>
            <a:ext cx="1958760" cy="762120"/>
          </a:xfrm>
          <a:prstGeom prst="leftArrow">
            <a:avLst>
              <a:gd name="adj1" fmla="val 61667"/>
              <a:gd name="adj2" fmla="val 5354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 rot="18477000">
            <a:off x="7370640" y="547920"/>
            <a:ext cx="1752480" cy="762120"/>
          </a:xfrm>
          <a:prstGeom prst="leftArrow">
            <a:avLst>
              <a:gd name="adj1" fmla="val 61667"/>
              <a:gd name="adj2" fmla="val 47906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382E-006 L 3.33333E-006 0.19977 E">
                                      <p:cBhvr>
                                        <p:cTn id="103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11 L 3.33333E-006 0.27746 E">
                                      <p:cBhvr>
                                        <p:cTn id="1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В момент перехода поршня через ВМТ изменяется направление действия боковой силы, которая является одной из составляющих силы давления газов на поршень. В результате поршень перемещается от одной стенки цилиндра к другой – перекладка поршня. Это вызывает удар поршня, сопровождающийся характерным стуком. 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Чтобы избежать этого, поршневые пальцы смещают на 2-3 мм в сторону действия максимальной боковой  силы. Такое смещение поршневого пальца называют </a:t>
            </a:r>
            <a:r>
              <a:rPr b="1" lang="ru-RU" sz="2500" spc="-1" strike="noStrike" u="sng">
                <a:solidFill>
                  <a:srgbClr val="9f2936"/>
                </a:solidFill>
                <a:uFillTx/>
                <a:latin typeface="Verdana"/>
              </a:rPr>
              <a:t>дезаксажем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Чтобы сохранить подвижность поршня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57120" y="1628640"/>
            <a:ext cx="8501040" cy="48722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Юбку поршня выполняют конусной или бочкообразно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Уменьшение диаметра в конусной юбке от 0,0003</a:t>
            </a:r>
            <a:r>
              <a:rPr b="0" lang="en-US" sz="2000" spc="-1" strike="noStrike">
                <a:solidFill>
                  <a:srgbClr val="79766f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до 0,0005</a:t>
            </a:r>
            <a:r>
              <a:rPr b="0" lang="en-US" sz="2000" spc="-1" strike="noStrike">
                <a:solidFill>
                  <a:srgbClr val="79766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Величина овальности колеблется от 0,182 до 0,8 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Принудительное охлаждение юбки вставками из малоуглеродистой стали в виде поперечных пластин или колец (полуколец) заливаемых в поясе юб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Поршневые кольца</a:t>
            </a:r>
            <a:br>
              <a:rPr sz="3400"/>
            </a:b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Компрессионные</a:t>
            </a: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 – предотвращают прорыв газов из камеры сгорания в картер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Маслосъёмные</a:t>
            </a: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 – препятствуют проникновению масла из картера в камеру сгора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48:01Z</dcterms:created>
  <dc:creator>User</dc:creator>
  <dc:description/>
  <dc:language>en-US</dc:language>
  <cp:lastModifiedBy>Teacher</cp:lastModifiedBy>
  <dcterms:modified xsi:type="dcterms:W3CDTF">2023-06-06T07:56:00Z</dcterms:modified>
  <cp:revision>12</cp:revision>
  <dc:subject/>
  <dc:title>Подвижные детали КШМ</dc:title>
</cp:coreProperties>
</file>