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C946-B7E4-4D7E-A51A-C240A2C071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16CF-0477-4000-A382-3D90EEA97D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1413-4D82-4EBD-A560-21D54815ED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A238-539E-4A1D-9862-D46880B96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A642-7476-4941-B858-DFB69E8E4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F042-45AA-4721-93CA-024F1350DB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B391-713F-4957-B3E6-B96664E270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5725-CD4B-4C4E-BE89-98FAB88A4A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7645-6C20-4284-B1B5-452427CB2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BEB-1240-4A69-B027-DC2F2A55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F77-3B8E-41CA-A941-C4591263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D76-B9FB-4357-8E69-DAEA620B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CB2-91D4-4654-9406-D522D1B1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28C1-2F3E-44E6-92B7-7F71618D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F4D4-F723-412C-93E5-B414DB2A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5A99-237C-4A1A-8200-59F2E49D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7703-517A-4599-A4BE-5ED97C67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583A-A166-4EDB-A1BA-47000E1E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DFD1-3C96-4649-ABE5-21F44421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94E3-5593-4EB1-8B4E-27DD9F7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C6D-5D59-4EE7-8D08-CFB32444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88AE-8FD2-4833-873E-1EA821B5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F4DE-AC77-497C-9786-7443D2C9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5C64-AFFA-43EF-AB22-E530F428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16E4-E8D1-43B7-922B-FC964221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57DE-30C5-44F2-9491-49D7B091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AA0D-AA40-45F6-BAEC-28E3729C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79AF5-644B-42FA-A8DF-4C6B1130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BD33-9B68-4525-9F31-3D2D1AEA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3D70-048B-41E0-B884-973F03A3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59B9-F38C-4A11-9D3B-51F4D571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E6C-AE6C-4A40-A500-2F600481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9BDE-0DAF-4164-94CF-B26BC7F7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30BF-A505-4423-87F2-0276507A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53F3-315E-40BE-9291-C125E415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23B6-C081-4E47-A0F5-820C155A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65ED-DC18-4203-A886-60C3D1C8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D9B4-9F00-4A31-BCA3-F6C3DF2E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C650-DF36-4A1D-A923-13C471C2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6B68-8910-4986-8ECD-C7A829E0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2C77-3C45-4B8F-895D-7BD7DB94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BE505-2DD9-4B68-BABC-DE7EB3DE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BD2-7036-47A4-BB39-6A41632F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BDB7-3C41-4405-B9C8-3CE93493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40F7-FE27-47DC-8007-5601C343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E5969-EDD8-44C7-95DA-A4AE2C51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8CCF4-9D81-4AE4-867E-B2A2D338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827B-D420-4087-B4D7-8168CC3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B9F3C-5BC2-49CB-B02F-E1053822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D641-F069-473D-828F-E270BAB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C3899-DBD7-4575-87B2-135E7F54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C4B08-7164-4BC1-9185-7312509F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91CA4-3678-40E4-BB7D-4BB13389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5E8-EDCA-40AF-A6AA-A97893CB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FAED6-4957-41F8-80EE-5E1D946B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FEFFB-EEE1-4295-A599-978E4DDD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BB957-7F36-4690-B47E-7DD4808E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A3607-7361-473F-A5D2-DEEB5D04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4098F-5736-4D09-8962-41F04FB3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38970-2E19-4103-B78D-C6AF34B3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E6868-E842-4A47-9CA1-95348847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82C43-073B-4C9F-98E7-E3C156C0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43636-C7D5-4F91-A794-1F73B04F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96CA9-C1DB-4D5E-8B75-23B98222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37D-E2F1-4FC3-B30C-1A653150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D6E2E-23BA-4DF7-AB09-99474D35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CC9-47C0-4509-98DD-329EA358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847-AEE2-4ACF-B558-3517648F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D89-ADD2-4416-8433-BDB4B67F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3444-E18C-407C-A9B4-48D1669FAA6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3831-8E20-4CFA-912C-1CA0CAE8503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E020-112D-4DE1-B408-7450B6A2D71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71A2-9CF3-4BF4-9CA9-E2B38826B59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43CB-79DF-4E14-81B9-512F9433B09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4419720"/>
            <a:ext cx="76849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d3e"/>
                </a:solidFill>
                <a:latin typeface="Verdana"/>
              </a:rPr>
              <a:t>Подвижные детали КШМ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24000" y="549360"/>
            <a:ext cx="86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7e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b07e00"/>
                </a:solidFill>
                <a:latin typeface="Arial"/>
              </a:rPr>
              <a:t>«Октябрьский аграрно-технологический техник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71640" y="1068480"/>
            <a:ext cx="73371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Arial"/>
              </a:rPr>
              <a:t>Учебная презентация по ПМ 01 МДК 0101 «Назначение и общее устройство тракторов, автомобилей и сельскохозяйственных машин»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232000" y="2979720"/>
            <a:ext cx="51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еподавателя спецдисцип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вчаренко Сергея Леонидо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886200" y="3881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поршень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8600" y="0"/>
            <a:ext cx="86868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кольца 1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324000" y="243000"/>
            <a:ext cx="8208720" cy="5121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1143000" y="579132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%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1-прямоугольные, 2-прямоугольные с внутренней выточкой, 3-коническое, 4-бочкообразное, 5, 6, 8-трапециевидное симметричное и несимметричное, 7- скребковые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кольца"/>
          <p:cNvPicPr/>
          <p:nvPr/>
        </p:nvPicPr>
        <p:blipFill>
          <a:blip r:embed="rId1"/>
          <a:stretch/>
        </p:blipFill>
        <p:spPr>
          <a:xfrm>
            <a:off x="1143000" y="3240"/>
            <a:ext cx="68216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700" spc="-1" strike="noStrike" u="sng">
                <a:solidFill>
                  <a:srgbClr val="0000ff"/>
                </a:solidFill>
                <a:uFillTx/>
                <a:latin typeface="Verdana"/>
              </a:rPr>
              <a:t>Поршневой палец</a:t>
            </a:r>
            <a:br>
              <a:rPr sz="3800"/>
            </a:br>
            <a:br>
              <a:rPr sz="3800"/>
            </a:br>
            <a:r>
              <a:rPr b="0" i="1" lang="ru-RU" sz="5100" spc="-1" strike="noStrike">
                <a:solidFill>
                  <a:srgbClr val="800080"/>
                </a:solidFill>
                <a:latin typeface="Verdana"/>
              </a:rPr>
              <a:t>Служит для соединения поршня с шатуном.</a:t>
            </a:r>
            <a:endParaRPr b="1" lang="en-US" sz="5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поршень и шатун"/>
          <p:cNvPicPr/>
          <p:nvPr/>
        </p:nvPicPr>
        <p:blipFill>
          <a:blip r:embed="rId1"/>
          <a:stretch/>
        </p:blipFill>
        <p:spPr>
          <a:xfrm>
            <a:off x="2438280" y="0"/>
            <a:ext cx="382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P11301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700" spc="-1" strike="noStrike" u="sng">
                <a:solidFill>
                  <a:srgbClr val="0000ff"/>
                </a:solidFill>
                <a:uFillTx/>
                <a:latin typeface="Verdana"/>
              </a:rPr>
              <a:t>Шатун</a:t>
            </a:r>
            <a:br>
              <a:rPr sz="3800"/>
            </a:br>
            <a:br>
              <a:rPr sz="3800"/>
            </a:br>
            <a:r>
              <a:rPr b="0" i="1" lang="ru-RU" sz="4400" spc="-1" strike="noStrike">
                <a:solidFill>
                  <a:srgbClr val="800080"/>
                </a:solidFill>
                <a:latin typeface="Verdana"/>
              </a:rPr>
              <a:t>Передает усилие от поршня к коленчатому валу при рабочем ходе и в обратном направлении при вспомогательных тактах.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5" descr="шатуны 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404640"/>
            <a:ext cx="748836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шатуны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52280"/>
            <a:ext cx="914400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крепление шатуна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90720" y="0"/>
            <a:ext cx="71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КШМ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90720" y="0"/>
            <a:ext cx="7105680" cy="689148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 rot="19467600">
            <a:off x="1676160" y="2666520"/>
            <a:ext cx="1752480" cy="76212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9"/>
          <p:cNvSpPr/>
          <p:nvPr/>
        </p:nvSpPr>
        <p:spPr>
          <a:xfrm>
            <a:off x="2438280" y="1523880"/>
            <a:ext cx="1752840" cy="76212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ШАТ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0"/>
          <p:cNvSpPr/>
          <p:nvPr/>
        </p:nvSpPr>
        <p:spPr>
          <a:xfrm rot="18829200">
            <a:off x="3619080" y="1790280"/>
            <a:ext cx="1752840" cy="76212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 rot="18829200">
            <a:off x="1215720" y="4462200"/>
            <a:ext cx="1981440" cy="762120"/>
          </a:xfrm>
          <a:custGeom>
            <a:avLst/>
            <a:gdLst>
              <a:gd name="textAreaLeft" fmla="*/ 247680 w 1981440"/>
              <a:gd name="textAreaRight" fmla="*/ 1733760 w 19814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ЕН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2"/>
          <p:cNvSpPr/>
          <p:nvPr/>
        </p:nvSpPr>
        <p:spPr>
          <a:xfrm rot="18829200">
            <a:off x="266400" y="4762440"/>
            <a:ext cx="1752840" cy="76176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Х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-6.35838E-007 C -0.00747 -0.00948 -0.00868 -0.02058 -0.01285 -0.02798 C -0.01476 -0.03769 -0.01545 -0.04832 -0.01997 -0.05572 C -0.02066 -0.06035 -0.02223 -0.06497 -0.02223 -0.06959 C -0.02223 -0.10081 -0.02049 -0.13734 -0.01042 -0.16485 C -0.00973 -0.1667 -0.00868 -0.1674 -0.00799 -0.16902 C -0.0033 -0.1822 0.00086 -0.20231 0.00764 -0.21272 C 0.01007 -0.2252 0.01857 -0.23538 0.0243 -0.24462 C 0.03125 -0.25572 0.02413 -0.25064 0.03125 -0.25457 C 0.03507 -0.26011 0.03472 -0.26358 0.03975 -0.26659 C 0.04548 -0.27584 0.03836 -0.26566 0.04566 -0.27237 C 0.05694 -0.28277 0.05243 -0.28347 0.06475 -0.28624 C 0.06909 -0.28855 0.06701 -0.28832 0.07083 -0.28832 E">
                                      <p:cBhvr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28832 C 0.04982 -0.25202 0.02899 -0.21572 0.01371 -0.15931 C -0.00157 -0.10289 -0.02223 -0.01549 -0.02118 0.04994 C -0.02014 0.11538 -0.00261 0.18751 0.02013 0.23399 C 0.04288 0.28046 0.08454 0.31907 0.11527 0.32902 C 0.146 0.33896 0.18941 0.29919 0.20416 0.29318 E">
                                      <p:cBhvr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416 0.29318 C 0.19878 0.31353 0.1934 0.33388 0.20104 0.34798 C 0.20868 0.36208 0.23107 0.3926 0.25034 0.37757 C 0.26962 0.36255 0.30625 0.27677 0.31701 0.25711 E">
                                      <p:cBhvr>
                                        <p:cTn id="31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autoRev="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526E-006 L 0.00417 0.18867 E">
                                      <p:cBhvr>
                                        <p:cTn id="4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autoRev="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185E-006 L 0.31667 0.24971 E">
                                      <p:cBhvr>
                                        <p:cTn id="7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P113013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93280748443bd43f04d2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604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Verdana"/>
              </a:rPr>
              <a:t>Коленчатый вал</a:t>
            </a:r>
            <a:br>
              <a:rPr sz="3800"/>
            </a:br>
            <a:br>
              <a:rPr sz="3800"/>
            </a:br>
            <a:r>
              <a:rPr b="0" i="1" lang="ru-RU" sz="3200" spc="-1" strike="noStrike">
                <a:solidFill>
                  <a:srgbClr val="800080"/>
                </a:solidFill>
                <a:latin typeface="Verdana"/>
              </a:rPr>
              <a:t>Воспринимает усилия, передаваемые от поршней шатунами и преобразует эти усилия в крутящий момент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коленвал 1"/>
          <p:cNvPicPr/>
          <p:nvPr/>
        </p:nvPicPr>
        <p:blipFill>
          <a:blip r:embed="rId1"/>
          <a:stretch/>
        </p:blipFill>
        <p:spPr>
          <a:xfrm>
            <a:off x="0" y="31680"/>
            <a:ext cx="8839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коленвал 1"/>
          <p:cNvPicPr/>
          <p:nvPr/>
        </p:nvPicPr>
        <p:blipFill>
          <a:blip r:embed="rId1"/>
          <a:stretch/>
        </p:blipFill>
        <p:spPr>
          <a:xfrm>
            <a:off x="0" y="31680"/>
            <a:ext cx="8839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S3600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кшм1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04920" y="1224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6" descr="S36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Verdana"/>
              </a:rPr>
              <a:t>Маховик</a:t>
            </a:r>
            <a:br>
              <a:rPr sz="3400"/>
            </a:br>
            <a:r>
              <a:rPr b="0" i="1" lang="ru-RU" sz="2800" spc="-1" strike="noStrike">
                <a:solidFill>
                  <a:srgbClr val="800080"/>
                </a:solidFill>
                <a:latin typeface="Verdana"/>
              </a:rPr>
              <a:t>Аккумулирует (накопляет) кинетическую энергию, необходимую для выведения КШМ из мертвых точек, облегчения пуска двигателя, уменьшения неравномерности вращения коленвала, преодоления повышенной нагрузки при трогании с места и преодолении кратковременных перегрузок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7" descr="коленвал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6760" y="57168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Verdana"/>
              </a:rPr>
              <a:t>Поршень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800080"/>
                </a:solidFill>
                <a:latin typeface="Verdana"/>
              </a:rPr>
              <a:t>Воспринимает и передаёт на шатун усилие, возникающее от давления газов.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1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Нормально прогретый нагруженный двигатель работает на номинальном режиме без дыма и посторонних стуков.</a:t>
            </a:r>
            <a:br>
              <a:rPr sz="2400"/>
            </a:b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2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Расход (угар) масла не превышает допустимого значения</a:t>
            </a:r>
            <a:br>
              <a:rPr sz="2400"/>
            </a:b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3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Давление в системе смазки находится в пределах допустимого значения и не снижается на протяжении нескольких рабочих смен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Признаки работоспособного состояния КШ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1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Ежесменно очищать двигатель.</a:t>
            </a:r>
            <a:br>
              <a:rPr sz="2400"/>
            </a:b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2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Обеспечивать хорошую очистку воздуха от пыли.</a:t>
            </a:r>
            <a:br>
              <a:rPr sz="2400"/>
            </a:b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3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Загружать двигатель только после прогрева.</a:t>
            </a:r>
            <a:br>
              <a:rPr sz="2400"/>
            </a:b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4.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800080"/>
                </a:solidFill>
                <a:latin typeface="Verdana"/>
              </a:rPr>
              <a:t>Не перегружать двигатель и не допускать его длительной работы на холостом ходу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50920" y="26028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Для поддержания работоспособного состояния КШМ необходим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Условия работы поршневой групп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Поршневая группа включает в себя поршень, поршневые кольца, поршневые кольца и фиксирующие его дета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Условия работы порш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Высокое давление газов (3,5-5,5 МПА для бензиновых, 6-15 МПА для дизелей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Контакт с горячим газом (до 2600 С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Движение с переменой направления и скор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15200" cy="142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ебования к конструкции поршн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85840" y="18572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Он должен обладать достаточной жесткостью при минимальной м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Обеспечивать высокую герметичность рабочей пол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Перемещаться в цилиндре с минимальным трением без потери подвижности при нагревании, но и без ударов и стуков в холодном состоян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Не пропускать излишнего количества масла в камеру сгор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Иметь высокую долговечн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Выдержать высокие температу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поршень и палец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354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8"/>
          <p:cNvSpPr/>
          <p:nvPr/>
        </p:nvSpPr>
        <p:spPr>
          <a:xfrm>
            <a:off x="3048120" y="1219320"/>
            <a:ext cx="2438280" cy="761760"/>
          </a:xfrm>
          <a:prstGeom prst="leftArrow">
            <a:avLst>
              <a:gd name="adj1" fmla="val 61667"/>
              <a:gd name="adj2" fmla="val 666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3048120" y="2590920"/>
            <a:ext cx="2438280" cy="761760"/>
          </a:xfrm>
          <a:prstGeom prst="leftArrow">
            <a:avLst>
              <a:gd name="adj1" fmla="val 61667"/>
              <a:gd name="adj2" fmla="val 666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 rot="19416000">
            <a:off x="2179800" y="520560"/>
            <a:ext cx="1958760" cy="762120"/>
          </a:xfrm>
          <a:prstGeom prst="leftArrow">
            <a:avLst>
              <a:gd name="adj1" fmla="val 61667"/>
              <a:gd name="adj2" fmla="val 53545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Н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 rot="18477000">
            <a:off x="7370640" y="547920"/>
            <a:ext cx="1752480" cy="762120"/>
          </a:xfrm>
          <a:prstGeom prst="leftArrow">
            <a:avLst>
              <a:gd name="adj1" fmla="val 61667"/>
              <a:gd name="adj2" fmla="val 47906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Н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autoRev="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8382E-006 L 3.33333E-006 0.19977 E">
                                      <p:cBhvr>
                                        <p:cTn id="103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autoRev="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111 L 3.33333E-006 0.27746 E">
                                      <p:cBhvr>
                                        <p:cTn id="114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f2936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9f2936"/>
                </a:solidFill>
                <a:latin typeface="Verdana"/>
              </a:rPr>
              <a:t>В момент перехода поршня через ВМТ изменяется направление действия боковой силы, которая является одной из составляющих силы давления газов на поршень. В результате поршень перемещается от одной стенки цилиндра к другой – перекладка поршня. Это вызывает удар поршня, сопровождающийся характерным стуком. </a:t>
            </a:r>
            <a:r>
              <a:rPr b="1" lang="ru-RU" sz="2500" spc="-1" strike="noStrike">
                <a:solidFill>
                  <a:srgbClr val="9f2936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9f2936"/>
                </a:solidFill>
                <a:latin typeface="Verdana"/>
              </a:rPr>
              <a:t>Чтобы избежать этого, поршневые пальцы смещают на 2-3 мм в сторону действия максимальной боковой  силы. Такое смещение поршневого пальца называют </a:t>
            </a:r>
            <a:r>
              <a:rPr b="1" lang="ru-RU" sz="2500" spc="-1" strike="noStrike" u="sng">
                <a:solidFill>
                  <a:srgbClr val="9f2936"/>
                </a:solidFill>
                <a:uFillTx/>
                <a:latin typeface="Verdana"/>
              </a:rPr>
              <a:t>дезаксажем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Чтобы сохранить подвижность поршня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57120" y="1628640"/>
            <a:ext cx="8501040" cy="48722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Arial"/>
              </a:rPr>
              <a:t>Юбку поршня выполняют конусной или бочкообразной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Arial"/>
              </a:rPr>
              <a:t>Уменьшение диаметра в конусной юбке от 0,0003</a:t>
            </a:r>
            <a:r>
              <a:rPr b="0" lang="en-US" sz="2000" spc="-1" strike="noStrike">
                <a:solidFill>
                  <a:srgbClr val="79766f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79766f"/>
                </a:solidFill>
                <a:latin typeface="Arial"/>
              </a:rPr>
              <a:t>до 0,0005</a:t>
            </a:r>
            <a:r>
              <a:rPr b="0" lang="en-US" sz="2000" spc="-1" strike="noStrike">
                <a:solidFill>
                  <a:srgbClr val="79766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Arial"/>
              </a:rPr>
              <a:t>Величина овальности колеблется от 0,182 до 0,8 м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Arial"/>
              </a:rPr>
              <a:t>Принудительное охлаждение юбки вставками из малоуглеродистой стали в виде поперечных пластин или колец (полуколец) заливаемых в поясе юб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604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Verdana"/>
              </a:rPr>
              <a:t>Поршневые кольца</a:t>
            </a:r>
            <a:br>
              <a:rPr sz="3400"/>
            </a:b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Компрессионные</a:t>
            </a:r>
            <a:r>
              <a:rPr b="0" i="1" lang="ru-RU" sz="3200" spc="-1" strike="noStrike">
                <a:solidFill>
                  <a:srgbClr val="800080"/>
                </a:solidFill>
                <a:latin typeface="Verdana"/>
              </a:rPr>
              <a:t> – предотвращают прорыв газов из камеры сгорания в картер.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Маслосъёмные</a:t>
            </a:r>
            <a:r>
              <a:rPr b="0" i="1" lang="ru-RU" sz="3200" spc="-1" strike="noStrike">
                <a:solidFill>
                  <a:srgbClr val="800080"/>
                </a:solidFill>
                <a:latin typeface="Verdana"/>
              </a:rPr>
              <a:t> – препятствуют проникновению масла из картера в камеру сгорания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48:01Z</dcterms:created>
  <dc:creator>User</dc:creator>
  <dc:description/>
  <dc:language>en-US</dc:language>
  <cp:lastModifiedBy>Teacher</cp:lastModifiedBy>
  <dcterms:modified xsi:type="dcterms:W3CDTF">2023-06-06T07:56:00Z</dcterms:modified>
  <cp:revision>12</cp:revision>
  <dc:subject/>
  <dc:title>Подвижные детали КШМ</dc:title>
</cp:coreProperties>
</file>