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FAB-18B7-45F9-BFEB-EA1DE0EA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AE9-DDD5-4EF9-B7D1-D06C724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CA6-5E0C-4636-9AF5-2019376D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E95-445A-4038-A7BB-B3C711B2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B14-14DB-4FEC-BEF6-CE9822ED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7D49-A93B-48BB-90F4-0616EC3C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09C-D900-4262-A4DD-066D4C6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1FB-3C07-4538-9AC7-FD730EFE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AB43-17E4-411D-97E9-8287F46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CDBE-E635-4FC6-90C7-F753B076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0F11-69A6-4331-9528-D9FC714C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C93-12E1-4CC8-997E-768344B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F59E-D064-48F1-8BA9-2491D26D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4812-6FA3-4A3E-ACCB-490282A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C6A0-8FA5-43E5-AEC1-20324DF9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B4F-2198-4020-BC34-D1C9AAC2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8C1-7AD8-4E50-B703-90EEB782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185-4E9D-4786-9922-081E251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CFE-948E-41BC-8874-91341EF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9E0-FFDA-4AFE-81CE-112DCD57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296-6B20-4ED2-BBC8-43C037DF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C17-0D33-4C60-A960-2C7E495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246-F3DE-42DE-BC1C-347548CF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522-DEF5-447F-89A1-72672AF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6460-A342-4E5C-BA5B-6D316911A7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BCAB-89E9-478B-86CC-DDBA358083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85.112.49.158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924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игостаева Людмила Николаевна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информатики ГБОУ СОШ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. Русская Борковка Ставропольского района Самарской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2920" y="522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Безымянный"/>
          <p:cNvPicPr/>
          <p:nvPr/>
        </p:nvPicPr>
        <p:blipFill>
          <a:blip r:embed="rId1"/>
          <a:stretch/>
        </p:blipFill>
        <p:spPr>
          <a:xfrm>
            <a:off x="1042920" y="1989000"/>
            <a:ext cx="6604200" cy="4557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701440" y="260280"/>
            <a:ext cx="35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чет об успеваемости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117800" y="765000"/>
            <a:ext cx="66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отчете можно просмотреть отметки ученик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даты урока и темы, по которой проведен опро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выводится на каждый предмет отдель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2195640"/>
            <a:ext cx="7121520" cy="4662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620360" y="404640"/>
            <a:ext cx="54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чет об успеваемости и посещаемости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113120" y="692280"/>
            <a:ext cx="77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просмотреть с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успеваемости по всем предметам вмест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ведениями о посещаемости. В таблице указано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какое число, по какому предмету и какую оценку получил учащий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1773360"/>
            <a:ext cx="7607160" cy="4921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908720" y="260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чет о доступе к классному журнал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695600" y="692280"/>
            <a:ext cx="593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посмотреть дату последне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авления отметок по определенному предмет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ым учител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Безымянный"/>
          <p:cNvPicPr/>
          <p:nvPr/>
        </p:nvPicPr>
        <p:blipFill>
          <a:blip r:embed="rId1"/>
          <a:stretch/>
        </p:blipFill>
        <p:spPr>
          <a:xfrm>
            <a:off x="971640" y="2565360"/>
            <a:ext cx="6883200" cy="4292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2196720" y="18900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формационное письмо для родител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70200" y="620640"/>
            <a:ext cx="706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отчет позволяет получить сводную статисти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ценкам и пропускам ребенка за последнюю неделю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 начала учебного период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Информационное письмо" - удобный способ оповещ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даже в случае, когда у них нет возможности входи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АСУ РСО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Интер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Безымянный"/>
          <p:cNvPicPr/>
          <p:nvPr/>
        </p:nvPicPr>
        <p:blipFill>
          <a:blip r:embed="rId1"/>
          <a:stretch/>
        </p:blipFill>
        <p:spPr>
          <a:xfrm>
            <a:off x="826920" y="1246320"/>
            <a:ext cx="6988320" cy="4559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2988360" y="333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ска объявл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1755720"/>
            <a:ext cx="8316720" cy="5102280"/>
          </a:xfrm>
          <a:prstGeom prst="rect">
            <a:avLst/>
          </a:prstGeom>
          <a:ln w="0">
            <a:noFill/>
          </a:ln>
        </p:spPr>
      </p:pic>
      <p:sp>
        <p:nvSpPr>
          <p:cNvPr id="187" name="Line 6"/>
          <p:cNvSpPr/>
          <p:nvPr/>
        </p:nvSpPr>
        <p:spPr>
          <a:xfrm flipH="1" flipV="1">
            <a:off x="140292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270000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197928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9"/>
          <p:cNvSpPr/>
          <p:nvPr/>
        </p:nvSpPr>
        <p:spPr>
          <a:xfrm flipH="1" flipV="1">
            <a:off x="334764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95280" y="3068640"/>
            <a:ext cx="1042920" cy="360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618000" y="352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спис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2000" y="836640"/>
            <a:ext cx="66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й вкладке родители могут просмотреть расписа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а, в котором учится их ребенок на различные пери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843280" y="153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85.112.49.158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801600" y="4302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Интернет - ресур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187280" y="260280"/>
            <a:ext cx="7632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Инструк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для родителе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по использованию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электронног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классного журн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816200" y="326880"/>
            <a:ext cx="455616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хо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в систему АСУ РС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85.112.49.158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280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Безымянный"/>
          <p:cNvPicPr/>
          <p:nvPr/>
        </p:nvPicPr>
        <p:blipFill>
          <a:blip r:embed="rId1"/>
          <a:stretch/>
        </p:blipFill>
        <p:spPr>
          <a:xfrm>
            <a:off x="395280" y="1773360"/>
            <a:ext cx="8137440" cy="4574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22320" y="4237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ведите свой логин и паро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547640" y="404640"/>
            <a:ext cx="64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ступные поля  для пользователя с правами «Родитель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8976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202920" y="3333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ка ОТЧЕ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012000" y="2637000"/>
            <a:ext cx="283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чет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ступ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родите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514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611280" y="1341360"/>
            <a:ext cx="6649920" cy="4756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405800" y="620640"/>
            <a:ext cx="69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отчете показаны итоговые отметки учаще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изучаемым предметам за выбранный учебный перио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278880" y="18900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тоговые отмет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1916280"/>
            <a:ext cx="776448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700360" y="189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редний балл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828000" y="620640"/>
            <a:ext cx="776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наглядно сравнить успеваемос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ого ученика по разным предметам со средн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ю его класса. Средний балл вычисляется по указанно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ому диапазо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Безымянный"/>
          <p:cNvPicPr/>
          <p:nvPr/>
        </p:nvPicPr>
        <p:blipFill>
          <a:blip r:embed="rId1"/>
          <a:stretch/>
        </p:blipFill>
        <p:spPr>
          <a:xfrm>
            <a:off x="395280" y="1916280"/>
            <a:ext cx="7683480" cy="4530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341080" y="18900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ка среднего балла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360" y="765000"/>
            <a:ext cx="91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проследить, как изменялась успеваемость (средний бал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ого ученика по сравнению со средней успеваемостью его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19:10Z</dcterms:created>
  <dc:creator>sch</dc:creator>
  <dc:description/>
  <dc:language>en-US</dc:language>
  <cp:lastModifiedBy>User</cp:lastModifiedBy>
  <dcterms:modified xsi:type="dcterms:W3CDTF">2023-06-06T07:00:32Z</dcterms:modified>
  <cp:revision>16</cp:revision>
  <dc:subject/>
  <dc:title>Слайд 1</dc:title>
</cp:coreProperties>
</file>