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53C-9EEE-498B-A6F3-471735EF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3B3-1DB4-40EA-BC21-C128F390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C8F-C10A-4A48-A334-354491F8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1CA-780C-40A9-A282-960F07E6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694-A56F-40AE-B0EF-E899E710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5924-4D00-4C9B-978D-D5E1B160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77E-3A0D-401C-83FF-C24AA141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9B1A-AA05-43F9-944C-2706B26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7633-0F07-40D3-871C-01D2B84B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2F09-FFFA-46F0-91E0-6B6775A3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BC5-2C83-42BD-BC1A-95DD7A4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40F-AA2D-4B1E-8F2A-0485F26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724F-B36E-41CF-ACC4-840A4C9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236-0D73-4BB0-893F-F61121B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74C6-8365-4A56-ADC1-C6B46485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1E9-10C5-430D-AC07-5CF5C1CF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A13B-C676-4F2E-BA54-B22127E6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C30-0B8F-44BE-9DA8-81A02ED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67D-4B8A-4BEA-9A3B-EE258EA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AAE-F83B-4E29-9F1C-F8BA11A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A5B-33F7-4D65-A560-B7F45B5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E42-6CED-4935-8065-99833C5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C6D-EC50-448B-A164-C8BDCFF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6E2-241A-4F63-9307-5F04CE6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2FFD-E0E8-40F1-AAAD-8848563733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1904-ABC2-4593-BD6C-DA08CE608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85.112.49.158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924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игостаева Людмила Николаевна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информатики ГБОУ СОШ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 Русская Борковка Ставропольского района Самарск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2920" y="522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Безымянный"/>
          <p:cNvPicPr/>
          <p:nvPr/>
        </p:nvPicPr>
        <p:blipFill>
          <a:blip r:embed="rId1"/>
          <a:stretch/>
        </p:blipFill>
        <p:spPr>
          <a:xfrm>
            <a:off x="1042920" y="1989000"/>
            <a:ext cx="6604200" cy="4557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701440" y="260280"/>
            <a:ext cx="35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б успеваемости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117800" y="765000"/>
            <a:ext cx="66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отчете можно просмотреть отметки ученик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даты урока и темы, по которой проведен опро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выводится на каждый предмет отдель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2195640"/>
            <a:ext cx="7121520" cy="4662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620360" y="404640"/>
            <a:ext cx="54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б успеваемости и посещаемости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113120" y="692280"/>
            <a:ext cx="77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росмотреть с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успеваемости по всем предметам вмест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ведениями о посещаемости. В таблице указан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какое число, по какому предмету и какую оценку получил учащий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1773360"/>
            <a:ext cx="7607160" cy="4921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908720" y="260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чет о доступе к классному журнал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695600" y="692280"/>
            <a:ext cx="593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осмотреть дату последне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ления отметок по определенному предмет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ым учител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Безымянный"/>
          <p:cNvPicPr/>
          <p:nvPr/>
        </p:nvPicPr>
        <p:blipFill>
          <a:blip r:embed="rId1"/>
          <a:stretch/>
        </p:blipFill>
        <p:spPr>
          <a:xfrm>
            <a:off x="971640" y="2565360"/>
            <a:ext cx="6883200" cy="4292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2196720" y="18900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формационное письмо для родител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70200" y="620640"/>
            <a:ext cx="706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отчет позволяет получить сводную статисти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ценкам и пропускам ребенка за последнюю неделю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 начала учебного перио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Информационное письмо" - удобный способ оповещ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даже в случае, когда у них нет возможности входи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АСУ РСО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Интер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Безымянный"/>
          <p:cNvPicPr/>
          <p:nvPr/>
        </p:nvPicPr>
        <p:blipFill>
          <a:blip r:embed="rId1"/>
          <a:stretch/>
        </p:blipFill>
        <p:spPr>
          <a:xfrm>
            <a:off x="826920" y="1246320"/>
            <a:ext cx="6988320" cy="4559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2988360" y="333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ка объявл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1755720"/>
            <a:ext cx="8316720" cy="5102280"/>
          </a:xfrm>
          <a:prstGeom prst="rect">
            <a:avLst/>
          </a:prstGeom>
          <a:ln w="0">
            <a:noFill/>
          </a:ln>
        </p:spPr>
      </p:pic>
      <p:sp>
        <p:nvSpPr>
          <p:cNvPr id="187" name="Line 6"/>
          <p:cNvSpPr/>
          <p:nvPr/>
        </p:nvSpPr>
        <p:spPr>
          <a:xfrm flipH="1" flipV="1">
            <a:off x="140292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270000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197928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9"/>
          <p:cNvSpPr/>
          <p:nvPr/>
        </p:nvSpPr>
        <p:spPr>
          <a:xfrm flipH="1" flipV="1">
            <a:off x="3347640" y="24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95280" y="3068640"/>
            <a:ext cx="1042920" cy="36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618000" y="352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спис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2000" y="83664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й вкладке родители могут просмотреть расписа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а, в котором учится их ребенок на различные пери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843280" y="153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85.112.49.158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801600" y="4302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187280" y="260280"/>
            <a:ext cx="7632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Инструк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для родител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по использовани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электронног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400ed"/>
                </a:solidFill>
                <a:latin typeface="Arial"/>
              </a:rPr>
              <a:t>классного журн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400e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816200" y="326880"/>
            <a:ext cx="45561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хо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в систему АСУ РС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85.112.49.158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28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Безымянный"/>
          <p:cNvPicPr/>
          <p:nvPr/>
        </p:nvPicPr>
        <p:blipFill>
          <a:blip r:embed="rId1"/>
          <a:stretch/>
        </p:blipFill>
        <p:spPr>
          <a:xfrm>
            <a:off x="395280" y="1773360"/>
            <a:ext cx="8137440" cy="4574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22320" y="4237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ведите свой логин и паро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547640" y="404640"/>
            <a:ext cx="64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тупные поля  для пользователя с правами «Родитель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8976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02920" y="3333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ка ОТЧЕ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012000" y="2637000"/>
            <a:ext cx="283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чет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ступ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роди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514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341360"/>
            <a:ext cx="6649920" cy="4756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405800" y="62064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отчете показаны итоговые отметки учаще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изучаемым предметам за выбранный учебный перио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278880" y="18900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тоговые отмет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1916280"/>
            <a:ext cx="776448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700360" y="189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редний балл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28000" y="620640"/>
            <a:ext cx="77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наглядно сравнить успеваемос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ученика по разным предметам со средн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ю его класса. Средний балл вычисляется по указанно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ому диапазо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Безымянный"/>
          <p:cNvPicPr/>
          <p:nvPr/>
        </p:nvPicPr>
        <p:blipFill>
          <a:blip r:embed="rId1"/>
          <a:stretch/>
        </p:blipFill>
        <p:spPr>
          <a:xfrm>
            <a:off x="395280" y="1916280"/>
            <a:ext cx="7683480" cy="4530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341080" y="1890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ка среднего балла уче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360" y="765000"/>
            <a:ext cx="91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отчет позволяет проследить, как изменялась успеваемость (средний бал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ученика по сравнению со средней успеваемостью его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19:10Z</dcterms:created>
  <dc:creator>sch</dc:creator>
  <dc:description/>
  <dc:language>en-US</dc:language>
  <cp:lastModifiedBy>User</cp:lastModifiedBy>
  <dcterms:modified xsi:type="dcterms:W3CDTF">2023-06-06T07:00:32Z</dcterms:modified>
  <cp:revision>16</cp:revision>
  <dc:subject/>
  <dc:title>Слайд 1</dc:title>
</cp:coreProperties>
</file>